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FC2-836B-434E-88EC-7297DB0E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0D1-4EDE-46F2-98C3-8A9AEF3D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41D-BC25-4430-A1BA-706A089D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932-49F1-4137-B008-60C1D544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62F-36CB-434A-AC75-D2C898E7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6D8-9B76-4D76-81EE-AE6D2790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673-6125-4FF7-B2A8-2AA12895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13D-3306-49DA-9471-F466EB7C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C4B-0A66-4AAB-8D10-C2AC078F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2C0-A206-4371-8DE9-FF1A1E78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3D1-F375-4BC5-BDE6-8F22977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C4B-1679-4F19-9D83-FFE148E0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3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FD7-8524-404A-B3EA-BB18B3162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2000160" y="142920"/>
            <a:ext cx="580572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lture Corner 4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ENAGE MAGAZINES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Kab-38\Desktop\155169-7d9da-43174983-m750x740-ub961f.jpg"/>
          <p:cNvPicPr/>
          <p:nvPr/>
        </p:nvPicPr>
        <p:blipFill>
          <a:blip r:embed="rId1"/>
          <a:stretch/>
        </p:blipFill>
        <p:spPr>
          <a:xfrm rot="468600">
            <a:off x="5025960" y="2814120"/>
            <a:ext cx="2784600" cy="370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Kab-38\Desktop\s1200.jpg"/>
          <p:cNvPicPr/>
          <p:nvPr/>
        </p:nvPicPr>
        <p:blipFill>
          <a:blip r:embed="rId2"/>
          <a:stretch/>
        </p:blipFill>
        <p:spPr>
          <a:xfrm rot="21273000">
            <a:off x="1380960" y="2766600"/>
            <a:ext cx="2772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746640" y="1714680"/>
            <a:ext cx="79502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 </a:t>
            </a:r>
            <a:r>
              <a:rPr b="1" lang="en-US" sz="3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n/can’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alk about teenage magazin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scuss these magazines with friend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rry out a survey and use graph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768600" y="549360"/>
            <a:ext cx="81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.Е. Ваулина, Д. Дули, О.Е. Подоляко, В. Эванс  Английский язы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tligh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7:уче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щеобразоват.  организаций.-М.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ress Publishing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вещение,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755640" y="174960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agforum.com/glossies/teen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teenage.com.sg/Teenage.Web/HomePage/Content.aspx?key=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teenage.com.sg/Teenage.Web/HomePage/Content.aspx?key=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934280" y="214200"/>
            <a:ext cx="61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4d 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eenage magaz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348000" y="1022400"/>
            <a:ext cx="4572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derstand the meaning of the titles (Ex.2 p.4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isten and read the article (Ex. 3, p.4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y to guess the meaning of new w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 some extr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st your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ry out a survey . Ask your classmates about their favourite pages in magazines. Make a graph/chat to show the resul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Администратор\Desktop\j17_1988dec21_110.jpg"/>
          <p:cNvPicPr/>
          <p:nvPr/>
        </p:nvPicPr>
        <p:blipFill>
          <a:blip r:embed="rId1"/>
          <a:stretch/>
        </p:blipFill>
        <p:spPr>
          <a:xfrm>
            <a:off x="900000" y="1197000"/>
            <a:ext cx="1389240" cy="1920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Администратор\Desktop\bliss_mar02_s.jpg"/>
          <p:cNvPicPr/>
          <p:nvPr/>
        </p:nvPicPr>
        <p:blipFill>
          <a:blip r:embed="rId2"/>
          <a:stretch/>
        </p:blipFill>
        <p:spPr>
          <a:xfrm>
            <a:off x="919080" y="3490920"/>
            <a:ext cx="138924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87040" y="285840"/>
            <a:ext cx="78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do the teenage magazines have insi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705240" y="1052640"/>
            <a:ext cx="503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s about stars and celeb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s about health/beau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s about fash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mous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s about sport/compet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oblem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Quiz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rosco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oss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ss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Администратор\Desktop\Life.jpg"/>
          <p:cNvPicPr/>
          <p:nvPr/>
        </p:nvPicPr>
        <p:blipFill>
          <a:blip r:embed="rId1"/>
          <a:stretch/>
        </p:blipFill>
        <p:spPr>
          <a:xfrm>
            <a:off x="3429000" y="4500720"/>
            <a:ext cx="541188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Администратор\Desktop\10407056_10152557358829553_5297006149861198465_n.jpg"/>
          <p:cNvPicPr/>
          <p:nvPr/>
        </p:nvPicPr>
        <p:blipFill>
          <a:blip r:embed="rId2"/>
          <a:stretch/>
        </p:blipFill>
        <p:spPr>
          <a:xfrm>
            <a:off x="250920" y="5118120"/>
            <a:ext cx="2760480" cy="15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Kab-38\Desktop\8_4ebdc5c332804.jpg"/>
          <p:cNvPicPr/>
          <p:nvPr/>
        </p:nvPicPr>
        <p:blipFill>
          <a:blip r:embed="rId3"/>
          <a:stretch/>
        </p:blipFill>
        <p:spPr>
          <a:xfrm>
            <a:off x="6000840" y="928800"/>
            <a:ext cx="25718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85360" y="428760"/>
            <a:ext cx="243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pular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lossy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stead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tractive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3013920" y="2143080"/>
            <a:ext cx="290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shion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p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 opposed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073480" y="4549680"/>
            <a:ext cx="406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д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лекатель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лянце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место эт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93960" y="428760"/>
            <a:ext cx="903024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ill in the gap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resses are ________ for girls now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dog has ________ black hair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new girl is very ________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lots of TV __________ at the party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eard some ________ about Mary, but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believe it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085760" y="4929120"/>
            <a:ext cx="6302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ossy, fashionable, attractive,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lebrities, gossip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665280" y="1628640"/>
            <a:ext cx="78483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resses are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ashion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girls now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dog has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glossy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hair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new girl is very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ttractiv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lots of TV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elebrities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party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eard some  </a:t>
            </a:r>
            <a:r>
              <a:rPr b="1" i="1" lang="en-US" sz="3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gossip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out Mary, but I don’t believe it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064320" y="36360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ord 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896760" y="1143000"/>
            <a:ext cx="73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fu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-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u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jectiv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725720" y="2143080"/>
            <a:ext cx="188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hion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fort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ur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ty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e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357280" y="785880"/>
            <a:ext cx="4572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rest- interes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shion- fashionab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tract- attractiv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fort- comfortab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our- colourfu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auty- beautifu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uccess- successfu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me- famo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55760" y="1785960"/>
            <a:ext cx="8113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ost of my classmates like reading….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of them read/do…   from time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time. …… We never read/do……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08:00:28Z</dcterms:created>
  <dc:creator>Оксана</dc:creator>
  <dc:description/>
  <dc:language>en-US</dc:language>
  <cp:lastModifiedBy>Kab-38</cp:lastModifiedBy>
  <dcterms:modified xsi:type="dcterms:W3CDTF">2019-11-25T11:19:12Z</dcterms:modified>
  <cp:revision>2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30000000000010243100207f6000400038000</vt:lpwstr>
  </property>
</Properties>
</file>