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1.jpeg" ContentType="image/jpeg"/>
  <Override PartName="/ppt/media/audio1.wav" ContentType="audio/x-wav"/>
  <Override PartName="/ppt/media/image4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49.jpeg" ContentType="image/jpeg"/>
  <Override PartName="/ppt/media/image30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5DF3-384C-4145-BD2E-E0DB22BC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D260-3324-4CAA-B62E-A62F0BB8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AE82-1D55-40C6-A370-4D0AC670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843A-67B7-407D-8239-30646503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2A53-DCE1-4DB7-8A60-6EAF8079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718E-0164-485C-86A4-F21D5464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60D5-EA96-450F-AF65-C9CC08CD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E2C-EAD0-4D95-9833-E38B63E5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8096-157A-4C57-9520-49250E7F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99D7-8334-4AF5-B929-A82B4E50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CD84-CC59-4E5A-B4B8-31C0E944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2229-0A8E-4542-90F8-87CE01F3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80041">
                  <a:alpha val="45098"/>
                </a:srgbClr>
              </a:gs>
              <a:gs pos="100000">
                <a:srgbClr val="8d0073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c9004e">
                  <a:alpha val="45098"/>
                </a:srgbClr>
              </a:gs>
              <a:gs pos="100000">
                <a:srgbClr val="73005d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89007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ff38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C840F6-CF59-43FB-A7ED-A34BA128155E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audio" Target="../media/audio1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audio" Target="../media/audio1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48.jpeg"/><Relationship Id="rId11" Type="http://schemas.openxmlformats.org/officeDocument/2006/relationships/image" Target="../media/image49.jpeg"/><Relationship Id="rId12" Type="http://schemas.openxmlformats.org/officeDocument/2006/relationships/audio" Target="../media/audio1.wav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7dd"/>
            </a:gs>
            <a:gs pos="100000">
              <a:srgbClr val="ffe7f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500040" y="1214280"/>
            <a:ext cx="821484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6600" spc="49" strike="noStrike">
                <a:solidFill>
                  <a:schemeClr val="accent2"/>
                </a:solidFill>
                <a:latin typeface="Comic Sans MS"/>
              </a:rPr>
              <a:t>ПУТЕШЕСТВ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6600" spc="49" strike="noStrike">
                <a:solidFill>
                  <a:schemeClr val="accent2"/>
                </a:solidFill>
                <a:latin typeface="Comic Sans MS"/>
              </a:rPr>
              <a:t>ВО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6600" spc="49" strike="noStrike">
                <a:solidFill>
                  <a:schemeClr val="accent2"/>
                </a:solidFill>
                <a:latin typeface="Comic Sans MS"/>
              </a:rPr>
              <a:t>ФРАНЦИ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4786200" y="4929120"/>
            <a:ext cx="42145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Выполнил: Зорин Роман Георгиевич, учитель иностранных яз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3500280" y="600084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201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1" name="audio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42920" y="1143000"/>
            <a:ext cx="428580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лисейские поля – это одна из самых популярных достопримечательностей Парижа, куда ежедневно приходят сотни тысяч людей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Здесь проходят парады и официальные торжества. Когда-то на месте Елисейских полей были лишь луга и болота, где пасся рогатый скот. Сегодня в верхней части Елисейских Полей тесно от кинотеатров, шикарных ресторанов, кафе и закусочных, дорогих магазинов и бан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785880" y="500040"/>
            <a:ext cx="4785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лисейские п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http://img35.imageshack.us/img35/5480/champselysesvuedelaconc.jpg"/>
          <p:cNvPicPr/>
          <p:nvPr/>
        </p:nvPicPr>
        <p:blipFill>
          <a:blip r:embed="rId1"/>
          <a:stretch/>
        </p:blipFill>
        <p:spPr>
          <a:xfrm>
            <a:off x="4429080" y="1143000"/>
            <a:ext cx="4578840" cy="301896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94" name="Picture 5" descr="http://www.petitenature.com/communities/5/000/001/343/625/images/1707698.swf"/>
          <p:cNvPicPr/>
          <p:nvPr/>
        </p:nvPicPr>
        <p:blipFill>
          <a:blip r:embed="rId2"/>
          <a:stretch/>
        </p:blipFill>
        <p:spPr>
          <a:xfrm>
            <a:off x="1214280" y="4000680"/>
            <a:ext cx="4068360" cy="271440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p:transition spd="slow">
    <p:wipe dir="d"/>
    <p:sndAc>
      <p:stSnd>
        <p:snd r:embed="rId3" name="audio1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357120" y="860400"/>
            <a:ext cx="8643600" cy="63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удно перечислить все достопримечательности Франции. Эта страна считается бесспорным центром искусств на протяжении более тысячи лет.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1430640"/>
            <a:ext cx="9000720" cy="36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Франция - страна древних замков, среди которых наиболее знаменитые - замки Луа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http://img1.liveinternet.ru/images/attach/c/1/59/68/59068427_20081108143013Chteau_de_Chenonceau__west_view_from_Catherine_de_Medici_Gardens_1a_4_May_2006_1.jpg"/>
          <p:cNvPicPr/>
          <p:nvPr/>
        </p:nvPicPr>
        <p:blipFill>
          <a:blip r:embed="rId1"/>
          <a:srcRect l="0" t="0" r="0" b="8002"/>
          <a:stretch/>
        </p:blipFill>
        <p:spPr>
          <a:xfrm>
            <a:off x="142920" y="1857240"/>
            <a:ext cx="4752360" cy="328572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98" name="Picture 4" descr="http://img0.liveinternet.ru/images/attach/b/2/2/544/2544142_1190487500_zamok_shamborshambor2.jpg"/>
          <p:cNvPicPr/>
          <p:nvPr/>
        </p:nvPicPr>
        <p:blipFill>
          <a:blip r:embed="rId2"/>
          <a:stretch/>
        </p:blipFill>
        <p:spPr>
          <a:xfrm>
            <a:off x="4643280" y="3857760"/>
            <a:ext cx="4365000" cy="271440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p:transition spd="slow">
    <p:wipe dir="d"/>
    <p:sndAc>
      <p:stSnd>
        <p:snd r:embed="rId3" name="audio1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214200" y="928800"/>
            <a:ext cx="8786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огочисленных туристов привлекают также Булонский л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upload.wikimedia.org/wikipedia/commons/9/96/Bois_de_Boulogne.jpeg"/>
          <p:cNvPicPr/>
          <p:nvPr/>
        </p:nvPicPr>
        <p:blipFill>
          <a:blip r:embed="rId1"/>
          <a:stretch/>
        </p:blipFill>
        <p:spPr>
          <a:xfrm>
            <a:off x="214200" y="1428840"/>
            <a:ext cx="4142880" cy="277560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101" name="Picture 6" descr="http://img-fotki.yandex.ru/get/6200/141128800.24/0_5e5be_a088e6bf_XL"/>
          <p:cNvPicPr/>
          <p:nvPr/>
        </p:nvPicPr>
        <p:blipFill>
          <a:blip r:embed="rId2"/>
          <a:srcRect l="5625" t="6299" r="5313" b="10508"/>
          <a:stretch/>
        </p:blipFill>
        <p:spPr>
          <a:xfrm>
            <a:off x="4286160" y="3143160"/>
            <a:ext cx="4714560" cy="327528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p:transition spd="slow">
    <p:wipe dir="d"/>
    <p:sndAc>
      <p:stSnd>
        <p:snd r:embed="rId3" name="audio1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2786040" y="1000080"/>
            <a:ext cx="6143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Евродиснейленд - огромный парк развлечений, расположенный в 45 минутах от Парижа. Открыт круглый год.  Это огромная сказочная страна Диснея, где волшебный мир детских фантазий превращается в реальность,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1583640" y="428760"/>
            <a:ext cx="3181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вродиснейле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://img1.liveinternet.ru/images/attach/c/2/64/255/64255471_1284975023_3.jpg"/>
          <p:cNvPicPr/>
          <p:nvPr/>
        </p:nvPicPr>
        <p:blipFill>
          <a:blip r:embed="rId1"/>
          <a:stretch/>
        </p:blipFill>
        <p:spPr>
          <a:xfrm>
            <a:off x="142920" y="1071720"/>
            <a:ext cx="2628720" cy="350028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105" name="Picture 8" descr="http://tour-dream.com/wp-content/gallery/razvlechenia/pa_002.jpg"/>
          <p:cNvPicPr/>
          <p:nvPr/>
        </p:nvPicPr>
        <p:blipFill>
          <a:blip r:embed="rId2"/>
          <a:stretch/>
        </p:blipFill>
        <p:spPr>
          <a:xfrm>
            <a:off x="3714840" y="2286000"/>
            <a:ext cx="5119200" cy="383940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106" name="Picture 4" descr="http://www.lemek.ru/online-control.imager/11/dis/disney01_15.jpg"/>
          <p:cNvPicPr/>
          <p:nvPr/>
        </p:nvPicPr>
        <p:blipFill>
          <a:blip r:embed="rId3"/>
          <a:stretch/>
        </p:blipFill>
        <p:spPr>
          <a:xfrm>
            <a:off x="2000160" y="4143240"/>
            <a:ext cx="1929600" cy="257112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p:transition spd="slow">
    <p:wipe dir="d"/>
    <p:sndAc>
      <p:stSnd>
        <p:snd r:embed="rId4" name="audio1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214200" y="1571760"/>
            <a:ext cx="5071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нны – город, в котором проходят всемирные кинофестив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1366200" y="500040"/>
            <a:ext cx="3124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рода Фра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www.1000turov.ru/imgs/sv_photo/95/r_p_29f86cfe7350adf25ebfe0a6d35b0433.jpg"/>
          <p:cNvPicPr/>
          <p:nvPr/>
        </p:nvPicPr>
        <p:blipFill>
          <a:blip r:embed="rId1"/>
          <a:srcRect l="4684" t="7032" r="0" b="0"/>
          <a:stretch/>
        </p:blipFill>
        <p:spPr>
          <a:xfrm>
            <a:off x="5357880" y="1428840"/>
            <a:ext cx="3407400" cy="221436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110" name="Picture 4" descr="http://www.elleuk.com/var/elleuk/storage/images/travel/travel-guides/cannes-guide/7367158-8-eng-GB/cannes-guide_TA.jpg"/>
          <p:cNvPicPr/>
          <p:nvPr/>
        </p:nvPicPr>
        <p:blipFill>
          <a:blip r:embed="rId2"/>
          <a:srcRect l="0" t="18494" r="0" b="7507"/>
          <a:stretch/>
        </p:blipFill>
        <p:spPr>
          <a:xfrm>
            <a:off x="285840" y="2286000"/>
            <a:ext cx="4519800" cy="257148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111" name="Picture 6" descr="http://www.kursiv.kz/upload/resize_cache/iblock/9e3/240_150_1/9e392525de8d909f8bb774aba7c16446.jpg"/>
          <p:cNvPicPr/>
          <p:nvPr/>
        </p:nvPicPr>
        <p:blipFill>
          <a:blip r:embed="rId3"/>
          <a:stretch/>
        </p:blipFill>
        <p:spPr>
          <a:xfrm>
            <a:off x="1428840" y="5000760"/>
            <a:ext cx="2499840" cy="165924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112" name="Picture 8" descr="http://media.paperblog.fr/i/537/5379250/festival-cannes-2012-L-XpiUfY.jpeg"/>
          <p:cNvPicPr/>
          <p:nvPr/>
        </p:nvPicPr>
        <p:blipFill>
          <a:blip r:embed="rId4"/>
          <a:srcRect l="3629" t="5491" r="3226" b="4883"/>
          <a:stretch/>
        </p:blipFill>
        <p:spPr>
          <a:xfrm>
            <a:off x="5000760" y="3967920"/>
            <a:ext cx="4000320" cy="254556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113" name="Прямоугольник 7"/>
          <p:cNvSpPr/>
          <p:nvPr/>
        </p:nvSpPr>
        <p:spPr>
          <a:xfrm>
            <a:off x="2149560" y="1000080"/>
            <a:ext cx="1302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ан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  <p:sndAc>
      <p:stSnd>
        <p:snd r:embed="rId5" name="audio1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4929120" y="857160"/>
            <a:ext cx="42145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навал в Ницце – самое яркое событие, которое ожидает жителей и гостей этого французского города в зимний период. В течение двух недель Ницца "веселится и гуляет": карнавальный парад, "битва" цветов, концерты фейервер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жегодно карнавал посещают около 1 млн. 200 тыс. зрителе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3571920" y="714240"/>
            <a:ext cx="1499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иц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www.podkat.ru/uploads/posts/2010-05/thumbs/1275240544_wallpapers-for-all.-pack-116-14.jpg"/>
          <p:cNvPicPr/>
          <p:nvPr/>
        </p:nvPicPr>
        <p:blipFill>
          <a:blip r:embed="rId1"/>
          <a:stretch/>
        </p:blipFill>
        <p:spPr>
          <a:xfrm>
            <a:off x="428760" y="928800"/>
            <a:ext cx="3142800" cy="235476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117" name="Picture 4" descr="http://images.tour-spb.net/conred/France/carnaval-nice-1.jpg"/>
          <p:cNvPicPr/>
          <p:nvPr/>
        </p:nvPicPr>
        <p:blipFill>
          <a:blip r:embed="rId2"/>
          <a:stretch/>
        </p:blipFill>
        <p:spPr>
          <a:xfrm>
            <a:off x="5929200" y="3571920"/>
            <a:ext cx="2999880" cy="199980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118" name="Picture 6" descr="http://www.dbshopping.it/wp-content/uploads/2013/02/Carnevale-di-Nizza-foto-11.png"/>
          <p:cNvPicPr/>
          <p:nvPr/>
        </p:nvPicPr>
        <p:blipFill>
          <a:blip r:embed="rId3"/>
          <a:stretch/>
        </p:blipFill>
        <p:spPr>
          <a:xfrm>
            <a:off x="142920" y="3643200"/>
            <a:ext cx="3270600" cy="203652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119" name="Picture 8" descr="http://www.elalmanaque.com/Ene12/fotos/niza4.jpg"/>
          <p:cNvPicPr/>
          <p:nvPr/>
        </p:nvPicPr>
        <p:blipFill>
          <a:blip r:embed="rId4"/>
          <a:stretch/>
        </p:blipFill>
        <p:spPr>
          <a:xfrm>
            <a:off x="3286080" y="4572000"/>
            <a:ext cx="2886840" cy="203976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p:transition spd="slow">
    <p:wipe dir="d"/>
    <p:sndAc>
      <p:stSnd>
        <p:snd r:embed="rId5" name="audio1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3"/>
          <p:cNvSpPr/>
          <p:nvPr/>
        </p:nvSpPr>
        <p:spPr>
          <a:xfrm>
            <a:off x="1515600" y="500040"/>
            <a:ext cx="3404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урорты Фра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4"/>
          <p:cNvSpPr/>
          <p:nvPr/>
        </p:nvSpPr>
        <p:spPr>
          <a:xfrm>
            <a:off x="214200" y="1071720"/>
            <a:ext cx="87152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ый год на курорты Франции отправляются тысячи туристов. Самые знаменитые курорты – Лазурный берег и Сен – Тропе. Теплое море, ласковое солнце, живописные заливы, чудесная природа восхищают и поражают тех людей , которые приезжают сю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http://www.politec.ru/img/cities/6930_l.jpg"/>
          <p:cNvPicPr/>
          <p:nvPr/>
        </p:nvPicPr>
        <p:blipFill>
          <a:blip r:embed="rId1"/>
          <a:stretch/>
        </p:blipFill>
        <p:spPr>
          <a:xfrm>
            <a:off x="214200" y="2428920"/>
            <a:ext cx="4146480" cy="278568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123" name="TextBox 6"/>
          <p:cNvSpPr/>
          <p:nvPr/>
        </p:nvSpPr>
        <p:spPr>
          <a:xfrm>
            <a:off x="1214280" y="5214960"/>
            <a:ext cx="2285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Лазурный бере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http://young.rzd.ru/dbmm/images/41/4080/6851125"/>
          <p:cNvPicPr/>
          <p:nvPr/>
        </p:nvPicPr>
        <p:blipFill>
          <a:blip r:embed="rId2"/>
          <a:stretch/>
        </p:blipFill>
        <p:spPr>
          <a:xfrm>
            <a:off x="4486320" y="2428920"/>
            <a:ext cx="4457520" cy="278568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125" name="TextBox 8"/>
          <p:cNvSpPr/>
          <p:nvPr/>
        </p:nvSpPr>
        <p:spPr>
          <a:xfrm>
            <a:off x="6357960" y="5214960"/>
            <a:ext cx="1213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Сен - Троп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  <p:sndAc>
      <p:stSnd>
        <p:snd r:embed="rId3" name="audio1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500040" y="857160"/>
            <a:ext cx="8286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и подошла наша экскурсия к концу. Надеюсь вам она очень понравилась. Приезжайте во Францию посмотреть на то, что я вам продемонстриров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://www.motto.net.ua/pic/201209/800x600/motto.net.ua-32820.jpg"/>
          <p:cNvPicPr/>
          <p:nvPr/>
        </p:nvPicPr>
        <p:blipFill>
          <a:blip r:embed="rId1"/>
          <a:srcRect l="0" t="0" r="0" b="26118"/>
          <a:stretch/>
        </p:blipFill>
        <p:spPr>
          <a:xfrm>
            <a:off x="0" y="1643040"/>
            <a:ext cx="2707200" cy="1499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28" name="Picture 1" descr="C:\Users\таня\Desktop\франция\france_paris_eiffel4.jpg"/>
          <p:cNvPicPr/>
          <p:nvPr/>
        </p:nvPicPr>
        <p:blipFill>
          <a:blip r:embed="rId2"/>
          <a:srcRect l="0" t="8009" r="0" b="0"/>
          <a:stretch/>
        </p:blipFill>
        <p:spPr>
          <a:xfrm>
            <a:off x="2714760" y="1571760"/>
            <a:ext cx="2238120" cy="15440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29" name="Picture 2" descr="http://www.berkuttour.ru/apps/berkut/add_files/francija.jpg"/>
          <p:cNvPicPr/>
          <p:nvPr/>
        </p:nvPicPr>
        <p:blipFill>
          <a:blip r:embed="rId3"/>
          <a:stretch/>
        </p:blipFill>
        <p:spPr>
          <a:xfrm>
            <a:off x="5000760" y="1714320"/>
            <a:ext cx="2097360" cy="1571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30" name="Picture 2" descr="http://stat16.privet.ru/lr/090c72efe0f06903cf86fb9acc489170"/>
          <p:cNvPicPr/>
          <p:nvPr/>
        </p:nvPicPr>
        <p:blipFill>
          <a:blip r:embed="rId4"/>
          <a:stretch/>
        </p:blipFill>
        <p:spPr>
          <a:xfrm>
            <a:off x="7265520" y="1643040"/>
            <a:ext cx="1878120" cy="1409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31" name="Picture 3" descr="http://img35.imageshack.us/img35/5480/champselysesvuedelaconc.jpg"/>
          <p:cNvPicPr/>
          <p:nvPr/>
        </p:nvPicPr>
        <p:blipFill>
          <a:blip r:embed="rId5"/>
          <a:stretch/>
        </p:blipFill>
        <p:spPr>
          <a:xfrm>
            <a:off x="214200" y="3286080"/>
            <a:ext cx="2274840" cy="1499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32" name="Picture 6" descr="http://img1.liveinternet.ru/images/attach/c/1/59/68/59068427_20081108143013Chteau_de_Chenonceau__west_view_from_Catherine_de_Medici_Gardens_1a_4_May_2006_1.jpg"/>
          <p:cNvPicPr/>
          <p:nvPr/>
        </p:nvPicPr>
        <p:blipFill>
          <a:blip r:embed="rId6"/>
          <a:srcRect l="0" t="0" r="0" b="7991"/>
          <a:stretch/>
        </p:blipFill>
        <p:spPr>
          <a:xfrm>
            <a:off x="4929120" y="3357720"/>
            <a:ext cx="2214360" cy="1530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33" name="Picture 8" descr="http://tour-dream.com/wp-content/gallery/razvlechenia/pa_002.jpg"/>
          <p:cNvPicPr/>
          <p:nvPr/>
        </p:nvPicPr>
        <p:blipFill>
          <a:blip r:embed="rId7"/>
          <a:stretch/>
        </p:blipFill>
        <p:spPr>
          <a:xfrm>
            <a:off x="7143840" y="3357720"/>
            <a:ext cx="1999800" cy="1499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34" name="Picture 4" descr="http://www.elleuk.com/var/elleuk/storage/images/travel/travel-guides/cannes-guide/7367158-8-eng-GB/cannes-guide_TA.jpg"/>
          <p:cNvPicPr/>
          <p:nvPr/>
        </p:nvPicPr>
        <p:blipFill>
          <a:blip r:embed="rId8"/>
          <a:srcRect l="0" t="18492" r="0" b="7508"/>
          <a:stretch/>
        </p:blipFill>
        <p:spPr>
          <a:xfrm>
            <a:off x="3071880" y="5000760"/>
            <a:ext cx="2761920" cy="1571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35" name="Picture 4" descr="http://images.tour-spb.net/conred/France/carnaval-nice-1.jpg"/>
          <p:cNvPicPr/>
          <p:nvPr/>
        </p:nvPicPr>
        <p:blipFill>
          <a:blip r:embed="rId9"/>
          <a:stretch/>
        </p:blipFill>
        <p:spPr>
          <a:xfrm>
            <a:off x="357120" y="4929120"/>
            <a:ext cx="2356920" cy="1571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36" name="Picture 6" descr="http://www.politec.ru/img/cities/6930_l.jpg"/>
          <p:cNvPicPr/>
          <p:nvPr/>
        </p:nvPicPr>
        <p:blipFill>
          <a:blip r:embed="rId10"/>
          <a:stretch/>
        </p:blipFill>
        <p:spPr>
          <a:xfrm>
            <a:off x="2571840" y="3286080"/>
            <a:ext cx="2307240" cy="15501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37" name="Picture 8" descr="http://young.rzd.ru/dbmm/images/41/4080/6851125"/>
          <p:cNvPicPr/>
          <p:nvPr/>
        </p:nvPicPr>
        <p:blipFill>
          <a:blip r:embed="rId11"/>
          <a:stretch/>
        </p:blipFill>
        <p:spPr>
          <a:xfrm>
            <a:off x="6143760" y="5000760"/>
            <a:ext cx="2514240" cy="1571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slow">
    <p:wipe dir="d"/>
    <p:sndAc>
      <p:stSnd>
        <p:snd r:embed="rId12" name="audio1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>
            <a:lumMod val="20000"/>
            <a:lumOff val="8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2"/>
          <p:cNvSpPr/>
          <p:nvPr/>
        </p:nvSpPr>
        <p:spPr>
          <a:xfrm>
            <a:off x="1143000" y="1214280"/>
            <a:ext cx="728640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8800" spc="49" strike="noStrike">
                <a:solidFill>
                  <a:schemeClr val="accent2"/>
                </a:solidFill>
                <a:latin typeface="Cheshirskiy Cat"/>
              </a:rPr>
              <a:t>СПАСБ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8800" spc="49" strike="noStrike">
                <a:solidFill>
                  <a:schemeClr val="accent2"/>
                </a:solidFill>
                <a:latin typeface="Cheshirskiy Cat"/>
              </a:rPr>
              <a:t>ЗА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8800" spc="49" strike="noStrike">
                <a:solidFill>
                  <a:schemeClr val="accent2"/>
                </a:solidFill>
                <a:latin typeface="Cheshirskiy Cat"/>
              </a:rPr>
              <a:t>ВНИМАНИ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  <p:sndAc>
      <p:stSnd>
        <p:snd r:embed="rId1" name="audio1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"/>
          <p:cNvPicPr/>
          <p:nvPr/>
        </p:nvPicPr>
        <p:blipFill>
          <a:blip r:embed="rId1"/>
          <a:srcRect l="0" t="0" r="0" b="5470"/>
          <a:stretch/>
        </p:blipFill>
        <p:spPr>
          <a:xfrm>
            <a:off x="3786120" y="2357280"/>
            <a:ext cx="4827960" cy="4375080"/>
          </a:xfrm>
          <a:prstGeom prst="rect">
            <a:avLst/>
          </a:prstGeom>
          <a:ln cap="sq" w="38100">
            <a:solidFill>
              <a:srgbClr val="ff388c">
                <a:lumMod val="5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50" name="TextBox 3"/>
          <p:cNvSpPr/>
          <p:nvPr/>
        </p:nvSpPr>
        <p:spPr>
          <a:xfrm>
            <a:off x="500040" y="785880"/>
            <a:ext cx="82148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рритория Франции - 543 965 кв. 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ранция разделена на 96 административных единиц—   департам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ранция—республ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а государства—президент. Глава правительства— премьер-министр. Законодательный орган—парламент, состоящий из Сената и Национального собр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герб Франции"/>
          <p:cNvPicPr/>
          <p:nvPr/>
        </p:nvPicPr>
        <p:blipFill>
          <a:blip r:embed="rId2"/>
          <a:stretch/>
        </p:blipFill>
        <p:spPr>
          <a:xfrm>
            <a:off x="285840" y="4643280"/>
            <a:ext cx="1499760" cy="165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fg_franc"/>
          <p:cNvPicPr/>
          <p:nvPr/>
        </p:nvPicPr>
        <p:blipFill>
          <a:blip r:embed="rId3"/>
          <a:stretch/>
        </p:blipFill>
        <p:spPr>
          <a:xfrm>
            <a:off x="214200" y="2786040"/>
            <a:ext cx="1950480" cy="128556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  <p:sp>
        <p:nvSpPr>
          <p:cNvPr id="53" name="Text Box 6"/>
          <p:cNvSpPr/>
          <p:nvPr/>
        </p:nvSpPr>
        <p:spPr>
          <a:xfrm>
            <a:off x="1285920" y="6215040"/>
            <a:ext cx="16524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ерб  Фра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38120" y="4143240"/>
            <a:ext cx="1612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лаг  Фра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  <p:sndAc>
      <p:stSnd>
        <p:snd r:embed="rId4" name="audio1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0"/>
          <p:cNvSpPr/>
          <p:nvPr/>
        </p:nvSpPr>
        <p:spPr>
          <a:xfrm>
            <a:off x="214200" y="4500720"/>
            <a:ext cx="3214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ый язык - французс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2"/>
          <p:cNvSpPr/>
          <p:nvPr/>
        </p:nvSpPr>
        <p:spPr>
          <a:xfrm>
            <a:off x="0" y="5072040"/>
            <a:ext cx="307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ежная единица — евр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3"/>
          <p:cNvSpPr/>
          <p:nvPr/>
        </p:nvSpPr>
        <p:spPr>
          <a:xfrm>
            <a:off x="71280" y="2714760"/>
            <a:ext cx="52146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 Французской Республике проживает около  61 млн. человек, десять из них проживают в Париже и его окрестностях. Во Франции немало больших городов, таких как Марсель, Тулуза, Лион, но все же, большинство населения проживает в деревнях и небольших городах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4"/>
          <p:cNvSpPr/>
          <p:nvPr/>
        </p:nvSpPr>
        <p:spPr>
          <a:xfrm>
            <a:off x="285840" y="785880"/>
            <a:ext cx="87152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на находится на крайнем западе Европы. Более половины границ омывает Северное море, Атлантический океан и Средиземное море. Разнообразны природные условия. Неподалеку от покрытых снегами Альп можно встретить пальмы на Лазурном берегу. Запад Франции занимают равнины с неспешно текущими реками. Это Сена, пересекающая столицу страны; Лаура - славящаяся замками на ее берегах; Гаронна - воды которой орошают виноградники; а также Рейн - пограничный с Герман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www.protrav.ru/content/Image/kurort_sh.JPG"/>
          <p:cNvPicPr/>
          <p:nvPr/>
        </p:nvPicPr>
        <p:blipFill>
          <a:blip r:embed="rId1"/>
          <a:stretch/>
        </p:blipFill>
        <p:spPr>
          <a:xfrm>
            <a:off x="5500800" y="2571840"/>
            <a:ext cx="3333240" cy="2499840"/>
          </a:xfrm>
          <a:prstGeom prst="rect">
            <a:avLst/>
          </a:prstGeom>
          <a:ln cap="sq" w="38100">
            <a:solidFill>
              <a:srgbClr val="ff388c">
                <a:lumMod val="5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60" name="Picture 5" descr="normal_sena"/>
          <p:cNvPicPr/>
          <p:nvPr/>
        </p:nvPicPr>
        <p:blipFill>
          <a:blip r:embed="rId2"/>
          <a:stretch/>
        </p:blipFill>
        <p:spPr>
          <a:xfrm>
            <a:off x="2928960" y="4572000"/>
            <a:ext cx="2960280" cy="2052000"/>
          </a:xfrm>
          <a:prstGeom prst="rect">
            <a:avLst/>
          </a:prstGeom>
          <a:ln cap="sq" w="38100">
            <a:solidFill>
              <a:srgbClr val="ff388c">
                <a:lumMod val="5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p:transition spd="slow">
    <p:wipe dir="d"/>
    <p:sndAc>
      <p:stSnd>
        <p:snd r:embed="rId3" name="audio1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286080" y="857160"/>
            <a:ext cx="378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олица Франции – город Париж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4929120" y="1861920"/>
            <a:ext cx="4214520" cy="913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риж - один из красивейших городов мира. Он возник более 2000 лет тому назад на острове посреди реки С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Вид на Сену"/>
          <p:cNvPicPr/>
          <p:nvPr/>
        </p:nvPicPr>
        <p:blipFill>
          <a:blip r:embed="rId1"/>
          <a:stretch/>
        </p:blipFill>
        <p:spPr>
          <a:xfrm>
            <a:off x="214200" y="1357200"/>
            <a:ext cx="4500360" cy="2857320"/>
          </a:xfrm>
          <a:prstGeom prst="rect">
            <a:avLst/>
          </a:prstGeom>
          <a:ln cap="sq" w="38100">
            <a:solidFill>
              <a:srgbClr val="ff388c">
                <a:lumMod val="5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64" name="Рисунок 4" descr="img123.jpg"/>
          <p:cNvPicPr/>
          <p:nvPr/>
        </p:nvPicPr>
        <p:blipFill>
          <a:blip r:embed="rId2"/>
          <a:stretch/>
        </p:blipFill>
        <p:spPr>
          <a:xfrm>
            <a:off x="4857840" y="3571920"/>
            <a:ext cx="4035960" cy="2999880"/>
          </a:xfrm>
          <a:prstGeom prst="rect">
            <a:avLst/>
          </a:prstGeom>
          <a:ln cap="sq" w="38100">
            <a:solidFill>
              <a:srgbClr val="ff388c">
                <a:lumMod val="5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p:transition spd="slow">
    <p:wipe dir="d"/>
    <p:sndAc>
      <p:stSnd>
        <p:snd r:embed="rId3" name="audio1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"/>
          <p:cNvSpPr/>
          <p:nvPr/>
        </p:nvSpPr>
        <p:spPr>
          <a:xfrm>
            <a:off x="142920" y="642960"/>
            <a:ext cx="6500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bbcd"/>
                </a:solidFill>
                <a:latin typeface="Calibri"/>
              </a:rPr>
              <a:t>Достопримечательности стр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36a8d04d5922"/>
          <p:cNvPicPr/>
          <p:nvPr/>
        </p:nvPicPr>
        <p:blipFill>
          <a:blip r:embed="rId1"/>
          <a:srcRect l="0" t="5263" r="0" b="0"/>
          <a:stretch/>
        </p:blipFill>
        <p:spPr>
          <a:xfrm>
            <a:off x="5143680" y="3071880"/>
            <a:ext cx="3842640" cy="2428560"/>
          </a:xfrm>
          <a:prstGeom prst="rect">
            <a:avLst/>
          </a:prstGeom>
          <a:ln cap="sq" w="38100">
            <a:solidFill>
              <a:srgbClr val="ff388c">
                <a:lumMod val="5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67" name="Прямоугольник 4"/>
          <p:cNvSpPr/>
          <p:nvPr/>
        </p:nvSpPr>
        <p:spPr>
          <a:xfrm>
            <a:off x="3857760" y="1071720"/>
            <a:ext cx="1356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ув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142920" y="1571760"/>
            <a:ext cx="88578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увр – знаменитый музей. В 13 веке –это мощная средневековая  крепость, построенная на берегу реки Сены для защиты от врагов. В середине 16 века старую крепость снесли и на её фундаменте построили дворец. Каждый король Франции что-то достраивал в нем и вокруг него, разбивал сады и парки. Лувр знаменит художественной галереей. В ней насчитывается более 400 тысяч экспон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www.motto.net.ua/pic/201209/800x600/motto.net.ua-32820.jpg"/>
          <p:cNvPicPr/>
          <p:nvPr/>
        </p:nvPicPr>
        <p:blipFill>
          <a:blip r:embed="rId2"/>
          <a:srcRect l="0" t="0" r="0" b="26127"/>
          <a:stretch/>
        </p:blipFill>
        <p:spPr>
          <a:xfrm>
            <a:off x="142920" y="3714840"/>
            <a:ext cx="5214600" cy="288900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p:transition spd="slow">
    <p:wipe dir="d"/>
    <p:sndAc>
      <p:stSnd>
        <p:snd r:embed="rId3" name="audio1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095480" y="500040"/>
            <a:ext cx="4949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йфелева башня в Пари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C:\Users\таня\Desktop\франция\france_paris_eiffel4.jpg"/>
          <p:cNvPicPr/>
          <p:nvPr/>
        </p:nvPicPr>
        <p:blipFill>
          <a:blip r:embed="rId1"/>
          <a:stretch/>
        </p:blipFill>
        <p:spPr>
          <a:xfrm>
            <a:off x="5429160" y="1071720"/>
            <a:ext cx="3619080" cy="2714400"/>
          </a:xfrm>
          <a:prstGeom prst="rect">
            <a:avLst/>
          </a:prstGeom>
          <a:ln cap="sq" w="38100">
            <a:solidFill>
              <a:srgbClr val="ff388c">
                <a:lumMod val="5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72" name="Picture 2" descr="C:\Users\таня\Desktop\франция\france_paris_eiffel5.jpg"/>
          <p:cNvPicPr/>
          <p:nvPr/>
        </p:nvPicPr>
        <p:blipFill>
          <a:blip r:embed="rId2"/>
          <a:stretch/>
        </p:blipFill>
        <p:spPr>
          <a:xfrm>
            <a:off x="5357880" y="3929040"/>
            <a:ext cx="3619080" cy="2714400"/>
          </a:xfrm>
          <a:prstGeom prst="rect">
            <a:avLst/>
          </a:prstGeom>
          <a:ln cap="sq" w="38100">
            <a:solidFill>
              <a:srgbClr val="ff388c">
                <a:lumMod val="5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73" name="Прямоугольник 4"/>
          <p:cNvSpPr/>
          <p:nvPr/>
        </p:nvSpPr>
        <p:spPr>
          <a:xfrm>
            <a:off x="285840" y="3071880"/>
            <a:ext cx="5143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сит башня около 7 тысяч тон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ё высота - 320 ме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оит башня из трех уров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14200" y="1285920"/>
            <a:ext cx="51433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йфелева башня – символ не только Париж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и всей Франции – одна из самых узнаваемых мировых достопримечатель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жегодно на башню поднимается огромное количество людей, в несколько раз превышающее по численности население самого Париж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285840" y="4000680"/>
            <a:ext cx="45716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ры и рестораны, расположенные на каждом этаже, дают возможность отдохнуть и насладиться уникальной панорамой. Под Эйфелевой башней расстилается Марсово п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  <p:sndAc>
      <p:stSnd>
        <p:snd r:embed="rId3" name="audio1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571320" y="642960"/>
            <a:ext cx="900072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тр-Дам де Пар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бор Парижской Богомат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57866438_4229"/>
          <p:cNvPicPr/>
          <p:nvPr/>
        </p:nvPicPr>
        <p:blipFill>
          <a:blip r:embed="rId1"/>
          <a:stretch/>
        </p:blipFill>
        <p:spPr>
          <a:xfrm>
            <a:off x="142920" y="1285920"/>
            <a:ext cx="3428640" cy="257148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78" name="Picture 2" descr="http://www.berkuttour.ru/apps/berkut/add_files/francija.jpg"/>
          <p:cNvPicPr/>
          <p:nvPr/>
        </p:nvPicPr>
        <p:blipFill>
          <a:blip r:embed="rId2"/>
          <a:stretch/>
        </p:blipFill>
        <p:spPr>
          <a:xfrm>
            <a:off x="5214960" y="4071960"/>
            <a:ext cx="3497040" cy="262008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79" name="Прямоугольник 4"/>
          <p:cNvSpPr/>
          <p:nvPr/>
        </p:nvSpPr>
        <p:spPr>
          <a:xfrm>
            <a:off x="3714840" y="1714320"/>
            <a:ext cx="5428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тр- Дам де Пари – архитектурный шедевр города Парижа. Остров Ситэ, на котором он расположен - древнейшая часть французской столицы. Строительство собора шло постепенно с востока на запад и длилось более 100 лет. Собор должен был вмещать в себя всех жителей города – 10 000 человек. Но пока его строили, население Парижа выросло во много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http://img1.liveinternet.ru/images/attach/c/2/82/784/82784795_1297944779_depositphotos_2455486_xlgargoyleofnotredamedeparis.jpg"/>
          <p:cNvPicPr/>
          <p:nvPr/>
        </p:nvPicPr>
        <p:blipFill>
          <a:blip r:embed="rId3"/>
          <a:stretch/>
        </p:blipFill>
        <p:spPr>
          <a:xfrm>
            <a:off x="857160" y="4071960"/>
            <a:ext cx="3785760" cy="260496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p:transition spd="slow">
    <p:wipe dir="d"/>
    <p:sndAc>
      <p:stSnd>
        <p:snd r:embed="rId4" name="audio1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142920" y="1285920"/>
            <a:ext cx="55004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м Инвалидов– комплекс величественных зданий в центре Парижа, включающий в себя Дом Инвалидов, Собор и Церковь Св. Людовика. Является одной из основных архитектурных достопримечательностей  Французской стол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1658520" y="642960"/>
            <a:ext cx="3036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м Инвал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www.eurotours.ru/data/images/5e6e9b8e5cbea743267f33b6d53a62dc.jpg"/>
          <p:cNvPicPr/>
          <p:nvPr/>
        </p:nvPicPr>
        <p:blipFill>
          <a:blip r:embed="rId1"/>
          <a:stretch/>
        </p:blipFill>
        <p:spPr>
          <a:xfrm>
            <a:off x="5572080" y="1000080"/>
            <a:ext cx="3361320" cy="400032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84" name="Picture 4" descr="http://tiptotrip.ru/files/articlepictures/420.jpg?1319621261"/>
          <p:cNvPicPr/>
          <p:nvPr/>
        </p:nvPicPr>
        <p:blipFill>
          <a:blip r:embed="rId2"/>
          <a:stretch/>
        </p:blipFill>
        <p:spPr>
          <a:xfrm>
            <a:off x="571320" y="2928960"/>
            <a:ext cx="4871520" cy="347832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p:transition spd="slow">
    <p:wipe dir="d"/>
    <p:sndAc>
      <p:stSnd>
        <p:snd r:embed="rId3" name="audio1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357200" y="500040"/>
            <a:ext cx="3785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иумфальная а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4429080" y="1143000"/>
            <a:ext cx="4714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иумфальная арка в Париже – это один из величайших памятников истории и архитектуры, о которой знает любой более-менее грамотный житель нашей планеты. Она располагается в легендарном восьмом округе столицы Франции, на площади, носящей название площадь Шарля де Голля, или площадь «Звезд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4429080" y="335772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е строительство началось по приказу величайшего французского завоевателя и стратега Наполеона Бонапарта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stat16.privet.ru/lr/090c72efe0f06903cf86fb9acc489170"/>
          <p:cNvPicPr/>
          <p:nvPr/>
        </p:nvPicPr>
        <p:blipFill>
          <a:blip r:embed="rId1"/>
          <a:stretch/>
        </p:blipFill>
        <p:spPr>
          <a:xfrm>
            <a:off x="428760" y="1143000"/>
            <a:ext cx="3714480" cy="278856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89" name="Picture 4" descr="http://omsk.transaerotour.com/images/all/country/45415.jpg"/>
          <p:cNvPicPr/>
          <p:nvPr/>
        </p:nvPicPr>
        <p:blipFill>
          <a:blip r:embed="rId2"/>
          <a:stretch/>
        </p:blipFill>
        <p:spPr>
          <a:xfrm>
            <a:off x="642960" y="4143240"/>
            <a:ext cx="3428640" cy="257148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90" name="Picture 6" descr="http://www.icar.ro/oferte-turism/37033147_0_huge.jpg"/>
          <p:cNvPicPr/>
          <p:nvPr/>
        </p:nvPicPr>
        <p:blipFill>
          <a:blip r:embed="rId3"/>
          <a:srcRect l="0" t="15003" r="0" b="6999"/>
          <a:stretch/>
        </p:blipFill>
        <p:spPr>
          <a:xfrm>
            <a:off x="4572000" y="4286160"/>
            <a:ext cx="4214520" cy="2464200"/>
          </a:xfrm>
          <a:prstGeom prst="rect">
            <a:avLst/>
          </a:prstGeom>
          <a:ln cap="sq" w="38100">
            <a:solidFill>
              <a:srgbClr val="e40059">
                <a:lumMod val="75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p:transition spd="slow">
    <p:wipe dir="d"/>
    <p:sndAc>
      <p:stSnd>
        <p:snd r:embed="rId4" name="audio1.wav"/>
      </p:stSnd>
    </p:sndAc>
  </p:transition>
</p:sld>
</file>

<file path=ppt/theme/theme1.xml><?xml version="1.0" encoding="utf-8"?>
<a:theme xmlns:a="http://schemas.openxmlformats.org/drawingml/2006/main" name="Поток">
  <a:themeElements>
    <a:clrScheme name="Яркая">
      <a:dk1>
        <a:srgbClr val="000000"/>
      </a:dk1>
      <a:lt1>
        <a:srgbClr val="ffffff"/>
      </a:lt1>
      <a:dk2>
        <a:srgbClr val="666666"/>
      </a:dk2>
      <a:lt2>
        <a:srgbClr val="d2d2d2"/>
      </a:lt2>
      <a:accent1>
        <a:srgbClr val="ff388c"/>
      </a:accent1>
      <a:accent2>
        <a:srgbClr val="e40059"/>
      </a:accent2>
      <a:accent3>
        <a:srgbClr val="9c007f"/>
      </a:accent3>
      <a:accent4>
        <a:srgbClr val="68007f"/>
      </a:accent4>
      <a:accent5>
        <a:srgbClr val="005bd3"/>
      </a:accent5>
      <a:accent6>
        <a:srgbClr val="00349e"/>
      </a:accent6>
      <a:hlink>
        <a:srgbClr val="17bbfd"/>
      </a:hlink>
      <a:folHlink>
        <a:srgbClr val="ff79c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Тема44</Template>
  <TotalTime>234</TotalTime>
  <Application>LibreOffice/7.4.7.2$Linux_X86_64 LibreOffice_project/40$Build-2</Application>
  <AppVersion>15.0000</AppVersion>
  <Words>763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5:21:27Z</dcterms:created>
  <dc:creator>таня</dc:creator>
  <dc:description/>
  <dc:language>en-US</dc:language>
  <cp:lastModifiedBy>Пользователь Windows</cp:lastModifiedBy>
  <dcterms:modified xsi:type="dcterms:W3CDTF">2019-11-24T19:07:00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