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C03-050B-4A3B-AC92-1D9DF291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0CC-9A6A-4DE6-9A2A-2ECBAC8C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AC5-E108-444E-B8A5-46A34DED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7DF-779F-40F5-8944-9915DCBE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989-16A6-4287-9DEC-BBC04F6A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6E8-FFF0-4E17-ACF5-0EA980F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39E-FE66-4365-A92C-256233A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E81-738D-43FC-B5F3-D2C7D9C6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CA2-DDBB-4E31-A5E2-B6B97DE7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F54-0D1F-4863-B090-CEB2827C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00A-5C86-4392-A69B-7DACC86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D81-7EB6-4694-B274-9E5C9C3B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EDDD-8913-4365-9DBC-4FC53D8F5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uznaiki.ru/catalog/govoryashhie_knigi/images/veglivie-slov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57120"/>
            <a:ext cx="5143680" cy="1470240"/>
          </a:xfrm>
          <a:prstGeom prst="rect">
            <a:avLst/>
          </a:prstGeom>
          <a:solidFill>
            <a:srgbClr val="ff0000">
              <a:alpha val="9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тешествие в страну вежливых слов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0200" y="5286240"/>
            <a:ext cx="6400800" cy="12859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: Гусева М.И.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3234600" y="21420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оветы на память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785880"/>
            <a:ext cx="4000680" cy="2135880"/>
          </a:xfrm>
          <a:prstGeom prst="rect">
            <a:avLst/>
          </a:prstGeom>
          <a:solidFill>
            <a:srgbClr val="ffff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бя, друг, я состав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очень важных прави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авила прост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стро их запомнишь ты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85840" y="3357720"/>
            <a:ext cx="4000320" cy="1191240"/>
          </a:xfrm>
          <a:prstGeom prst="rect">
            <a:avLst/>
          </a:prstGeom>
          <a:solidFill>
            <a:srgbClr val="e46c0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снулся – так вста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ю лени н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!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285840" y="5500800"/>
            <a:ext cx="4000320" cy="1099800"/>
          </a:xfrm>
          <a:prstGeom prst="rect">
            <a:avLst/>
          </a:prstGeom>
          <a:solidFill>
            <a:srgbClr val="00b0f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есток роса умы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бя умоет мыло!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4572000" y="857160"/>
            <a:ext cx="4429080" cy="1099800"/>
          </a:xfrm>
          <a:prstGeom prst="rect">
            <a:avLst/>
          </a:prstGeom>
          <a:solidFill>
            <a:srgbClr val="00b05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труд другого уваж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насорил – сам убирай!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4714920" y="3357720"/>
            <a:ext cx="4214880" cy="82548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в одежде аккурат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 и дыр и пяте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4714920" y="5500800"/>
            <a:ext cx="4071960" cy="1038600"/>
          </a:xfrm>
          <a:prstGeom prst="rect">
            <a:avLst/>
          </a:prstGeom>
          <a:solidFill>
            <a:srgbClr val="604a7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близким не груб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й жалей, люб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ttp://s44.radikal.ru/i103/1205/2e/36f71293c936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http://i7.beon.ru/91/76/1377691/5/46418805/4319615_4413394561.jpeg"/>
          <p:cNvPicPr/>
          <p:nvPr/>
        </p:nvPicPr>
        <p:blipFill>
          <a:blip r:embed="rId1">
            <a:alphaModFix amt="53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лыбка имеет эффект зеркала! Улыбнись… и ты увидишь улыбк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nafanya.at.ua/_bd/1/47436082.jpg"/>
          <p:cNvPicPr/>
          <p:nvPr/>
        </p:nvPicPr>
        <p:blipFill>
          <a:blip r:embed="rId1"/>
          <a:stretch/>
        </p:blipFill>
        <p:spPr>
          <a:xfrm>
            <a:off x="1714680" y="380880"/>
            <a:ext cx="5786280" cy="64771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214200" y="214200"/>
            <a:ext cx="8929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ежливость – это умение вести себя так, чтобы другим было приятно с т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310480" y="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Игра «Вежливо – невежлив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img1.liveinternet.ru/images/attach/c/2/74/563/74563145_large_5.jpg"/>
          <p:cNvPicPr/>
          <p:nvPr/>
        </p:nvPicPr>
        <p:blipFill>
          <a:blip r:embed="rId1"/>
          <a:stretch/>
        </p:blipFill>
        <p:spPr>
          <a:xfrm>
            <a:off x="0" y="628560"/>
            <a:ext cx="8929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firstcourses.dn.ua/wp-content/uploads/2012/05/vezhlivost.png"/>
          <p:cNvPicPr/>
          <p:nvPr/>
        </p:nvPicPr>
        <p:blipFill>
          <a:blip r:embed="rId1"/>
          <a:stretch/>
        </p:blipFill>
        <p:spPr>
          <a:xfrm>
            <a:off x="3357720" y="285840"/>
            <a:ext cx="5786280" cy="6022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0" y="928800"/>
            <a:ext cx="357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лова коротенькие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сюду слышатся с утр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ни живут на белом свет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помнить их давно пор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стает даже ледяная глыб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т слова тепл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42920" y="5000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зеленеет старый пен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огда услы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g0.liveinternet.ru/images/attach/c/2/69/908/69908825_30.jpg"/>
          <p:cNvPicPr/>
          <p:nvPr/>
        </p:nvPicPr>
        <p:blipFill>
          <a:blip r:embed="rId1"/>
          <a:stretch/>
        </p:blipFill>
        <p:spPr>
          <a:xfrm>
            <a:off x="392904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best-animation.ru/lanim/dobrii_den/1.gif"/>
          <p:cNvPicPr/>
          <p:nvPr/>
        </p:nvPicPr>
        <p:blipFill>
          <a:blip r:embed="rId2"/>
          <a:stretch/>
        </p:blipFill>
        <p:spPr>
          <a:xfrm>
            <a:off x="3714840" y="0"/>
            <a:ext cx="398628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214200" y="37148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ше есть не в сила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кажем маме 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14200" y="571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льчик вежливый и развитый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ворит, встречаяс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2006-2009.littleone.ru/attachment.php?s=70c6583aa5c6425cf499bbe72b93895c&amp;attachmentid=302352&amp;stc=1&amp;d=1171117435"/>
          <p:cNvPicPr/>
          <p:nvPr/>
        </p:nvPicPr>
        <p:blipFill>
          <a:blip r:embed="rId1"/>
          <a:stretch/>
        </p:blipFill>
        <p:spPr>
          <a:xfrm>
            <a:off x="5000760" y="0"/>
            <a:ext cx="3889080" cy="33577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214200" y="3643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гда нас бранят за шалости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во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http://cs5667.userapi.com/u30428491/-6/x_d6d787f9.jpg"/>
          <p:cNvPicPr/>
          <p:nvPr/>
        </p:nvPicPr>
        <p:blipFill>
          <a:blip r:embed="rId2"/>
          <a:stretch/>
        </p:blipFill>
        <p:spPr>
          <a:xfrm>
            <a:off x="4429080" y="3643200"/>
            <a:ext cx="4283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во Франции, и в Дани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прощание говоря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alexdmitrenko.files.wordpress.com/2010/01/madagascar2.jpg"/>
          <p:cNvPicPr/>
          <p:nvPr/>
        </p:nvPicPr>
        <p:blipFill>
          <a:blip r:embed="rId1"/>
          <a:stretch/>
        </p:blipFill>
        <p:spPr>
          <a:xfrm>
            <a:off x="3071880" y="0"/>
            <a:ext cx="5667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214200" y="4071960"/>
            <a:ext cx="32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ужно знать как дважды дв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се волшебные слова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день, пожалуй, раз до ст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во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i066.radikal.ru/1109/7e/3dddb6828d00.gif"/>
          <p:cNvPicPr/>
          <p:nvPr/>
        </p:nvPicPr>
        <p:blipFill>
          <a:blip r:embed="rId2"/>
          <a:stretch/>
        </p:blipFill>
        <p:spPr>
          <a:xfrm>
            <a:off x="3214800" y="3500280"/>
            <a:ext cx="53578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42960" y="399240"/>
            <a:ext cx="714384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ь ошибки</a:t>
            </a: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Мальчик крикнул прохожему: «Сколько времени?» Какие ошибки сделал мальч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Два мальчика столкнулись в дверях. Никак не могут разойтись. Кто из них должен уступить дорогу, если одному 8 лет, а другому – 11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Что нужно сделать, прежде чем войти в чей-либо дом или кварти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то кому должен уступать мес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Нужно ли снимать шапку, когда пришел в гости, театр, библиотеку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Если ты съел конфету, что ты сделаешь с фанти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я</dc:creator>
  <dc:description/>
  <dc:language>en-US</dc:language>
  <cp:lastModifiedBy>Марина</cp:lastModifiedBy>
  <dcterms:modified xsi:type="dcterms:W3CDTF">2019-02-21T16:24:05Z</dcterms:modified>
  <cp:revision>9</cp:revision>
  <dc:subject/>
  <dc:title>Путешествие в страну вежливых слов</dc:title>
</cp:coreProperties>
</file>