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7C4-D873-4D7F-B2B4-46D9B01D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D4D-74C1-46F7-84A7-B3378D7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12A-B62F-4482-8E1E-74A06A18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0DD-562E-4325-B39A-1E1EDB83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444-751B-4A14-AFB3-EBF477A9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554-28EE-466A-A181-6CCC2C2B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A35-845C-4B1D-BA49-2E6DE97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ED3-C53B-4E51-87D8-B64E0EAE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6C8-7115-46A9-B00B-BC327ABD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CBD-C21A-455F-AC52-F562355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248-A35B-4C77-8A3C-85759E0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148-B76E-4189-8F21-99F54FD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791-FFEB-4A2B-940F-A09361490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uznaiki.ru/catalog/govoryashhie_knigi/images/veglivie-slov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5143680" cy="1470240"/>
          </a:xfrm>
          <a:prstGeom prst="rect">
            <a:avLst/>
          </a:prstGeom>
          <a:solidFill>
            <a:srgbClr val="ff0000">
              <a:alpha val="9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тешествие в страну вежливых сло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0200" y="5286240"/>
            <a:ext cx="6400800" cy="12859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 Гусева М.И.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3234600" y="21420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оветы на память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785880"/>
            <a:ext cx="4000680" cy="2135880"/>
          </a:xfrm>
          <a:prstGeom prst="rect">
            <a:avLst/>
          </a:prstGeom>
          <a:solidFill>
            <a:srgbClr val="ffff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бя, друг, я состав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очень важных прави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авила прост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стро их запомнишь ты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85840" y="3357720"/>
            <a:ext cx="4000320" cy="1191240"/>
          </a:xfrm>
          <a:prstGeom prst="rect">
            <a:avLst/>
          </a:prstGeom>
          <a:solidFill>
            <a:srgbClr val="e46c0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снулся – так вста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ю лени н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!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85840" y="5500800"/>
            <a:ext cx="4000320" cy="1099800"/>
          </a:xfrm>
          <a:prstGeom prst="rect">
            <a:avLst/>
          </a:prstGeom>
          <a:solidFill>
            <a:srgbClr val="00b0f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есток роса умы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бя умоет мыло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572000" y="857160"/>
            <a:ext cx="4429080" cy="1099800"/>
          </a:xfrm>
          <a:prstGeom prst="rect">
            <a:avLst/>
          </a:prstGeom>
          <a:solidFill>
            <a:srgbClr val="00b05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труд другого уваж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насорил – сам убирай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4714920" y="3357720"/>
            <a:ext cx="4214880" cy="82548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 одежде аккурат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 и дыр и пяте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4714920" y="5500800"/>
            <a:ext cx="4071960" cy="1038600"/>
          </a:xfrm>
          <a:prstGeom prst="rect">
            <a:avLst/>
          </a:prstGeom>
          <a:solidFill>
            <a:srgbClr val="604a7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близким не груб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й жалей, люб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s44.radikal.ru/i103/1205/2e/36f71293c936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http://i7.beon.ru/91/76/1377691/5/46418805/4319615_4413394561.jpeg"/>
          <p:cNvPicPr/>
          <p:nvPr/>
        </p:nvPicPr>
        <p:blipFill>
          <a:blip r:embed="rId1">
            <a:alphaModFix amt="53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лыбка имеет эффект зеркала! Улыбнись… и ты увидишь улыбк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nafanya.at.ua/_bd/1/47436082.jpg"/>
          <p:cNvPicPr/>
          <p:nvPr/>
        </p:nvPicPr>
        <p:blipFill>
          <a:blip r:embed="rId1"/>
          <a:stretch/>
        </p:blipFill>
        <p:spPr>
          <a:xfrm>
            <a:off x="1714680" y="380880"/>
            <a:ext cx="5786280" cy="6477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214200" y="214200"/>
            <a:ext cx="8929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ежливость – это умение вести себя так, чтобы другим было приятно с т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310480" y="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Игра «Вежливо – невежлив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img1.liveinternet.ru/images/attach/c/2/74/563/74563145_large_5.jpg"/>
          <p:cNvPicPr/>
          <p:nvPr/>
        </p:nvPicPr>
        <p:blipFill>
          <a:blip r:embed="rId1"/>
          <a:stretch/>
        </p:blipFill>
        <p:spPr>
          <a:xfrm>
            <a:off x="0" y="628560"/>
            <a:ext cx="8929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firstcourses.dn.ua/wp-content/uploads/2012/05/vezhlivost.png"/>
          <p:cNvPicPr/>
          <p:nvPr/>
        </p:nvPicPr>
        <p:blipFill>
          <a:blip r:embed="rId1"/>
          <a:stretch/>
        </p:blipFill>
        <p:spPr>
          <a:xfrm>
            <a:off x="3357720" y="285840"/>
            <a:ext cx="5786280" cy="6022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0" y="928800"/>
            <a:ext cx="357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лова коротенькие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сюду слышатся с ут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ни живут на белом свет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помнить их давно по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стает даже ледяная глыб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 слова тепл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42920" y="5000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зеленеет старый пен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гда услы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0.liveinternet.ru/images/attach/c/2/69/908/69908825_30.jpg"/>
          <p:cNvPicPr/>
          <p:nvPr/>
        </p:nvPicPr>
        <p:blipFill>
          <a:blip r:embed="rId1"/>
          <a:stretch/>
        </p:blipFill>
        <p:spPr>
          <a:xfrm>
            <a:off x="392904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best-animation.ru/lanim/dobrii_den/1.gif"/>
          <p:cNvPicPr/>
          <p:nvPr/>
        </p:nvPicPr>
        <p:blipFill>
          <a:blip r:embed="rId2"/>
          <a:stretch/>
        </p:blipFill>
        <p:spPr>
          <a:xfrm>
            <a:off x="3714840" y="0"/>
            <a:ext cx="398628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14200" y="37148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ше есть не в сила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кажем маме 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14200" y="571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льчик вежливый и развиты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ворит, встречаяс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2006-2009.littleone.ru/attachment.php?s=70c6583aa5c6425cf499bbe72b93895c&amp;attachmentid=302352&amp;stc=1&amp;d=1171117435"/>
          <p:cNvPicPr/>
          <p:nvPr/>
        </p:nvPicPr>
        <p:blipFill>
          <a:blip r:embed="rId1"/>
          <a:stretch/>
        </p:blipFill>
        <p:spPr>
          <a:xfrm>
            <a:off x="5000760" y="0"/>
            <a:ext cx="388908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214200" y="3643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гда нас бранят за шалости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во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http://cs5667.userapi.com/u30428491/-6/x_d6d787f9.jpg"/>
          <p:cNvPicPr/>
          <p:nvPr/>
        </p:nvPicPr>
        <p:blipFill>
          <a:blip r:embed="rId2"/>
          <a:stretch/>
        </p:blipFill>
        <p:spPr>
          <a:xfrm>
            <a:off x="4429080" y="3643200"/>
            <a:ext cx="4283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во Франции, и в Дани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прощание говоря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alexdmitrenko.files.wordpress.com/2010/01/madagascar2.jpg"/>
          <p:cNvPicPr/>
          <p:nvPr/>
        </p:nvPicPr>
        <p:blipFill>
          <a:blip r:embed="rId1"/>
          <a:stretch/>
        </p:blipFill>
        <p:spPr>
          <a:xfrm>
            <a:off x="3071880" y="0"/>
            <a:ext cx="5667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214200" y="4071960"/>
            <a:ext cx="32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ужно знать как дважды дв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 волшебные слова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день, пожалуй, раз до ст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во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i066.radikal.ru/1109/7e/3dddb6828d00.gif"/>
          <p:cNvPicPr/>
          <p:nvPr/>
        </p:nvPicPr>
        <p:blipFill>
          <a:blip r:embed="rId2"/>
          <a:stretch/>
        </p:blipFill>
        <p:spPr>
          <a:xfrm>
            <a:off x="3214800" y="3500280"/>
            <a:ext cx="53578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42960" y="399240"/>
            <a:ext cx="71438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 ошибки</a:t>
            </a: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Мальчик крикнул прохожему: «Сколько времени?» Какие ошибки сделал мальч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Два мальчика столкнулись в дверях. Никак не могут разойтись. Кто из них должен уступить дорогу, если одному 8 лет, а другому – 11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Что нужно сделать, прежде чем войти в чей-либо дом или кварти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то кому должен уступать мес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Нужно ли снимать шапку, когда пришел в гости, театр, библиотеку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Если ты съел конфету, что ты сделаешь с фанти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я</dc:creator>
  <dc:description/>
  <dc:language>en-US</dc:language>
  <cp:lastModifiedBy>Марина</cp:lastModifiedBy>
  <dcterms:modified xsi:type="dcterms:W3CDTF">2019-02-21T16:24:05Z</dcterms:modified>
  <cp:revision>9</cp:revision>
  <dc:subject/>
  <dc:title>Путешествие в страну вежливых слов</dc:title>
</cp:coreProperties>
</file>