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03F-C3C0-46FB-B868-90EAC0B8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8A5-6FD9-445B-BD94-FDDAB4B0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15C-0BD6-447F-856D-C6F75CDF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E05-C6CE-4565-ACD4-E5E7C8BB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1C4-2B04-47BF-ADCC-ACFC0A4C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0A0-425F-4260-BB6B-BE18BCED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20E-7F5E-46AF-8B0F-EE054AB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C67-8E3E-4B3E-8009-126D0AD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932-E529-41C4-9A08-2BF79BBB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504-53A8-4931-AA89-8A43DC8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3AC-74ED-45D6-A885-FD05573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1CE-7DF3-4277-83FA-AB0EA83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24C5-2B31-4831-BEC2-17F79F65F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СЕМИНАР\post-467168-1283895154.jpg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25560">
            <a:solidFill>
              <a:srgbClr val="4bacc6"/>
            </a:solidFill>
            <a:miter/>
          </a:ln>
        </p:spPr>
      </p:pic>
      <p:sp>
        <p:nvSpPr>
          <p:cNvPr id="42" name="Прямоугольник 3"/>
          <p:cNvSpPr/>
          <p:nvPr/>
        </p:nvSpPr>
        <p:spPr>
          <a:xfrm>
            <a:off x="500040" y="5380200"/>
            <a:ext cx="8286840" cy="1465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Развивать творческие способности, мелкую моторику рук, внимание, речь. Продолжать обучать разным приемам работы с природным материалам, пластилином. Воспитывать дружеские отношения в коллективе, доброжелательность, взаимопомощь. Обогащать словарный запас..Развивать аккуратность, терпение. Прививать любовь к окружающему ми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4211640" y="227160"/>
            <a:ext cx="156672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181080" y="227160"/>
            <a:ext cx="141588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6" descr=""/>
          <p:cNvPicPr/>
          <p:nvPr/>
        </p:nvPicPr>
        <p:blipFill>
          <a:blip r:embed="rId3"/>
          <a:stretch/>
        </p:blipFill>
        <p:spPr>
          <a:xfrm>
            <a:off x="2197080" y="227160"/>
            <a:ext cx="1563840" cy="180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Рисунок 7" descr=""/>
          <p:cNvPicPr/>
          <p:nvPr/>
        </p:nvPicPr>
        <p:blipFill>
          <a:blip r:embed="rId4"/>
          <a:stretch/>
        </p:blipFill>
        <p:spPr>
          <a:xfrm>
            <a:off x="6462720" y="247680"/>
            <a:ext cx="1608120" cy="180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Рисунок 15" descr=""/>
          <p:cNvPicPr/>
          <p:nvPr/>
        </p:nvPicPr>
        <p:blipFill>
          <a:blip r:embed="rId5"/>
          <a:stretch/>
        </p:blipFill>
        <p:spPr>
          <a:xfrm>
            <a:off x="1222200" y="2328840"/>
            <a:ext cx="1562400" cy="20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6" descr=""/>
          <p:cNvPicPr/>
          <p:nvPr/>
        </p:nvPicPr>
        <p:blipFill>
          <a:blip r:embed="rId6"/>
          <a:stretch/>
        </p:blipFill>
        <p:spPr>
          <a:xfrm>
            <a:off x="3290760" y="2328840"/>
            <a:ext cx="1567080" cy="20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Рисунок 20" descr=""/>
          <p:cNvPicPr/>
          <p:nvPr/>
        </p:nvPicPr>
        <p:blipFill>
          <a:blip r:embed="rId7"/>
          <a:stretch/>
        </p:blipFill>
        <p:spPr>
          <a:xfrm>
            <a:off x="5526000" y="2349360"/>
            <a:ext cx="1608120" cy="20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Рисунок 22" descr=""/>
          <p:cNvPicPr/>
          <p:nvPr/>
        </p:nvPicPr>
        <p:blipFill>
          <a:blip r:embed="rId8"/>
          <a:stretch/>
        </p:blipFill>
        <p:spPr>
          <a:xfrm>
            <a:off x="1222200" y="4683240"/>
            <a:ext cx="1608480" cy="190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28" descr=""/>
          <p:cNvPicPr/>
          <p:nvPr/>
        </p:nvPicPr>
        <p:blipFill>
          <a:blip r:embed="rId9"/>
          <a:stretch/>
        </p:blipFill>
        <p:spPr>
          <a:xfrm>
            <a:off x="5318280" y="4683240"/>
            <a:ext cx="1438200" cy="190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29" descr=""/>
          <p:cNvPicPr/>
          <p:nvPr/>
        </p:nvPicPr>
        <p:blipFill>
          <a:blip r:embed="rId10"/>
          <a:stretch/>
        </p:blipFill>
        <p:spPr>
          <a:xfrm>
            <a:off x="3330720" y="4683240"/>
            <a:ext cx="148752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cdn.freelance.ru/img/portfolio/pics/00/22/A3/2270142.jpg?mt=436186ff"/>
          <p:cNvPicPr/>
          <p:nvPr/>
        </p:nvPicPr>
        <p:blipFill>
          <a:blip r:embed="rId1"/>
          <a:stretch/>
        </p:blipFill>
        <p:spPr>
          <a:xfrm>
            <a:off x="-428760" y="0"/>
            <a:ext cx="5143680" cy="39560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3425760" y="2901960"/>
            <a:ext cx="5761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Фотообои Лесная тропинка к озеру | арт.23586"/>
          <p:cNvPicPr/>
          <p:nvPr/>
        </p:nvPicPr>
        <p:blipFill>
          <a:blip r:embed="rId1"/>
          <a:stretch/>
        </p:blipFill>
        <p:spPr>
          <a:xfrm>
            <a:off x="-142920" y="285840"/>
            <a:ext cx="9286920" cy="6191280"/>
          </a:xfrm>
          <a:prstGeom prst="rect">
            <a:avLst/>
          </a:prstGeom>
          <a:ln w="0">
            <a:noFill/>
          </a:ln>
        </p:spPr>
      </p:pic>
      <p:pic>
        <p:nvPicPr>
          <p:cNvPr id="46" name="Голоса птиц - Пение птиц (www.hotplayer.ru).mp3" descr=""/>
          <p:cNvPicPr/>
          <p:nvPr/>
        </p:nvPicPr>
        <p:blipFill>
          <a:blip r:embed="rId2"/>
          <a:stretch/>
        </p:blipFill>
        <p:spPr>
          <a:xfrm>
            <a:off x="3571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Голоса птиц - Пение птиц (www.hotplayer.ru).mp3" descr=""/>
          <p:cNvPicPr/>
          <p:nvPr/>
        </p:nvPicPr>
        <p:blipFill>
          <a:blip r:embed="rId3"/>
          <a:stretch/>
        </p:blipFill>
        <p:spPr>
          <a:xfrm>
            <a:off x="204840" y="6400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468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6468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s://im0-tub-ru.yandex.net/i?id=ffffc3b6d1e7c8a4928272381c2a410e-l&amp;n=13"/>
          <p:cNvPicPr/>
          <p:nvPr/>
        </p:nvPicPr>
        <p:blipFill>
          <a:blip r:embed="rId1"/>
          <a:stretch/>
        </p:blipFill>
        <p:spPr>
          <a:xfrm>
            <a:off x="714240" y="1357200"/>
            <a:ext cx="7751880" cy="5160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115920" y="291960"/>
            <a:ext cx="86137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6" descr="https://ds05.infourok.ru/uploads/ex/00af/0008b33e-4597e195/hello_html_m6f95ed4a.jpg"/>
          <p:cNvPicPr/>
          <p:nvPr/>
        </p:nvPicPr>
        <p:blipFill>
          <a:blip r:embed="rId1"/>
          <a:stretch/>
        </p:blipFill>
        <p:spPr>
          <a:xfrm>
            <a:off x="4572000" y="3643200"/>
            <a:ext cx="57150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841320" y="255600"/>
            <a:ext cx="7643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https://www.seekpng.com/png/detail/167-1673592_visit-red-crowned-crane-icon.png"/>
          <p:cNvPicPr/>
          <p:nvPr/>
        </p:nvPicPr>
        <p:blipFill>
          <a:blip r:embed="rId3"/>
          <a:stretch/>
        </p:blipFill>
        <p:spPr>
          <a:xfrm>
            <a:off x="196920" y="1500120"/>
            <a:ext cx="239868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s://ds05.infourok.ru/uploads/ex/00a6/00041f55-c5db9d36/hello_html_m1c8e51f6.png"/>
          <p:cNvPicPr/>
          <p:nvPr/>
        </p:nvPicPr>
        <p:blipFill>
          <a:blip r:embed="rId4"/>
          <a:stretch/>
        </p:blipFill>
        <p:spPr>
          <a:xfrm>
            <a:off x="3214800" y="1500120"/>
            <a:ext cx="2643120" cy="16700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0" descr="http://www.corhelp.ru/wp-content/uploads/2015/03/Solovej.jpg"/>
          <p:cNvPicPr/>
          <p:nvPr/>
        </p:nvPicPr>
        <p:blipFill>
          <a:blip r:embed="rId5"/>
          <a:stretch/>
        </p:blipFill>
        <p:spPr>
          <a:xfrm>
            <a:off x="6215040" y="1357200"/>
            <a:ext cx="2548080" cy="204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https://cms-assets.tutsplus.com/uploads/users/877/posts/31265/image/13-drawing-duck-mallard-female-an-example-of-coloring.jpg"/>
          <p:cNvPicPr/>
          <p:nvPr/>
        </p:nvPicPr>
        <p:blipFill>
          <a:blip r:embed="rId6"/>
          <a:stretch/>
        </p:blipFill>
        <p:spPr>
          <a:xfrm>
            <a:off x="214200" y="4071960"/>
            <a:ext cx="3260880" cy="228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https://avatars.mds.yandex.net/get-pdb/1639477/377ff480-3b51-4e82-842b-258f09804906/s1200"/>
          <p:cNvPicPr/>
          <p:nvPr/>
        </p:nvPicPr>
        <p:blipFill>
          <a:blip r:embed="rId7"/>
          <a:stretch/>
        </p:blipFill>
        <p:spPr>
          <a:xfrm>
            <a:off x="3429000" y="4071960"/>
            <a:ext cx="26431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1689120" y="255600"/>
            <a:ext cx="6113520" cy="14572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109440" y="1444680"/>
            <a:ext cx="3816360" cy="428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ds04.infourok.ru/uploads/ex/0e3c/00197623-0f2e4172/hello_html_24763f4f.jpg"/>
          <p:cNvPicPr/>
          <p:nvPr/>
        </p:nvPicPr>
        <p:blipFill>
          <a:blip r:embed="rId3"/>
          <a:stretch/>
        </p:blipFill>
        <p:spPr>
          <a:xfrm>
            <a:off x="3429000" y="1643040"/>
            <a:ext cx="57150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15920"/>
            <a:ext cx="8339040" cy="14572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244440" y="1695600"/>
            <a:ext cx="7107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1768320" y="328680"/>
            <a:ext cx="620568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printonic.ru/uploads/images/2016/03/01/img_56d583c137937.jpg"/>
          <p:cNvPicPr/>
          <p:nvPr/>
        </p:nvPicPr>
        <p:blipFill>
          <a:blip r:embed="rId2"/>
          <a:stretch/>
        </p:blipFill>
        <p:spPr>
          <a:xfrm>
            <a:off x="2857680" y="1357200"/>
            <a:ext cx="43416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6723000" y="2808360"/>
            <a:ext cx="202716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2157480" y="3013200"/>
            <a:ext cx="1939680" cy="29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4210200" y="669960"/>
            <a:ext cx="2128680" cy="239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Рисунок 6" descr=""/>
          <p:cNvPicPr/>
          <p:nvPr/>
        </p:nvPicPr>
        <p:blipFill>
          <a:blip r:embed="rId4"/>
          <a:stretch/>
        </p:blipFill>
        <p:spPr>
          <a:xfrm>
            <a:off x="117360" y="299880"/>
            <a:ext cx="1770120" cy="324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3T10:03:18Z</dcterms:created>
  <dc:creator>User</dc:creator>
  <dc:description/>
  <dc:language>en-US</dc:language>
  <cp:lastModifiedBy>User2</cp:lastModifiedBy>
  <dcterms:modified xsi:type="dcterms:W3CDTF">2019-11-24T18:38:34Z</dcterms:modified>
  <cp:revision>12</cp:revision>
  <dc:subject/>
  <dc:title>Слайд 1</dc:title>
</cp:coreProperties>
</file>