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392-FC48-4569-8D92-6482E242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5D7-845F-45E2-B023-B8C2356E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E7B-87EC-4893-B0C7-A33C9582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151-2C79-4728-8EF1-3D5A506C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526-666A-4504-9DEB-F9862B90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83A-4B5A-4A24-8AF4-4DA21A2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D05A-F1E4-4589-B353-36646C8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3CCE-4EEA-47CB-AD0A-EA885B73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C8E1-223C-48D0-B723-70DF4F5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57A-1FA0-47C0-9AB3-5BB2039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1FC-939D-427D-80AF-D37834E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93B-9237-467D-9CBC-7C98946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7828-9928-45C1-B82B-00E7368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0977-B22E-4410-8A98-6EE773D4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C95-9C76-444D-8564-92C10A54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465B-8172-4486-A488-B31EB059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2072-C8A2-4C9F-9915-09E54EA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C4C-17D5-4BAF-B26A-8E53EA96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1EF-39F9-4EC8-A9B2-9942DABD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C20-789E-4C2E-993C-B19267F8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B91-0895-4EDA-8A18-FE78384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131-B226-4FBD-9316-5DE7B43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767-0AFD-407D-B162-47A027C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486-DFB5-4C4B-AC1E-A4846DF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B3F-EDE1-4092-B36B-12ACA7ACE7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56A-A499-45D5-9DD2-659ED9FBE22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.А.Шолохов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Судьба человек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Литератур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9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лексеева Н.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9. Причина, по которой Андрей Соколов усыновил Ваню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хотел помочь мальчик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думал, что забудет собственное горе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был потрясён трагической судьбой мальчи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31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0. Художественная деталь словесного портрета Андрея Соколова: «Видели ли вы когда-нибудь глаза, словно присыпанные пеплом…» – содержит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364284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аллегорию,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сравнение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метафору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57120" y="301680"/>
            <a:ext cx="842976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1. Фраза: «…две песчинки, заброшенные в чужие края военным ураганом невиданной силы» – содержит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371484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гипербол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метафор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аллегори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12. Рассказчиков в произведени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один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два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тр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тветы и оцен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571400"/>
            <a:ext cx="85723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тветы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   2   3  4   5   6   7   8   9  10  11  1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   б   а  в   а   в   в    в   в   в    б    б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ценк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1-12 баллов = «5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8-10 баллов = «4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-7 баллов = «3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1. Жанр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быль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рассказ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повесть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2. Избрав такое название своего произведения, Шолохов повествует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о судьбе Андрея Соколова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о судьбе одного из многих русских солдат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о судьбе всего человечества в целом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3. Композиция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рамочная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последовательная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ретроспективная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4. Пафос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трагический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романтический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героически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301680"/>
            <a:ext cx="828684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5. Время года, когда рассказчик познакомился с Андреем Соколовым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весна,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осень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лето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6. Андрей Соколов в своей речи широко использует выражения «табак мочёный, что конь лечёный», и «узнала, почём фунт лиха». Это характеризует его как человека, который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840" y="3285720"/>
            <a:ext cx="8572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плохо образован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не владеет литературным языко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знает пословицы и поговорки, цмело дополняет ими свою реч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7. Андрей Соколов, попав в плен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смирился со своей судьбой и надеялся на скорое освобождение советскими войсками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старался выполнять всю работу без нарекани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всегда думал о побег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600" y="301320"/>
            <a:ext cx="781524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8. По признанию героя, на допросе у коменданта лагеря он не притронулся к хлебу, потому что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29286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не был голоден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хотел поделиться с пленными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показал врагам достоинство и гордость солдат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3:53:32Z</dcterms:created>
  <dc:creator>Admin</dc:creator>
  <dc:description/>
  <dc:language>en-US</dc:language>
  <cp:lastModifiedBy>Admin</cp:lastModifiedBy>
  <dcterms:modified xsi:type="dcterms:W3CDTF">2014-05-20T08:12:55Z</dcterms:modified>
  <cp:revision>3</cp:revision>
  <dc:subject/>
  <dc:title>М.А.Шолохов.  «Судьба человека»</dc:title>
</cp:coreProperties>
</file>