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DF7F-1D2A-46A7-9155-49622B1EE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4753-AB37-4215-820E-77407E5D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0579-2217-4CF8-BAB5-4F9083850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B1FC-0DC5-47A9-84E1-B5CF6E086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D908-E858-440E-B6E3-53483417D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AC36-1880-4C5C-AEBA-638BB3BB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1495-DCE4-436D-92A0-B3999F70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ADC4-9053-4559-A1E2-25D13CC8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C628-07E5-4A3E-AB83-7C4C8326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598D-4A9B-4C30-B0FA-19237B54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1087-93EE-4616-89FB-5E1D2816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97C3-D8D2-499E-9E85-EDC3F710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056F-2E91-4D25-BE17-6467779C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8772-021C-474F-A4BB-D2FCCB0D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5585-8E8F-4A91-8B2F-6BA1D8E3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BE86-049B-43AF-85A4-80BCB4521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8407-118E-4878-AF0E-C335E3699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AF97-75F6-47A1-AE21-4E69144E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602E-4F5B-4187-879F-DBAFD89F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0800-D920-430B-A687-30C5A1E1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88F3-07FD-4065-9DA9-67293972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747F-B6C5-446E-AC88-F2D1696F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FDAA-1074-41F4-99AE-48D97FF0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A5F6-62E9-4E9E-9CA5-BE80337E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4029-E9CE-40E5-957A-CBBE1DEBA14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9481-649A-4836-9D43-D8716B5BCC9B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М.А.Шолохов.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«Судьба человека»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Литература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9 класс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Алексеева Н.И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9. Причина, по которой Андрей Соколов усыновил Ваню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85800" y="2642760"/>
            <a:ext cx="7772400" cy="34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А) хотел помочь мальчику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Б) думал, что забудет собственное горе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В) был потрясён трагической судьбой мальчика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31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10. Художественная деталь словесного портрета Андрея Соколова: «Видели ли вы когда-нибудь глаза, словно присыпанные пеплом…» – содержит: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85800" y="3642840"/>
            <a:ext cx="7772400" cy="24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А) аллегорию,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Б) сравнение,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В) метафору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57120" y="301680"/>
            <a:ext cx="8429760" cy="355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11. Фраза: «…две песчинки, заброшенные в чужие края военным ураганом невиданной силы» – содержит: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85800" y="371484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А) гиперболу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Б) метафору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В) аллегорию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12. Рассказчиков в произведении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А) один,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Б) два,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В) три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19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Ответы и оценки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285840" y="1571400"/>
            <a:ext cx="857232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Ответы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1   2   3  4   5   6   7   8   9  10  11  12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б   б   а  в   а   в   в    в   в   в    б    б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Оценки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11-12 баллов = «5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8-10 баллов = «4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6-7 баллов = «3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1. Жанр произведения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А) быль,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Б) рассказ,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В) повесть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2. Избрав такое название своего произведения, Шолохов повествует: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А) о судьбе Андрея Соколова,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Б) о судьбе одного из многих русских солдат,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В) о судьбе всего человечества в целом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3. Композиция произведения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А) рамочная,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Б) последовательная,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В) ретроспективная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4. Пафос произведения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А) трагический,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Б) романтический,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В) героический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9680" y="301680"/>
            <a:ext cx="828684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5. Время года, когда рассказчик познакомился с Андреем Соколовым: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85800" y="2714760"/>
            <a:ext cx="7772400" cy="33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А) весна,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Б) осень,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В) лето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277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6. Андрей Соколов в своей речи широко использует выражения «табак мочёный, что конь лечёный», и «узнала, почём фунт лиха». Это характеризует его как человека, который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85840" y="3285720"/>
            <a:ext cx="857232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А) плохо образован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Б) не владеет литературным языком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В) знает пословицы и поговорки, цмело дополняет ими свою речь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7. Андрей Соколов, попав в плен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А) смирился со своей судьбой и надеялся на скорое освобождение советскими войсками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Б) старался выполнять всю работу без нареканий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В) всегда думал о побеге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42600" y="301320"/>
            <a:ext cx="7815240" cy="24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8. По признанию героя, на допросе у коменданта лагеря он не притронулся к хлебу, потому что: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85800" y="2928600"/>
            <a:ext cx="77724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А) не был голоден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Б) хотел поделиться с пленными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В) показал врагам достоинство и гордость солдата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6T03:53:32Z</dcterms:created>
  <dc:creator>Admin</dc:creator>
  <dc:description/>
  <dc:language>en-US</dc:language>
  <cp:lastModifiedBy>Admin</cp:lastModifiedBy>
  <dcterms:modified xsi:type="dcterms:W3CDTF">2014-05-20T08:12:55Z</dcterms:modified>
  <cp:revision>3</cp:revision>
  <dc:subject/>
  <dc:title>М.А.Шолохов.  «Судьба человека»</dc:title>
</cp:coreProperties>
</file>