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5E2-21A5-4E90-B996-AEF4E7BB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66-C792-46BD-ADF1-25F99A5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793-80B6-406A-A681-CD9BD39E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754-4F42-4D5D-808B-67ABCD86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CC6E-3629-4EB2-8B7A-E237861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51B-4B4F-423A-BC94-DE3CCB84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C35-0E84-4BAE-8FB4-45203A9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E64-99F4-40ED-B368-8E26149A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6634-0CF6-4B90-A003-2217BAE4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8DA4-2F02-4CBB-8368-EDB1A02F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A615-1BAB-4975-A9AD-0649230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EC8-03D9-40F6-91E4-3DEA549D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FAC-CB2D-46DF-9137-FBD58E4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309-7706-42CA-BB87-097CB554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D7C-C0A9-4176-ADA0-BC3EF07A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ECF4-3F9E-4695-BEFA-3AEAEC5D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019D-BA2D-4881-9BE4-4B5CD543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23E-A17A-4625-A2E2-8C85635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35E-CB9E-4A7A-945B-84CD120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7EB-F581-4727-936E-00CECE20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049-70DB-49BD-BAA5-81165AA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4B6-37AC-4EC7-B282-85A909B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261-0BDA-41FE-8A20-1681549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2E2-1345-41FA-A3B4-860CF15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DB49-2B99-4135-8A58-99E935F61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A0D0-31E2-403A-903C-1669B06C69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А.И.Солженицын. «Матрёнин двор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9. Суть русской души Матрёны автор почувствовал, когда он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ходила за святой водой на Крещен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лакала, услышав романсы Глинки по радио, принимая сердцем эту музы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согласилась отдать горницу на с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0.Основная тема рассказ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месть Фаддея Матрён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тчуждённость Матрёны, жившей замкнуто и одинок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зрушение двора Матрёны как приюта доброты, любви и всепрощ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1. В облике Фаддея автор выделяет чёрные волосы, чёрную окладистую бороду, чёрные усы и брови да и самого старика назвал «чёрным». Цвет необходим автору для того, чтоб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840" y="2786040"/>
            <a:ext cx="8572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ыделить у героя основательность, достойность, крепос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казать стойкость когда-то смоляного богатыря, который не растратил душевную доброту и щедрос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ярче выявить злобу, ненависть, жадность геро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2. Повествователь – эт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художественно обобщённый персонаж. Показывающий полную картину событ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действующее лицо рассказа, со своей историей жизни, самохарактеристикой и речь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нейтральный рассказч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3. Изображая плач родственниц по погибшей Матрёне, автор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казывает близость героев к  русскому национальному эпос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казывает трагичность событ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скрывает сущность сестёр героини, которые в плаче спорят за наследство Матрё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4. Трагическим предзнаменованием событий можно считать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7184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ропажу колченогой кош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ерю дома и всего, что с ним связан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злад в отношениях с сест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5. Солженицын называет Матрёну праведницей, без которой не стоит село, согласно пословице. К такому выводу он пришёл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2499840"/>
            <a:ext cx="8715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так как Матрёна всегда говорила правильные слова, к её мнению прислушивали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ому что Матрёна соблюдала христианские традиц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когда образ жизни Матрёны стал ему понятен, близок, как и жизнь её без гонки за добром, за наряд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. Рассказ «Матрёнин двор»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лностью достоверен и автобиографичен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снован на художественном вымысл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основан на рассказах очевидцев, содержит элементы вымыс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. Повествование в рассказе ведётс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от первого ли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т третьего ли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двумя рассказчи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3. Функция экспозиции в рассказ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знакомить читателя с главными геро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интриговать читателя тайной, объясняющей медленное движение поезда по отрезку железнодорожного пу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ознакомить с местом действия и указать на причастность повествователя к произошедшим событи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4. Повествователь поселился в Тальново, надеясь найти патриархальную Россию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и огорчился, увидев, что жители недоброжелательны по отношению друг к другу, корыстны, завистлив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и ни о чём не пожалел, потому что узнал народную мудрость и душевность жителей Тальнов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и остался жить там навсег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. Повествователь, уделяя внимание бытоописанию, говоря о немолодой колченогой кошке, козе, о мышах и тараканах, вольготн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4200" y="2857320"/>
            <a:ext cx="8715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не одобрял неаккуратность хозяйки, хотя и не говорил ей об этом, чтобы не обиде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дчеркнул, что доброе сердце Матрёны жалело всё живое, и она приютила в доме тех, кто нуждался в её сострадан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оказал подробности деревенского жи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6. В отличие от подробного описания Фаддея, портрет Матрёны скуп на детали: «Обвязанное старческим слинявшим платочком смотрело на меня в непрямых мягких отсветах лампы круглое лицо Матрёны». Это позволяет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4200" y="2500200"/>
            <a:ext cx="8715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определить отношение автора к Матрёне, которая осталась загадкой для нег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указать на принадлежность её к деревенским жителя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увидеть глубокий подтекст в описании Матрёны: её сущность раскрывает не портрет. А то, как она живёт и общается с люд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7. Матрёна рассказала Игнатичу историю своей горькой жизни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так как ей не с кем было поговори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ому что ему тоже пришлось пережить трудные времена, и он научился понимать и сострада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отому что хотела, чтобы её пожал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8. Недолгое знакомство с Матрёной позволило автору понять её характер. Она был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добрая, деликатная, отзывчив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мкнутая, неразговорчив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хитрая, мерканти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3:54:43Z</dcterms:created>
  <dc:creator>Admin</dc:creator>
  <dc:description/>
  <dc:language>en-US</dc:language>
  <cp:lastModifiedBy>Admin</cp:lastModifiedBy>
  <dcterms:modified xsi:type="dcterms:W3CDTF">2014-05-22T03:59:38Z</dcterms:modified>
  <cp:revision>7</cp:revision>
  <dc:subject/>
  <dc:title>А.И.Солженицын. «Матрёнин двор»</dc:title>
</cp:coreProperties>
</file>