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333-3656-4884-8F7F-CDF7F5BA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3AC-6F9C-4E72-AC37-8E81488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A1F-83D9-4837-86DD-23BFCBD8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E93-4DC9-4DD6-AD4D-D8C610B4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5B6-602C-469E-BD1A-35FFFC85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8FFD-A357-43D3-9B7D-59EC31BF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B3C0-78F5-4782-846C-F47B6249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D1BC-8890-4C83-A72A-7CDD0FE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70D-171B-4115-B3D6-666190F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B60-8380-4821-88CC-C5A232B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9AA-D8D5-4A55-81D2-3215A27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465-CC59-4191-A4E2-9318DF09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2E84-15A0-4AF9-A82A-CB69A78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9FBA-5103-4D71-ABE3-321AAFC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1238-625C-427E-8C55-AA9DCC0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879-069E-4F2D-AAFE-5DF4EE74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D41-EAC6-474B-B509-DAA85629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DB9-8CC2-44C8-9A9C-37F0A5C9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F4D-16DA-41DF-9111-4D78EBD0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881-13AF-4CCA-884A-554FB011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A9E-B292-4E2F-A4F3-0D7856E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47A-08AD-43E3-839B-85F2457B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9DF-E639-4950-9BB1-D30FAEF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AD4-A122-4541-8E96-F31345C9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75AA-1E84-4219-B44C-5F1FB1CE9E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D65-C582-4140-ACF3-6F52B5C70B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А.И.Солженицын. «Матрёнин двор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9. Суть русской души Матрёны автор почувствовал, когда он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ходила за святой водой на Крещен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плакала, услышав романсы Глинки по радио, принимая сердцем эту музы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согласилась отдать горницу на с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0.Основная тема рассказ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месть Фаддея Матрён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тчуждённость Матрёны, жившей замкнуто и одинок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зрушение двора Матрёны как приюта доброты, любви и всепрощ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1. В облике Фаддея автор выделяет чёрные волосы, чёрную окладистую бороду, чёрные усы и брови да и самого старика назвал «чёрным». Цвет необходим автору для того, чтобы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840" y="2786040"/>
            <a:ext cx="8572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выделить у героя основательность, достойность, крепос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казать стойкость когда-то смоляного богатыря, который не растратил душевную доброту и щедрос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ярче выявить злобу, ненависть, жадность геро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2. Повествователь – эт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художественно обобщённый персонаж. Показывающий полную картину событ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действующее лицо рассказа, со своей историей жизни, самохарактеристикой и речь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нейтральный рассказч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3. Изображая плач родственниц по погибшей Матрёне, автор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казывает близость героев к  русскому национальному эпос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казывает трагичность событи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скрывает сущность сестёр героини, которые в плаче спорят за наследство Матрё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4. Трагическим предзнаменованием событий можно считать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7184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ропажу колченогой кош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ерю дома и всего, что с ним связан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разлад в отношениях с сест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5. Солженицын называет Матрёну праведницей, без которой не стоит село, согласно пословице. К такому выводу он пришёл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2499840"/>
            <a:ext cx="8715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так как Матрёна всегда говорила правильные слова, к её мнению прислушивали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ому что Матрёна соблюдала христианские традиц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когда образ жизни Матрёны стал ему понятен, близок, как и жизнь её без гонки за добром, за наряд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. Рассказ «Матрёнин двор»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лностью достоверен и автобиографичен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снован на художественном вымысл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основан на рассказах очевидцев, содержит элементы вымыс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. Повествование в рассказе ведётс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от первого ли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от третьего ли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двумя рассказчи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3. Функция экспозиции в рассказ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ознакомить читателя с главными геро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интриговать читателя тайной, объясняющей медленное движение поезда по отрезку железнодорожного пут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ознакомить с местом действия и указать на причастность повествователя к произошедшим событи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4. Повествователь поселился в Тальново, надеясь найти патриархальную Россию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и огорчился, увидев, что жители недоброжелательны по отношению друг к другу, корыстны, завистлив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и ни о чём не пожалел, потому что узнал народную мудрость и душевность жителей Тальнов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и остался жить там навсег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. Повествователь, уделяя внимание бытоописанию, говоря о немолодой колченогой кошке, козе, о мышах и тараканах, вольготн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4200" y="2857320"/>
            <a:ext cx="8715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не одобрял неаккуратность хозяйки, хотя и не говорил ей об этом, чтобы не обиде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дчеркнул, что доброе сердце Матрёны жалело всё живое, и она приютила в доме тех, кто нуждался в её сострадан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оказал подробности деревенского жи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6. В отличие от подробного описания Фаддея, портрет Матрёны скуп на детали: «Обвязанное старческим слинявшим платочком смотрело на меня в непрямых мягких отсветах лампы круглое лицо Матрёны». Это позволяет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4200" y="2500200"/>
            <a:ext cx="8715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определить отношение автора к Матрёне, которая осталась загадкой для него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указать на принадлежность её к деревенским жителя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увидеть глубокий подтекст в описании Матрёны: её сущность раскрывает не портрет. А то, как она живёт и общается с люд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7. Матрёна рассказала Игнатичу историю своей горькой жизни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так как ей не с кем было поговори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потому что ему тоже пришлось пережить трудные времена, и он научился понимать и сострадат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потому что хотела, чтобы её пожал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8. Недолгое знакомство с Матрёной позволило автору понять её характер. Она был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добрая, деликатная, отзывчив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замкнутая, неразговорчив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) хитрая, мерканти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3:54:43Z</dcterms:created>
  <dc:creator>Admin</dc:creator>
  <dc:description/>
  <dc:language>en-US</dc:language>
  <cp:lastModifiedBy>Admin</cp:lastModifiedBy>
  <dcterms:modified xsi:type="dcterms:W3CDTF">2014-05-22T03:59:38Z</dcterms:modified>
  <cp:revision>7</cp:revision>
  <dc:subject/>
  <dc:title>А.И.Солженицын. «Матрёнин двор»</dc:title>
</cp:coreProperties>
</file>