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A8D3-5D4C-4102-9124-896D14CF2B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E3F3-CF79-425C-B5EF-38A4902161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2471-89A8-4DA2-9709-DA72EAF7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33C-C878-4AA0-A1A4-2A32A95C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974-1FD8-4C76-AE5E-D0A86513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1872-8889-4B7E-8788-A5CB8335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2BED-3B9C-41A9-8CA1-BD456C14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806A-D820-4E0B-AF06-232402FD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387B-41C2-45C8-BE92-DF0B84A4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6932-6C4F-4632-9F2B-D380FE35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5845-410B-4B28-8C3B-FEA5B632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7C35-E03E-49CD-8DC8-FBFC3B5A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4C6A-FDC7-4A72-A6CE-1ED97532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F2AB-5585-49A9-900E-563ECB46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2C9D-F24F-4D6B-A209-3B1B60BC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FE65-AE97-451F-840C-359C9A0B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5610-5250-4951-A1E2-25BE162B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9A6D-38EF-4C91-8760-FC64BB59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9D6A-8C00-4191-AAD3-CC8CE3B9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26669-C0EB-449C-8BB4-52AC5A46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9CA00-EF6C-4427-9BC4-16EC1DD8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A0238-6787-4C3B-B7FB-C0044E45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1EBDF-432A-4058-B790-2182AC56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3DD15-E1F7-457B-992F-1D1AAA29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2A1-473A-4F2F-B0EA-AF79B619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F10F3-0797-4F6D-9F31-B8803B56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2C352-75ED-4299-ABAF-E5721890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D1931-5B7F-4824-9BA0-0BFB5726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D7A4B-45E2-4389-9B04-C495BA8C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D2858-1636-4AB5-83A1-CAD52F0C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4AFEA-5D78-4AC1-B5E9-39EE3376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64C79-4C93-48C5-93DA-3D1BAED4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5A1F5-2581-49C8-8C5A-7DC5E47C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4685E-1BC6-4D13-8EF1-48F9A814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EEDF4-E348-4D72-AB64-E99253E1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56E-AF16-4DE3-9D77-418F92CF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E6C31-E1FF-47D5-B313-C54EB786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7F838-5D5E-48A9-A5E8-DFC73F64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C77B6-2D13-41EB-9596-C8274D78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375AA-3784-4561-97AF-5EF49643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C735C-A333-4EFA-9C06-AC881BD6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A1626-DD92-496F-BEFC-801D966D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7B660-F129-4FD4-BE0F-2552C58D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0C2B8-49AE-4DB8-B3EA-B83CD110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1D4FB-151D-454A-9A67-F8DE0C46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20435-275F-4BFB-9395-924761D6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8E7-A915-48FB-BE7E-B566EDBC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AC280-B8AE-415E-8D17-2A98D2E0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A06F0-4010-4FB5-9F4D-7FDC6B24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DBDDC-D7C0-4774-B250-E0B68D6E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7CD13-983E-481F-B20E-F906465F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154E2-C1FD-44DA-AC3A-58E656A1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EE903-EE76-4544-9E39-AF12CCF4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1C2AB-D682-4E92-9B15-853D421B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5DDB2-2E0C-4E53-ABF4-E1462235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CE0DF-7389-4F34-BBEF-F6E54B1F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BA903-2B82-4248-B416-53D12081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47A-7D3B-4FAA-8196-727512F9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4A61D-4605-44F0-9C86-A48F10D0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8F464-E7CD-4695-9760-6BE3E9CD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718CC-31AE-4FED-B3D3-8A4F131E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65685-5216-41C0-9EDA-7C4AB0B3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59381-17B7-4A32-9449-8A7A0DBA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F0E6F-5363-42FB-A3E6-10260E7B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C806F-AAE3-46AB-8C99-04588AE3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62AD9-ADE6-4A0E-85FB-14092EB0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1EBC5-F897-48C6-8164-C7B52EA7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54802-B45B-481A-8984-5B40C167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51D0-D64F-4E80-97E6-3E97CBD3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D2C39-ECAD-4E2E-92B4-78C5CE4F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CEC9B-ACC5-48AF-8BB0-F3741EF5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6ADE8-6D7D-470A-A6D8-82AAFECE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0A46D-D011-43E3-A685-2B5DF502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A172C-29E4-4617-891F-9E03FF58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244DE-BFCE-4019-8721-6BE75758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F4259-6CEC-4FB8-B0DD-BE439359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87855-E7DB-43D2-A270-700EA0C0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88C3D-069D-49BC-92AF-FC923CFF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D375B-1EB5-41BB-AA5C-8BEFB644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EB7D-2897-481B-B6BB-15D9FE46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4BD07-CCF8-45CD-9D6D-F74456CD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6C7DE-1E50-4E8B-811B-451350AF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8E471-811B-4384-8F1E-23906A8A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994B2-8762-492C-9C43-76F53ACB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6893C-20A3-483E-BD09-0E03599C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F42-C6A8-4943-8DCE-C98F14AD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2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05B5-3A98-4471-82E5-BFF39D627603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2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816C-5EEB-4733-B432-5B00F1C24165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Рамка 6"/>
          <p:cNvGrpSpPr/>
          <p:nvPr/>
        </p:nvGrpSpPr>
        <p:grpSpPr>
          <a:xfrm>
            <a:off x="-19080" y="-19080"/>
            <a:ext cx="9175680" cy="6907320"/>
            <a:chOff x="-19080" y="-19080"/>
            <a:chExt cx="9175680" cy="6907320"/>
          </a:xfrm>
        </p:grpSpPr>
        <p:pic>
          <p:nvPicPr>
            <p:cNvPr id="83" name="Рамка 6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9175680" cy="690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70000" y="270000"/>
              <a:ext cx="8604000" cy="63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3" descr="C:\Users\Solaris\Downloads\UK.png"/>
          <p:cNvPicPr/>
          <p:nvPr/>
        </p:nvPicPr>
        <p:blipFill>
          <a:blip r:embed="rId3"/>
          <a:srcRect l="0" t="0" r="0" b="7382"/>
          <a:stretch/>
        </p:blipFill>
        <p:spPr>
          <a:xfrm>
            <a:off x="0" y="5524560"/>
            <a:ext cx="1440000" cy="1333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2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6F08-C4B0-4235-85B5-3E38F0FD5B9F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Рамка 6"/>
          <p:cNvGrpSpPr/>
          <p:nvPr/>
        </p:nvGrpSpPr>
        <p:grpSpPr>
          <a:xfrm>
            <a:off x="-19080" y="-19080"/>
            <a:ext cx="9175680" cy="6907320"/>
            <a:chOff x="-19080" y="-19080"/>
            <a:chExt cx="9175680" cy="6907320"/>
          </a:xfrm>
        </p:grpSpPr>
        <p:pic>
          <p:nvPicPr>
            <p:cNvPr id="128" name="Рамка 6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9175680" cy="690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70000" y="270000"/>
              <a:ext cx="8604000" cy="63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Picture 2" descr="C:\Users\Solaris\Downloads\Rossiya-Russia.png"/>
          <p:cNvPicPr/>
          <p:nvPr/>
        </p:nvPicPr>
        <p:blipFill>
          <a:blip r:embed="rId3"/>
          <a:srcRect l="0" t="0" r="0" b="7382"/>
          <a:stretch/>
        </p:blipFill>
        <p:spPr>
          <a:xfrm>
            <a:off x="0" y="5524560"/>
            <a:ext cx="1440000" cy="13334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2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1AC5-334E-4A73-BDF5-33166E40DF56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Рамка 6"/>
          <p:cNvGrpSpPr/>
          <p:nvPr/>
        </p:nvGrpSpPr>
        <p:grpSpPr>
          <a:xfrm>
            <a:off x="-19080" y="-19080"/>
            <a:ext cx="9175680" cy="6907320"/>
            <a:chOff x="-19080" y="-19080"/>
            <a:chExt cx="9175680" cy="6907320"/>
          </a:xfrm>
        </p:grpSpPr>
        <p:pic>
          <p:nvPicPr>
            <p:cNvPr id="173" name="Рамка 6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9175680" cy="690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70000" y="270000"/>
              <a:ext cx="8604000" cy="63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2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9611-6709-42DB-ABC5-FFF7836CEC67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Рамка 6"/>
          <p:cNvGrpSpPr/>
          <p:nvPr/>
        </p:nvGrpSpPr>
        <p:grpSpPr>
          <a:xfrm>
            <a:off x="-19080" y="-19080"/>
            <a:ext cx="9175680" cy="6907320"/>
            <a:chOff x="-19080" y="-19080"/>
            <a:chExt cx="9175680" cy="6907320"/>
          </a:xfrm>
        </p:grpSpPr>
        <p:pic>
          <p:nvPicPr>
            <p:cNvPr id="217" name="Рамка 6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9175680" cy="690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270000" y="270000"/>
              <a:ext cx="8604000" cy="63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2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AE7D-5201-48F9-B16B-4ABA8E74C560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Рамка 6"/>
          <p:cNvGrpSpPr/>
          <p:nvPr/>
        </p:nvGrpSpPr>
        <p:grpSpPr>
          <a:xfrm>
            <a:off x="-19080" y="-19080"/>
            <a:ext cx="9175680" cy="6907320"/>
            <a:chOff x="-19080" y="-19080"/>
            <a:chExt cx="9175680" cy="6907320"/>
          </a:xfrm>
        </p:grpSpPr>
        <p:pic>
          <p:nvPicPr>
            <p:cNvPr id="261" name="Рамка 6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9175680" cy="690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270000" y="270000"/>
              <a:ext cx="8604000" cy="63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2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2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C0E8-3DE1-4C21-9903-07186F073031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pedsovet.su/metodika/priemy/5871_formy_raboty_v_parah" TargetMode="Externa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debono.ru/article/sixhats.htm" TargetMode="External"/><Relationship Id="rId2" Type="http://schemas.openxmlformats.org/officeDocument/2006/relationships/hyperlink" Target="http://www.surwiki.ru/wiki/index.php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682560" y="255600"/>
            <a:ext cx="778500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onstantia"/>
              </a:rPr>
              <a:t>Технология </a:t>
            </a:r>
            <a:br>
              <a:rPr sz="4400"/>
            </a:br>
            <a:r>
              <a:rPr b="1" lang="ru-RU" sz="4400" spc="-1" strike="noStrike">
                <a:solidFill>
                  <a:srgbClr val="660066"/>
                </a:solidFill>
                <a:latin typeface="Constantia"/>
              </a:rPr>
              <a:t>«Групповой рассказ»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реализуется двумя способами. Во время первого способа, каждый учащийся добавляет одно предложение к уже начатому рассказу. По определенному сигналу (через минуту) лист с незаконченным рассказом передается дальше по кругу. Второй способ хорошо подходит для отработки темы «Вопросительные слова». Учитель задает вопросы в определенном порядке, каждый участник процесса пишет ответ, складывает лист бумаги так, чтобы никто его не видел и передает соседу. Движение происходит по кругу. Таким образом, в конце получаются сразу несколько неожиданных рассказов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Технология «Брейн-ринг»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6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2600"/>
                </a:solidFill>
                <a:latin typeface="Constantia"/>
              </a:rPr>
              <a:t>очень хорошо подходит для уроков- обобщения изученного материала. Содержательное наполнение раундов может быть абсолютно разнообразным, и охватывать такие разделы как лексику, грамматику, чтение, аудирования и письмо. Данная технология требует серьезной подготовительной работы, которая включает в себя: выбор темы, составление задания, создание презентации, продумывание вопросов на внимание, заготовка бланков ответов, дипломов. В начале игры происходит выбор жюри, деление учащихся на команды. Каждый раунд длится 3 минуты, после чего, ответы сдаются в жюри в письменном виде. Правильность ответов проверяется и обсуждается после каждого раунда, а затем задается серия вопросов на внимание, что тоже приносит дополнительные очки командам.</a:t>
            </a:r>
            <a:endParaRPr b="0" lang="en-US" sz="2200" spc="-1" strike="noStrike">
              <a:solidFill>
                <a:srgbClr val="002600"/>
              </a:solidFill>
              <a:latin typeface="Constantia"/>
            </a:endParaRPr>
          </a:p>
          <a:p>
            <a:pPr marL="301680" indent="-301680">
              <a:spcBef>
                <a:spcPts val="550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nstantia"/>
              </a:rPr>
              <a:t>Технология «Ролевая игра»</a:t>
            </a:r>
            <a:r>
              <a:rPr b="0" lang="ru-RU" sz="44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402920"/>
            <a:ext cx="8229600" cy="46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Ролевая игра – это речевая, игровая и учебная деятельности одновременно. С точки зрения учащихся, ролевая игра – это игровая деятельность, в процессе которой они выступают в разных ролях.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Существует огромное количество форм ролевых игр на уроках английского языка: презентации, клубы по интересам, интервью, заочные путешествия, круглые столы, пресс-конференции, экскурсии, сказки, репортажи и т.д.Как показывают результаты обучения, применение ролевой игры на уроках иностранного языка способствует положительным изменениям в речи учащихся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Cluster - Method –</a:t>
            </a:r>
            <a:r>
              <a:rPr b="1" lang="ru-RU" sz="2800" spc="-1" strike="noStrike">
                <a:solidFill>
                  <a:srgbClr val="002600"/>
                </a:solidFill>
                <a:latin typeface="Constantia"/>
              </a:rPr>
              <a:t> графический </a:t>
            </a:r>
            <a:br>
              <a:rPr sz="2800"/>
            </a:br>
            <a:r>
              <a:rPr b="1" lang="ru-RU" sz="2800" spc="-1" strike="noStrike">
                <a:solidFill>
                  <a:srgbClr val="002600"/>
                </a:solidFill>
                <a:latin typeface="Constantia"/>
              </a:rPr>
              <a:t>приём систематизации материала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85640" y="143496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08680" indent="-5086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Мысли не громоздятся, а “гроздятся”, 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508680" indent="-5086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т. е. располагаются в определённом порядке.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508680" indent="-5086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600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c0504d"/>
                </a:solidFill>
                <a:latin typeface="Comic Sans MS"/>
              </a:rPr>
              <a:t>Технология составления кластера:</a:t>
            </a:r>
            <a:endParaRPr b="0" lang="en-US" sz="2200" spc="-1" strike="noStrike">
              <a:solidFill>
                <a:srgbClr val="002600"/>
              </a:solidFill>
              <a:latin typeface="Constantia"/>
            </a:endParaRPr>
          </a:p>
          <a:p>
            <a:pPr marL="508680" indent="-508680">
              <a:lnSpc>
                <a:spcPct val="120000"/>
              </a:lnSpc>
              <a:spcBef>
                <a:spcPts val="550"/>
              </a:spcBef>
              <a:buClr>
                <a:srgbClr val="0026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600"/>
                </a:solidFill>
                <a:latin typeface="Constantia"/>
              </a:rPr>
              <a:t>Ключевое слово или понятие; </a:t>
            </a:r>
            <a:endParaRPr b="0" lang="en-US" sz="2200" spc="-1" strike="noStrike">
              <a:solidFill>
                <a:srgbClr val="002600"/>
              </a:solidFill>
              <a:latin typeface="Constantia"/>
            </a:endParaRPr>
          </a:p>
          <a:p>
            <a:pPr marL="508680" indent="-508680">
              <a:lnSpc>
                <a:spcPct val="120000"/>
              </a:lnSpc>
              <a:spcBef>
                <a:spcPts val="550"/>
              </a:spcBef>
              <a:buClr>
                <a:srgbClr val="0026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600"/>
                </a:solidFill>
                <a:latin typeface="Constantia"/>
              </a:rPr>
              <a:t>Запись слов вокруг ключевого слова. Они обводятся и соединяются с основным словом; </a:t>
            </a:r>
            <a:endParaRPr b="0" lang="en-US" sz="2200" spc="-1" strike="noStrike">
              <a:solidFill>
                <a:srgbClr val="002600"/>
              </a:solidFill>
              <a:latin typeface="Constantia"/>
            </a:endParaRPr>
          </a:p>
          <a:p>
            <a:pPr marL="508680" indent="-508680">
              <a:lnSpc>
                <a:spcPct val="120000"/>
              </a:lnSpc>
              <a:spcBef>
                <a:spcPts val="550"/>
              </a:spcBef>
              <a:buClr>
                <a:srgbClr val="0026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600"/>
                </a:solidFill>
                <a:latin typeface="Constantia"/>
              </a:rPr>
              <a:t>Каждое новое слово образует собой новое ядро, которое вызывает дальнейшие ассоциации. Таким образом, создаются ассоциативные цепочки; </a:t>
            </a:r>
            <a:endParaRPr b="0" lang="en-US" sz="2200" spc="-1" strike="noStrike">
              <a:solidFill>
                <a:srgbClr val="002600"/>
              </a:solidFill>
              <a:latin typeface="Constantia"/>
            </a:endParaRPr>
          </a:p>
          <a:p>
            <a:pPr marL="508680" indent="-508680">
              <a:lnSpc>
                <a:spcPct val="120000"/>
              </a:lnSpc>
              <a:spcBef>
                <a:spcPts val="550"/>
              </a:spcBef>
              <a:buClr>
                <a:srgbClr val="0026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600"/>
                </a:solidFill>
                <a:latin typeface="Constantia"/>
              </a:rPr>
              <a:t>Взаимосвязанные понятия соединяются линиями. </a:t>
            </a:r>
            <a:endParaRPr b="0" lang="en-US" sz="2200" spc="-1" strike="noStrike">
              <a:solidFill>
                <a:srgbClr val="002600"/>
              </a:solidFill>
              <a:latin typeface="Constantia"/>
            </a:endParaRPr>
          </a:p>
          <a:p>
            <a:pPr marL="508680" indent="-5086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00"/>
                </a:solidFill>
                <a:latin typeface="Constantia"/>
              </a:rPr>
              <a:t>         </a:t>
            </a:r>
            <a:endParaRPr b="0" lang="en-US" sz="1800" spc="-1" strike="noStrike">
              <a:solidFill>
                <a:srgbClr val="002600"/>
              </a:solidFill>
              <a:latin typeface="Constantia"/>
            </a:endParaRPr>
          </a:p>
          <a:p>
            <a:pPr marL="508680" indent="-508680">
              <a:spcBef>
                <a:spcPts val="451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600"/>
                </a:solidFill>
                <a:latin typeface="Comic Sans MS"/>
              </a:rPr>
              <a:t>Технология составления кластера</a:t>
            </a:r>
            <a:endParaRPr b="0" lang="en-US" sz="40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65" name="Овал 3"/>
          <p:cNvSpPr/>
          <p:nvPr/>
        </p:nvSpPr>
        <p:spPr>
          <a:xfrm>
            <a:off x="3357720" y="3143160"/>
            <a:ext cx="2571480" cy="142884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nstantia"/>
              </a:rPr>
              <a:t>A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7"/>
          <p:cNvSpPr/>
          <p:nvPr/>
        </p:nvSpPr>
        <p:spPr>
          <a:xfrm>
            <a:off x="1000080" y="2143080"/>
            <a:ext cx="25718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a living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8"/>
          <p:cNvSpPr/>
          <p:nvPr/>
        </p:nvSpPr>
        <p:spPr>
          <a:xfrm>
            <a:off x="2071800" y="5643720"/>
            <a:ext cx="1357200" cy="92844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l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Овал 9"/>
          <p:cNvSpPr/>
          <p:nvPr/>
        </p:nvSpPr>
        <p:spPr>
          <a:xfrm>
            <a:off x="571680" y="1143000"/>
            <a:ext cx="1357200" cy="92880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so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Овал 10"/>
          <p:cNvSpPr/>
          <p:nvPr/>
        </p:nvSpPr>
        <p:spPr>
          <a:xfrm>
            <a:off x="0" y="2857680"/>
            <a:ext cx="1357200" cy="92844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TV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Овал 11"/>
          <p:cNvSpPr/>
          <p:nvPr/>
        </p:nvSpPr>
        <p:spPr>
          <a:xfrm>
            <a:off x="1143000" y="4429080"/>
            <a:ext cx="25718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A bed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Овал 12"/>
          <p:cNvSpPr/>
          <p:nvPr/>
        </p:nvSpPr>
        <p:spPr>
          <a:xfrm>
            <a:off x="5786280" y="4429080"/>
            <a:ext cx="25718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A kit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13"/>
          <p:cNvSpPr/>
          <p:nvPr/>
        </p:nvSpPr>
        <p:spPr>
          <a:xfrm>
            <a:off x="5715000" y="2071800"/>
            <a:ext cx="2571840" cy="92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A h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Овал 14"/>
          <p:cNvSpPr/>
          <p:nvPr/>
        </p:nvSpPr>
        <p:spPr>
          <a:xfrm>
            <a:off x="357120" y="5357880"/>
            <a:ext cx="1357560" cy="92880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Прямая со стрелкой 20"/>
          <p:cNvCxnSpPr>
            <a:stCxn id="365" idx="7"/>
          </p:cNvCxnSpPr>
          <p:nvPr/>
        </p:nvCxnSpPr>
        <p:spPr>
          <a:xfrm flipV="1">
            <a:off x="5553000" y="2999520"/>
            <a:ext cx="876960" cy="3531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5" name="Прямая со стрелкой 22"/>
          <p:cNvCxnSpPr/>
          <p:nvPr/>
        </p:nvCxnSpPr>
        <p:spPr>
          <a:xfrm>
            <a:off x="5643720" y="4286160"/>
            <a:ext cx="643320" cy="2152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6" name="Прямая со стрелкой 23"/>
          <p:cNvCxnSpPr>
            <a:stCxn id="365" idx="3"/>
          </p:cNvCxnSpPr>
          <p:nvPr/>
        </p:nvCxnSpPr>
        <p:spPr>
          <a:xfrm flipH="1">
            <a:off x="2999880" y="4362120"/>
            <a:ext cx="734400" cy="6732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7" name="Прямая со стрелкой 24"/>
          <p:cNvCxnSpPr/>
          <p:nvPr/>
        </p:nvCxnSpPr>
        <p:spPr>
          <a:xfrm flipH="1" flipV="1">
            <a:off x="3071160" y="2999880"/>
            <a:ext cx="857880" cy="2152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8" name="Прямая со стрелкой 25"/>
          <p:cNvCxnSpPr/>
          <p:nvPr/>
        </p:nvCxnSpPr>
        <p:spPr>
          <a:xfrm flipH="1">
            <a:off x="1642680" y="5357880"/>
            <a:ext cx="357840" cy="2865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9" name="Прямая со стрелкой 26"/>
          <p:cNvCxnSpPr>
            <a:endCxn id="367" idx="0"/>
          </p:cNvCxnSpPr>
          <p:nvPr/>
        </p:nvCxnSpPr>
        <p:spPr>
          <a:xfrm flipH="1">
            <a:off x="2749320" y="5214600"/>
            <a:ext cx="108720" cy="4294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0" name="Прямая со стрелкой 27"/>
          <p:cNvCxnSpPr>
            <a:endCxn id="369" idx="6"/>
          </p:cNvCxnSpPr>
          <p:nvPr/>
        </p:nvCxnSpPr>
        <p:spPr>
          <a:xfrm flipH="1">
            <a:off x="1356480" y="3071880"/>
            <a:ext cx="429480" cy="24984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1" name="Прямая со стрелкой 28"/>
          <p:cNvCxnSpPr>
            <a:stCxn id="366" idx="0"/>
          </p:cNvCxnSpPr>
          <p:nvPr/>
        </p:nvCxnSpPr>
        <p:spPr>
          <a:xfrm flipH="1" flipV="1">
            <a:off x="1643040" y="1785600"/>
            <a:ext cx="643320" cy="35784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onstantia"/>
              </a:rPr>
              <a:t>Возможности использования: </a:t>
            </a:r>
            <a:br>
              <a:rPr sz="4000"/>
            </a:br>
            <a:endParaRPr b="0" lang="en-US" sz="40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При систематизации, повторении материала; 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При работе с текстом; 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При повторении в начале урока; 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При введении в тему; 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При сборе необходимого языкового материала; 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При контроле. 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зговой штурм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66400" y="1600200"/>
            <a:ext cx="4228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ети называют слова по теме, которые учитель (или ученики) записывают в две колонки. Затем учащийся называют обобщающие слова: "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ooms", "furniture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5167440" y="1600200"/>
            <a:ext cx="3589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229600" cy="11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nstantia"/>
              </a:rPr>
              <a:t>Инсерт — что это такое?</a:t>
            </a:r>
            <a:br>
              <a:rPr sz="4400"/>
            </a:b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42800" y="1220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Название приема представляет собой аббревиатуру: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I — interactive (интерактивная).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N — noting (познавательная).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S — system  for (система).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E — effective (для эффективного).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R — reading (чтения).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T — thinking (и размышления).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Инсерт — это прием технологии развития критического мышления через чтение и письмо (ТРКМЧП), используемый при работе с текстом, с новой информацией.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2600"/>
                </a:solidFill>
                <a:latin typeface="Constantia"/>
              </a:rPr>
              <a:t>Как использовать прием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"Инсерт" </a:t>
            </a:r>
            <a:r>
              <a:rPr b="1" lang="ru-RU" sz="3600" spc="-1" strike="noStrike">
                <a:solidFill>
                  <a:srgbClr val="002600"/>
                </a:solidFill>
                <a:latin typeface="Constantia"/>
              </a:rPr>
              <a:t>на уроках</a:t>
            </a:r>
            <a:br>
              <a:rPr sz="3600"/>
            </a:br>
            <a:endParaRPr b="0" lang="en-US" sz="36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1. Учащиеся читают текст, маркируя его специальными значками: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V — я это знаю;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+ — это новая информация для меня;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- — я думал по-другому, это противоречит тому, что я знал;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? — это мне непонятно, нужны объяснения, уточнения.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Совет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ru-RU" sz="2400" spc="-1" strike="noStrike">
                <a:solidFill>
                  <a:srgbClr val="002600"/>
                </a:solidFill>
                <a:latin typeface="Constantia"/>
              </a:rPr>
              <a:t>маркировки в тексте удобнее делать на полях карандашом. Или можно подложит полоску бумаги, чтобы не пачкать учебники.</a:t>
            </a: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600"/>
                </a:solidFill>
                <a:latin typeface="Constantia"/>
              </a:rPr>
              <a:t> </a:t>
            </a:r>
            <a:r>
              <a:rPr b="0" lang="ru-RU" sz="4400" spc="-1" strike="noStrike">
                <a:solidFill>
                  <a:srgbClr val="002060"/>
                </a:solidFill>
                <a:latin typeface="Constantia"/>
              </a:rPr>
              <a:t>Заполняется таблица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42800" y="1585800"/>
          <a:ext cx="8434440" cy="4378320"/>
        </p:xfrm>
        <a:graphic>
          <a:graphicData uri="http://schemas.openxmlformats.org/drawingml/2006/table">
            <a:tbl>
              <a:tblPr/>
              <a:tblGrid>
                <a:gridCol w="2108160"/>
                <a:gridCol w="2108520"/>
                <a:gridCol w="2109600"/>
                <a:gridCol w="2108160"/>
              </a:tblGrid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V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+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десь тезисно записываются термины и понятия, встречающиеся в тексте, которые уже были извест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мечается все новое, что стало известно из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мечаются противоречия. То есть, ученик отмечает то, что идет вразрез с его знаниями и убеждения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речисляются непонятные моменты, те, что требуют уточнения или вопросы, возникшие по мере прочтения текс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собой ставлю следующую цель: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выявление возможностей современных педагогических интерактивных технологий как инструмента повышения мотивации к обучению и результативности обучения, и развития креативных способностей детей на уроках английского языка.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Нюансы применения приема  "Инсерт"</a:t>
            </a:r>
            <a:br>
              <a:rPr sz="3600"/>
            </a:br>
            <a:endParaRPr b="0" lang="en-US" sz="36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В начале работы с приемом желательно использовать небольшие тексты, чтобы дети привыкли к обилию значков.</a:t>
            </a: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  <a:p>
            <a:pPr marL="332640" indent="-332640">
              <a:spcBef>
                <a:spcPts val="4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Также в начале работы можно попросить их не записывать тезисы, а говорить их устно. Необходимо выработать навыки тезисной формулировки.</a:t>
            </a: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  <a:p>
            <a:pPr marL="332640" indent="-332640">
              <a:spcBef>
                <a:spcPts val="4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Таблица обсуждается по "колонкам". То есть, сначала то, что уже известно, затем то, что явилось новым и т.д.</a:t>
            </a: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  <a:p>
            <a:pPr marL="332640" indent="-332640">
              <a:spcBef>
                <a:spcPts val="4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В начальной школе таблицу можно сократить до трех колонок: "Знаю", "Интересуюсь", "Узнал".</a:t>
            </a: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  <a:p>
            <a:pPr marL="332640" indent="-332640">
              <a:spcBef>
                <a:spcPts val="4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Работа может проводиться как индивидуально, так и в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onstantia"/>
                <a:hlinkClick r:id="rId1"/>
              </a:rPr>
              <a:t>парах или группах</a:t>
            </a: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. Например, для использования приема инсерт на уроках английского языка при анализе большого текста, рекомендуется групповая работа.</a:t>
            </a: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  <a:p>
            <a:pPr marL="332640" indent="-332640">
              <a:spcBef>
                <a:spcPts val="4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ейс – технологии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Суть данного метода заключается в осмыслении, критическом анализе и решении конкретных проблем или случаев (cases). Кейс – это описание ситуации, которая имела место в той или иной практике и содержит в себе некоторую проблему, требующую разрешения. 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600"/>
                </a:solidFill>
                <a:latin typeface="Constantia"/>
              </a:rPr>
              <a:t>День из жизни обычной семьи.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omic"/>
              </a:rPr>
              <a:t>One Day in the Life of an Average Family.</a:t>
            </a:r>
            <a:endParaRPr b="0" lang="en-US" sz="36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Собрать ребенка на отдых 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26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00"/>
                </a:solidFill>
                <a:latin typeface="Constantia"/>
              </a:rPr>
              <a:t>В лагерь на море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00"/>
                </a:solidFill>
                <a:latin typeface="Constantia"/>
              </a:rPr>
              <a:t>2. В туристическую поездку по Англии.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473360" y="1600200"/>
            <a:ext cx="421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gency FB"/>
              </a:rPr>
              <a:t>Pack  your child’s things  to go on holidays. 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1" marL="971640" indent="-514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gency F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gency FB"/>
              </a:rPr>
              <a:t>To the camp at the seaside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lvl="1" marL="971640" indent="-514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gency F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gency FB"/>
              </a:rPr>
              <a:t>On the tour around Britain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ейс – технологии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pic>
        <p:nvPicPr>
          <p:cNvPr id="401" name="Объект 3" descr=""/>
          <p:cNvPicPr/>
          <p:nvPr/>
        </p:nvPicPr>
        <p:blipFill>
          <a:blip r:embed="rId1"/>
          <a:stretch/>
        </p:blipFill>
        <p:spPr>
          <a:xfrm>
            <a:off x="365040" y="1490760"/>
            <a:ext cx="858204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7944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 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Синквейн </a:t>
            </a:r>
            <a:r>
              <a:rPr b="1" lang="ru-RU" sz="3200" spc="-1" strike="noStrike">
                <a:solidFill>
                  <a:srgbClr val="002600"/>
                </a:solidFill>
                <a:latin typeface="Constantia"/>
              </a:rPr>
              <a:t>- 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прием, позволяющий в нескольких словах изложить учебный материал на определенную тему. 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 </a:t>
            </a: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Это специфическое стихотворение (без рифмы), состоящее из пяти строк , в которых обобщена информация по изученной теме.</a:t>
            </a: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Правила написания синквейна</a:t>
            </a: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1.     Первая строка - одним словом обозначается тема (имя существительное).</a:t>
            </a: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2.     Вторая строка - описание темы двумя словами (имена прилагательные).</a:t>
            </a: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3.     Третья строка - описание действия в рамках этой темы тремя словами (глаголы, причастия).</a:t>
            </a: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4.     Четвертая строка - фраза из четырех слов, выражающая отношение к теме (разные части речи).</a:t>
            </a: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00"/>
                </a:solidFill>
                <a:latin typeface="Constantia"/>
              </a:rPr>
              <a:t>5.     Пятая строка - это синоним из одного слова, который повторяет суть темы.</a:t>
            </a:r>
            <a:br>
              <a:rPr sz="2000"/>
            </a:br>
            <a:endParaRPr b="0" lang="en-US" sz="20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600"/>
                </a:solidFill>
                <a:latin typeface="Constantia"/>
              </a:rPr>
              <a:t>Правила написания синквейна</a:t>
            </a:r>
            <a:br>
              <a:rPr sz="4000"/>
            </a:br>
            <a:endParaRPr b="0" lang="en-US" sz="4000" spc="-1" strike="noStrike">
              <a:solidFill>
                <a:srgbClr val="002600"/>
              </a:solidFill>
              <a:latin typeface="Constantia"/>
            </a:endParaRPr>
          </a:p>
        </p:txBody>
      </p:sp>
      <p:pic>
        <p:nvPicPr>
          <p:cNvPr id="405" name="Объект 3" descr=""/>
          <p:cNvPicPr/>
          <p:nvPr/>
        </p:nvPicPr>
        <p:blipFill>
          <a:blip r:embed="rId1"/>
          <a:srcRect l="0" t="15931" r="0" b="0"/>
          <a:stretch/>
        </p:blipFill>
        <p:spPr>
          <a:xfrm>
            <a:off x="374760" y="942840"/>
            <a:ext cx="838980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КТ технологии</a:t>
            </a: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основных типа  использования ИКТ:</a:t>
            </a:r>
            <a:endParaRPr b="0" lang="en-US" sz="36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6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Компьютерные презентации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6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Электронные учебники и компьютерные программы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6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Использование Интернет-ресурсов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менение компьютерных технологий на уроках иностранного языка позволяет в увлекательной творческой форме продуктивно решать все задачи урока, осуществлять обучающую коммуникативную познавательную деятельность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овые технологии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на занятиях по иностранному языку – это не просто коллективное развлечение, а основной способ достижения определенных задач обучения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Игра позволяет овладевать всеми речевыми навыками в естественной ситуации – в процессе общения во время игры 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пособствует интенсивной языковой практике, создает контакт, на основании которого язык усваивается более осмысленно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05280" indent="-305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овые технологии способствуют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ностороннему развитию личности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им образом, я пришла к выводу, что: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современные интерактивные педагогические технологии – это огромное количество возможностей, приводящих к мотивации, как к основному двигательному механизму образования и самообразования человека, что и является отображением моего педагогического кредо - «желание -это тысяча возможностей, нежелание-тысяча причин…»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Содержимое 2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2425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02600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изучение инновационных форм обучения в отечественной и зарубежной методической литературе;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15360" indent="-31536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02600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применение ИПТ на уроках английского языка как средства повышения результативности обучения и развития креативности;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15360" indent="-31536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02600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создание условий для творческой деятельности на уроках английского языка посредством различных современных педагогических технологий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26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: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buClr>
                <a:srgbClr val="0026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Заир-Бек С.И.</a:t>
            </a:r>
            <a:r>
              <a:rPr b="0" lang="ru-RU" sz="16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 Развитие критического мышления на уроке: пособие для учителей общеобразоват. Учреждений. М.: Просвещение, 2011.</a:t>
            </a:r>
            <a:endParaRPr b="0" lang="en-US" sz="1600" spc="-1" strike="noStrike">
              <a:solidFill>
                <a:srgbClr val="002600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buClr>
                <a:srgbClr val="0026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Ляудис В. Я. Инновационное обучение и наука. — М., 1992.</a:t>
            </a:r>
            <a:endParaRPr b="0" lang="en-US" sz="1600" spc="-1" strike="noStrike">
              <a:solidFill>
                <a:srgbClr val="002600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buClr>
                <a:srgbClr val="0026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600"/>
                </a:solidFill>
                <a:latin typeface="Times New Roman"/>
                <a:ea typeface="Calibri"/>
              </a:rPr>
              <a:t>Хорст Мюллер. Составление ментальных карт. Метод генерации и структурирования идей. И.Омега – Л.2007</a:t>
            </a:r>
            <a:endParaRPr b="0" lang="en-US" sz="1600" spc="-1" strike="noStrike">
              <a:solidFill>
                <a:srgbClr val="002600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buClr>
                <a:srgbClr val="0026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Э. Де Боно. Шесть шляп мышления. Основная концепция.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debono.ru/article/sixhats.htm</a:t>
            </a:r>
            <a:r>
              <a:rPr b="0" lang="ru-RU" sz="16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2600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ые подходы к обучению иностранным языкам как основа реализации ФГОС второго поколения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surwiki.ru/wiki/index.php</a:t>
            </a:r>
            <a:endParaRPr b="0" lang="en-US" sz="1600" spc="-1" strike="noStrike">
              <a:solidFill>
                <a:srgbClr val="002600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Ариян М.А. «Повышение самостоятельности учебного труда школьников при обучении иностранным языкам», журнал «ИЯШ» №6, 1999 год, с.17</a:t>
            </a:r>
            <a:endParaRPr b="0" lang="en-US" sz="1600" spc="-1" strike="noStrike">
              <a:solidFill>
                <a:srgbClr val="002600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ева М. Э. Новые информационные технологии в обучении английскому языку // Педагог. - 2005. - № 2. - с .162-166.</a:t>
            </a:r>
            <a:endParaRPr b="0" lang="en-US" sz="1600" spc="-1" strike="noStrike">
              <a:solidFill>
                <a:srgbClr val="002600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учебные Интернет-ресурсы в обучении иностранному языку, ИЯШ, 2008, № 6, с. 2-6. </a:t>
            </a:r>
            <a:endParaRPr b="0" lang="en-US" sz="1600" spc="-1" strike="noStrike">
              <a:solidFill>
                <a:srgbClr val="002600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роблеме модернизации содержания общего образования - ИЯШ, 2002, №5, с.5-8.</a:t>
            </a:r>
            <a:endParaRPr b="0" lang="en-US" sz="1600" spc="-1" strike="noStrike">
              <a:solidFill>
                <a:srgbClr val="002600"/>
              </a:solidFill>
              <a:latin typeface="Constanti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: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30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Современные формы обучения характеризуются высокой коммуникативной возможностью и активным включением учащихся в учебную деятельность, активизируют потенциал знаний и умений навыков говорения и аудирования, эффективно развивают навыки коммуникативной компетенции учащихся. 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Это способствует адаптации к современным социальным условиям, т.к. обществу нужны люди, быстро ориентирующиеся в современном мире, самостоятельные и инициативные, достигающие успеха в своей деятельности.</a:t>
            </a: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600"/>
                </a:solidFill>
                <a:latin typeface="Constantia"/>
              </a:rPr>
              <a:t>Интерактивные технологии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Суть интерактивного обучения состоит в том, что учебный процесс организован таким образом, что практически все учащиеся оказываются вовлеченными в процесс познания, они имеют возможность понимать и рефлектировать по поводу того, что они знают и думают.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Овал 3"/>
          <p:cNvSpPr/>
          <p:nvPr/>
        </p:nvSpPr>
        <p:spPr>
          <a:xfrm>
            <a:off x="2968560" y="2433600"/>
            <a:ext cx="2954520" cy="2251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Интер-акти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Овал 4"/>
          <p:cNvSpPr/>
          <p:nvPr/>
        </p:nvSpPr>
        <p:spPr>
          <a:xfrm>
            <a:off x="266760" y="2827440"/>
            <a:ext cx="1463760" cy="13078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инк-в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Овал 11"/>
          <p:cNvSpPr/>
          <p:nvPr/>
        </p:nvSpPr>
        <p:spPr>
          <a:xfrm>
            <a:off x="260280" y="4100400"/>
            <a:ext cx="1463760" cy="13082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ейс -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Овал 12"/>
          <p:cNvSpPr/>
          <p:nvPr/>
        </p:nvSpPr>
        <p:spPr>
          <a:xfrm>
            <a:off x="426960" y="1440000"/>
            <a:ext cx="1462320" cy="1307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КТ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Овал 13"/>
          <p:cNvSpPr/>
          <p:nvPr/>
        </p:nvSpPr>
        <p:spPr>
          <a:xfrm>
            <a:off x="7345440" y="2900520"/>
            <a:ext cx="1463760" cy="130788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руп-повой расс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Овал 14"/>
          <p:cNvSpPr/>
          <p:nvPr/>
        </p:nvSpPr>
        <p:spPr>
          <a:xfrm>
            <a:off x="1293840" y="5064120"/>
            <a:ext cx="1463760" cy="130824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нс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5"/>
          <p:cNvSpPr/>
          <p:nvPr/>
        </p:nvSpPr>
        <p:spPr>
          <a:xfrm>
            <a:off x="2852640" y="5343480"/>
            <a:ext cx="1463760" cy="130824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озго-вой шту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Овал 16"/>
          <p:cNvSpPr/>
          <p:nvPr/>
        </p:nvSpPr>
        <p:spPr>
          <a:xfrm>
            <a:off x="4468680" y="5369040"/>
            <a:ext cx="1463760" cy="1307880"/>
          </a:xfrm>
          <a:prstGeom prst="ellipse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лас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7"/>
          <p:cNvSpPr/>
          <p:nvPr/>
        </p:nvSpPr>
        <p:spPr>
          <a:xfrm>
            <a:off x="5972040" y="5240160"/>
            <a:ext cx="1462320" cy="13082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олев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Овал 18"/>
          <p:cNvSpPr/>
          <p:nvPr/>
        </p:nvSpPr>
        <p:spPr>
          <a:xfrm>
            <a:off x="7122960" y="4322880"/>
            <a:ext cx="1462320" cy="130968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рейн-р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Овал 19"/>
          <p:cNvSpPr/>
          <p:nvPr/>
        </p:nvSpPr>
        <p:spPr>
          <a:xfrm>
            <a:off x="7093080" y="1479600"/>
            <a:ext cx="1461960" cy="130788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Незаконченные пред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20"/>
          <p:cNvSpPr/>
          <p:nvPr/>
        </p:nvSpPr>
        <p:spPr>
          <a:xfrm>
            <a:off x="6062760" y="506520"/>
            <a:ext cx="1463400" cy="130788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циологичес-кий 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Овал 21"/>
          <p:cNvSpPr/>
          <p:nvPr/>
        </p:nvSpPr>
        <p:spPr>
          <a:xfrm>
            <a:off x="4541760" y="264960"/>
            <a:ext cx="1462320" cy="130824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Карус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Овал 22"/>
          <p:cNvSpPr/>
          <p:nvPr/>
        </p:nvSpPr>
        <p:spPr>
          <a:xfrm>
            <a:off x="3005280" y="262080"/>
            <a:ext cx="1463400" cy="130968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Овал 23"/>
          <p:cNvSpPr/>
          <p:nvPr/>
        </p:nvSpPr>
        <p:spPr>
          <a:xfrm>
            <a:off x="1558800" y="574560"/>
            <a:ext cx="1463760" cy="130824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гро-вы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трелка вверх 24"/>
          <p:cNvSpPr/>
          <p:nvPr/>
        </p:nvSpPr>
        <p:spPr>
          <a:xfrm rot="21129600">
            <a:off x="3678120" y="1561680"/>
            <a:ext cx="716040" cy="8906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трелка вверх 25"/>
          <p:cNvSpPr/>
          <p:nvPr/>
        </p:nvSpPr>
        <p:spPr>
          <a:xfrm rot="910800">
            <a:off x="4533480" y="1572840"/>
            <a:ext cx="717480" cy="892080"/>
          </a:xfrm>
          <a:prstGeom prst="up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трелка вверх 26"/>
          <p:cNvSpPr/>
          <p:nvPr/>
        </p:nvSpPr>
        <p:spPr>
          <a:xfrm rot="2163000">
            <a:off x="5319720" y="1731600"/>
            <a:ext cx="717480" cy="103968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трелка вверх 27"/>
          <p:cNvSpPr/>
          <p:nvPr/>
        </p:nvSpPr>
        <p:spPr>
          <a:xfrm rot="3576600">
            <a:off x="5958720" y="2125440"/>
            <a:ext cx="717840" cy="1273320"/>
          </a:xfrm>
          <a:prstGeom prst="upArrow">
            <a:avLst>
              <a:gd name="adj1" fmla="val 50000"/>
              <a:gd name="adj2" fmla="val 4993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Стрелка вверх 28"/>
          <p:cNvSpPr/>
          <p:nvPr/>
        </p:nvSpPr>
        <p:spPr>
          <a:xfrm rot="5400000">
            <a:off x="6136920" y="2838600"/>
            <a:ext cx="717480" cy="124452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трелка вверх 29"/>
          <p:cNvSpPr/>
          <p:nvPr/>
        </p:nvSpPr>
        <p:spPr>
          <a:xfrm rot="7271400">
            <a:off x="6003360" y="3571560"/>
            <a:ext cx="717480" cy="1152720"/>
          </a:xfrm>
          <a:prstGeom prst="up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трелка вверх 30"/>
          <p:cNvSpPr/>
          <p:nvPr/>
        </p:nvSpPr>
        <p:spPr>
          <a:xfrm rot="8530800">
            <a:off x="5461920" y="4173120"/>
            <a:ext cx="717480" cy="107316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трелка вверх 31"/>
          <p:cNvSpPr/>
          <p:nvPr/>
        </p:nvSpPr>
        <p:spPr>
          <a:xfrm rot="9981600">
            <a:off x="4588920" y="4541400"/>
            <a:ext cx="717480" cy="892080"/>
          </a:xfrm>
          <a:prstGeom prst="up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трелка вверх 32"/>
          <p:cNvSpPr/>
          <p:nvPr/>
        </p:nvSpPr>
        <p:spPr>
          <a:xfrm rot="12208800">
            <a:off x="3575160" y="4540320"/>
            <a:ext cx="715680" cy="890640"/>
          </a:xfrm>
          <a:prstGeom prst="upArrow">
            <a:avLst>
              <a:gd name="adj1" fmla="val 50000"/>
              <a:gd name="adj2" fmla="val 500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трелка вверх 33"/>
          <p:cNvSpPr/>
          <p:nvPr/>
        </p:nvSpPr>
        <p:spPr>
          <a:xfrm rot="13749600">
            <a:off x="2740680" y="4172040"/>
            <a:ext cx="717480" cy="137664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трелка вверх 34"/>
          <p:cNvSpPr/>
          <p:nvPr/>
        </p:nvSpPr>
        <p:spPr>
          <a:xfrm rot="14673000">
            <a:off x="2253240" y="3732840"/>
            <a:ext cx="717840" cy="1344600"/>
          </a:xfrm>
          <a:prstGeom prst="upArrow">
            <a:avLst>
              <a:gd name="adj1" fmla="val 50000"/>
              <a:gd name="adj2" fmla="val 5001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трелка вверх 35"/>
          <p:cNvSpPr/>
          <p:nvPr/>
        </p:nvSpPr>
        <p:spPr>
          <a:xfrm rot="16468800">
            <a:off x="2126160" y="3129120"/>
            <a:ext cx="717480" cy="1217880"/>
          </a:xfrm>
          <a:prstGeom prst="upArrow">
            <a:avLst>
              <a:gd name="adj1" fmla="val 50000"/>
              <a:gd name="adj2" fmla="val 5002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Стрелка вверх 36"/>
          <p:cNvSpPr/>
          <p:nvPr/>
        </p:nvSpPr>
        <p:spPr>
          <a:xfrm rot="18362400">
            <a:off x="2262960" y="2400480"/>
            <a:ext cx="717480" cy="1170000"/>
          </a:xfrm>
          <a:prstGeom prst="upArrow">
            <a:avLst>
              <a:gd name="adj1" fmla="val 50000"/>
              <a:gd name="adj2" fmla="val 499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Стрелка вверх 37"/>
          <p:cNvSpPr/>
          <p:nvPr/>
        </p:nvSpPr>
        <p:spPr>
          <a:xfrm rot="19699200">
            <a:off x="2717640" y="1701720"/>
            <a:ext cx="717840" cy="1144800"/>
          </a:xfrm>
          <a:prstGeom prst="upArrow">
            <a:avLst>
              <a:gd name="adj1" fmla="val 50000"/>
              <a:gd name="adj2" fmla="val 499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C:\Users\Дмитрий\Desktop\img7.jpg"/>
          <p:cNvPicPr/>
          <p:nvPr/>
        </p:nvPicPr>
        <p:blipFill>
          <a:blip r:embed="rId1"/>
          <a:stretch/>
        </p:blipFill>
        <p:spPr>
          <a:xfrm>
            <a:off x="360360" y="1108080"/>
            <a:ext cx="8367840" cy="53197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Constantia"/>
              </a:rPr>
              <a:t>Технология «Карусель».</a:t>
            </a:r>
            <a:r>
              <a:rPr b="1" lang="ru-RU" sz="4400" spc="-1" strike="noStrike">
                <a:solidFill>
                  <a:srgbClr val="002600"/>
                </a:solidFill>
                <a:latin typeface="Constanti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nstantia"/>
              </a:rPr>
              <a:t>Технология «Социологический опрос»</a:t>
            </a:r>
            <a:endParaRPr b="0" lang="en-US" sz="44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600"/>
                </a:solidFill>
                <a:latin typeface="Constantia"/>
              </a:rPr>
              <a:t>    </a:t>
            </a:r>
            <a:r>
              <a:rPr b="0" lang="ru-RU" sz="2300" spc="-1" strike="noStrike">
                <a:solidFill>
                  <a:srgbClr val="002600"/>
                </a:solidFill>
                <a:latin typeface="Constantia"/>
              </a:rPr>
              <a:t> </a:t>
            </a:r>
            <a:r>
              <a:rPr b="0" lang="ru-RU" sz="2300" spc="-1" strike="noStrike">
                <a:solidFill>
                  <a:srgbClr val="002600"/>
                </a:solidFill>
                <a:latin typeface="Constantia"/>
              </a:rPr>
              <a:t>предполагает движение учеников по всему классу с целью сбора информации по предложенной теме. Каждый участник получает лист с перечнем вопросов-заданий. Учитель помогает формулировать вопросы и ответы, следит, чтобы взаимодействие велось на английском языке.</a:t>
            </a:r>
            <a:endParaRPr b="0" lang="en-US" sz="2300" spc="-1" strike="noStrike">
              <a:solidFill>
                <a:srgbClr val="002600"/>
              </a:solidFill>
              <a:latin typeface="Constantia"/>
            </a:endParaRPr>
          </a:p>
          <a:p>
            <a:pPr marL="308520" indent="-308520">
              <a:spcBef>
                <a:spcPts val="575"/>
              </a:spcBef>
              <a:buClr>
                <a:srgbClr val="00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2600"/>
              </a:solidFill>
              <a:latin typeface="Constantia"/>
            </a:endParaRPr>
          </a:p>
        </p:txBody>
      </p:sp>
      <p:pic>
        <p:nvPicPr>
          <p:cNvPr id="353" name="Picture 2" descr="C:\Users\Дмитрий\Desktop\filling-out-form.jpg"/>
          <p:cNvPicPr/>
          <p:nvPr/>
        </p:nvPicPr>
        <p:blipFill>
          <a:blip r:embed="rId1"/>
          <a:stretch/>
        </p:blipFill>
        <p:spPr>
          <a:xfrm>
            <a:off x="4648320" y="155088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nstantia"/>
              </a:rPr>
              <a:t>Технология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onstantia"/>
              </a:rPr>
              <a:t>«Незаконченное предложение»</a:t>
            </a:r>
            <a:endParaRPr b="0" lang="en-US" sz="4000" spc="-1" strike="noStrike">
              <a:solidFill>
                <a:srgbClr val="002600"/>
              </a:solidFill>
              <a:latin typeface="Constanti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2600"/>
                </a:solidFill>
                <a:latin typeface="Constantia"/>
              </a:rPr>
              <a:t>Детям предлагается прочитать незаконченное предложение и быстро продолжить его любыми словами, первой пришедшей в голову мыслью. Предложения начинаются весьма неопределенно, поэтому у ребят практически неограниченные возможности закончить его. Они касаются различных жизненных сфер и       могут охватывать любые темы</a:t>
            </a:r>
            <a:endParaRPr b="0" lang="en-US" sz="3200" spc="-1" strike="noStrike">
              <a:solidFill>
                <a:srgbClr val="0026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ей</dc:creator>
  <dc:description/>
  <dc:language>en-US</dc:language>
  <cp:lastModifiedBy>Дмитрий Сердобинцев</cp:lastModifiedBy>
  <dcterms:modified xsi:type="dcterms:W3CDTF">2016-10-30T18:57:50Z</dcterms:modified>
  <cp:revision>83</cp:revision>
  <dc:subject/>
  <dc:title>Идиомы английского языка</dc:title>
</cp:coreProperties>
</file>