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D919-3135-40D4-9E12-030016DB5D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C525-90D6-4E30-BA59-FDABBE41D2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09B-B806-4325-B0C9-2EF56B39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60B8-40BE-484A-9FE2-3B9FCE33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5E3F-3DCA-42E8-8027-88C34610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F06-E9E6-4069-8208-C4CFF49B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7E15-94B9-40E3-959F-7130B65D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7BCD-7CFB-4E00-83A7-48E25967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1CC9-22DD-4E16-B48E-3FF99BB9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F437-6741-46F7-82FF-0A246F70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920E-28F2-4083-A82D-E75F0859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E0EB-B3DF-4D8F-BE66-6DB09663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F4AC-50E8-4EE6-B92F-488C61CF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EFA-3832-4460-9BAB-69375A38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81CF-3709-45BB-B3D0-38B7737D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D59A-517F-4590-AD16-6A194C3B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5D96-53A9-4CD3-BA5F-2643A52A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3578-9AF8-48BB-96E3-81D064E4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65F5-6E4F-430F-9F51-62FD162C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C4417-63A2-4BEF-9041-6D010064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9DAF5-0AD0-4E9A-B872-5D8BDDEA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3B281-B420-445A-B3C1-D21C9445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C3B8E-147C-42D1-8963-9B9D6D83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2BC17-4775-479A-B065-C1F8A560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E2AD-58C5-4431-B3A1-1769DE96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D9120-FE14-4769-B84A-100547D2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4E6AD-4B0B-4F10-91F0-8E2DD2B2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F9E53-2081-4ECF-9960-A3B2C2A0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3FE01-B535-41FF-A4C2-31D166CA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429CF-51C7-4DA1-A61A-049A0497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E79C1-BE43-45EE-AFCF-E6DA2F94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CFDB6-26A6-4E79-A324-F65F0B42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9A46F-93A8-44BC-8E52-0244F4F4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59918-C2FC-4407-852B-94601536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E45BB-2400-461C-B00B-6E946B3B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3B4-DB59-427D-91DF-15BBE687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1B9B8-2EA9-4B52-B2B9-25948732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3E2AE-3843-4F10-A8B7-D86508F6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8C85F-DD4A-49AD-9071-4ED861C3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F9C03-D585-4B7C-8741-9FB88D90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3C0B1-794A-47A5-B8D5-CE4925F2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818CB-12FB-4FB5-A30B-CFBD51F5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BD86F-A27C-4C8C-ADB0-D0C8D38E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5DD8E-FEB5-4C71-8114-37798EBA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91FBA-36A0-4D3B-AEBB-8FF2C5C4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DDC3B-291D-41A2-9F8A-27C8370F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EA21-E0B7-4E9E-84AE-BC4E3397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03F9C-BEC1-484B-B266-3CD7651E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ADBB7-D4D6-43C6-8157-3EAA4B3A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F4C30-AFA6-4260-9088-AEFE2798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E03C1-1F9B-4FFC-9417-F943A523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18016-6943-42DC-BCEC-C6706D7E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24FC8-EBA2-4E90-9492-9DDB0D9C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886E6-48E3-48B0-8487-C6800127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A7669-5A96-4981-9B4E-EAD01B78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1FE3A-D51D-451A-873A-B8087130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46809-78DB-4426-8160-9B2595F8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7AA-7A12-467E-89AC-E5C51CEB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05CC6-A9D7-4C90-A1A6-000B04E8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31453-D5A6-4726-BAAD-712EBD27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E1E5A-05D2-45E6-BC35-B3E536DF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2DB5B-08F9-49B7-8477-2E67E36A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DAF2D-3C53-4AAE-B93D-9D278E23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A04A7-367A-44F1-94C2-729D2E2E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5D19C-B159-431B-8845-9C583E12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38DC6-DC1B-4787-BC92-BB55F748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3328F-14C2-4125-AC9A-A73B92CE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D052B-B7F3-42C1-9BF2-159F04EA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C449-31D8-4011-8CCF-1ED7E6F0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D5EC0-AB30-4C73-9EAF-B4D74CFF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F0A6D-5DEB-4E8E-8663-34DAE948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8E2CC-FA0E-44D6-9DFB-3F2817A3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E1FF5-E485-466E-8E91-CCAA3EB1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03278-549C-4871-B1E8-355CED3D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FAFFC-1702-4008-9A5E-50D1782F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48BBD-00E9-4087-8453-3957A9B5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37600-9EBA-4047-BFBC-9B716867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1CE2C-619E-4981-848F-F2F2667B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610B4-8909-4E2A-89B6-6CA633B6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B3C2-52DC-4B92-B64D-976B9471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8FFC4-0AA5-4BB1-A212-BBB7FB63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C50F8-AF9D-4C40-B446-CF904362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55DFE-593C-4986-B687-CF93B527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E5B72-3BCE-43A6-BCA4-B53E1943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D774A-B13C-440B-BC32-C2BB56C9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E3F-1E18-44F4-B734-71CCAE67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2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8B18-6592-4F22-8510-B9A8D79CA63E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2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D1EF-6A64-42E1-BB07-DA6D150B07F7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Рамка 6"/>
          <p:cNvGrpSpPr/>
          <p:nvPr/>
        </p:nvGrpSpPr>
        <p:grpSpPr>
          <a:xfrm>
            <a:off x="-19080" y="-19080"/>
            <a:ext cx="9175680" cy="6907320"/>
            <a:chOff x="-19080" y="-19080"/>
            <a:chExt cx="9175680" cy="6907320"/>
          </a:xfrm>
        </p:grpSpPr>
        <p:pic>
          <p:nvPicPr>
            <p:cNvPr id="83" name="Рамка 6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9175680" cy="690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70000" y="270000"/>
              <a:ext cx="8604000" cy="63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3" descr="C:\Users\Solaris\Downloads\UK.png"/>
          <p:cNvPicPr/>
          <p:nvPr/>
        </p:nvPicPr>
        <p:blipFill>
          <a:blip r:embed="rId3"/>
          <a:srcRect l="0" t="0" r="0" b="7382"/>
          <a:stretch/>
        </p:blipFill>
        <p:spPr>
          <a:xfrm>
            <a:off x="0" y="5524560"/>
            <a:ext cx="1440000" cy="1333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2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36E0-62DF-4BA9-838B-B06422269FBE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Рамка 6"/>
          <p:cNvGrpSpPr/>
          <p:nvPr/>
        </p:nvGrpSpPr>
        <p:grpSpPr>
          <a:xfrm>
            <a:off x="-19080" y="-19080"/>
            <a:ext cx="9175680" cy="6907320"/>
            <a:chOff x="-19080" y="-19080"/>
            <a:chExt cx="9175680" cy="6907320"/>
          </a:xfrm>
        </p:grpSpPr>
        <p:pic>
          <p:nvPicPr>
            <p:cNvPr id="128" name="Рамка 6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9175680" cy="690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70000" y="270000"/>
              <a:ext cx="8604000" cy="63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Picture 2" descr="C:\Users\Solaris\Downloads\Rossiya-Russia.png"/>
          <p:cNvPicPr/>
          <p:nvPr/>
        </p:nvPicPr>
        <p:blipFill>
          <a:blip r:embed="rId3"/>
          <a:srcRect l="0" t="0" r="0" b="7382"/>
          <a:stretch/>
        </p:blipFill>
        <p:spPr>
          <a:xfrm>
            <a:off x="0" y="5524560"/>
            <a:ext cx="1440000" cy="13334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2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DBC0-5A4F-401E-863E-0E11464CFA6B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Рамка 6"/>
          <p:cNvGrpSpPr/>
          <p:nvPr/>
        </p:nvGrpSpPr>
        <p:grpSpPr>
          <a:xfrm>
            <a:off x="-19080" y="-19080"/>
            <a:ext cx="9175680" cy="6907320"/>
            <a:chOff x="-19080" y="-19080"/>
            <a:chExt cx="9175680" cy="6907320"/>
          </a:xfrm>
        </p:grpSpPr>
        <p:pic>
          <p:nvPicPr>
            <p:cNvPr id="173" name="Рамка 6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9175680" cy="690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70000" y="270000"/>
              <a:ext cx="8604000" cy="63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2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5F12-7781-42B8-BDE4-8F5035617458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Рамка 6"/>
          <p:cNvGrpSpPr/>
          <p:nvPr/>
        </p:nvGrpSpPr>
        <p:grpSpPr>
          <a:xfrm>
            <a:off x="-19080" y="-19080"/>
            <a:ext cx="9175680" cy="6907320"/>
            <a:chOff x="-19080" y="-19080"/>
            <a:chExt cx="9175680" cy="6907320"/>
          </a:xfrm>
        </p:grpSpPr>
        <p:pic>
          <p:nvPicPr>
            <p:cNvPr id="217" name="Рамка 6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9175680" cy="690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270000" y="270000"/>
              <a:ext cx="8604000" cy="63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2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EC90-C9C5-460F-B28F-0E74530A9084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Рамка 6"/>
          <p:cNvGrpSpPr/>
          <p:nvPr/>
        </p:nvGrpSpPr>
        <p:grpSpPr>
          <a:xfrm>
            <a:off x="-19080" y="-19080"/>
            <a:ext cx="9175680" cy="6907320"/>
            <a:chOff x="-19080" y="-19080"/>
            <a:chExt cx="9175680" cy="6907320"/>
          </a:xfrm>
        </p:grpSpPr>
        <p:pic>
          <p:nvPicPr>
            <p:cNvPr id="261" name="Рамка 6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9175680" cy="690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270000" y="270000"/>
              <a:ext cx="8604000" cy="63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2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7321-794D-4A39-8677-4C6BA27E930C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pedsovet.su/metodika/priemy/5871_formy_raboty_v_parah" TargetMode="Externa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debono.ru/article/sixhats.htm" TargetMode="External"/><Relationship Id="rId2" Type="http://schemas.openxmlformats.org/officeDocument/2006/relationships/hyperlink" Target="http://www.surwiki.ru/wiki/index.php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682560" y="255600"/>
            <a:ext cx="778500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onstantia"/>
              </a:rPr>
              <a:t>Технология </a:t>
            </a:r>
            <a:br>
              <a:rPr sz="4400"/>
            </a:br>
            <a:r>
              <a:rPr b="1" lang="ru-RU" sz="4400" spc="-1" strike="noStrike">
                <a:solidFill>
                  <a:srgbClr val="660066"/>
                </a:solidFill>
                <a:latin typeface="Constantia"/>
              </a:rPr>
              <a:t>«Групповой рассказ»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реализуется двумя способами. Во время первого способа, каждый учащийся добавляет одно предложение к уже начатому рассказу. По определенному сигналу (через минуту) лист с незаконченным рассказом передается дальше по кругу. Второй способ хорошо подходит для отработки темы «Вопросительные слова». Учитель задает вопросы в определенном порядке, каждый участник процесса пишет ответ, складывает лист бумаги так, чтобы никто его не видел и передает соседу. Движение происходит по кругу. Таким образом, в конце получаются сразу несколько неожиданных рассказов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Технология «Брейн-ринг»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6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2600"/>
                </a:solidFill>
                <a:latin typeface="Constantia"/>
              </a:rPr>
              <a:t>очень хорошо подходит для уроков- обобщения изученного материала. Содержательное наполнение раундов может быть абсолютно разнообразным, и охватывать такие разделы как лексику, грамматику, чтение, аудирования и письмо. Данная технология требует серьезной подготовительной работы, которая включает в себя: выбор темы, составление задания, создание презентации, продумывание вопросов на внимание, заготовка бланков ответов, дипломов. В начале игры происходит выбор жюри, деление учащихся на команды. Каждый раунд длится 3 минуты, после чего, ответы сдаются в жюри в письменном виде. Правильность ответов проверяется и обсуждается после каждого раунда, а затем задается серия вопросов на внимание, что тоже приносит дополнительные очки командам.</a:t>
            </a:r>
            <a:endParaRPr b="0" lang="en-US" sz="2200" spc="-1" strike="noStrike">
              <a:solidFill>
                <a:srgbClr val="002600"/>
              </a:solidFill>
              <a:latin typeface="Constantia"/>
            </a:endParaRPr>
          </a:p>
          <a:p>
            <a:pPr marL="301680" indent="-301680">
              <a:spcBef>
                <a:spcPts val="550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nstantia"/>
              </a:rPr>
              <a:t>Технология «Ролевая игра»</a:t>
            </a:r>
            <a:r>
              <a:rPr b="0" lang="ru-RU" sz="44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402920"/>
            <a:ext cx="8229600" cy="46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Ролевая игра – это речевая, игровая и учебная деятельности одновременно. С точки зрения учащихся, ролевая игра – это игровая деятельность, в процессе которой они выступают в разных ролях.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Существует огромное количество форм ролевых игр на уроках английского языка: презентации, клубы по интересам, интервью, заочные путешествия, круглые столы, пресс-конференции, экскурсии, сказки, репортажи и т.д.Как показывают результаты обучения, применение ролевой игры на уроках иностранного языка способствует положительным изменениям в речи учащихся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Cluster - Method –</a:t>
            </a:r>
            <a:r>
              <a:rPr b="1" lang="ru-RU" sz="2800" spc="-1" strike="noStrike">
                <a:solidFill>
                  <a:srgbClr val="002600"/>
                </a:solidFill>
                <a:latin typeface="Constantia"/>
              </a:rPr>
              <a:t> графический </a:t>
            </a:r>
            <a:br>
              <a:rPr sz="2800"/>
            </a:br>
            <a:r>
              <a:rPr b="1" lang="ru-RU" sz="2800" spc="-1" strike="noStrike">
                <a:solidFill>
                  <a:srgbClr val="002600"/>
                </a:solidFill>
                <a:latin typeface="Constantia"/>
              </a:rPr>
              <a:t>приём систематизации материала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85640" y="143496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08680" indent="-5086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Мысли не громоздятся, а “гроздятся”, 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508680" indent="-5086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т. е. располагаются в определённом порядке.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508680" indent="-5086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600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c0504d"/>
                </a:solidFill>
                <a:latin typeface="Comic Sans MS"/>
              </a:rPr>
              <a:t>Технология составления кластера:</a:t>
            </a:r>
            <a:endParaRPr b="0" lang="en-US" sz="2200" spc="-1" strike="noStrike">
              <a:solidFill>
                <a:srgbClr val="002600"/>
              </a:solidFill>
              <a:latin typeface="Constantia"/>
            </a:endParaRPr>
          </a:p>
          <a:p>
            <a:pPr marL="508680" indent="-508680">
              <a:lnSpc>
                <a:spcPct val="120000"/>
              </a:lnSpc>
              <a:spcBef>
                <a:spcPts val="550"/>
              </a:spcBef>
              <a:buClr>
                <a:srgbClr val="0026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600"/>
                </a:solidFill>
                <a:latin typeface="Constantia"/>
              </a:rPr>
              <a:t>Ключевое слово или понятие; </a:t>
            </a:r>
            <a:endParaRPr b="0" lang="en-US" sz="2200" spc="-1" strike="noStrike">
              <a:solidFill>
                <a:srgbClr val="002600"/>
              </a:solidFill>
              <a:latin typeface="Constantia"/>
            </a:endParaRPr>
          </a:p>
          <a:p>
            <a:pPr marL="508680" indent="-508680">
              <a:lnSpc>
                <a:spcPct val="120000"/>
              </a:lnSpc>
              <a:spcBef>
                <a:spcPts val="550"/>
              </a:spcBef>
              <a:buClr>
                <a:srgbClr val="0026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600"/>
                </a:solidFill>
                <a:latin typeface="Constantia"/>
              </a:rPr>
              <a:t>Запись слов вокруг ключевого слова. Они обводятся и соединяются с основным словом; </a:t>
            </a:r>
            <a:endParaRPr b="0" lang="en-US" sz="2200" spc="-1" strike="noStrike">
              <a:solidFill>
                <a:srgbClr val="002600"/>
              </a:solidFill>
              <a:latin typeface="Constantia"/>
            </a:endParaRPr>
          </a:p>
          <a:p>
            <a:pPr marL="508680" indent="-508680">
              <a:lnSpc>
                <a:spcPct val="120000"/>
              </a:lnSpc>
              <a:spcBef>
                <a:spcPts val="550"/>
              </a:spcBef>
              <a:buClr>
                <a:srgbClr val="0026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600"/>
                </a:solidFill>
                <a:latin typeface="Constantia"/>
              </a:rPr>
              <a:t>Каждое новое слово образует собой новое ядро, которое вызывает дальнейшие ассоциации. Таким образом, создаются ассоциативные цепочки; </a:t>
            </a:r>
            <a:endParaRPr b="0" lang="en-US" sz="2200" spc="-1" strike="noStrike">
              <a:solidFill>
                <a:srgbClr val="002600"/>
              </a:solidFill>
              <a:latin typeface="Constantia"/>
            </a:endParaRPr>
          </a:p>
          <a:p>
            <a:pPr marL="508680" indent="-508680">
              <a:lnSpc>
                <a:spcPct val="120000"/>
              </a:lnSpc>
              <a:spcBef>
                <a:spcPts val="550"/>
              </a:spcBef>
              <a:buClr>
                <a:srgbClr val="0026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600"/>
                </a:solidFill>
                <a:latin typeface="Constantia"/>
              </a:rPr>
              <a:t>Взаимосвязанные понятия соединяются линиями. </a:t>
            </a:r>
            <a:endParaRPr b="0" lang="en-US" sz="2200" spc="-1" strike="noStrike">
              <a:solidFill>
                <a:srgbClr val="002600"/>
              </a:solidFill>
              <a:latin typeface="Constantia"/>
            </a:endParaRPr>
          </a:p>
          <a:p>
            <a:pPr marL="508680" indent="-5086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00"/>
                </a:solidFill>
                <a:latin typeface="Constantia"/>
              </a:rPr>
              <a:t>         </a:t>
            </a:r>
            <a:endParaRPr b="0" lang="en-US" sz="1800" spc="-1" strike="noStrike">
              <a:solidFill>
                <a:srgbClr val="002600"/>
              </a:solidFill>
              <a:latin typeface="Constantia"/>
            </a:endParaRPr>
          </a:p>
          <a:p>
            <a:pPr marL="508680" indent="-508680">
              <a:spcBef>
                <a:spcPts val="451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600"/>
                </a:solidFill>
                <a:latin typeface="Comic Sans MS"/>
              </a:rPr>
              <a:t>Технология составления кластера</a:t>
            </a:r>
            <a:endParaRPr b="0" lang="en-US" sz="40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65" name="Овал 3"/>
          <p:cNvSpPr/>
          <p:nvPr/>
        </p:nvSpPr>
        <p:spPr>
          <a:xfrm>
            <a:off x="3357720" y="3143160"/>
            <a:ext cx="2571480" cy="142884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nstantia"/>
              </a:rPr>
              <a:t>A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7"/>
          <p:cNvSpPr/>
          <p:nvPr/>
        </p:nvSpPr>
        <p:spPr>
          <a:xfrm>
            <a:off x="1000080" y="2143080"/>
            <a:ext cx="25718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a living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8"/>
          <p:cNvSpPr/>
          <p:nvPr/>
        </p:nvSpPr>
        <p:spPr>
          <a:xfrm>
            <a:off x="2071800" y="5643720"/>
            <a:ext cx="1357200" cy="92844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l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Овал 9"/>
          <p:cNvSpPr/>
          <p:nvPr/>
        </p:nvSpPr>
        <p:spPr>
          <a:xfrm>
            <a:off x="571680" y="1143000"/>
            <a:ext cx="1357200" cy="92880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so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Овал 10"/>
          <p:cNvSpPr/>
          <p:nvPr/>
        </p:nvSpPr>
        <p:spPr>
          <a:xfrm>
            <a:off x="0" y="2857680"/>
            <a:ext cx="1357200" cy="92844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TV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Овал 11"/>
          <p:cNvSpPr/>
          <p:nvPr/>
        </p:nvSpPr>
        <p:spPr>
          <a:xfrm>
            <a:off x="1143000" y="4429080"/>
            <a:ext cx="25718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A bed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Овал 12"/>
          <p:cNvSpPr/>
          <p:nvPr/>
        </p:nvSpPr>
        <p:spPr>
          <a:xfrm>
            <a:off x="5786280" y="4429080"/>
            <a:ext cx="25718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A kit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13"/>
          <p:cNvSpPr/>
          <p:nvPr/>
        </p:nvSpPr>
        <p:spPr>
          <a:xfrm>
            <a:off x="5715000" y="2071800"/>
            <a:ext cx="2571840" cy="92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A h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Овал 14"/>
          <p:cNvSpPr/>
          <p:nvPr/>
        </p:nvSpPr>
        <p:spPr>
          <a:xfrm>
            <a:off x="357120" y="5357880"/>
            <a:ext cx="1357560" cy="92880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Прямая со стрелкой 20"/>
          <p:cNvCxnSpPr>
            <a:stCxn id="365" idx="7"/>
          </p:cNvCxnSpPr>
          <p:nvPr/>
        </p:nvCxnSpPr>
        <p:spPr>
          <a:xfrm flipV="1">
            <a:off x="5553000" y="2999520"/>
            <a:ext cx="876960" cy="3531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5" name="Прямая со стрелкой 22"/>
          <p:cNvCxnSpPr/>
          <p:nvPr/>
        </p:nvCxnSpPr>
        <p:spPr>
          <a:xfrm>
            <a:off x="5643720" y="4286160"/>
            <a:ext cx="643320" cy="2152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6" name="Прямая со стрелкой 23"/>
          <p:cNvCxnSpPr>
            <a:stCxn id="365" idx="3"/>
          </p:cNvCxnSpPr>
          <p:nvPr/>
        </p:nvCxnSpPr>
        <p:spPr>
          <a:xfrm flipH="1">
            <a:off x="2999880" y="4362120"/>
            <a:ext cx="734400" cy="6732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7" name="Прямая со стрелкой 24"/>
          <p:cNvCxnSpPr/>
          <p:nvPr/>
        </p:nvCxnSpPr>
        <p:spPr>
          <a:xfrm flipH="1" flipV="1">
            <a:off x="3071160" y="2999880"/>
            <a:ext cx="857880" cy="2152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8" name="Прямая со стрелкой 25"/>
          <p:cNvCxnSpPr/>
          <p:nvPr/>
        </p:nvCxnSpPr>
        <p:spPr>
          <a:xfrm flipH="1">
            <a:off x="1642680" y="5357880"/>
            <a:ext cx="357840" cy="2865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9" name="Прямая со стрелкой 26"/>
          <p:cNvCxnSpPr>
            <a:endCxn id="367" idx="0"/>
          </p:cNvCxnSpPr>
          <p:nvPr/>
        </p:nvCxnSpPr>
        <p:spPr>
          <a:xfrm flipH="1">
            <a:off x="2749320" y="5214600"/>
            <a:ext cx="108720" cy="4294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0" name="Прямая со стрелкой 27"/>
          <p:cNvCxnSpPr>
            <a:endCxn id="369" idx="6"/>
          </p:cNvCxnSpPr>
          <p:nvPr/>
        </p:nvCxnSpPr>
        <p:spPr>
          <a:xfrm flipH="1">
            <a:off x="1356480" y="3071880"/>
            <a:ext cx="429480" cy="24984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1" name="Прямая со стрелкой 28"/>
          <p:cNvCxnSpPr>
            <a:stCxn id="366" idx="0"/>
          </p:cNvCxnSpPr>
          <p:nvPr/>
        </p:nvCxnSpPr>
        <p:spPr>
          <a:xfrm flipH="1" flipV="1">
            <a:off x="1643040" y="1785600"/>
            <a:ext cx="643320" cy="35784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onstantia"/>
              </a:rPr>
              <a:t>Возможности использования: </a:t>
            </a:r>
            <a:br>
              <a:rPr sz="4000"/>
            </a:br>
            <a:endParaRPr b="0" lang="en-US" sz="40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При систематизации, повторении материала; 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При работе с текстом; 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При повторении в начале урока; 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При введении в тему; 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При сборе необходимого языкового материала; 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При контроле. 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зговой штурм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66400" y="1600200"/>
            <a:ext cx="4228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ети называют слова по теме, которые учитель (или ученики) записывают в две колонки. Затем учащийся называют обобщающие слова: "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ooms", "furniture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5167440" y="1600200"/>
            <a:ext cx="3589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229600" cy="11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nstantia"/>
              </a:rPr>
              <a:t>Инсерт — что это такое?</a:t>
            </a:r>
            <a:br>
              <a:rPr sz="4400"/>
            </a:b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42800" y="1220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Название приема представляет собой аббревиатуру: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I — interactive (интерактивная).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N — noting (познавательная).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S — system  for (система).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E — effective (для эффективного).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R — reading (чтения).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T — thinking (и размышления).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Инсерт — это прием технологии развития критического мышления через чтение и письмо (ТРКМЧП), используемый при работе с текстом, с новой информацией.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2600"/>
                </a:solidFill>
                <a:latin typeface="Constantia"/>
              </a:rPr>
              <a:t>Как использовать прием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"Инсерт" </a:t>
            </a:r>
            <a:r>
              <a:rPr b="1" lang="ru-RU" sz="3600" spc="-1" strike="noStrike">
                <a:solidFill>
                  <a:srgbClr val="002600"/>
                </a:solidFill>
                <a:latin typeface="Constantia"/>
              </a:rPr>
              <a:t>на уроках</a:t>
            </a:r>
            <a:br>
              <a:rPr sz="3600"/>
            </a:br>
            <a:endParaRPr b="0" lang="en-US" sz="36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1. Учащиеся читают текст, маркируя его специальными значками: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V — я это знаю;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+ — это новая информация для меня;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- — я думал по-другому, это противоречит тому, что я знал;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? — это мне непонятно, нужны объяснения, уточнения.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Совет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маркировки в тексте удобнее делать на полях карандашом. Или можно подложит полоску бумаги, чтобы не пачкать учебники.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600"/>
                </a:solidFill>
                <a:latin typeface="Constantia"/>
              </a:rPr>
              <a:t> </a:t>
            </a:r>
            <a:r>
              <a:rPr b="0" lang="ru-RU" sz="4400" spc="-1" strike="noStrike">
                <a:solidFill>
                  <a:srgbClr val="002060"/>
                </a:solidFill>
                <a:latin typeface="Constantia"/>
              </a:rPr>
              <a:t>Заполняется таблица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42800" y="1585800"/>
          <a:ext cx="8434440" cy="4378320"/>
        </p:xfrm>
        <a:graphic>
          <a:graphicData uri="http://schemas.openxmlformats.org/drawingml/2006/table">
            <a:tbl>
              <a:tblPr/>
              <a:tblGrid>
                <a:gridCol w="2108160"/>
                <a:gridCol w="2108520"/>
                <a:gridCol w="2109600"/>
                <a:gridCol w="2108160"/>
              </a:tblGrid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V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+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десь тезисно записываются термины и понятия, встречающиеся в тексте, которые уже были извест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мечается все новое, что стало известно из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мечаются противоречия. То есть, ученик отмечает то, что идет вразрез с его знаниями и убеждения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речисляются непонятные моменты, те, что требуют уточнения или вопросы, возникшие по мере прочтения текс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собой ставлю следующую цель: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выявление возможностей современных педагогических интерактивных технологий как инструмента повышения мотивации к обучению и результативности обучения, и развития креативных способностей детей на уроках английского языка.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Нюансы применения приема  "Инсерт"</a:t>
            </a:r>
            <a:br>
              <a:rPr sz="3600"/>
            </a:br>
            <a:endParaRPr b="0" lang="en-US" sz="36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В начале работы с приемом желательно использовать небольшие тексты, чтобы дети привыкли к обилию значков.</a:t>
            </a: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  <a:p>
            <a:pPr marL="332640" indent="-332640">
              <a:spcBef>
                <a:spcPts val="4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Также в начале работы можно попросить их не записывать тезисы, а говорить их устно. Необходимо выработать навыки тезисной формулировки.</a:t>
            </a: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  <a:p>
            <a:pPr marL="332640" indent="-332640">
              <a:spcBef>
                <a:spcPts val="4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Таблица обсуждается по "колонкам". То есть, сначала то, что уже известно, затем то, что явилось новым и т.д.</a:t>
            </a: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  <a:p>
            <a:pPr marL="332640" indent="-332640">
              <a:spcBef>
                <a:spcPts val="4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В начальной школе таблицу можно сократить до трех колонок: "Знаю", "Интересуюсь", "Узнал".</a:t>
            </a: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  <a:p>
            <a:pPr marL="332640" indent="-332640">
              <a:spcBef>
                <a:spcPts val="4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Работа может проводиться как индивидуально, так и в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onstantia"/>
                <a:hlinkClick r:id="rId1"/>
              </a:rPr>
              <a:t>парах или группах</a:t>
            </a: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. Например, для использования приема инсерт на уроках английского языка при анализе большого текста, рекомендуется групповая работа.</a:t>
            </a: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  <a:p>
            <a:pPr marL="332640" indent="-332640">
              <a:spcBef>
                <a:spcPts val="4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ейс – технологии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Суть данного метода заключается в осмыслении, критическом анализе и решении конкретных проблем или случаев (cases). Кейс – это описание ситуации, которая имела место в той или иной практике и содержит в себе некоторую проблему, требующую разрешения. 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600"/>
                </a:solidFill>
                <a:latin typeface="Constantia"/>
              </a:rPr>
              <a:t>День из жизни обычной семьи.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omic"/>
              </a:rPr>
              <a:t>One Day in the Life of an Average Family.</a:t>
            </a:r>
            <a:endParaRPr b="0" lang="en-US" sz="36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Собрать ребенка на отдых 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26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00"/>
                </a:solidFill>
                <a:latin typeface="Constantia"/>
              </a:rPr>
              <a:t>В лагерь на море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00"/>
                </a:solidFill>
                <a:latin typeface="Constantia"/>
              </a:rPr>
              <a:t>2. В туристическую поездку по Англии.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473360" y="1600200"/>
            <a:ext cx="421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gency FB"/>
              </a:rPr>
              <a:t>Pack  your child’s things  to go on holidays. 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1" marL="971640" indent="-514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gency F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gency FB"/>
              </a:rPr>
              <a:t>To the camp at the seaside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1" marL="971640" indent="-514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gency F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gency FB"/>
              </a:rPr>
              <a:t>On the tour around Britain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ейс – технологии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pic>
        <p:nvPicPr>
          <p:cNvPr id="401" name="Объект 3" descr=""/>
          <p:cNvPicPr/>
          <p:nvPr/>
        </p:nvPicPr>
        <p:blipFill>
          <a:blip r:embed="rId1"/>
          <a:stretch/>
        </p:blipFill>
        <p:spPr>
          <a:xfrm>
            <a:off x="365040" y="1490760"/>
            <a:ext cx="858204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7944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 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Синквейн </a:t>
            </a:r>
            <a:r>
              <a:rPr b="1" lang="ru-RU" sz="3200" spc="-1" strike="noStrike">
                <a:solidFill>
                  <a:srgbClr val="002600"/>
                </a:solidFill>
                <a:latin typeface="Constantia"/>
              </a:rPr>
              <a:t>- 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прием, позволяющий в нескольких словах изложить учебный материал на определенную тему. 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 </a:t>
            </a: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Это специфическое стихотворение (без рифмы), состоящее из пяти строк , в которых обобщена информация по изученной теме.</a:t>
            </a: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Правила написания синквейна</a:t>
            </a: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1.     Первая строка - одним словом обозначается тема (имя существительное).</a:t>
            </a: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2.     Вторая строка - описание темы двумя словами (имена прилагательные).</a:t>
            </a: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3.     Третья строка - описание действия в рамках этой темы тремя словами (глаголы, причастия).</a:t>
            </a: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4.     Четвертая строка - фраза из четырех слов, выражающая отношение к теме (разные части речи).</a:t>
            </a: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5.     Пятая строка - это синоним из одного слова, который повторяет суть темы.</a:t>
            </a:r>
            <a:br>
              <a:rPr sz="2000"/>
            </a:b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600"/>
                </a:solidFill>
                <a:latin typeface="Constantia"/>
              </a:rPr>
              <a:t>Правила написания синквейна</a:t>
            </a:r>
            <a:br>
              <a:rPr sz="4000"/>
            </a:br>
            <a:endParaRPr b="0" lang="en-US" sz="4000" spc="-1" strike="noStrike">
              <a:solidFill>
                <a:srgbClr val="002600"/>
              </a:solidFill>
              <a:latin typeface="Constantia"/>
            </a:endParaRPr>
          </a:p>
        </p:txBody>
      </p:sp>
      <p:pic>
        <p:nvPicPr>
          <p:cNvPr id="405" name="Объект 3" descr=""/>
          <p:cNvPicPr/>
          <p:nvPr/>
        </p:nvPicPr>
        <p:blipFill>
          <a:blip r:embed="rId1"/>
          <a:srcRect l="0" t="15931" r="0" b="0"/>
          <a:stretch/>
        </p:blipFill>
        <p:spPr>
          <a:xfrm>
            <a:off x="374760" y="942840"/>
            <a:ext cx="838980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КТ технологии</a:t>
            </a: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основных типа  использования ИКТ:</a:t>
            </a:r>
            <a:endParaRPr b="0" lang="en-US" sz="36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6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Компьютерные презентации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6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Электронные учебники и компьютерные программы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6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Использование Интернет-ресурсов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менение компьютерных технологий на уроках иностранного языка позволяет в увлекательной творческой форме продуктивно решать все задачи урока, осуществлять обучающую коммуникативную познавательную деятельность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овые технологии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на занятиях по иностранному языку – это не просто коллективное развлечение, а основной способ достижения определенных задач обучения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Игра позволяет овладевать всеми речевыми навыками в естественной ситуации – в процессе общения во время игры 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пособствует интенсивной языковой практике, создает контакт, на основании которого язык усваивается более осмысленно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05280" indent="-305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овые технологии способствуют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ностороннему развитию личности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им образом, я пришла к выводу, что: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современные интерактивные педагогические технологии – это огромное количество возможностей, приводящих к мотивации, как к основному двигательному механизму образования и самообразования человека, что и является отображением моего педагогического кредо - «желание -это тысяча возможностей, нежелание-тысяча причин…»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Содержимое 2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2425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02600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изучение инновационных форм обучения в отечественной и зарубежной методической литературе;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15360" indent="-31536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02600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применение ИПТ на уроках английского языка как средства повышения результативности обучения и развития креативности;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15360" indent="-31536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02600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создание условий для творческой деятельности на уроках английского языка посредством различных современных педагогических технологий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26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: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buClr>
                <a:srgbClr val="0026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Заир-Бек С.И.</a:t>
            </a:r>
            <a:r>
              <a:rPr b="0" lang="ru-RU" sz="16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 Развитие критического мышления на уроке: пособие для учителей общеобразоват. Учреждений. М.: Просвещение, 2011.</a:t>
            </a:r>
            <a:endParaRPr b="0" lang="en-US" sz="1600" spc="-1" strike="noStrike">
              <a:solidFill>
                <a:srgbClr val="002600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buClr>
                <a:srgbClr val="0026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Ляудис В. Я. Инновационное обучение и наука. — М., 1992.</a:t>
            </a:r>
            <a:endParaRPr b="0" lang="en-US" sz="1600" spc="-1" strike="noStrike">
              <a:solidFill>
                <a:srgbClr val="002600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buClr>
                <a:srgbClr val="0026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600"/>
                </a:solidFill>
                <a:latin typeface="Times New Roman"/>
                <a:ea typeface="Calibri"/>
              </a:rPr>
              <a:t>Хорст Мюллер. Составление ментальных карт. Метод генерации и структурирования идей. И.Омега – Л.2007</a:t>
            </a:r>
            <a:endParaRPr b="0" lang="en-US" sz="1600" spc="-1" strike="noStrike">
              <a:solidFill>
                <a:srgbClr val="002600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buClr>
                <a:srgbClr val="0026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Э. Де Боно. Шесть шляп мышления. Основная концепция.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debono.ru/article/sixhats.htm</a:t>
            </a:r>
            <a:r>
              <a:rPr b="0" lang="ru-RU" sz="16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2600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ые подходы к обучению иностранным языкам как основа реализации ФГОС второго поколения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surwiki.ru/wiki/index.php</a:t>
            </a:r>
            <a:endParaRPr b="0" lang="en-US" sz="1600" spc="-1" strike="noStrike">
              <a:solidFill>
                <a:srgbClr val="002600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Ариян М.А. «Повышение самостоятельности учебного труда школьников при обучении иностранным языкам», журнал «ИЯШ» №6, 1999 год, с.17</a:t>
            </a:r>
            <a:endParaRPr b="0" lang="en-US" sz="1600" spc="-1" strike="noStrike">
              <a:solidFill>
                <a:srgbClr val="002600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ева М. Э. Новые информационные технологии в обучении английскому языку // Педагог. - 2005. - № 2. - с .162-166.</a:t>
            </a:r>
            <a:endParaRPr b="0" lang="en-US" sz="1600" spc="-1" strike="noStrike">
              <a:solidFill>
                <a:srgbClr val="002600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учебные Интернет-ресурсы в обучении иностранному языку, ИЯШ, 2008, № 6, с. 2-6. </a:t>
            </a:r>
            <a:endParaRPr b="0" lang="en-US" sz="1600" spc="-1" strike="noStrike">
              <a:solidFill>
                <a:srgbClr val="002600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роблеме модернизации содержания общего образования - ИЯШ, 2002, №5, с.5-8.</a:t>
            </a:r>
            <a:endParaRPr b="0" lang="en-US" sz="1600" spc="-1" strike="noStrike">
              <a:solidFill>
                <a:srgbClr val="002600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: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30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Современные формы обучения характеризуются высокой коммуникативной возможностью и активным включением учащихся в учебную деятельность, активизируют потенциал знаний и умений навыков говорения и аудирования, эффективно развивают навыки коммуникативной компетенции учащихся. 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Это способствует адаптации к современным социальным условиям, т.к. обществу нужны люди, быстро ориентирующиеся в современном мире, самостоятельные и инициативные, достигающие успеха в своей деятельности.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600"/>
                </a:solidFill>
                <a:latin typeface="Constantia"/>
              </a:rPr>
              <a:t>Интерактивные технологии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Суть интерактивного обучения состоит в том, что учебный процесс организован таким образом, что практически все учащиеся оказываются вовлеченными в процесс познания, они имеют возможность понимать и рефлектировать по поводу того, что они знают и думают.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Овал 3"/>
          <p:cNvSpPr/>
          <p:nvPr/>
        </p:nvSpPr>
        <p:spPr>
          <a:xfrm>
            <a:off x="2968560" y="2433600"/>
            <a:ext cx="2954520" cy="2251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Интер-акти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Овал 4"/>
          <p:cNvSpPr/>
          <p:nvPr/>
        </p:nvSpPr>
        <p:spPr>
          <a:xfrm>
            <a:off x="266760" y="2827440"/>
            <a:ext cx="1463760" cy="13078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инк-в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Овал 11"/>
          <p:cNvSpPr/>
          <p:nvPr/>
        </p:nvSpPr>
        <p:spPr>
          <a:xfrm>
            <a:off x="260280" y="4100400"/>
            <a:ext cx="1463760" cy="13082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ейс -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Овал 12"/>
          <p:cNvSpPr/>
          <p:nvPr/>
        </p:nvSpPr>
        <p:spPr>
          <a:xfrm>
            <a:off x="426960" y="1440000"/>
            <a:ext cx="1462320" cy="1307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КТ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Овал 13"/>
          <p:cNvSpPr/>
          <p:nvPr/>
        </p:nvSpPr>
        <p:spPr>
          <a:xfrm>
            <a:off x="7345440" y="2900520"/>
            <a:ext cx="1463760" cy="130788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руп-повой расс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Овал 14"/>
          <p:cNvSpPr/>
          <p:nvPr/>
        </p:nvSpPr>
        <p:spPr>
          <a:xfrm>
            <a:off x="1293840" y="5064120"/>
            <a:ext cx="1463760" cy="130824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нс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5"/>
          <p:cNvSpPr/>
          <p:nvPr/>
        </p:nvSpPr>
        <p:spPr>
          <a:xfrm>
            <a:off x="2852640" y="5343480"/>
            <a:ext cx="1463760" cy="130824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озго-вой шту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Овал 16"/>
          <p:cNvSpPr/>
          <p:nvPr/>
        </p:nvSpPr>
        <p:spPr>
          <a:xfrm>
            <a:off x="4468680" y="5369040"/>
            <a:ext cx="1463760" cy="1307880"/>
          </a:xfrm>
          <a:prstGeom prst="ellipse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лас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7"/>
          <p:cNvSpPr/>
          <p:nvPr/>
        </p:nvSpPr>
        <p:spPr>
          <a:xfrm>
            <a:off x="5972040" y="5240160"/>
            <a:ext cx="1462320" cy="13082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олев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Овал 18"/>
          <p:cNvSpPr/>
          <p:nvPr/>
        </p:nvSpPr>
        <p:spPr>
          <a:xfrm>
            <a:off x="7122960" y="4322880"/>
            <a:ext cx="1462320" cy="130968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рейн-р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Овал 19"/>
          <p:cNvSpPr/>
          <p:nvPr/>
        </p:nvSpPr>
        <p:spPr>
          <a:xfrm>
            <a:off x="7093080" y="1479600"/>
            <a:ext cx="1461960" cy="130788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Незаконченные пред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20"/>
          <p:cNvSpPr/>
          <p:nvPr/>
        </p:nvSpPr>
        <p:spPr>
          <a:xfrm>
            <a:off x="6062760" y="506520"/>
            <a:ext cx="1463400" cy="130788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циологичес-кий 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Овал 21"/>
          <p:cNvSpPr/>
          <p:nvPr/>
        </p:nvSpPr>
        <p:spPr>
          <a:xfrm>
            <a:off x="4541760" y="264960"/>
            <a:ext cx="1462320" cy="130824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Карус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Овал 22"/>
          <p:cNvSpPr/>
          <p:nvPr/>
        </p:nvSpPr>
        <p:spPr>
          <a:xfrm>
            <a:off x="3005280" y="262080"/>
            <a:ext cx="1463400" cy="130968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Овал 23"/>
          <p:cNvSpPr/>
          <p:nvPr/>
        </p:nvSpPr>
        <p:spPr>
          <a:xfrm>
            <a:off x="1558800" y="574560"/>
            <a:ext cx="1463760" cy="130824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гро-вы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трелка вверх 24"/>
          <p:cNvSpPr/>
          <p:nvPr/>
        </p:nvSpPr>
        <p:spPr>
          <a:xfrm rot="21129600">
            <a:off x="3678120" y="1561680"/>
            <a:ext cx="716040" cy="8906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трелка вверх 25"/>
          <p:cNvSpPr/>
          <p:nvPr/>
        </p:nvSpPr>
        <p:spPr>
          <a:xfrm rot="910800">
            <a:off x="4533480" y="1572840"/>
            <a:ext cx="717480" cy="892080"/>
          </a:xfrm>
          <a:prstGeom prst="up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трелка вверх 26"/>
          <p:cNvSpPr/>
          <p:nvPr/>
        </p:nvSpPr>
        <p:spPr>
          <a:xfrm rot="2163000">
            <a:off x="5319720" y="1731600"/>
            <a:ext cx="717480" cy="103968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трелка вверх 27"/>
          <p:cNvSpPr/>
          <p:nvPr/>
        </p:nvSpPr>
        <p:spPr>
          <a:xfrm rot="3576600">
            <a:off x="5958720" y="2125440"/>
            <a:ext cx="717840" cy="1273320"/>
          </a:xfrm>
          <a:prstGeom prst="upArrow">
            <a:avLst>
              <a:gd name="adj1" fmla="val 50000"/>
              <a:gd name="adj2" fmla="val 4993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Стрелка вверх 28"/>
          <p:cNvSpPr/>
          <p:nvPr/>
        </p:nvSpPr>
        <p:spPr>
          <a:xfrm rot="5400000">
            <a:off x="6136920" y="2838600"/>
            <a:ext cx="717480" cy="124452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трелка вверх 29"/>
          <p:cNvSpPr/>
          <p:nvPr/>
        </p:nvSpPr>
        <p:spPr>
          <a:xfrm rot="7271400">
            <a:off x="6003360" y="3571560"/>
            <a:ext cx="717480" cy="1152720"/>
          </a:xfrm>
          <a:prstGeom prst="up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трелка вверх 30"/>
          <p:cNvSpPr/>
          <p:nvPr/>
        </p:nvSpPr>
        <p:spPr>
          <a:xfrm rot="8530800">
            <a:off x="5461920" y="4173120"/>
            <a:ext cx="717480" cy="107316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трелка вверх 31"/>
          <p:cNvSpPr/>
          <p:nvPr/>
        </p:nvSpPr>
        <p:spPr>
          <a:xfrm rot="9981600">
            <a:off x="4588920" y="4541400"/>
            <a:ext cx="717480" cy="892080"/>
          </a:xfrm>
          <a:prstGeom prst="up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трелка вверх 32"/>
          <p:cNvSpPr/>
          <p:nvPr/>
        </p:nvSpPr>
        <p:spPr>
          <a:xfrm rot="12208800">
            <a:off x="3575160" y="4540320"/>
            <a:ext cx="715680" cy="890640"/>
          </a:xfrm>
          <a:prstGeom prst="upArrow">
            <a:avLst>
              <a:gd name="adj1" fmla="val 50000"/>
              <a:gd name="adj2" fmla="val 500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трелка вверх 33"/>
          <p:cNvSpPr/>
          <p:nvPr/>
        </p:nvSpPr>
        <p:spPr>
          <a:xfrm rot="13749600">
            <a:off x="2740680" y="4172040"/>
            <a:ext cx="717480" cy="137664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трелка вверх 34"/>
          <p:cNvSpPr/>
          <p:nvPr/>
        </p:nvSpPr>
        <p:spPr>
          <a:xfrm rot="14673000">
            <a:off x="2253240" y="3732840"/>
            <a:ext cx="717840" cy="1344600"/>
          </a:xfrm>
          <a:prstGeom prst="upArrow">
            <a:avLst>
              <a:gd name="adj1" fmla="val 50000"/>
              <a:gd name="adj2" fmla="val 5001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трелка вверх 35"/>
          <p:cNvSpPr/>
          <p:nvPr/>
        </p:nvSpPr>
        <p:spPr>
          <a:xfrm rot="16468800">
            <a:off x="2126160" y="3129120"/>
            <a:ext cx="717480" cy="1217880"/>
          </a:xfrm>
          <a:prstGeom prst="upArrow">
            <a:avLst>
              <a:gd name="adj1" fmla="val 50000"/>
              <a:gd name="adj2" fmla="val 5002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Стрелка вверх 36"/>
          <p:cNvSpPr/>
          <p:nvPr/>
        </p:nvSpPr>
        <p:spPr>
          <a:xfrm rot="18362400">
            <a:off x="2262960" y="2400480"/>
            <a:ext cx="717480" cy="1170000"/>
          </a:xfrm>
          <a:prstGeom prst="upArrow">
            <a:avLst>
              <a:gd name="adj1" fmla="val 50000"/>
              <a:gd name="adj2" fmla="val 499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Стрелка вверх 37"/>
          <p:cNvSpPr/>
          <p:nvPr/>
        </p:nvSpPr>
        <p:spPr>
          <a:xfrm rot="19699200">
            <a:off x="2717640" y="1701720"/>
            <a:ext cx="717840" cy="1144800"/>
          </a:xfrm>
          <a:prstGeom prst="upArrow">
            <a:avLst>
              <a:gd name="adj1" fmla="val 50000"/>
              <a:gd name="adj2" fmla="val 499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C:\Users\Дмитрий\Desktop\img7.jpg"/>
          <p:cNvPicPr/>
          <p:nvPr/>
        </p:nvPicPr>
        <p:blipFill>
          <a:blip r:embed="rId1"/>
          <a:stretch/>
        </p:blipFill>
        <p:spPr>
          <a:xfrm>
            <a:off x="360360" y="1108080"/>
            <a:ext cx="8367840" cy="53197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Constantia"/>
              </a:rPr>
              <a:t>Технология «Карусель».</a:t>
            </a:r>
            <a:r>
              <a:rPr b="1" lang="ru-RU" sz="4400" spc="-1" strike="noStrike">
                <a:solidFill>
                  <a:srgbClr val="002600"/>
                </a:solidFill>
                <a:latin typeface="Constanti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nstantia"/>
              </a:rPr>
              <a:t>Технология «Социологический опрос»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600"/>
                </a:solidFill>
                <a:latin typeface="Constantia"/>
              </a:rPr>
              <a:t>    </a:t>
            </a:r>
            <a:r>
              <a:rPr b="0" lang="ru-RU" sz="2300" spc="-1" strike="noStrike">
                <a:solidFill>
                  <a:srgbClr val="002600"/>
                </a:solidFill>
                <a:latin typeface="Constantia"/>
              </a:rPr>
              <a:t> </a:t>
            </a:r>
            <a:r>
              <a:rPr b="0" lang="ru-RU" sz="2300" spc="-1" strike="noStrike">
                <a:solidFill>
                  <a:srgbClr val="002600"/>
                </a:solidFill>
                <a:latin typeface="Constantia"/>
              </a:rPr>
              <a:t>предполагает движение учеников по всему классу с целью сбора информации по предложенной теме. Каждый участник получает лист с перечнем вопросов-заданий. Учитель помогает формулировать вопросы и ответы, следит, чтобы взаимодействие велось на английском языке.</a:t>
            </a:r>
            <a:endParaRPr b="0" lang="en-US" sz="2300" spc="-1" strike="noStrike">
              <a:solidFill>
                <a:srgbClr val="002600"/>
              </a:solidFill>
              <a:latin typeface="Constantia"/>
            </a:endParaRPr>
          </a:p>
          <a:p>
            <a:pPr marL="308520" indent="-308520">
              <a:spcBef>
                <a:spcPts val="575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2600"/>
              </a:solidFill>
              <a:latin typeface="Constantia"/>
            </a:endParaRPr>
          </a:p>
        </p:txBody>
      </p:sp>
      <p:pic>
        <p:nvPicPr>
          <p:cNvPr id="353" name="Picture 2" descr="C:\Users\Дмитрий\Desktop\filling-out-form.jpg"/>
          <p:cNvPicPr/>
          <p:nvPr/>
        </p:nvPicPr>
        <p:blipFill>
          <a:blip r:embed="rId1"/>
          <a:stretch/>
        </p:blipFill>
        <p:spPr>
          <a:xfrm>
            <a:off x="4648320" y="155088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nstantia"/>
              </a:rPr>
              <a:t>Технология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onstantia"/>
              </a:rPr>
              <a:t>«Незаконченное предложение»</a:t>
            </a:r>
            <a:endParaRPr b="0" lang="en-US" sz="40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Детям предлагается прочитать незаконченное предложение и быстро продолжить его любыми словами, первой пришедшей в голову мыслью. Предложения начинаются весьма неопределенно, поэтому у ребят практически неограниченные возможности закончить его. Они касаются различных жизненных сфер и       могут охватывать любые темы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ей</dc:creator>
  <dc:description/>
  <dc:language>en-US</dc:language>
  <cp:lastModifiedBy>Дмитрий Сердобинцев</cp:lastModifiedBy>
  <dcterms:modified xsi:type="dcterms:W3CDTF">2016-10-30T18:57:50Z</dcterms:modified>
  <cp:revision>83</cp:revision>
  <dc:subject/>
  <dc:title>Идиомы английского языка</dc:title>
</cp:coreProperties>
</file>