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C7F-895C-4C48-9D3F-F1348024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335-1F98-45ED-AFFE-D6C47FD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0EA-300A-4133-972D-F2C0C2F6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7F9-B4C7-4100-9BBD-E52DE022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5AA-4A57-409E-81E8-08623FD5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DD87-ACCD-4A3B-AA4A-746F837C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4CA9-C1B6-4AF0-A1A6-314B288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B44-595D-45B6-ABA8-4DFB75F3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2FE-9FBC-406A-A24B-FCF6795A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0C6-C25C-497C-978C-81D9753C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4277-882A-4FAF-A007-7E1309A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B8F-31BF-4A47-A413-F99F645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34B2-F1EB-477F-9510-FDA8228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F8DE-FE03-40E3-8E1E-92DB3F0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670-22A6-4767-8015-46CC53E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0DC-3E69-4B4C-8AF1-DEFFD4EC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FB96-1D57-4EBE-84FA-100D131D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AD7-6BF6-445B-B564-2E5B823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DD3-77A3-4EFC-9870-8528934A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630-352F-40F7-BE88-AAB204D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F7C-2BD1-4F57-9E66-C8D7104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823-9AF6-4613-A567-C9EEAA0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855-2083-4FE6-B229-CF37835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A33-10E6-486A-96B9-0E52167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741E-585A-4667-AF39-E858D7A152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891-DB4D-4630-BA3A-3720323E0226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. Былина – жан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дра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лир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эп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2. Особенность былины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 том, что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в ней изображена в обобщённых образах историческая ре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ей свойственная точная передача исторических фактов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она рассказывает о мирном крестьянском тру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3. Богатыри посвящают свою жизнь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утверждению собственной сил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служению княз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заботе о безопасности и величии роди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4. Типичный приём повествования в былинах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развёрнутая характеристика герое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лирическое отступл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трёхкратное повторение событ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369200" cy="26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Известно, что образы богатырей создавались в разное время. Выберите вариант, где богатыри перечислены начиная со старшего, заканчивая млад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3141360"/>
            <a:ext cx="701064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Святогор, Илья Муромец, Садк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Алёша Попович, Вольга, Василиса Микулич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Добрыня Никитич, Святогор, Илья Муроме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884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6. Словосочетания «чистое поле», «добрые кони», «красное солнце» содержа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2781360"/>
            <a:ext cx="70106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сравн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эпите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постоянный эпит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. Отрывок из былины «Илья Муромец и Соловей-разбойник»: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го ли от из города из Муром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,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573360"/>
            <a:ext cx="701064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экспозици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завязк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эпилог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   2    3    4    5    6   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   а    в   в     а    в    а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22:20Z</dcterms:created>
  <dc:creator>Admin</dc:creator>
  <dc:description/>
  <dc:language>en-US</dc:language>
  <cp:lastModifiedBy>BK-3008</cp:lastModifiedBy>
  <dcterms:modified xsi:type="dcterms:W3CDTF">2018-12-11T03:25:19Z</dcterms:modified>
  <cp:revision>5</cp:revision>
  <dc:subject/>
  <dc:title>1. Былина – жанр:</dc:title>
</cp:coreProperties>
</file>