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3D3-F0FA-4EA8-A64D-81252668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26EA-94E7-41C6-B27E-1B728BD4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0748-C8EC-4054-99E4-A07B362E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CCA1-87EB-4206-A12A-BD6A71D5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A4ED-0FC3-4C76-8D30-5990ABE2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E6F5-E031-42AB-960E-606B1BF7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3E06-AD2E-4E9D-95AB-E4885C67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7AF3-3C6C-4086-A1E5-B6F589C9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B7C9-6FB4-4A15-B9F5-87CAE691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010B-86E7-481E-B0AE-AE6B03C0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39CD-E256-42FC-BF70-9580A824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915-614C-4F4B-895B-53D27750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072B-81A9-4D8C-B637-F9607C5A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E9C0-9597-499A-BFFE-A8192EFC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1DF5-7602-4785-A7B3-FCBEBCCB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6D25-7982-4101-BD2F-F3584071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F992-1FFE-4636-BD55-54F663C9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10B-A86A-4ABA-890B-47B1A233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058-B7B6-46E2-B59A-C34F0BA8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5373-2E47-4F60-86A9-C5F68749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92F-908C-4347-952C-C0C302FF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C139-3F31-460F-B651-DB4AAB16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57E-569B-40E4-BB67-43768B9A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E97-A5A0-45A4-91DB-CE4269B3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3722-DD0C-4B47-A468-26D2C5758E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F64C-8513-4C85-BFEC-53F2782DC800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ЫЛ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. Былина – жанр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 драм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) лирик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) эпос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2. Особенность былины </a:t>
            </a: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в том, что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 в ней изображена в обобщённых образах историческая реаль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) ей свойственная точная передача исторических фактов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) она рассказывает о мирном крестьянском труд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3. Богатыри посвящают свою жизнь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 утверждению собственной сил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) служению князю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) заботе о безопасности и величии роди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4. Типичный приём повествования в былинах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 развёрнутая характеристика герое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) лирическое отступлени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) трёхкратное повторение событ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369200" cy="26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Известно, что образы богатырей создавались в разное время. Выберите вариант, где богатыри перечислены начиная со старшего, заканчивая младш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3141360"/>
            <a:ext cx="701064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 Святогор, Илья Муромец, Садко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) Алёша Попович, Вольга, Василиса Микуличн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) Добрыня Никитич, Святогор, Илья Муромец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8840" cy="23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6. Словосочетания «чистое поле», «добрые кони», «красное солнце» содержат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2781360"/>
            <a:ext cx="701064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 сравнени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) эпитет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) постоянный эпит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296120" cy="35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. Отрывок из былины «Илья Муромец и Соловей-разбойник»: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го ли от из города из Муром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го села да Карачар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езжал удаленький дородный добрый молодец, 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вля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3573360"/>
            <a:ext cx="7010640" cy="24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 экспозици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) завязко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) эпилог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Ответы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640" y="190512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    2    3    4    5    6    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   а    в   в     а    в    а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6:22:20Z</dcterms:created>
  <dc:creator>Admin</dc:creator>
  <dc:description/>
  <dc:language>en-US</dc:language>
  <cp:lastModifiedBy>BK-3008</cp:lastModifiedBy>
  <dcterms:modified xsi:type="dcterms:W3CDTF">2018-12-11T03:25:19Z</dcterms:modified>
  <cp:revision>5</cp:revision>
  <dc:subject/>
  <dc:title>1. Былина – жанр:</dc:title>
</cp:coreProperties>
</file>