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2879-85A3-44E5-B1BE-3753B07D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51F2-A87B-4DCA-9457-BD65F272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477C-216F-4FAC-B365-72C7028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CB6B-CE1B-4E90-A7C4-E8B01317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BCA9-CF6B-4085-AAFC-890BB5F5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80DD-06A5-4A3F-8BC8-12F6FF5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4B38-0600-4B4C-A944-F0D80417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B561-26F9-4076-9558-906FB8D6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4E68-F993-4C5A-A711-8F07A466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9170-0072-4C7D-9E83-A822660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EDE5-308D-48D9-BE2D-01F5064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70FA-A770-43AA-BED3-5455948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BC9A-FEE5-4763-A04D-90F363F6C47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38120" y="2550600"/>
            <a:ext cx="388620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М. Е. Салтыков- Щедрин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«Повесть о том, как один мужик </a:t>
            </a:r>
            <a:br>
              <a:rPr sz="3600"/>
            </a:b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двух генералов прокормил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5257440"/>
            <a:ext cx="2773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Calibri"/>
              </a:rPr>
              <a:t>Литература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Calibri"/>
              </a:rPr>
              <a:t>7 класс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048120" cy="39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9. Пафос произведения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комическ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атирическ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ероический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10. Слово «повесть» в названии этого произведения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имеет значение «повествование»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указывает на жанр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не играет особой рол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тветы и оценки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1   2    3   4   5    6    7    8    9    10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   а    б   в   а    в    в    б    б     а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ценки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9-10 баллов = «5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7-8 баллов = «4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5-6 баллов = «3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1. Жанр произведения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рассказ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атирическая сказ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притч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2.«Повесть…» сближает с басней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аллегор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олицетворени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метафор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3. Тема «Повести…»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приключения бывших чиновников на необитаемом остров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критика пустых, никчемных, не приспособленных к жизни генералов и осуждение рабской покорности мужи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талант и трудолюбие мужика, способного выжить на остров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4. Мужик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глупый и невежественный работни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ленивый бездельни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талантливый человек, но раб в душ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5. Один из генералов был поумнее, потому что: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был в прошлом учителем каллиграфи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лужил в регистратур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читал газету «Московские ведомости»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6. Важную роль в «Повести…» играет: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сравнени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антитез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ротеск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7. Авторская позиция </a:t>
            </a:r>
            <a:br>
              <a:rPr sz="4000"/>
            </a:b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в отношении мужика выражается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в одобрении его поведен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в восхищении его талантам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в осуждении его за покорность и услужливость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5e47"/>
                </a:solidFill>
                <a:latin typeface="Cambria"/>
              </a:rPr>
              <a:t>8. «Вдруг оба генерала взглянули друг на друга: в глазах их светился зловещий огонь, зубы стучали, из груди вылетало глухое рычание. Они начали медленно подползать друг к другу и в одно мгновение ока остервенились». В этом эпизоде автор использовал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41907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антитезу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гротес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иперболу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K-3008</cp:lastModifiedBy>
  <dcterms:modified xsi:type="dcterms:W3CDTF">2016-05-25T07:43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