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F021-4E26-407D-89A8-DC294B67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2A7B-2E6E-4E90-8D7B-85A3ED14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7B53-503A-49FC-8C88-8FA00949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F59A-BC0A-4604-972D-C98ED032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91CC-3CCC-424C-8026-B62478D2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EF6A-5919-4F1E-8276-397F1D09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FF3B-9491-443B-AB58-819AB516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941E-101A-4334-B982-6BF963C9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C5A8-7C79-4240-A3A2-09E99FFE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02E9-4019-4BD5-8B05-17389856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97C4-9C1F-47EE-89A6-097A842A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90C7-4DEB-4F1C-B718-C4960240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A727-D7C6-4C59-BB02-68D3CF00F645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38120" y="2550600"/>
            <a:ext cx="388620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5e47"/>
                </a:solidFill>
                <a:latin typeface="Cambria"/>
              </a:rPr>
              <a:t>М. Е. Салтыков- Щедрин.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75e47"/>
                </a:solidFill>
                <a:latin typeface="Cambria"/>
              </a:rPr>
              <a:t>«Повесть о том, как один мужик </a:t>
            </a:r>
            <a:br>
              <a:rPr sz="3600"/>
            </a:br>
            <a:r>
              <a:rPr b="0" lang="ru-RU" sz="3600" spc="-1" strike="noStrike">
                <a:solidFill>
                  <a:srgbClr val="675e47"/>
                </a:solidFill>
                <a:latin typeface="Cambria"/>
              </a:rPr>
              <a:t>двух генералов прокормил»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5257440"/>
            <a:ext cx="27734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8d8c"/>
                </a:solidFill>
                <a:latin typeface="Calibri"/>
              </a:rPr>
              <a:t>Литература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e8d8c"/>
                </a:solidFill>
                <a:latin typeface="Calibri"/>
              </a:rPr>
              <a:t>7 класс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048120" cy="399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9. Пафос произведения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комический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сатирический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героический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5e47"/>
                </a:solidFill>
                <a:latin typeface="Cambria"/>
              </a:rPr>
              <a:t>10. Слово «повесть» в названии этого произведения: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имеет значение «повествование»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указывает на жанр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не играет особой роли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тветы и оценки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1   2    3   4   5    6    7    8    9    10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   а    б   в   а    в    в    б    б     а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Оценки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9-10 баллов = «5»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7-8 баллов = «4»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5-6 баллов = «3»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1. Жанр произведения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рассказ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сатирическая сказка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притча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5e47"/>
                </a:solidFill>
                <a:latin typeface="Cambria"/>
              </a:rPr>
              <a:t>2.«Повесть…» сближает с басней: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аллегория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олицетворение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метафора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3. Тема «Повести…»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приключения бывших чиновников на необитаемом острове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критика пустых, никчемных, не приспособленных к жизни генералов и осуждение рабской покорности мужика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талант и трудолюбие мужика, способного выжить на острове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4. Мужик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глупый и невежественный работник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ленивый бездельник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талантливый человек, но раб в душе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5e47"/>
                </a:solidFill>
                <a:latin typeface="Cambria"/>
              </a:rPr>
              <a:t>5. Один из генералов был поумнее, потому что: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был в прошлом учителем каллиграфии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служил в регистратуре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читал газету «Московские ведомости»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5e47"/>
                </a:solidFill>
                <a:latin typeface="Cambria"/>
              </a:rPr>
              <a:t>6. Важную роль в «Повести…» играет: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сравнение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антитеза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гротеск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5e47"/>
                </a:solidFill>
                <a:latin typeface="Cambria"/>
              </a:rPr>
              <a:t>7. Авторская позиция </a:t>
            </a:r>
            <a:br>
              <a:rPr sz="4000"/>
            </a:br>
            <a:r>
              <a:rPr b="0" lang="ru-RU" sz="4000" spc="-1" strike="noStrike">
                <a:solidFill>
                  <a:srgbClr val="675e47"/>
                </a:solidFill>
                <a:latin typeface="Cambria"/>
              </a:rPr>
              <a:t>в отношении мужика выражается: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в одобрении его поведения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в восхищении его талантами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в осуждении его за покорность и услужливость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5e47"/>
                </a:solidFill>
                <a:latin typeface="Cambria"/>
              </a:rPr>
              <a:t>8. «Вдруг оба генерала взглянули друг на друга: в глазах их светился зловещий огонь, зубы стучали, из груди вылетало глухое рычание. Они начали медленно подползать друг к другу и в одно мгновение ока остервенились». В этом эпизоде автор использовал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440" y="41907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А. антитезу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Б. гротеск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. гиперболу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K-3008</cp:lastModifiedBy>
  <dcterms:modified xsi:type="dcterms:W3CDTF">2016-05-25T07:43:1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