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C0A5-5842-4B18-B8F2-4DC9481B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97D-9722-413A-92AE-045B1FA8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05E3-56D1-40A5-9340-447586E9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7D1-940D-44BF-8418-346B730F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0BB-F1D9-4F9D-964D-3BC216EE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644-8A7D-4CDD-BE58-BEC34DAC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E43-77EA-47DC-B791-98424F48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F11-E71B-442E-A432-BF304B7A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7C8-B757-4B76-9D5F-AA27340A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581-C21A-4F73-B376-C5FD5948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586-E7E5-41C5-9A9F-EF540A17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A8E-1FD6-46E5-9211-A8AA1372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3E29-E62A-4B0E-8FF0-9B53366721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oodoo.ru/smiles/anim4/index04.htm" TargetMode="External"/><Relationship Id="rId2" Type="http://schemas.openxmlformats.org/officeDocument/2006/relationships/hyperlink" Target="http://www.webazbuka.com/smayliki9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нажер по теме «Словообразова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4720" y="5013000"/>
            <a:ext cx="44640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Выполнила учитель русского языка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литературы МОУ Воздвиженской С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Ольнева Наталья Юр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684360" y="260280"/>
            <a:ext cx="8064360" cy="86508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Укажите предложение с наречием в прос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сравнительной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539640" y="2565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Иван смеялся громче и веселее все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39640" y="3573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 этот раз Саша выполнила работу более акку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39640" y="4581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 родине и солнце теплее, и трава зеле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539640" y="558972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олны все яростнее бились о бер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"/>
          <p:cNvGrpSpPr/>
          <p:nvPr/>
        </p:nvGrpSpPr>
        <p:grpSpPr>
          <a:xfrm>
            <a:off x="1042920" y="1341360"/>
            <a:ext cx="3024360" cy="1008000"/>
            <a:chOff x="1042920" y="1341360"/>
            <a:chExt cx="3024360" cy="1008000"/>
          </a:xfrm>
        </p:grpSpPr>
        <p:sp>
          <p:nvSpPr>
            <p:cNvPr id="152" name="AutoShape 10"/>
            <p:cNvSpPr/>
            <p:nvPr/>
          </p:nvSpPr>
          <p:spPr>
            <a:xfrm>
              <a:off x="1042920" y="1341360"/>
              <a:ext cx="302436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ОДУМ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11" descr="big_smiles_6"/>
            <p:cNvPicPr/>
            <p:nvPr/>
          </p:nvPicPr>
          <p:blipFill>
            <a:blip r:embed="rId1"/>
            <a:stretch/>
          </p:blipFill>
          <p:spPr>
            <a:xfrm>
              <a:off x="1113840" y="1480680"/>
              <a:ext cx="1125360" cy="77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12"/>
          <p:cNvGrpSpPr/>
          <p:nvPr/>
        </p:nvGrpSpPr>
        <p:grpSpPr>
          <a:xfrm>
            <a:off x="5580000" y="1341360"/>
            <a:ext cx="3027600" cy="1008000"/>
            <a:chOff x="5580000" y="1341360"/>
            <a:chExt cx="3027600" cy="1008000"/>
          </a:xfrm>
        </p:grpSpPr>
        <p:sp>
          <p:nvSpPr>
            <p:cNvPr id="155" name="AutoShape 13"/>
            <p:cNvSpPr/>
            <p:nvPr/>
          </p:nvSpPr>
          <p:spPr>
            <a:xfrm>
              <a:off x="5580000" y="134136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РА! ВЕР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14" descr="super_smilies086"/>
            <p:cNvPicPr/>
            <p:nvPr/>
          </p:nvPicPr>
          <p:blipFill>
            <a:blip r:embed="rId2"/>
            <a:stretch/>
          </p:blipFill>
          <p:spPr>
            <a:xfrm>
              <a:off x="5721120" y="1409400"/>
              <a:ext cx="935640" cy="86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826920" y="333360"/>
            <a:ext cx="7417080" cy="79200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все наречия пишутся слитно с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НЕ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611280" y="2565360"/>
            <a:ext cx="8208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не)допустимо резкий тон; решение ничуть (не) продума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ехать (не)ожида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539640" y="4581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твечать  (не)уверенно; держаться (не)возмутим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не)медленно принять 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539640" y="3573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не)истово сопротивляться; рисовать (не)хуже друг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писать (не)акку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539640" y="551664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не)безынтересно отметить; произошло (не)случай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ести себя (не)принужд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"/>
          <p:cNvGrpSpPr/>
          <p:nvPr/>
        </p:nvGrpSpPr>
        <p:grpSpPr>
          <a:xfrm>
            <a:off x="755640" y="1341360"/>
            <a:ext cx="3027240" cy="1008000"/>
            <a:chOff x="755640" y="1341360"/>
            <a:chExt cx="3027240" cy="1008000"/>
          </a:xfrm>
        </p:grpSpPr>
        <p:sp>
          <p:nvSpPr>
            <p:cNvPr id="163" name="AutoShape 10"/>
            <p:cNvSpPr/>
            <p:nvPr/>
          </p:nvSpPr>
          <p:spPr>
            <a:xfrm>
              <a:off x="755640" y="134136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ЫУЧ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АВИЛ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1" descr="super_smilies012"/>
            <p:cNvPicPr/>
            <p:nvPr/>
          </p:nvPicPr>
          <p:blipFill>
            <a:blip r:embed="rId1"/>
            <a:stretch/>
          </p:blipFill>
          <p:spPr>
            <a:xfrm>
              <a:off x="900000" y="1414080"/>
              <a:ext cx="1077480" cy="89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12"/>
          <p:cNvGrpSpPr/>
          <p:nvPr/>
        </p:nvGrpSpPr>
        <p:grpSpPr>
          <a:xfrm>
            <a:off x="5076720" y="1341360"/>
            <a:ext cx="3027600" cy="1008000"/>
            <a:chOff x="5076720" y="1341360"/>
            <a:chExt cx="3027600" cy="1008000"/>
          </a:xfrm>
        </p:grpSpPr>
        <p:sp>
          <p:nvSpPr>
            <p:cNvPr id="166" name="AutoShape 13"/>
            <p:cNvSpPr/>
            <p:nvPr/>
          </p:nvSpPr>
          <p:spPr>
            <a:xfrm>
              <a:off x="5076720" y="134136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ТЛИЧ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4" descr="big_smiles_1"/>
            <p:cNvPicPr/>
            <p:nvPr/>
          </p:nvPicPr>
          <p:blipFill>
            <a:blip r:embed="rId2"/>
            <a:stretch/>
          </p:blipFill>
          <p:spPr>
            <a:xfrm>
              <a:off x="5147640" y="1476000"/>
              <a:ext cx="93096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5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755640" y="333360"/>
            <a:ext cx="7704000" cy="79200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все наречия имеют приставк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468360" y="2637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…где  не встречались; н…как не мог поня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…когда не пла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468360" y="3645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…куда не послал; н…когда приехать; н…почем не за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468360" y="4653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…чуть не растерялся; н…откуда не приходят пись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яблоку н…где уп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468360" y="566100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…куда пойти; н…сколько не беспокоился; н…откуда ж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826920" y="1341360"/>
            <a:ext cx="3027600" cy="1008000"/>
            <a:chOff x="826920" y="1341360"/>
            <a:chExt cx="3027600" cy="1008000"/>
          </a:xfrm>
        </p:grpSpPr>
        <p:sp>
          <p:nvSpPr>
            <p:cNvPr id="174" name="AutoShape 11"/>
            <p:cNvSpPr/>
            <p:nvPr/>
          </p:nvSpPr>
          <p:spPr>
            <a:xfrm>
              <a:off x="826920" y="134136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й-ай-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шибочк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12" descr="super_smilies058"/>
            <p:cNvPicPr/>
            <p:nvPr/>
          </p:nvPicPr>
          <p:blipFill>
            <a:blip r:embed="rId1"/>
            <a:stretch/>
          </p:blipFill>
          <p:spPr>
            <a:xfrm>
              <a:off x="968040" y="1544040"/>
              <a:ext cx="845640" cy="6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Group 13"/>
          <p:cNvGrpSpPr/>
          <p:nvPr/>
        </p:nvGrpSpPr>
        <p:grpSpPr>
          <a:xfrm>
            <a:off x="5292720" y="1341360"/>
            <a:ext cx="3027240" cy="1008000"/>
            <a:chOff x="5292720" y="1341360"/>
            <a:chExt cx="3027240" cy="1008000"/>
          </a:xfrm>
        </p:grpSpPr>
        <p:sp>
          <p:nvSpPr>
            <p:cNvPr id="177" name="AutoShape 14"/>
            <p:cNvSpPr/>
            <p:nvPr/>
          </p:nvSpPr>
          <p:spPr>
            <a:xfrm>
              <a:off x="5292720" y="134136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РА! ВЕР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15" descr="super_smilies086"/>
            <p:cNvPicPr/>
            <p:nvPr/>
          </p:nvPicPr>
          <p:blipFill>
            <a:blip r:embed="rId2"/>
            <a:stretch/>
          </p:blipFill>
          <p:spPr>
            <a:xfrm>
              <a:off x="5433480" y="1409400"/>
              <a:ext cx="935640" cy="86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0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0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2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611280" y="189000"/>
            <a:ext cx="8064360" cy="93636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все наречия пишутся 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в суффик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468360" y="2565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осторже…о улыбаться; ответить сдержа…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ыполнить аккурат…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468360" y="3573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легче…о вздохнуть, беше…о мчаться; рассея…о слуш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468360" y="4581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едле…о ехать; на душе тревож…о; на улице пусты…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468360" y="558972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осмотрел удивле…о; дела…о улыбнулся; искре…е ответ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9"/>
          <p:cNvGrpSpPr/>
          <p:nvPr/>
        </p:nvGrpSpPr>
        <p:grpSpPr>
          <a:xfrm>
            <a:off x="5292720" y="1197000"/>
            <a:ext cx="3027240" cy="1008000"/>
            <a:chOff x="5292720" y="1197000"/>
            <a:chExt cx="3027240" cy="1008000"/>
          </a:xfrm>
        </p:grpSpPr>
        <p:sp>
          <p:nvSpPr>
            <p:cNvPr id="185" name="AutoShape 10"/>
            <p:cNvSpPr/>
            <p:nvPr/>
          </p:nvSpPr>
          <p:spPr>
            <a:xfrm>
              <a:off x="5292720" y="119700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ТЛИЧ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Picture 11" descr="big_smiles_1"/>
            <p:cNvPicPr/>
            <p:nvPr/>
          </p:nvPicPr>
          <p:blipFill>
            <a:blip r:embed="rId1"/>
            <a:stretch/>
          </p:blipFill>
          <p:spPr>
            <a:xfrm>
              <a:off x="5363640" y="1331640"/>
              <a:ext cx="930960" cy="80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12"/>
          <p:cNvGrpSpPr/>
          <p:nvPr/>
        </p:nvGrpSpPr>
        <p:grpSpPr>
          <a:xfrm>
            <a:off x="1116000" y="1197000"/>
            <a:ext cx="3024360" cy="1008000"/>
            <a:chOff x="1116000" y="1197000"/>
            <a:chExt cx="3024360" cy="1008000"/>
          </a:xfrm>
        </p:grpSpPr>
        <p:sp>
          <p:nvSpPr>
            <p:cNvPr id="188" name="AutoShape 13"/>
            <p:cNvSpPr/>
            <p:nvPr/>
          </p:nvSpPr>
          <p:spPr>
            <a:xfrm>
              <a:off x="1116000" y="1197000"/>
              <a:ext cx="302436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ОДУМ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14" descr="big_smiles_6"/>
            <p:cNvPicPr/>
            <p:nvPr/>
          </p:nvPicPr>
          <p:blipFill>
            <a:blip r:embed="rId2"/>
            <a:stretch/>
          </p:blipFill>
          <p:spPr>
            <a:xfrm>
              <a:off x="1186920" y="1336320"/>
              <a:ext cx="1125360" cy="77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7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9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826920" y="260280"/>
            <a:ext cx="7777440" cy="93672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во всех наречиях после шипя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ишется суффик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468360" y="270828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твечать блестящ…; утром еще свеж…; хорош… дыш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468360" y="371628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реветь угрожающ…; горяч…спорить; ещ… прин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468360" y="472428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излагать общ…; звучит убаюкавающ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рассказывать волнующ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468360" y="573408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двигаться неуклюж…; говорить певуч…; сверкнуть зловещ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826920" y="1341360"/>
            <a:ext cx="3027600" cy="1008000"/>
            <a:chOff x="826920" y="1341360"/>
            <a:chExt cx="3027600" cy="1008000"/>
          </a:xfrm>
        </p:grpSpPr>
        <p:sp>
          <p:nvSpPr>
            <p:cNvPr id="196" name="AutoShape 10"/>
            <p:cNvSpPr/>
            <p:nvPr/>
          </p:nvSpPr>
          <p:spPr>
            <a:xfrm>
              <a:off x="826920" y="134136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й-ай-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шибочк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11" descr="super_smilies058"/>
            <p:cNvPicPr/>
            <p:nvPr/>
          </p:nvPicPr>
          <p:blipFill>
            <a:blip r:embed="rId1"/>
            <a:stretch/>
          </p:blipFill>
          <p:spPr>
            <a:xfrm>
              <a:off x="968040" y="1544040"/>
              <a:ext cx="845640" cy="6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Group 12"/>
          <p:cNvGrpSpPr/>
          <p:nvPr/>
        </p:nvGrpSpPr>
        <p:grpSpPr>
          <a:xfrm>
            <a:off x="5003640" y="1341360"/>
            <a:ext cx="3027600" cy="1008000"/>
            <a:chOff x="5003640" y="1341360"/>
            <a:chExt cx="3027600" cy="1008000"/>
          </a:xfrm>
        </p:grpSpPr>
        <p:sp>
          <p:nvSpPr>
            <p:cNvPr id="199" name="AutoShape 13"/>
            <p:cNvSpPr/>
            <p:nvPr/>
          </p:nvSpPr>
          <p:spPr>
            <a:xfrm>
              <a:off x="5003640" y="134136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РА! ВЕР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14" descr="super_smilies086"/>
            <p:cNvPicPr/>
            <p:nvPr/>
          </p:nvPicPr>
          <p:blipFill>
            <a:blip r:embed="rId2"/>
            <a:stretch/>
          </p:blipFill>
          <p:spPr>
            <a:xfrm>
              <a:off x="5144760" y="1409400"/>
              <a:ext cx="935640" cy="86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2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6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539640" y="260280"/>
            <a:ext cx="8209080" cy="108108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во всех наречиях пишется суффик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68360" y="1773360"/>
            <a:ext cx="3672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прав…, запрост…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крепк…, справ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468360" y="2924280"/>
            <a:ext cx="3672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изжелт…, добел…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засветл…, издавн…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539640" y="4005360"/>
            <a:ext cx="3672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чист…, насух…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затемн…, доверчи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39640" y="5229360"/>
            <a:ext cx="3672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лев…, досыт…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задолг…, запрост…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5219640" y="2276640"/>
            <a:ext cx="3027600" cy="1008000"/>
            <a:chOff x="5219640" y="2276640"/>
            <a:chExt cx="3027600" cy="1008000"/>
          </a:xfrm>
        </p:grpSpPr>
        <p:sp>
          <p:nvSpPr>
            <p:cNvPr id="207" name="AutoShape 11"/>
            <p:cNvSpPr/>
            <p:nvPr/>
          </p:nvSpPr>
          <p:spPr>
            <a:xfrm>
              <a:off x="5219640" y="227664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й-ай-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шибочк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12" descr="super_smilies058"/>
            <p:cNvPicPr/>
            <p:nvPr/>
          </p:nvPicPr>
          <p:blipFill>
            <a:blip r:embed="rId1"/>
            <a:stretch/>
          </p:blipFill>
          <p:spPr>
            <a:xfrm>
              <a:off x="5360760" y="2479320"/>
              <a:ext cx="845640" cy="6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3"/>
          <p:cNvGrpSpPr/>
          <p:nvPr/>
        </p:nvGrpSpPr>
        <p:grpSpPr>
          <a:xfrm>
            <a:off x="5292720" y="3860640"/>
            <a:ext cx="3027240" cy="1008360"/>
            <a:chOff x="5292720" y="3860640"/>
            <a:chExt cx="3027240" cy="1008360"/>
          </a:xfrm>
        </p:grpSpPr>
        <p:sp>
          <p:nvSpPr>
            <p:cNvPr id="210" name="AutoShape 14"/>
            <p:cNvSpPr/>
            <p:nvPr/>
          </p:nvSpPr>
          <p:spPr>
            <a:xfrm>
              <a:off x="5292720" y="3860640"/>
              <a:ext cx="302724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МОЛОДЕЦ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15" descr="big_smiles_31"/>
            <p:cNvPicPr/>
            <p:nvPr/>
          </p:nvPicPr>
          <p:blipFill>
            <a:blip r:embed="rId2"/>
            <a:stretch/>
          </p:blipFill>
          <p:spPr>
            <a:xfrm>
              <a:off x="5363640" y="3927240"/>
              <a:ext cx="914040" cy="87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5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7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9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7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755640" y="260280"/>
            <a:ext cx="7848720" cy="64764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все наречия пишутся через дефи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468360" y="2565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по)вашему, (по)пусту, (по)английски; в(пятых); (кое)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468360" y="3573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по)лисьи, (едва)едва), бок (о) бок, когда (нибуд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468360" y="4581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давным (давно), (по)весеннему; все (таки), точь (в) то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468360" y="566100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куда(то), (по)прежнему, куда (либо), (честь)че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755640" y="1197000"/>
            <a:ext cx="3027240" cy="1008000"/>
            <a:chOff x="755640" y="1197000"/>
            <a:chExt cx="3027240" cy="1008000"/>
          </a:xfrm>
        </p:grpSpPr>
        <p:sp>
          <p:nvSpPr>
            <p:cNvPr id="218" name="AutoShape 10"/>
            <p:cNvSpPr/>
            <p:nvPr/>
          </p:nvSpPr>
          <p:spPr>
            <a:xfrm>
              <a:off x="755640" y="119700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ЫУЧ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АВИЛ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1" descr="super_smilies012"/>
            <p:cNvPicPr/>
            <p:nvPr/>
          </p:nvPicPr>
          <p:blipFill>
            <a:blip r:embed="rId1"/>
            <a:stretch/>
          </p:blipFill>
          <p:spPr>
            <a:xfrm>
              <a:off x="900000" y="1269720"/>
              <a:ext cx="1077480" cy="89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12"/>
          <p:cNvGrpSpPr/>
          <p:nvPr/>
        </p:nvGrpSpPr>
        <p:grpSpPr>
          <a:xfrm>
            <a:off x="5219640" y="1197000"/>
            <a:ext cx="3027600" cy="1008000"/>
            <a:chOff x="5219640" y="1197000"/>
            <a:chExt cx="3027600" cy="1008000"/>
          </a:xfrm>
        </p:grpSpPr>
        <p:sp>
          <p:nvSpPr>
            <p:cNvPr id="221" name="AutoShape 13"/>
            <p:cNvSpPr/>
            <p:nvPr/>
          </p:nvSpPr>
          <p:spPr>
            <a:xfrm>
              <a:off x="5219640" y="119700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ТЛИЧ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14" descr="big_smiles_1"/>
            <p:cNvPicPr/>
            <p:nvPr/>
          </p:nvPicPr>
          <p:blipFill>
            <a:blip r:embed="rId2"/>
            <a:stretch/>
          </p:blipFill>
          <p:spPr>
            <a:xfrm>
              <a:off x="5290560" y="1331640"/>
              <a:ext cx="93096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0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2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2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684360" y="333360"/>
            <a:ext cx="8064360" cy="79200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все наречия и наречны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ишутся слит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468360" y="2637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на)всегда, (в)догонку, (в)трое, (в)плот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68360" y="3645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поза)вчера, (на)мертво, (по)одному, (не)вдом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468360" y="4653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до)тла, (на)прокат, (на)авось, (в)пе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468360" y="566100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в)рассрочку, (по)долгу, (в)попыхах, (за)полно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1258920" y="1341360"/>
            <a:ext cx="3024000" cy="1008000"/>
            <a:chOff x="1258920" y="1341360"/>
            <a:chExt cx="3024000" cy="1008000"/>
          </a:xfrm>
        </p:grpSpPr>
        <p:sp>
          <p:nvSpPr>
            <p:cNvPr id="229" name="AutoShape 10"/>
            <p:cNvSpPr/>
            <p:nvPr/>
          </p:nvSpPr>
          <p:spPr>
            <a:xfrm>
              <a:off x="1258920" y="1341360"/>
              <a:ext cx="30240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ОДУМ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11" descr="big_smiles_6"/>
            <p:cNvPicPr/>
            <p:nvPr/>
          </p:nvPicPr>
          <p:blipFill>
            <a:blip r:embed="rId1"/>
            <a:stretch/>
          </p:blipFill>
          <p:spPr>
            <a:xfrm>
              <a:off x="1329840" y="1480680"/>
              <a:ext cx="1125360" cy="77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12"/>
          <p:cNvGrpSpPr/>
          <p:nvPr/>
        </p:nvGrpSpPr>
        <p:grpSpPr>
          <a:xfrm>
            <a:off x="5292720" y="1341360"/>
            <a:ext cx="3027240" cy="1008000"/>
            <a:chOff x="5292720" y="1341360"/>
            <a:chExt cx="3027240" cy="1008000"/>
          </a:xfrm>
        </p:grpSpPr>
        <p:sp>
          <p:nvSpPr>
            <p:cNvPr id="232" name="AutoShape 13"/>
            <p:cNvSpPr/>
            <p:nvPr/>
          </p:nvSpPr>
          <p:spPr>
            <a:xfrm>
              <a:off x="5292720" y="134136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МОЛОДЕЦ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14" descr="big_smiles_31"/>
            <p:cNvPicPr/>
            <p:nvPr/>
          </p:nvPicPr>
          <p:blipFill>
            <a:blip r:embed="rId2"/>
            <a:stretch/>
          </p:blipFill>
          <p:spPr>
            <a:xfrm>
              <a:off x="5363640" y="1407960"/>
              <a:ext cx="914040" cy="87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5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3" dur="2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5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7" dur="2000" fill="hold"/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"/>
          <p:cNvGrpSpPr/>
          <p:nvPr/>
        </p:nvGrpSpPr>
        <p:grpSpPr>
          <a:xfrm>
            <a:off x="971640" y="1197000"/>
            <a:ext cx="3027240" cy="1008000"/>
            <a:chOff x="971640" y="1197000"/>
            <a:chExt cx="3027240" cy="1008000"/>
          </a:xfrm>
        </p:grpSpPr>
        <p:sp>
          <p:nvSpPr>
            <p:cNvPr id="235" name="AutoShape 5"/>
            <p:cNvSpPr/>
            <p:nvPr/>
          </p:nvSpPr>
          <p:spPr>
            <a:xfrm>
              <a:off x="971640" y="119700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ЫУЧ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АВИЛ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6" descr="super_smilies012"/>
            <p:cNvPicPr/>
            <p:nvPr/>
          </p:nvPicPr>
          <p:blipFill>
            <a:blip r:embed="rId1"/>
            <a:stretch/>
          </p:blipFill>
          <p:spPr>
            <a:xfrm>
              <a:off x="1116000" y="1269720"/>
              <a:ext cx="1077480" cy="89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Rectangle 7"/>
          <p:cNvSpPr/>
          <p:nvPr/>
        </p:nvSpPr>
        <p:spPr>
          <a:xfrm>
            <a:off x="468360" y="260280"/>
            <a:ext cx="8207280" cy="79236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в состав словосочетаний входят нареч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ишущиеся  слит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539640" y="2421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на)встречу ветру; (с)начала весны; посмотреть (в)ве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539640" y="350028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говорить (в) разнобой; уйти (в)глуб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тоял (на)верху лестн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539640" y="4581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делать (ис)подтишка; действовать (на)удач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во)время предупред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539640" y="558972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бросились (в)рассыпную; взмыл (в)выс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в)век Просв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2"/>
          <p:cNvGrpSpPr/>
          <p:nvPr/>
        </p:nvGrpSpPr>
        <p:grpSpPr>
          <a:xfrm>
            <a:off x="5003640" y="1197000"/>
            <a:ext cx="3027600" cy="1008000"/>
            <a:chOff x="5003640" y="1197000"/>
            <a:chExt cx="3027600" cy="1008000"/>
          </a:xfrm>
        </p:grpSpPr>
        <p:sp>
          <p:nvSpPr>
            <p:cNvPr id="243" name="AutoShape 13"/>
            <p:cNvSpPr/>
            <p:nvPr/>
          </p:nvSpPr>
          <p:spPr>
            <a:xfrm>
              <a:off x="5003640" y="119700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РА! ВЕР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14" descr="super_smilies086"/>
            <p:cNvPicPr/>
            <p:nvPr/>
          </p:nvPicPr>
          <p:blipFill>
            <a:blip r:embed="rId2"/>
            <a:stretch/>
          </p:blipFill>
          <p:spPr>
            <a:xfrm>
              <a:off x="5144760" y="1265040"/>
              <a:ext cx="935640" cy="86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0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2" dur="2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4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2" dur="2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8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езентации использовались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данова Г.А. Уроки русского языка в 7 классе. Кн.для учителя: Из опыта работы.- М.: Просвещение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злова Р.П., Чеснокова Н.В. Тесты по русскому языку: 5-7 классы. - М.: ВАКО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язык: учебник для 7 кл. общеобразоват. Учреждений/ М.Т.Баранов, Т.А.Ладыженская, Л.А.Тростенцова и др. – 27 изд.- М.: Просвещение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oodoo.ru/smiles/anim4/index04.ht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коллекция смайл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ebazbuka.com/smayliki9.ht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май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50920" y="981000"/>
            <a:ext cx="8424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се задания имеют четыре варианта ответов. Из них только один ответ правильный. Его и нужно най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Если ты ответил правильно, ты увидишь  довольного смайл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Если ты ошибся, то смайлики так же сообщат тебе об этом своим появл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е огорчайся, подумай ещё, не торопи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ереход к новому слайду – по щел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Удачи тебе, дорогой друг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авила пользования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971640" y="2133720"/>
            <a:ext cx="1655640" cy="576000"/>
            <a:chOff x="971640" y="2133720"/>
            <a:chExt cx="1655640" cy="576000"/>
          </a:xfrm>
        </p:grpSpPr>
        <p:sp>
          <p:nvSpPr>
            <p:cNvPr id="46" name="AutoShape 7"/>
            <p:cNvSpPr/>
            <p:nvPr/>
          </p:nvSpPr>
          <p:spPr>
            <a:xfrm>
              <a:off x="971640" y="2133720"/>
              <a:ext cx="1655640" cy="57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8000"/>
                  </a:solidFill>
                  <a:latin typeface="Arial"/>
                </a:rPr>
                <a:t>ОТЛИЧНО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8" descr="big_smiles_1"/>
            <p:cNvPicPr/>
            <p:nvPr/>
          </p:nvPicPr>
          <p:blipFill>
            <a:blip r:embed="rId1"/>
            <a:stretch/>
          </p:blipFill>
          <p:spPr>
            <a:xfrm>
              <a:off x="1010160" y="2210760"/>
              <a:ext cx="509040" cy="45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9"/>
          <p:cNvGrpSpPr/>
          <p:nvPr/>
        </p:nvGrpSpPr>
        <p:grpSpPr>
          <a:xfrm>
            <a:off x="468360" y="3429000"/>
            <a:ext cx="1871640" cy="649440"/>
            <a:chOff x="468360" y="3429000"/>
            <a:chExt cx="1871640" cy="649440"/>
          </a:xfrm>
        </p:grpSpPr>
        <p:sp>
          <p:nvSpPr>
            <p:cNvPr id="49" name="AutoShape 10"/>
            <p:cNvSpPr/>
            <p:nvPr/>
          </p:nvSpPr>
          <p:spPr>
            <a:xfrm>
              <a:off x="468360" y="3429000"/>
              <a:ext cx="1871640" cy="649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ОДУМАЙ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1" descr="big_smiles_6"/>
            <p:cNvPicPr/>
            <p:nvPr/>
          </p:nvPicPr>
          <p:blipFill>
            <a:blip r:embed="rId2"/>
            <a:stretch/>
          </p:blipFill>
          <p:spPr>
            <a:xfrm>
              <a:off x="512280" y="3518640"/>
              <a:ext cx="696600" cy="49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2"/>
          <p:cNvGrpSpPr/>
          <p:nvPr/>
        </p:nvGrpSpPr>
        <p:grpSpPr>
          <a:xfrm>
            <a:off x="2556000" y="3429000"/>
            <a:ext cx="1871640" cy="649440"/>
            <a:chOff x="2556000" y="3429000"/>
            <a:chExt cx="1871640" cy="649440"/>
          </a:xfrm>
        </p:grpSpPr>
        <p:sp>
          <p:nvSpPr>
            <p:cNvPr id="52" name="AutoShape 13"/>
            <p:cNvSpPr/>
            <p:nvPr/>
          </p:nvSpPr>
          <p:spPr>
            <a:xfrm>
              <a:off x="2556000" y="3429000"/>
              <a:ext cx="1871640" cy="649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ОШИБКА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14" descr="big_smiles_275"/>
            <p:cNvPicPr/>
            <p:nvPr/>
          </p:nvPicPr>
          <p:blipFill>
            <a:blip r:embed="rId3"/>
            <a:stretch/>
          </p:blipFill>
          <p:spPr>
            <a:xfrm>
              <a:off x="2599200" y="3472920"/>
              <a:ext cx="632880" cy="51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15"/>
          <p:cNvGrpSpPr/>
          <p:nvPr/>
        </p:nvGrpSpPr>
        <p:grpSpPr>
          <a:xfrm>
            <a:off x="2987640" y="2133720"/>
            <a:ext cx="1800360" cy="574560"/>
            <a:chOff x="2987640" y="2133720"/>
            <a:chExt cx="1800360" cy="574560"/>
          </a:xfrm>
        </p:grpSpPr>
        <p:sp>
          <p:nvSpPr>
            <p:cNvPr id="55" name="AutoShape 16"/>
            <p:cNvSpPr/>
            <p:nvPr/>
          </p:nvSpPr>
          <p:spPr>
            <a:xfrm>
              <a:off x="2987640" y="2133720"/>
              <a:ext cx="1800360" cy="57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8000"/>
                  </a:solidFill>
                  <a:latin typeface="Arial"/>
                </a:rPr>
                <a:t>МОЛОДЕЦ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7" descr="big_smiles_31"/>
            <p:cNvPicPr/>
            <p:nvPr/>
          </p:nvPicPr>
          <p:blipFill>
            <a:blip r:embed="rId4"/>
            <a:stretch/>
          </p:blipFill>
          <p:spPr>
            <a:xfrm>
              <a:off x="3029760" y="2171520"/>
              <a:ext cx="543600" cy="49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18"/>
          <p:cNvGrpSpPr/>
          <p:nvPr/>
        </p:nvGrpSpPr>
        <p:grpSpPr>
          <a:xfrm>
            <a:off x="4572000" y="3429000"/>
            <a:ext cx="2016000" cy="647640"/>
            <a:chOff x="4572000" y="3429000"/>
            <a:chExt cx="2016000" cy="647640"/>
          </a:xfrm>
        </p:grpSpPr>
        <p:sp>
          <p:nvSpPr>
            <p:cNvPr id="58" name="AutoShape 19"/>
            <p:cNvSpPr/>
            <p:nvPr/>
          </p:nvSpPr>
          <p:spPr>
            <a:xfrm>
              <a:off x="4572000" y="3429000"/>
              <a:ext cx="201600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Ай-ай-ай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Ошибочка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20" descr="super_smilies058"/>
            <p:cNvPicPr/>
            <p:nvPr/>
          </p:nvPicPr>
          <p:blipFill>
            <a:blip r:embed="rId5"/>
            <a:stretch/>
          </p:blipFill>
          <p:spPr>
            <a:xfrm>
              <a:off x="4665960" y="3559320"/>
              <a:ext cx="56304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oup 21"/>
          <p:cNvGrpSpPr/>
          <p:nvPr/>
        </p:nvGrpSpPr>
        <p:grpSpPr>
          <a:xfrm>
            <a:off x="5219640" y="2133720"/>
            <a:ext cx="1657440" cy="574560"/>
            <a:chOff x="5219640" y="2133720"/>
            <a:chExt cx="1657440" cy="574560"/>
          </a:xfrm>
        </p:grpSpPr>
        <p:sp>
          <p:nvSpPr>
            <p:cNvPr id="61" name="AutoShape 22"/>
            <p:cNvSpPr/>
            <p:nvPr/>
          </p:nvSpPr>
          <p:spPr>
            <a:xfrm>
              <a:off x="5219640" y="2133720"/>
              <a:ext cx="1657440" cy="57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8000"/>
                  </a:solidFill>
                  <a:latin typeface="Arial"/>
                </a:rPr>
                <a:t>УМНИЦА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23" descr="big_smiles_71"/>
            <p:cNvPicPr/>
            <p:nvPr/>
          </p:nvPicPr>
          <p:blipFill>
            <a:blip r:embed="rId6"/>
            <a:stretch/>
          </p:blipFill>
          <p:spPr>
            <a:xfrm>
              <a:off x="5295960" y="2185200"/>
              <a:ext cx="501120" cy="48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Group 24"/>
          <p:cNvGrpSpPr/>
          <p:nvPr/>
        </p:nvGrpSpPr>
        <p:grpSpPr>
          <a:xfrm>
            <a:off x="6804000" y="3429000"/>
            <a:ext cx="2089080" cy="647640"/>
            <a:chOff x="6804000" y="3429000"/>
            <a:chExt cx="2089080" cy="647640"/>
          </a:xfrm>
        </p:grpSpPr>
        <p:sp>
          <p:nvSpPr>
            <p:cNvPr id="64" name="AutoShape 25"/>
            <p:cNvSpPr/>
            <p:nvPr/>
          </p:nvSpPr>
          <p:spPr>
            <a:xfrm>
              <a:off x="6804000" y="3429000"/>
              <a:ext cx="208908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УЧ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АВИЛО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26" descr="super_smilies012"/>
            <p:cNvPicPr/>
            <p:nvPr/>
          </p:nvPicPr>
          <p:blipFill>
            <a:blip r:embed="rId7"/>
            <a:stretch/>
          </p:blipFill>
          <p:spPr>
            <a:xfrm>
              <a:off x="6903720" y="3475800"/>
              <a:ext cx="743760" cy="57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16"/>
          <p:cNvGrpSpPr/>
          <p:nvPr/>
        </p:nvGrpSpPr>
        <p:grpSpPr>
          <a:xfrm>
            <a:off x="826920" y="1125360"/>
            <a:ext cx="3024360" cy="1008360"/>
            <a:chOff x="826920" y="1125360"/>
            <a:chExt cx="3024360" cy="1008360"/>
          </a:xfrm>
        </p:grpSpPr>
        <p:sp>
          <p:nvSpPr>
            <p:cNvPr id="67" name="AutoShape 14"/>
            <p:cNvSpPr/>
            <p:nvPr/>
          </p:nvSpPr>
          <p:spPr>
            <a:xfrm>
              <a:off x="826920" y="1125360"/>
              <a:ext cx="302436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ОДУМ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12" descr="big_smiles_6"/>
            <p:cNvPicPr/>
            <p:nvPr/>
          </p:nvPicPr>
          <p:blipFill>
            <a:blip r:embed="rId1"/>
            <a:stretch/>
          </p:blipFill>
          <p:spPr>
            <a:xfrm>
              <a:off x="897840" y="1264680"/>
              <a:ext cx="1125360" cy="77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7"/>
          <p:cNvGrpSpPr/>
          <p:nvPr/>
        </p:nvGrpSpPr>
        <p:grpSpPr>
          <a:xfrm>
            <a:off x="5219640" y="1125360"/>
            <a:ext cx="3027600" cy="1008360"/>
            <a:chOff x="5219640" y="1125360"/>
            <a:chExt cx="3027600" cy="1008360"/>
          </a:xfrm>
        </p:grpSpPr>
        <p:sp>
          <p:nvSpPr>
            <p:cNvPr id="70" name="AutoShape 15"/>
            <p:cNvSpPr/>
            <p:nvPr/>
          </p:nvSpPr>
          <p:spPr>
            <a:xfrm>
              <a:off x="5219640" y="1125360"/>
              <a:ext cx="302760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МОЛОДЕЦ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3" descr="big_smiles_31"/>
            <p:cNvPicPr/>
            <p:nvPr/>
          </p:nvPicPr>
          <p:blipFill>
            <a:blip r:embed="rId2"/>
            <a:stretch/>
          </p:blipFill>
          <p:spPr>
            <a:xfrm>
              <a:off x="5290560" y="1191960"/>
              <a:ext cx="914040" cy="87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AutoShape 24"/>
          <p:cNvSpPr/>
          <p:nvPr/>
        </p:nvSpPr>
        <p:spPr>
          <a:xfrm>
            <a:off x="539640" y="249228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речие – самостоятельная часть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2124000" y="260280"/>
            <a:ext cx="5977080" cy="79236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Укажи неверное утвер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6"/>
          <p:cNvSpPr/>
          <p:nvPr/>
        </p:nvSpPr>
        <p:spPr>
          <a:xfrm>
            <a:off x="539640" y="350028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речие отвечает на вопросы: где? когда? куда? отк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очему? зачем? как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7"/>
          <p:cNvSpPr/>
          <p:nvPr/>
        </p:nvSpPr>
        <p:spPr>
          <a:xfrm>
            <a:off x="539640" y="4581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речие изменяется так же, как и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8"/>
          <p:cNvSpPr/>
          <p:nvPr/>
        </p:nvSpPr>
        <p:spPr>
          <a:xfrm>
            <a:off x="611280" y="5805360"/>
            <a:ext cx="8208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 предложении наречие бывает обстоятель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или несогласованным опред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5"/>
          <p:cNvGrpSpPr/>
          <p:nvPr/>
        </p:nvGrpSpPr>
        <p:grpSpPr>
          <a:xfrm>
            <a:off x="684360" y="1197000"/>
            <a:ext cx="3027240" cy="1008000"/>
            <a:chOff x="684360" y="1197000"/>
            <a:chExt cx="3027240" cy="1008000"/>
          </a:xfrm>
        </p:grpSpPr>
        <p:sp>
          <p:nvSpPr>
            <p:cNvPr id="78" name="AutoShape 13"/>
            <p:cNvSpPr/>
            <p:nvPr/>
          </p:nvSpPr>
          <p:spPr>
            <a:xfrm>
              <a:off x="684360" y="119700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ШИБК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6" descr="big_smiles_275"/>
            <p:cNvPicPr/>
            <p:nvPr/>
          </p:nvPicPr>
          <p:blipFill>
            <a:blip r:embed="rId1"/>
            <a:stretch/>
          </p:blipFill>
          <p:spPr>
            <a:xfrm>
              <a:off x="754200" y="1265040"/>
              <a:ext cx="1023840" cy="80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Group 11"/>
          <p:cNvGrpSpPr/>
          <p:nvPr/>
        </p:nvGrpSpPr>
        <p:grpSpPr>
          <a:xfrm>
            <a:off x="5435640" y="1268280"/>
            <a:ext cx="3027240" cy="1008360"/>
            <a:chOff x="5435640" y="1268280"/>
            <a:chExt cx="3027240" cy="1008360"/>
          </a:xfrm>
        </p:grpSpPr>
        <p:sp>
          <p:nvSpPr>
            <p:cNvPr id="81" name="AutoShape 9"/>
            <p:cNvSpPr/>
            <p:nvPr/>
          </p:nvSpPr>
          <p:spPr>
            <a:xfrm>
              <a:off x="5435640" y="1268280"/>
              <a:ext cx="302724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МНИЦ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7" descr="big_smiles_71"/>
            <p:cNvPicPr/>
            <p:nvPr/>
          </p:nvPicPr>
          <p:blipFill>
            <a:blip r:embed="rId2"/>
            <a:stretch/>
          </p:blipFill>
          <p:spPr>
            <a:xfrm>
              <a:off x="5575320" y="1358640"/>
              <a:ext cx="915120" cy="84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AutoShape 16"/>
          <p:cNvSpPr/>
          <p:nvPr/>
        </p:nvSpPr>
        <p:spPr>
          <a:xfrm>
            <a:off x="539640" y="249228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верчиво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посмотрела на Ивана и улыбну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7"/>
          <p:cNvSpPr/>
          <p:nvPr/>
        </p:nvSpPr>
        <p:spPr>
          <a:xfrm>
            <a:off x="468360" y="3645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Это задание оказалось для меня слишк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удно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8"/>
          <p:cNvSpPr/>
          <p:nvPr/>
        </p:nvSpPr>
        <p:spPr>
          <a:xfrm>
            <a:off x="468360" y="4653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сколько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птиц отделилось от ста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9"/>
          <p:cNvSpPr/>
          <p:nvPr/>
        </p:nvSpPr>
        <p:spPr>
          <a:xfrm>
            <a:off x="468360" y="566100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оловей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ссыпаясь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ликующей трелью, пел весеннюю песн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611280" y="189000"/>
            <a:ext cx="8208720" cy="79200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предложении выделенн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вляется нареч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5435640" y="1268280"/>
            <a:ext cx="3027240" cy="1008360"/>
            <a:chOff x="5435640" y="1268280"/>
            <a:chExt cx="3027240" cy="1008360"/>
          </a:xfrm>
        </p:grpSpPr>
        <p:sp>
          <p:nvSpPr>
            <p:cNvPr id="89" name="AutoShape 9"/>
            <p:cNvSpPr/>
            <p:nvPr/>
          </p:nvSpPr>
          <p:spPr>
            <a:xfrm>
              <a:off x="5435640" y="1268280"/>
              <a:ext cx="302724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МНИЦ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7" descr="big_smiles_71"/>
            <p:cNvPicPr/>
            <p:nvPr/>
          </p:nvPicPr>
          <p:blipFill>
            <a:blip r:embed="rId3"/>
            <a:stretch/>
          </p:blipFill>
          <p:spPr>
            <a:xfrm>
              <a:off x="5575320" y="1358640"/>
              <a:ext cx="915120" cy="84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"/>
          <p:cNvGrpSpPr/>
          <p:nvPr/>
        </p:nvGrpSpPr>
        <p:grpSpPr>
          <a:xfrm>
            <a:off x="5508720" y="2421000"/>
            <a:ext cx="3027240" cy="1008000"/>
            <a:chOff x="5508720" y="2421000"/>
            <a:chExt cx="3027240" cy="1008000"/>
          </a:xfrm>
        </p:grpSpPr>
        <p:sp>
          <p:nvSpPr>
            <p:cNvPr id="92" name="AutoShape 5"/>
            <p:cNvSpPr/>
            <p:nvPr/>
          </p:nvSpPr>
          <p:spPr>
            <a:xfrm>
              <a:off x="5508720" y="242100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й-ай-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шибочк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6" descr="super_smilies058"/>
            <p:cNvPicPr/>
            <p:nvPr/>
          </p:nvPicPr>
          <p:blipFill>
            <a:blip r:embed="rId1"/>
            <a:stretch/>
          </p:blipFill>
          <p:spPr>
            <a:xfrm>
              <a:off x="5649480" y="2623680"/>
              <a:ext cx="845280" cy="6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7"/>
          <p:cNvGrpSpPr/>
          <p:nvPr/>
        </p:nvGrpSpPr>
        <p:grpSpPr>
          <a:xfrm>
            <a:off x="5508720" y="4149720"/>
            <a:ext cx="3027240" cy="1008000"/>
            <a:chOff x="5508720" y="4149720"/>
            <a:chExt cx="3027240" cy="1008000"/>
          </a:xfrm>
        </p:grpSpPr>
        <p:sp>
          <p:nvSpPr>
            <p:cNvPr id="95" name="AutoShape 8"/>
            <p:cNvSpPr/>
            <p:nvPr/>
          </p:nvSpPr>
          <p:spPr>
            <a:xfrm>
              <a:off x="5508720" y="414972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ТЛИЧ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9" descr="big_smiles_1"/>
            <p:cNvPicPr/>
            <p:nvPr/>
          </p:nvPicPr>
          <p:blipFill>
            <a:blip r:embed="rId2"/>
            <a:stretch/>
          </p:blipFill>
          <p:spPr>
            <a:xfrm>
              <a:off x="5579640" y="4284360"/>
              <a:ext cx="930960" cy="8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Rectangle 10"/>
          <p:cNvSpPr/>
          <p:nvPr/>
        </p:nvSpPr>
        <p:spPr>
          <a:xfrm>
            <a:off x="755640" y="260280"/>
            <a:ext cx="7920000" cy="93672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а какой признак указывают нареч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строить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быстро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добротно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красиво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экономно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684360" y="2924280"/>
            <a:ext cx="3671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684360" y="5157720"/>
            <a:ext cx="3671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раз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4360" y="4076640"/>
            <a:ext cx="3671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84360" y="1844640"/>
            <a:ext cx="3671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1042920" y="260280"/>
            <a:ext cx="7345440" cy="100800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а какой признак указывают нареч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находить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лизко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ядом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далеке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десь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сюду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684360" y="1844640"/>
            <a:ext cx="3671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84360" y="3068640"/>
            <a:ext cx="3671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ера и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684360" y="4221000"/>
            <a:ext cx="3671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84360" y="5373720"/>
            <a:ext cx="3671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раз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5148360" y="2060640"/>
            <a:ext cx="3024000" cy="1008000"/>
            <a:chOff x="5148360" y="2060640"/>
            <a:chExt cx="3024000" cy="1008000"/>
          </a:xfrm>
        </p:grpSpPr>
        <p:sp>
          <p:nvSpPr>
            <p:cNvPr id="108" name="AutoShape 10"/>
            <p:cNvSpPr/>
            <p:nvPr/>
          </p:nvSpPr>
          <p:spPr>
            <a:xfrm>
              <a:off x="5148360" y="2060640"/>
              <a:ext cx="30240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ОДУМ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11" descr="big_smiles_6"/>
            <p:cNvPicPr/>
            <p:nvPr/>
          </p:nvPicPr>
          <p:blipFill>
            <a:blip r:embed="rId1"/>
            <a:stretch/>
          </p:blipFill>
          <p:spPr>
            <a:xfrm>
              <a:off x="5219280" y="2199960"/>
              <a:ext cx="1125360" cy="77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12"/>
          <p:cNvGrpSpPr/>
          <p:nvPr/>
        </p:nvGrpSpPr>
        <p:grpSpPr>
          <a:xfrm>
            <a:off x="5292720" y="4076640"/>
            <a:ext cx="3027240" cy="1008000"/>
            <a:chOff x="5292720" y="4076640"/>
            <a:chExt cx="3027240" cy="1008000"/>
          </a:xfrm>
        </p:grpSpPr>
        <p:sp>
          <p:nvSpPr>
            <p:cNvPr id="111" name="AutoShape 13"/>
            <p:cNvSpPr/>
            <p:nvPr/>
          </p:nvSpPr>
          <p:spPr>
            <a:xfrm>
              <a:off x="5292720" y="407664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МОЛОДЕЦ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4" descr="big_smiles_31"/>
            <p:cNvPicPr/>
            <p:nvPr/>
          </p:nvPicPr>
          <p:blipFill>
            <a:blip r:embed="rId2"/>
            <a:stretch/>
          </p:blipFill>
          <p:spPr>
            <a:xfrm>
              <a:off x="5363640" y="4143240"/>
              <a:ext cx="914040" cy="87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755640" y="260280"/>
            <a:ext cx="7920000" cy="100800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Укажите, каким способом образованы нареч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-вашему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скоса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верху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-первых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684360" y="1844640"/>
            <a:ext cx="3671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ставоч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684360" y="4221000"/>
            <a:ext cx="3671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уффикс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684360" y="5373720"/>
            <a:ext cx="3671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ло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684360" y="3068640"/>
            <a:ext cx="3671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ставоч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уффикс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9"/>
          <p:cNvGrpSpPr/>
          <p:nvPr/>
        </p:nvGrpSpPr>
        <p:grpSpPr>
          <a:xfrm>
            <a:off x="5219640" y="2421000"/>
            <a:ext cx="3027600" cy="1008000"/>
            <a:chOff x="5219640" y="2421000"/>
            <a:chExt cx="3027600" cy="1008000"/>
          </a:xfrm>
        </p:grpSpPr>
        <p:sp>
          <p:nvSpPr>
            <p:cNvPr id="119" name="AutoShape 10"/>
            <p:cNvSpPr/>
            <p:nvPr/>
          </p:nvSpPr>
          <p:spPr>
            <a:xfrm>
              <a:off x="5219640" y="242100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ШИБК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1" descr="big_smiles_275"/>
            <p:cNvPicPr/>
            <p:nvPr/>
          </p:nvPicPr>
          <p:blipFill>
            <a:blip r:embed="rId1"/>
            <a:stretch/>
          </p:blipFill>
          <p:spPr>
            <a:xfrm>
              <a:off x="5289480" y="2489040"/>
              <a:ext cx="1023840" cy="80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12"/>
          <p:cNvGrpSpPr/>
          <p:nvPr/>
        </p:nvGrpSpPr>
        <p:grpSpPr>
          <a:xfrm>
            <a:off x="5219640" y="4076640"/>
            <a:ext cx="3027600" cy="1008000"/>
            <a:chOff x="5219640" y="4076640"/>
            <a:chExt cx="3027600" cy="1008000"/>
          </a:xfrm>
        </p:grpSpPr>
        <p:sp>
          <p:nvSpPr>
            <p:cNvPr id="122" name="AutoShape 13"/>
            <p:cNvSpPr/>
            <p:nvPr/>
          </p:nvSpPr>
          <p:spPr>
            <a:xfrm>
              <a:off x="5219640" y="407664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МНИЦ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14" descr="big_smiles_71"/>
            <p:cNvPicPr/>
            <p:nvPr/>
          </p:nvPicPr>
          <p:blipFill>
            <a:blip r:embed="rId2"/>
            <a:stretch/>
          </p:blipFill>
          <p:spPr>
            <a:xfrm>
              <a:off x="5359320" y="4167000"/>
              <a:ext cx="915120" cy="84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2"/>
          <p:cNvGrpSpPr/>
          <p:nvPr/>
        </p:nvGrpSpPr>
        <p:grpSpPr>
          <a:xfrm>
            <a:off x="5580000" y="1268280"/>
            <a:ext cx="3027600" cy="1008360"/>
            <a:chOff x="5580000" y="1268280"/>
            <a:chExt cx="3027600" cy="1008360"/>
          </a:xfrm>
        </p:grpSpPr>
        <p:sp>
          <p:nvSpPr>
            <p:cNvPr id="125" name="AutoShape 7"/>
            <p:cNvSpPr/>
            <p:nvPr/>
          </p:nvSpPr>
          <p:spPr>
            <a:xfrm>
              <a:off x="5580000" y="1268280"/>
              <a:ext cx="302760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РА! ВЕР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5" descr="super_smilies086"/>
            <p:cNvPicPr/>
            <p:nvPr/>
          </p:nvPicPr>
          <p:blipFill>
            <a:blip r:embed="rId1"/>
            <a:stretch/>
          </p:blipFill>
          <p:spPr>
            <a:xfrm>
              <a:off x="5721120" y="1336320"/>
              <a:ext cx="935640" cy="86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Rectangle 13"/>
          <p:cNvSpPr/>
          <p:nvPr/>
        </p:nvSpPr>
        <p:spPr>
          <a:xfrm>
            <a:off x="1332000" y="189000"/>
            <a:ext cx="7272360" cy="86364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Какие наречия обозначают причину действ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539640" y="3573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роста, почему-то, поневоле, со зла, сослеп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539640" y="4653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 шутку, немного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о, вдов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539640" y="566100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зло, нарочно, специально, друже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7"/>
          <p:cNvSpPr/>
          <p:nvPr/>
        </p:nvSpPr>
        <p:spPr>
          <a:xfrm>
            <a:off x="539640" y="2565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горяча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чера, давно, по-хорош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9"/>
          <p:cNvGrpSpPr/>
          <p:nvPr/>
        </p:nvGrpSpPr>
        <p:grpSpPr>
          <a:xfrm>
            <a:off x="1042920" y="1268280"/>
            <a:ext cx="3024360" cy="1008360"/>
            <a:chOff x="1042920" y="1268280"/>
            <a:chExt cx="3024360" cy="1008360"/>
          </a:xfrm>
        </p:grpSpPr>
        <p:sp>
          <p:nvSpPr>
            <p:cNvPr id="133" name="AutoShape 20"/>
            <p:cNvSpPr/>
            <p:nvPr/>
          </p:nvSpPr>
          <p:spPr>
            <a:xfrm>
              <a:off x="1042920" y="1268280"/>
              <a:ext cx="302436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ОДУМ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21" descr="big_smiles_6"/>
            <p:cNvPicPr/>
            <p:nvPr/>
          </p:nvPicPr>
          <p:blipFill>
            <a:blip r:embed="rId2"/>
            <a:stretch/>
          </p:blipFill>
          <p:spPr>
            <a:xfrm>
              <a:off x="1113840" y="1407600"/>
              <a:ext cx="1125360" cy="7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5"/>
          <p:cNvSpPr/>
          <p:nvPr/>
        </p:nvSpPr>
        <p:spPr>
          <a:xfrm>
            <a:off x="1116000" y="260280"/>
            <a:ext cx="7559640" cy="136836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Каким членом предложения является нареч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едложен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« Мне очень нравится езд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ом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6"/>
          <p:cNvSpPr/>
          <p:nvPr/>
        </p:nvSpPr>
        <p:spPr>
          <a:xfrm>
            <a:off x="539640" y="2133720"/>
            <a:ext cx="3672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стоятель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раза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539640" y="3213000"/>
            <a:ext cx="3745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стоя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еры и степ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539640" y="4365720"/>
            <a:ext cx="3743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есогласова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539640" y="5445000"/>
            <a:ext cx="36734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стоятель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5435640" y="2637000"/>
            <a:ext cx="3027240" cy="1008000"/>
            <a:chOff x="5435640" y="2637000"/>
            <a:chExt cx="3027240" cy="1008000"/>
          </a:xfrm>
        </p:grpSpPr>
        <p:sp>
          <p:nvSpPr>
            <p:cNvPr id="141" name="AutoShape 21"/>
            <p:cNvSpPr/>
            <p:nvPr/>
          </p:nvSpPr>
          <p:spPr>
            <a:xfrm>
              <a:off x="5435640" y="263700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й-ай-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шибочк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22" descr="super_smilies058"/>
            <p:cNvPicPr/>
            <p:nvPr/>
          </p:nvPicPr>
          <p:blipFill>
            <a:blip r:embed="rId1"/>
            <a:stretch/>
          </p:blipFill>
          <p:spPr>
            <a:xfrm>
              <a:off x="5576400" y="2839680"/>
              <a:ext cx="845280" cy="6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23"/>
          <p:cNvGrpSpPr/>
          <p:nvPr/>
        </p:nvGrpSpPr>
        <p:grpSpPr>
          <a:xfrm>
            <a:off x="5435640" y="4221000"/>
            <a:ext cx="3027240" cy="1008360"/>
            <a:chOff x="5435640" y="4221000"/>
            <a:chExt cx="3027240" cy="1008360"/>
          </a:xfrm>
        </p:grpSpPr>
        <p:sp>
          <p:nvSpPr>
            <p:cNvPr id="144" name="AutoShape 24"/>
            <p:cNvSpPr/>
            <p:nvPr/>
          </p:nvSpPr>
          <p:spPr>
            <a:xfrm>
              <a:off x="5435640" y="4221000"/>
              <a:ext cx="302724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ТЛИЧ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25" descr="big_smiles_1"/>
            <p:cNvPicPr/>
            <p:nvPr/>
          </p:nvPicPr>
          <p:blipFill>
            <a:blip r:embed="rId2"/>
            <a:stretch/>
          </p:blipFill>
          <p:spPr>
            <a:xfrm>
              <a:off x="5506560" y="4355640"/>
              <a:ext cx="930960" cy="80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7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04:25:58Z</dcterms:created>
  <dc:creator>lector</dc:creator>
  <dc:description/>
  <dc:language>en-US</dc:language>
  <cp:lastModifiedBy>123</cp:lastModifiedBy>
  <dcterms:modified xsi:type="dcterms:W3CDTF">2019-11-25T17:47:44Z</dcterms:modified>
  <cp:revision>40</cp:revision>
  <dc:subject/>
  <dc:title>Слайд 1</dc:title>
</cp:coreProperties>
</file>