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0D0-6D4B-4D17-98B0-917C84DF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482-D323-4145-ACB7-E40878F0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55A-2C47-4FD9-AF1B-916808C0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FDE-817A-452B-85B9-6EDBEA0B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704-82C0-4CFD-9DEC-8C2B1F07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2C0-DA05-4BB7-AAC7-50297B0A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44C-38B8-4562-BD45-8161471F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7B7-3C9E-4CE4-9892-9D30829F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896-525A-4EDE-8E53-2CF95865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5DA-1C23-4AF4-B206-6EF3781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286-EDF4-40E1-838B-7104B7EF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D0E-CC5E-46D0-A4F8-DE223D7A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6a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8BCB-6550-43B3-99B7-A1AF63EB59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6a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684360" y="1557360"/>
            <a:ext cx="77724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800" spc="-1" strike="noStrike">
                <a:solidFill>
                  <a:srgbClr val="9900ff"/>
                </a:solidFill>
                <a:latin typeface="Arial Black"/>
              </a:rPr>
              <a:t>Геометр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7" descr="древо стихий"/>
          <p:cNvPicPr/>
          <p:nvPr/>
        </p:nvPicPr>
        <p:blipFill>
          <a:blip r:embed="rId1"/>
          <a:stretch/>
        </p:blipFill>
        <p:spPr>
          <a:xfrm>
            <a:off x="611280" y="3284640"/>
            <a:ext cx="3825720" cy="28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627F-E179-4F6C-AFE6-16A7FA697A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Каноническое уравнение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3979800" y="4365720"/>
                <a:ext cx="28321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3862440" y="2041560"/>
                <a:ext cx="25099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11"/>
          <p:cNvSpPr/>
          <p:nvPr/>
        </p:nvSpPr>
        <p:spPr>
          <a:xfrm>
            <a:off x="539640" y="1052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ривыкли к тому, что на координатной плоскости прям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 это график линейной функции, которая задана уравнением ви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468360" y="2781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следующее уравнение прям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3"/>
              <p:cNvSpPr txBox="1"/>
              <p:nvPr/>
            </p:nvSpPr>
            <p:spPr>
              <a:xfrm>
                <a:off x="3916440" y="3213000"/>
                <a:ext cx="26017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5"/>
              <p:cNvSpPr txBox="1"/>
              <p:nvPr/>
            </p:nvSpPr>
            <p:spPr>
              <a:xfrm>
                <a:off x="3780000" y="5013360"/>
                <a:ext cx="3232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Oval 16"/>
          <p:cNvSpPr/>
          <p:nvPr/>
        </p:nvSpPr>
        <p:spPr>
          <a:xfrm>
            <a:off x="3132000" y="4869000"/>
            <a:ext cx="4464360" cy="1008000"/>
          </a:xfrm>
          <a:prstGeom prst="ellipse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611280" y="3213000"/>
            <a:ext cx="3313080" cy="1617840"/>
          </a:xfrm>
          <a:prstGeom prst="cloudCallout">
            <a:avLst>
              <a:gd name="adj1" fmla="val 36486"/>
              <a:gd name="adj2" fmla="val 63638"/>
            </a:avLst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Каноническ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зап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DC2F-CF87-4B94-BCFF-5C875E6B1D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Каноническое уравнение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9640" y="1989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нонической записи уравнения прямых принято использовать целые коэффици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468360" y="3429000"/>
                <a:ext cx="27622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3191040" y="1268280"/>
                <a:ext cx="34970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Oval 11"/>
          <p:cNvSpPr/>
          <p:nvPr/>
        </p:nvSpPr>
        <p:spPr>
          <a:xfrm>
            <a:off x="2843280" y="1125360"/>
            <a:ext cx="4464000" cy="1008360"/>
          </a:xfrm>
          <a:prstGeom prst="ellipse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539640" y="105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щем ви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539640" y="2852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м обратную опера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5"/>
              <p:cNvSpPr txBox="1"/>
              <p:nvPr/>
            </p:nvSpPr>
            <p:spPr>
              <a:xfrm>
                <a:off x="539640" y="4076640"/>
                <a:ext cx="28018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6"/>
              <p:cNvSpPr txBox="1"/>
              <p:nvPr/>
            </p:nvSpPr>
            <p:spPr>
              <a:xfrm>
                <a:off x="5148360" y="3357720"/>
                <a:ext cx="16016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7"/>
              <p:cNvSpPr txBox="1"/>
              <p:nvPr/>
            </p:nvSpPr>
            <p:spPr>
              <a:xfrm>
                <a:off x="5148360" y="4437000"/>
                <a:ext cx="16002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Text Box 18"/>
          <p:cNvSpPr/>
          <p:nvPr/>
        </p:nvSpPr>
        <p:spPr>
          <a:xfrm>
            <a:off x="3419640" y="4149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е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9ACE-593E-4211-BFC3-A4A11DAE41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3059280" y="1787400"/>
            <a:ext cx="4968720" cy="458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682560" y="2746440"/>
                <a:ext cx="20178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Line 6"/>
          <p:cNvSpPr/>
          <p:nvPr/>
        </p:nvSpPr>
        <p:spPr>
          <a:xfrm>
            <a:off x="3492360" y="2060640"/>
            <a:ext cx="2232000" cy="396072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на координатной плоскости множества точек, соответствующих уравнен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 flipH="1">
            <a:off x="4140000" y="2852640"/>
            <a:ext cx="3600360" cy="316872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 flipH="1" flipV="1">
            <a:off x="3276360" y="3428640"/>
            <a:ext cx="4319640" cy="259236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680400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3492360" y="29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7020000" y="51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571C-408D-44A4-BB9A-34177F7D61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словие параллельности</a:t>
            </a:r>
            <a:br>
              <a:rPr sz="3200"/>
            </a:b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50920" y="443700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539640" y="1268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заданы уравнения прям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5"/>
              <p:cNvSpPr txBox="1"/>
              <p:nvPr/>
            </p:nvSpPr>
            <p:spPr>
              <a:xfrm>
                <a:off x="1116000" y="1916280"/>
                <a:ext cx="2376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6"/>
              <p:cNvSpPr txBox="1"/>
              <p:nvPr/>
            </p:nvSpPr>
            <p:spPr>
              <a:xfrm>
                <a:off x="4572000" y="1916280"/>
                <a:ext cx="3097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9"/>
              <p:cNvSpPr txBox="1"/>
              <p:nvPr/>
            </p:nvSpPr>
            <p:spPr>
              <a:xfrm>
                <a:off x="1598760" y="2924280"/>
                <a:ext cx="45082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‖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3" name="Oval 20"/>
          <p:cNvSpPr/>
          <p:nvPr/>
        </p:nvSpPr>
        <p:spPr>
          <a:xfrm>
            <a:off x="971640" y="2852640"/>
            <a:ext cx="6048360" cy="1224000"/>
          </a:xfrm>
          <a:prstGeom prst="ellipse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1"/>
              <p:cNvSpPr txBox="1"/>
              <p:nvPr/>
            </p:nvSpPr>
            <p:spPr>
              <a:xfrm>
                <a:off x="2050920" y="4527720"/>
                <a:ext cx="23749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2"/>
              <p:cNvSpPr txBox="1"/>
              <p:nvPr/>
            </p:nvSpPr>
            <p:spPr>
              <a:xfrm>
                <a:off x="4892760" y="4527720"/>
                <a:ext cx="23083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Oval 23"/>
          <p:cNvSpPr/>
          <p:nvPr/>
        </p:nvSpPr>
        <p:spPr>
          <a:xfrm>
            <a:off x="3276720" y="4508640"/>
            <a:ext cx="358560" cy="72072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24"/>
          <p:cNvSpPr/>
          <p:nvPr/>
        </p:nvSpPr>
        <p:spPr>
          <a:xfrm>
            <a:off x="6084720" y="4437000"/>
            <a:ext cx="358920" cy="72072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5"/>
              <p:cNvSpPr txBox="1"/>
              <p:nvPr/>
            </p:nvSpPr>
            <p:spPr>
              <a:xfrm>
                <a:off x="2195640" y="5300640"/>
                <a:ext cx="22320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6"/>
              <p:cNvSpPr txBox="1"/>
              <p:nvPr/>
            </p:nvSpPr>
            <p:spPr>
              <a:xfrm>
                <a:off x="6012000" y="5084640"/>
                <a:ext cx="12967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‖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Text Box 27"/>
          <p:cNvSpPr/>
          <p:nvPr/>
        </p:nvSpPr>
        <p:spPr>
          <a:xfrm>
            <a:off x="4356000" y="544500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4F21-20BC-4136-BB8E-623489B1AC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е прямой, проходящей через две заданные 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24000" y="33577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ямая проходит через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координаты этих точек можно подставить в уравнение прям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79280" y="126828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уравнение прямой, проходящей через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2"/>
              <p:cNvSpPr txBox="1"/>
              <p:nvPr/>
            </p:nvSpPr>
            <p:spPr>
              <a:xfrm>
                <a:off x="395280" y="2565360"/>
                <a:ext cx="3800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3"/>
              <p:cNvSpPr txBox="1"/>
              <p:nvPr/>
            </p:nvSpPr>
            <p:spPr>
              <a:xfrm>
                <a:off x="5076720" y="1484280"/>
                <a:ext cx="169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Text Box 18"/>
          <p:cNvSpPr/>
          <p:nvPr/>
        </p:nvSpPr>
        <p:spPr>
          <a:xfrm>
            <a:off x="4356000" y="4292640"/>
            <a:ext cx="40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ем систему линейных уравнений с неизвестным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ешив ее, находим значени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9"/>
              <p:cNvSpPr txBox="1"/>
              <p:nvPr/>
            </p:nvSpPr>
            <p:spPr>
              <a:xfrm>
                <a:off x="611280" y="4149720"/>
                <a:ext cx="281772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8041-BD81-4220-B6D0-963021489A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е прямой, проходящей через две заданные 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24000" y="33577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тавим координаты в уравнение прям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79280" y="126828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уравнение прямой, проходящей через точки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"/>
              <p:cNvSpPr txBox="1"/>
              <p:nvPr/>
            </p:nvSpPr>
            <p:spPr>
              <a:xfrm>
                <a:off x="768240" y="2584440"/>
                <a:ext cx="3054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5076720" y="1484280"/>
                <a:ext cx="169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611280" y="530064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ем систему линейных уравнений с неизвестным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1"/>
              <p:cNvSpPr txBox="1"/>
              <p:nvPr/>
            </p:nvSpPr>
            <p:spPr>
              <a:xfrm>
                <a:off x="539640" y="3933720"/>
                <a:ext cx="30560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2"/>
              <p:cNvSpPr txBox="1"/>
              <p:nvPr/>
            </p:nvSpPr>
            <p:spPr>
              <a:xfrm>
                <a:off x="3995640" y="3933720"/>
                <a:ext cx="20703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3"/>
              <p:cNvSpPr txBox="1"/>
              <p:nvPr/>
            </p:nvSpPr>
            <p:spPr>
              <a:xfrm>
                <a:off x="6372360" y="3860640"/>
                <a:ext cx="1425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,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Text Box 15"/>
          <p:cNvSpPr/>
          <p:nvPr/>
        </p:nvSpPr>
        <p:spPr>
          <a:xfrm>
            <a:off x="4284720" y="551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6"/>
              <p:cNvSpPr txBox="1"/>
              <p:nvPr/>
            </p:nvSpPr>
            <p:spPr>
              <a:xfrm>
                <a:off x="5435640" y="5445000"/>
                <a:ext cx="2036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7BB2-B0C2-4F61-96F7-B6C33AC41B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1258920" y="2708280"/>
                <a:ext cx="1417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2" name="Picture 16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253" name="Line 17"/>
          <p:cNvSpPr/>
          <p:nvPr/>
        </p:nvSpPr>
        <p:spPr>
          <a:xfrm>
            <a:off x="3780000" y="2565360"/>
            <a:ext cx="4464000" cy="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2CE9-5563-4C5A-9F05-052B311A6F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6"/>
              <p:cNvSpPr txBox="1"/>
              <p:nvPr/>
            </p:nvSpPr>
            <p:spPr>
              <a:xfrm>
                <a:off x="971640" y="2565360"/>
                <a:ext cx="140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Picture 10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260" name="Line 11"/>
          <p:cNvSpPr/>
          <p:nvPr/>
        </p:nvSpPr>
        <p:spPr>
          <a:xfrm>
            <a:off x="3780000" y="4149720"/>
            <a:ext cx="4464000" cy="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4BD5-9EA1-4E04-98CD-EB4E88F546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1258920" y="2492280"/>
                <a:ext cx="1252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6" name="Picture 10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267" name="Line 11"/>
          <p:cNvSpPr/>
          <p:nvPr/>
        </p:nvSpPr>
        <p:spPr>
          <a:xfrm>
            <a:off x="6877080" y="1916280"/>
            <a:ext cx="0" cy="396072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AA4A-CDD9-4F03-93F9-3C1AC3E281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1258920" y="2492280"/>
                <a:ext cx="1252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3" name="Picture 7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274" name="Line 8"/>
          <p:cNvSpPr/>
          <p:nvPr/>
        </p:nvSpPr>
        <p:spPr>
          <a:xfrm>
            <a:off x="5148360" y="1844640"/>
            <a:ext cx="0" cy="3960720"/>
          </a:xfrm>
          <a:prstGeom prst="line">
            <a:avLst/>
          </a:prstGeom>
          <a:ln w="57240">
            <a:solidFill>
              <a:srgbClr val="f0c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8B8C-478F-443F-AE6E-D7E04EAC4D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2268360" y="475920"/>
            <a:ext cx="0" cy="611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539640" y="4508640"/>
            <a:ext cx="655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527"/>
          <p:cNvSpPr/>
          <p:nvPr/>
        </p:nvSpPr>
        <p:spPr>
          <a:xfrm>
            <a:off x="0" y="756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8360" y="907920"/>
          <a:ext cx="6059520" cy="5181840"/>
        </p:xfrm>
        <a:graphic>
          <a:graphicData uri="http://schemas.openxmlformats.org/drawingml/2006/table">
            <a:tbl>
              <a:tblPr/>
              <a:tblGrid>
                <a:gridCol w="604800"/>
                <a:gridCol w="608040"/>
                <a:gridCol w="604800"/>
                <a:gridCol w="606600"/>
                <a:gridCol w="606240"/>
                <a:gridCol w="604800"/>
                <a:gridCol w="606600"/>
                <a:gridCol w="604800"/>
                <a:gridCol w="608040"/>
                <a:gridCol w="60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17305"/>
                </a:solidFill>
                <a:latin typeface="Arial Black"/>
              </a:rPr>
              <a:t>Уравнение прямой </a:t>
            </a:r>
            <a:br>
              <a:rPr sz="6000"/>
            </a:br>
            <a:r>
              <a:rPr b="1" lang="ru-RU" sz="6000" spc="-1" strike="noStrike">
                <a:solidFill>
                  <a:srgbClr val="e17305"/>
                </a:solidFill>
                <a:latin typeface="Arial Black"/>
              </a:rPr>
              <a:t>на координатной плоскости</a:t>
            </a:r>
            <a:br>
              <a:rPr sz="6000"/>
            </a:b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4F82-4CAD-43CE-9D64-1D1F436E4E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826920" y="2076480"/>
                <a:ext cx="14814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0" name="Picture 10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281" name="Line 11"/>
          <p:cNvSpPr/>
          <p:nvPr/>
        </p:nvSpPr>
        <p:spPr>
          <a:xfrm flipV="1">
            <a:off x="3780000" y="1773360"/>
            <a:ext cx="4032000" cy="352728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34DB-740A-4EC0-82A8-71D6C1659A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419040" y="2000160"/>
                <a:ext cx="22986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7" name="Picture 9" descr=""/>
          <p:cNvPicPr/>
          <p:nvPr/>
        </p:nvPicPr>
        <p:blipFill>
          <a:blip r:embed="rId1"/>
          <a:stretch/>
        </p:blipFill>
        <p:spPr>
          <a:xfrm>
            <a:off x="3564000" y="1700280"/>
            <a:ext cx="4968720" cy="4589280"/>
          </a:xfrm>
          <a:prstGeom prst="rect">
            <a:avLst/>
          </a:prstGeom>
          <a:ln w="0">
            <a:noFill/>
          </a:ln>
        </p:spPr>
      </p:pic>
      <p:sp>
        <p:nvSpPr>
          <p:cNvPr id="288" name="Line 10"/>
          <p:cNvSpPr/>
          <p:nvPr/>
        </p:nvSpPr>
        <p:spPr>
          <a:xfrm flipV="1">
            <a:off x="4211640" y="2349000"/>
            <a:ext cx="4032360" cy="352764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C7F4-0F5B-4268-AA66-CC5722C30C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955800" y="2708280"/>
                <a:ext cx="25365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295" name="Line 11"/>
          <p:cNvSpPr/>
          <p:nvPr/>
        </p:nvSpPr>
        <p:spPr>
          <a:xfrm>
            <a:off x="4140360" y="2205000"/>
            <a:ext cx="4032000" cy="35276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5D57-C57F-4FD1-9CC0-0E6A0A4408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1042920" y="2708280"/>
                <a:ext cx="17067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1" name="Picture 10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302" name="Line 11"/>
          <p:cNvSpPr/>
          <p:nvPr/>
        </p:nvSpPr>
        <p:spPr>
          <a:xfrm flipV="1">
            <a:off x="4211640" y="1916280"/>
            <a:ext cx="2232000" cy="396072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1A3D-7498-41BE-A18F-F328B2A92B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539640" y="9079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ординатной плоскости изображены прямые. Запишите уравнения. Соответствующие этим пря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684360" y="2205000"/>
                <a:ext cx="2519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8" name="Picture 10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309" name="Line 11"/>
          <p:cNvSpPr/>
          <p:nvPr/>
        </p:nvSpPr>
        <p:spPr>
          <a:xfrm>
            <a:off x="3780000" y="3500280"/>
            <a:ext cx="4464000" cy="2016360"/>
          </a:xfrm>
          <a:prstGeom prst="line">
            <a:avLst/>
          </a:prstGeom>
          <a:ln w="57240">
            <a:solidFill>
              <a:srgbClr val="f0c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6D0C-5A35-4202-BF53-3BF71A51EF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611280" y="162864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ок окончен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11280" y="422100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 Black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826920" y="2781360"/>
            <a:ext cx="813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 Black"/>
              </a:rPr>
              <a:t>Домашнее задание </a:t>
            </a:r>
            <a:br>
              <a:rPr sz="3200"/>
            </a:br>
            <a:r>
              <a:rPr b="1" lang="ru-RU" sz="3200" spc="-1" strike="noStrike">
                <a:solidFill>
                  <a:srgbClr val="00cc00"/>
                </a:solidFill>
                <a:latin typeface="Arial Black"/>
              </a:rPr>
              <a:t>№ 972(б), 973, 977, 9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F3E0-8EB3-4644-AFB2-3236335330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я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24000" y="1125360"/>
            <a:ext cx="3743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ямые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оординатной плоскости могут располагаться только тремя способ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468360" y="40719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горизонта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9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0"/>
          <p:cNvSpPr/>
          <p:nvPr/>
        </p:nvSpPr>
        <p:spPr>
          <a:xfrm>
            <a:off x="468360" y="4508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ертика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68360" y="501336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под наклоном к ос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4067280" y="2565360"/>
            <a:ext cx="4465440" cy="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6300720" y="1413000"/>
            <a:ext cx="0" cy="39607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4067280" y="1773360"/>
            <a:ext cx="3600360" cy="36003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DE59-F0FF-4025-B12D-4F0E4BF41A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е вертикальных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24000" y="1125360"/>
            <a:ext cx="7993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равнение вида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x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=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a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оординатной плоскости задает множество точек, имеющих одну и ту же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абсцисс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5280" y="299736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им, например, уравнение: </a:t>
            </a:r>
            <a:br>
              <a:rPr sz="2800"/>
            </a:b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x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= 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1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68360" y="407196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метим на координатной плоскости некоторые точки, имеющие абсциссу, равную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329E-459A-4F4E-A8AD-9EC2FCFF63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556000" y="1484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  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31"/>
          <p:cNvSpPr/>
          <p:nvPr/>
        </p:nvSpPr>
        <p:spPr>
          <a:xfrm>
            <a:off x="0" y="756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275" descr=""/>
          <p:cNvPicPr/>
          <p:nvPr/>
        </p:nvPicPr>
        <p:blipFill>
          <a:blip r:embed="rId1"/>
          <a:stretch/>
        </p:blipFill>
        <p:spPr>
          <a:xfrm>
            <a:off x="3924360" y="90792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276"/>
          <p:cNvSpPr/>
          <p:nvPr/>
        </p:nvSpPr>
        <p:spPr>
          <a:xfrm>
            <a:off x="611280" y="981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277"/>
          <p:cNvSpPr/>
          <p:nvPr/>
        </p:nvSpPr>
        <p:spPr>
          <a:xfrm>
            <a:off x="469800" y="148428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 0),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2278"/>
          <p:cNvSpPr/>
          <p:nvPr/>
        </p:nvSpPr>
        <p:spPr>
          <a:xfrm>
            <a:off x="5867280" y="3500280"/>
            <a:ext cx="144720" cy="1447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2279"/>
          <p:cNvSpPr/>
          <p:nvPr/>
        </p:nvSpPr>
        <p:spPr>
          <a:xfrm>
            <a:off x="5867280" y="2708280"/>
            <a:ext cx="14472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2280"/>
          <p:cNvSpPr/>
          <p:nvPr/>
        </p:nvSpPr>
        <p:spPr>
          <a:xfrm>
            <a:off x="5867280" y="4292640"/>
            <a:ext cx="14472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281"/>
          <p:cNvSpPr/>
          <p:nvPr/>
        </p:nvSpPr>
        <p:spPr>
          <a:xfrm>
            <a:off x="395280" y="220500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точки лежат на вертикальной прямой, проходящей через точку с абсциссой 1 на ос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95280" y="5229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значит, что уравнение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ет на плоскости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ертикальную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282"/>
          <p:cNvSpPr/>
          <p:nvPr/>
        </p:nvSpPr>
        <p:spPr>
          <a:xfrm>
            <a:off x="1621080" y="148428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2),</a:t>
            </a: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284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е вертикальных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285"/>
          <p:cNvSpPr/>
          <p:nvPr/>
        </p:nvSpPr>
        <p:spPr>
          <a:xfrm>
            <a:off x="5940360" y="1125360"/>
            <a:ext cx="0" cy="41040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286"/>
          <p:cNvSpPr/>
          <p:nvPr/>
        </p:nvSpPr>
        <p:spPr>
          <a:xfrm rot="16200000">
            <a:off x="5448600" y="21186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05F7-8251-438E-AB58-44DC9E3C2E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059280" y="1787400"/>
            <a:ext cx="4968720" cy="458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539640" y="1989000"/>
                <a:ext cx="2252880" cy="24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Line 7"/>
          <p:cNvSpPr/>
          <p:nvPr/>
        </p:nvSpPr>
        <p:spPr>
          <a:xfrm>
            <a:off x="5940360" y="2060640"/>
            <a:ext cx="0" cy="396072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 rot="16200000">
            <a:off x="5140440" y="256716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00cc00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на координатной плоскости множества точек, соответствующих уравнен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3708360" y="2060640"/>
            <a:ext cx="0" cy="396072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643280" y="2060640"/>
            <a:ext cx="0" cy="396072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 rot="16200000">
            <a:off x="3346200" y="278892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cc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6600cc"/>
                </a:solidFill>
                <a:latin typeface="Arial Black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 rot="16200000">
            <a:off x="4348080" y="271188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ff3399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B1D3-E8F6-4F54-B367-B8C6556D73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е горизонтальных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1125360"/>
            <a:ext cx="7993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равнение вида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y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=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b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оординатной плоскости задает множество точек, имеющих одну и ту же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ордина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95280" y="299736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им, например, уравнение: </a:t>
            </a:r>
            <a:br>
              <a:rPr sz="2800"/>
            </a:b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y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= 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1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68360" y="407196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метим на координатной плоскости некоторые точки, имеющие ординату, равную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0D01-BB7E-41D8-9A6B-59F8440DDC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2556000" y="1484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756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3708360" y="907920"/>
            <a:ext cx="4969080" cy="458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611280" y="981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69800" y="1484280"/>
            <a:ext cx="12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5219640" y="3068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6084720" y="3068640"/>
            <a:ext cx="14472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4284720" y="306864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95280" y="220500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точки лежат на вертикальной прямой, проходящей через точку с абсциссой 1 на ос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95280" y="5229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значит, что уравнение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ет на плоскости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горизонтальную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621080" y="1484280"/>
            <a:ext cx="10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Уравнение горизонтальных пря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 flipH="1">
            <a:off x="3851280" y="3141720"/>
            <a:ext cx="446400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6084720" y="2565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C215-C216-4101-BB20-29F1B866C0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95280" y="260280"/>
            <a:ext cx="813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7305"/>
                </a:solidFill>
                <a:latin typeface="Arial Black"/>
              </a:rPr>
              <a:t>Задание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68360" y="1916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4968720" cy="458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515880" y="1989000"/>
                <a:ext cx="2300400" cy="24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Line 6"/>
          <p:cNvSpPr/>
          <p:nvPr/>
        </p:nvSpPr>
        <p:spPr>
          <a:xfrm flipH="1">
            <a:off x="3276720" y="3284640"/>
            <a:ext cx="4464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252840" y="263700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00cc00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на координатной плоскости множества точек, соответствующих уравнен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 flipH="1">
            <a:off x="3276720" y="5229360"/>
            <a:ext cx="446400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 flipH="1">
            <a:off x="3276720" y="4437000"/>
            <a:ext cx="4464000" cy="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5534280" y="51577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cc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6600cc"/>
                </a:solidFill>
                <a:latin typeface="Arial Black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6108480" y="371628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 = </a:t>
            </a:r>
            <a:r>
              <a:rPr b="0" lang="ru-RU" sz="3200" spc="-1" strike="noStrike">
                <a:solidFill>
                  <a:srgbClr val="ff3399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0:46:39Z</dcterms:created>
  <dc:creator>Inferno</dc:creator>
  <dc:description/>
  <dc:language>en-US</dc:language>
  <cp:lastModifiedBy>Любовь</cp:lastModifiedBy>
  <dcterms:modified xsi:type="dcterms:W3CDTF">2015-12-06T14:55:14Z</dcterms:modified>
  <cp:revision>157</cp:revision>
  <dc:subject/>
  <dc:title>Слайд 1</dc:title>
</cp:coreProperties>
</file>