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8B0-D23D-4462-928A-86BA8CF5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8CEC-7175-4941-AA23-EE869552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DDE-138F-47A5-A6F9-B6D183FD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F875-3AD1-474C-B776-E55E19FA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46D-6107-4B9A-A477-53929A6A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E96-16E8-4E89-9BA9-AB68C48E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D96C-9D05-4233-A303-E41D1AA3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720-8E8B-453F-92B3-7B6E9D1E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03A-3E50-4559-B677-750CCA36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7FA-608C-4AD1-AF85-20654D00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DCC-1A18-4177-9CED-BD31CC28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360-3EC5-42BD-A7AF-57B89E1A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6a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4C0D-BB48-4F57-9967-528D6C69A2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6a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684360" y="1557360"/>
            <a:ext cx="77724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4800" spc="-1" strike="noStrike">
                <a:solidFill>
                  <a:srgbClr val="9900ff"/>
                </a:solidFill>
                <a:latin typeface="Arial Black"/>
              </a:rPr>
              <a:t>Геометр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7" descr="древо стихий"/>
          <p:cNvPicPr/>
          <p:nvPr/>
        </p:nvPicPr>
        <p:blipFill>
          <a:blip r:embed="rId1"/>
          <a:stretch/>
        </p:blipFill>
        <p:spPr>
          <a:xfrm>
            <a:off x="611280" y="3284640"/>
            <a:ext cx="3825720" cy="28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47E5-AA6D-4D60-AA84-F7A781A9650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Каноническое уравнение прям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6"/>
              <p:cNvSpPr txBox="1"/>
              <p:nvPr/>
            </p:nvSpPr>
            <p:spPr>
              <a:xfrm>
                <a:off x="3979800" y="4365720"/>
                <a:ext cx="283212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3862440" y="2041560"/>
                <a:ext cx="25099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 Box 11"/>
          <p:cNvSpPr/>
          <p:nvPr/>
        </p:nvSpPr>
        <p:spPr>
          <a:xfrm>
            <a:off x="539640" y="1052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привыкли к тому, что на координатной плоскости прям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 это график линейной функции, которая задана уравнением ви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468360" y="2781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следующее уравнение прямо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3"/>
              <p:cNvSpPr txBox="1"/>
              <p:nvPr/>
            </p:nvSpPr>
            <p:spPr>
              <a:xfrm>
                <a:off x="3916440" y="3213000"/>
                <a:ext cx="26017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5"/>
              <p:cNvSpPr txBox="1"/>
              <p:nvPr/>
            </p:nvSpPr>
            <p:spPr>
              <a:xfrm>
                <a:off x="3780000" y="5013360"/>
                <a:ext cx="3232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Oval 16"/>
          <p:cNvSpPr/>
          <p:nvPr/>
        </p:nvSpPr>
        <p:spPr>
          <a:xfrm>
            <a:off x="3132000" y="4869000"/>
            <a:ext cx="4464360" cy="1008000"/>
          </a:xfrm>
          <a:prstGeom prst="ellipse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9"/>
          <p:cNvSpPr/>
          <p:nvPr/>
        </p:nvSpPr>
        <p:spPr>
          <a:xfrm>
            <a:off x="611280" y="3213000"/>
            <a:ext cx="3313080" cy="1617840"/>
          </a:xfrm>
          <a:prstGeom prst="cloudCallout">
            <a:avLst>
              <a:gd name="adj1" fmla="val 36486"/>
              <a:gd name="adj2" fmla="val 63638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Arial"/>
              </a:rPr>
              <a:t>Каноническ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cc00"/>
                </a:solidFill>
                <a:latin typeface="Arial"/>
              </a:rPr>
              <a:t>запи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8B52-4989-4578-8CC1-1A8583CBD8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Каноническое уравнение прям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39640" y="1989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нонической записи уравнения прямых принято использовать целые коэффицие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468360" y="3429000"/>
                <a:ext cx="27622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3191040" y="1268280"/>
                <a:ext cx="349704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Oval 11"/>
          <p:cNvSpPr/>
          <p:nvPr/>
        </p:nvSpPr>
        <p:spPr>
          <a:xfrm>
            <a:off x="2843280" y="1125360"/>
            <a:ext cx="4464000" cy="1008360"/>
          </a:xfrm>
          <a:prstGeom prst="ellipse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539640" y="105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щем вид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539640" y="285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м обратную опера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5"/>
              <p:cNvSpPr txBox="1"/>
              <p:nvPr/>
            </p:nvSpPr>
            <p:spPr>
              <a:xfrm>
                <a:off x="539640" y="4076640"/>
                <a:ext cx="28018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6"/>
              <p:cNvSpPr txBox="1"/>
              <p:nvPr/>
            </p:nvSpPr>
            <p:spPr>
              <a:xfrm>
                <a:off x="5148360" y="3357720"/>
                <a:ext cx="160164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7"/>
              <p:cNvSpPr txBox="1"/>
              <p:nvPr/>
            </p:nvSpPr>
            <p:spPr>
              <a:xfrm>
                <a:off x="5148360" y="4437000"/>
                <a:ext cx="16002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Text Box 18"/>
          <p:cNvSpPr/>
          <p:nvPr/>
        </p:nvSpPr>
        <p:spPr>
          <a:xfrm>
            <a:off x="3419640" y="4149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е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500"/>
                            </p:stCondLst>
                            <p:childTnLst>
                              <p:par>
                                <p:cTn id="5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9AB2-FA56-4ADC-BDE6-F06BAC818F8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3059280" y="1787400"/>
            <a:ext cx="4968720" cy="4589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682560" y="2746440"/>
                <a:ext cx="20178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6" name="Line 6"/>
          <p:cNvSpPr/>
          <p:nvPr/>
        </p:nvSpPr>
        <p:spPr>
          <a:xfrm>
            <a:off x="3492360" y="2060640"/>
            <a:ext cx="2232000" cy="396072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на координатной плоскости множества точек, соответствующих уравнени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 flipH="1">
            <a:off x="4140000" y="2852640"/>
            <a:ext cx="3600360" cy="316872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0"/>
          <p:cNvSpPr/>
          <p:nvPr/>
        </p:nvSpPr>
        <p:spPr>
          <a:xfrm flipH="1" flipV="1">
            <a:off x="3276360" y="3428640"/>
            <a:ext cx="4319640" cy="259236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6804000" y="285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3492360" y="29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7020000" y="5157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250E-118A-47DE-8545-277FFEA5F6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Условие параллельности</a:t>
            </a:r>
            <a:br>
              <a:rPr sz="3200"/>
            </a:b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 прям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50920" y="443700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539640" y="1268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заданы уравнения прям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15"/>
              <p:cNvSpPr txBox="1"/>
              <p:nvPr/>
            </p:nvSpPr>
            <p:spPr>
              <a:xfrm>
                <a:off x="1116000" y="1916280"/>
                <a:ext cx="23763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6"/>
              <p:cNvSpPr txBox="1"/>
              <p:nvPr/>
            </p:nvSpPr>
            <p:spPr>
              <a:xfrm>
                <a:off x="4572000" y="1916280"/>
                <a:ext cx="3097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" name="Rectangle 1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9"/>
              <p:cNvSpPr txBox="1"/>
              <p:nvPr/>
            </p:nvSpPr>
            <p:spPr>
              <a:xfrm>
                <a:off x="1598760" y="2924280"/>
                <a:ext cx="45082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 </m:t>
                    </m:r>
                    <m:r>
                      <m:t xml:space="preserve">‖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сл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3" name="Oval 20"/>
          <p:cNvSpPr/>
          <p:nvPr/>
        </p:nvSpPr>
        <p:spPr>
          <a:xfrm>
            <a:off x="971640" y="2852640"/>
            <a:ext cx="6048360" cy="1224000"/>
          </a:xfrm>
          <a:prstGeom prst="ellipse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21"/>
              <p:cNvSpPr txBox="1"/>
              <p:nvPr/>
            </p:nvSpPr>
            <p:spPr>
              <a:xfrm>
                <a:off x="2050920" y="4527720"/>
                <a:ext cx="23749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2"/>
              <p:cNvSpPr txBox="1"/>
              <p:nvPr/>
            </p:nvSpPr>
            <p:spPr>
              <a:xfrm>
                <a:off x="4892760" y="4527720"/>
                <a:ext cx="23083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Oval 23"/>
          <p:cNvSpPr/>
          <p:nvPr/>
        </p:nvSpPr>
        <p:spPr>
          <a:xfrm>
            <a:off x="3276720" y="4508640"/>
            <a:ext cx="358560" cy="720720"/>
          </a:xfrm>
          <a:prstGeom prst="ellipse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24"/>
          <p:cNvSpPr/>
          <p:nvPr/>
        </p:nvSpPr>
        <p:spPr>
          <a:xfrm>
            <a:off x="6084720" y="4437000"/>
            <a:ext cx="358920" cy="720720"/>
          </a:xfrm>
          <a:prstGeom prst="ellipse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25"/>
              <p:cNvSpPr txBox="1"/>
              <p:nvPr/>
            </p:nvSpPr>
            <p:spPr>
              <a:xfrm>
                <a:off x="2195640" y="5300640"/>
                <a:ext cx="22320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26"/>
              <p:cNvSpPr txBox="1"/>
              <p:nvPr/>
            </p:nvSpPr>
            <p:spPr>
              <a:xfrm>
                <a:off x="6012000" y="5084640"/>
                <a:ext cx="12967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‖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Text Box 27"/>
          <p:cNvSpPr/>
          <p:nvPr/>
        </p:nvSpPr>
        <p:spPr>
          <a:xfrm>
            <a:off x="4356000" y="544500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е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C3E5-58A3-4E1A-BEC4-3AFF407EDB0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Уравнение прямой, проходящей через две заданные то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24000" y="33577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ямая проходит через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координаты этих точек можно подставить в уравнение прямо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79280" y="126828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ем уравнение прямой, проходящей через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2"/>
              <p:cNvSpPr txBox="1"/>
              <p:nvPr/>
            </p:nvSpPr>
            <p:spPr>
              <a:xfrm>
                <a:off x="395280" y="2565360"/>
                <a:ext cx="3800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3"/>
              <p:cNvSpPr txBox="1"/>
              <p:nvPr/>
            </p:nvSpPr>
            <p:spPr>
              <a:xfrm>
                <a:off x="5076720" y="1484280"/>
                <a:ext cx="1697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Text Box 18"/>
          <p:cNvSpPr/>
          <p:nvPr/>
        </p:nvSpPr>
        <p:spPr>
          <a:xfrm>
            <a:off x="4356000" y="4292640"/>
            <a:ext cx="40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ем систему линейных уравнений с неизвестным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ешив ее, находим значени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9"/>
              <p:cNvSpPr txBox="1"/>
              <p:nvPr/>
            </p:nvSpPr>
            <p:spPr>
              <a:xfrm>
                <a:off x="611280" y="4149720"/>
                <a:ext cx="281772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: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A2E8-3E1E-4F8A-A5B7-B08397F51D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Уравнение прямой, проходящей через две заданные то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24000" y="33577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тавим координаты в уравнение прямо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179280" y="126828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ем уравнение прямой, проходящей через точки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8"/>
              <p:cNvSpPr txBox="1"/>
              <p:nvPr/>
            </p:nvSpPr>
            <p:spPr>
              <a:xfrm>
                <a:off x="768240" y="2584440"/>
                <a:ext cx="30546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9"/>
              <p:cNvSpPr txBox="1"/>
              <p:nvPr/>
            </p:nvSpPr>
            <p:spPr>
              <a:xfrm>
                <a:off x="5076720" y="1484280"/>
                <a:ext cx="1697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Text Box 10"/>
          <p:cNvSpPr/>
          <p:nvPr/>
        </p:nvSpPr>
        <p:spPr>
          <a:xfrm>
            <a:off x="611280" y="530064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ем систему линейных уравнений с неизвестным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1"/>
              <p:cNvSpPr txBox="1"/>
              <p:nvPr/>
            </p:nvSpPr>
            <p:spPr>
              <a:xfrm>
                <a:off x="539640" y="3933720"/>
                <a:ext cx="30560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: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2"/>
              <p:cNvSpPr txBox="1"/>
              <p:nvPr/>
            </p:nvSpPr>
            <p:spPr>
              <a:xfrm>
                <a:off x="3995640" y="3933720"/>
                <a:ext cx="20703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3"/>
              <p:cNvSpPr txBox="1"/>
              <p:nvPr/>
            </p:nvSpPr>
            <p:spPr>
              <a:xfrm>
                <a:off x="6372360" y="3860640"/>
                <a:ext cx="1425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,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5" name="Text Box 15"/>
          <p:cNvSpPr/>
          <p:nvPr/>
        </p:nvSpPr>
        <p:spPr>
          <a:xfrm>
            <a:off x="4284720" y="5516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Отве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6"/>
              <p:cNvSpPr txBox="1"/>
              <p:nvPr/>
            </p:nvSpPr>
            <p:spPr>
              <a:xfrm>
                <a:off x="5435640" y="5445000"/>
                <a:ext cx="20368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ACCD-0F21-4D7B-9945-B7E431B0337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оординатной плоскости изображены прямые. Запишите уравнения. Соответствующие этим прямы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1258920" y="2708280"/>
                <a:ext cx="14176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2" name="Picture 16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253" name="Line 17"/>
          <p:cNvSpPr/>
          <p:nvPr/>
        </p:nvSpPr>
        <p:spPr>
          <a:xfrm>
            <a:off x="3780000" y="2565360"/>
            <a:ext cx="4464000" cy="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3178-F2A5-407E-A21B-6A2C5D4011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оординатной плоскости изображены прямые. Запишите уравнения. Соответствующие этим прямы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6"/>
              <p:cNvSpPr txBox="1"/>
              <p:nvPr/>
            </p:nvSpPr>
            <p:spPr>
              <a:xfrm>
                <a:off x="971640" y="2565360"/>
                <a:ext cx="14032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9" name="Picture 10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260" name="Line 11"/>
          <p:cNvSpPr/>
          <p:nvPr/>
        </p:nvSpPr>
        <p:spPr>
          <a:xfrm>
            <a:off x="3780000" y="4149720"/>
            <a:ext cx="4464000" cy="0"/>
          </a:xfrm>
          <a:prstGeom prst="line">
            <a:avLst/>
          </a:prstGeom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EFD2-9A71-42EF-8F52-0412125A05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оординатной плоскости изображены прямые. Запишите уравнения. Соответствующие этим прямы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7"/>
              <p:cNvSpPr txBox="1"/>
              <p:nvPr/>
            </p:nvSpPr>
            <p:spPr>
              <a:xfrm>
                <a:off x="1258920" y="2492280"/>
                <a:ext cx="12524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6" name="Picture 10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267" name="Line 11"/>
          <p:cNvSpPr/>
          <p:nvPr/>
        </p:nvSpPr>
        <p:spPr>
          <a:xfrm>
            <a:off x="6877080" y="1916280"/>
            <a:ext cx="0" cy="396072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68E0-9C4A-4E1E-9C18-EA17B091D0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оординатной плоскости изображены прямые. Запишите уравнения. Соответствующие этим прямы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6"/>
              <p:cNvSpPr txBox="1"/>
              <p:nvPr/>
            </p:nvSpPr>
            <p:spPr>
              <a:xfrm>
                <a:off x="1258920" y="2492280"/>
                <a:ext cx="12524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3" name="Picture 7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274" name="Line 8"/>
          <p:cNvSpPr/>
          <p:nvPr/>
        </p:nvSpPr>
        <p:spPr>
          <a:xfrm>
            <a:off x="5148360" y="1844640"/>
            <a:ext cx="0" cy="3960720"/>
          </a:xfrm>
          <a:prstGeom prst="line">
            <a:avLst/>
          </a:prstGeom>
          <a:ln w="57240">
            <a:solidFill>
              <a:srgbClr val="f0c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EE74-901A-4685-9183-81E5DA8B56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 flipV="1">
            <a:off x="2268360" y="475920"/>
            <a:ext cx="0" cy="611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539640" y="4508640"/>
            <a:ext cx="655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527"/>
          <p:cNvSpPr/>
          <p:nvPr/>
        </p:nvSpPr>
        <p:spPr>
          <a:xfrm>
            <a:off x="0" y="756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68360" y="907920"/>
          <a:ext cx="6059520" cy="5181840"/>
        </p:xfrm>
        <a:graphic>
          <a:graphicData uri="http://schemas.openxmlformats.org/drawingml/2006/table">
            <a:tbl>
              <a:tblPr/>
              <a:tblGrid>
                <a:gridCol w="604800"/>
                <a:gridCol w="608040"/>
                <a:gridCol w="604800"/>
                <a:gridCol w="606600"/>
                <a:gridCol w="606240"/>
                <a:gridCol w="604800"/>
                <a:gridCol w="606600"/>
                <a:gridCol w="604800"/>
                <a:gridCol w="608040"/>
                <a:gridCol w="60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17305"/>
                </a:solidFill>
                <a:latin typeface="Arial Black"/>
              </a:rPr>
              <a:t>Уравнение прямой </a:t>
            </a:r>
            <a:br>
              <a:rPr sz="6000"/>
            </a:br>
            <a:r>
              <a:rPr b="1" lang="ru-RU" sz="6000" spc="-1" strike="noStrike">
                <a:solidFill>
                  <a:srgbClr val="e17305"/>
                </a:solidFill>
                <a:latin typeface="Arial Black"/>
              </a:rPr>
              <a:t>на координатной плоскости</a:t>
            </a:r>
            <a:br>
              <a:rPr sz="6000"/>
            </a:b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F1BF-9D9B-4BC7-BF09-06D7356F5D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оординатной плоскости изображены прямые. Запишите уравнения. Соответствующие этим прямы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826920" y="2076480"/>
                <a:ext cx="14814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0" name="Picture 10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281" name="Line 11"/>
          <p:cNvSpPr/>
          <p:nvPr/>
        </p:nvSpPr>
        <p:spPr>
          <a:xfrm flipV="1">
            <a:off x="3780000" y="1773360"/>
            <a:ext cx="4032000" cy="352728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6936-5872-44D5-85B3-A96803C3B1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оординатной плоскости изображены прямые. Запишите уравнения. Соответствующие этим прямы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6"/>
              <p:cNvSpPr txBox="1"/>
              <p:nvPr/>
            </p:nvSpPr>
            <p:spPr>
              <a:xfrm>
                <a:off x="419040" y="2000160"/>
                <a:ext cx="22986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7" name="Picture 9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4968720" cy="4589280"/>
          </a:xfrm>
          <a:prstGeom prst="rect">
            <a:avLst/>
          </a:prstGeom>
          <a:ln w="0">
            <a:noFill/>
          </a:ln>
        </p:spPr>
      </p:pic>
      <p:sp>
        <p:nvSpPr>
          <p:cNvPr id="288" name="Line 10"/>
          <p:cNvSpPr/>
          <p:nvPr/>
        </p:nvSpPr>
        <p:spPr>
          <a:xfrm flipV="1">
            <a:off x="4211640" y="2349000"/>
            <a:ext cx="4032360" cy="352764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CC14-CFF1-43FC-A28A-0FA43B3299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оординатной плоскости изображены прямые. Запишите уравнения. Соответствующие этим прямы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955800" y="2708280"/>
                <a:ext cx="25365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4" name="Picture 10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295" name="Line 11"/>
          <p:cNvSpPr/>
          <p:nvPr/>
        </p:nvSpPr>
        <p:spPr>
          <a:xfrm>
            <a:off x="4140360" y="2205000"/>
            <a:ext cx="4032000" cy="35276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D04C-AF09-4C6D-B21A-93DEECDF86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оординатной плоскости изображены прямые. Запишите уравнения. Соответствующие этим прямы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6"/>
              <p:cNvSpPr txBox="1"/>
              <p:nvPr/>
            </p:nvSpPr>
            <p:spPr>
              <a:xfrm>
                <a:off x="1042920" y="2708280"/>
                <a:ext cx="17067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1" name="Picture 10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302" name="Line 11"/>
          <p:cNvSpPr/>
          <p:nvPr/>
        </p:nvSpPr>
        <p:spPr>
          <a:xfrm flipV="1">
            <a:off x="4211640" y="1916280"/>
            <a:ext cx="2232000" cy="396072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4E99-3A25-4ABA-B851-C559020889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539640" y="9079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оординатной плоскости изображены прямые. Запишите уравнения. Соответствующие этим прямы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684360" y="2205000"/>
                <a:ext cx="25192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8" name="Picture 10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309" name="Line 11"/>
          <p:cNvSpPr/>
          <p:nvPr/>
        </p:nvSpPr>
        <p:spPr>
          <a:xfrm>
            <a:off x="3780000" y="3500280"/>
            <a:ext cx="4464000" cy="2016360"/>
          </a:xfrm>
          <a:prstGeom prst="line">
            <a:avLst/>
          </a:prstGeom>
          <a:ln w="57240">
            <a:solidFill>
              <a:srgbClr val="f0c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A63F-12EA-4FA4-96FB-B3AE81DD36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611280" y="162864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Урок окончен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611280" y="422100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Arial Black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826920" y="2781360"/>
            <a:ext cx="813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 Black"/>
              </a:rPr>
              <a:t>Домашнее задание </a:t>
            </a:r>
            <a:br>
              <a:rPr sz="3200"/>
            </a:br>
            <a:r>
              <a:rPr b="1" lang="ru-RU" sz="3200" spc="-1" strike="noStrike">
                <a:solidFill>
                  <a:srgbClr val="00cc00"/>
                </a:solidFill>
                <a:latin typeface="Arial Black"/>
              </a:rPr>
              <a:t>№ 972(б), 973, 977, 97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E766-BDC9-4BEB-921C-7D4658E63D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Уравнения прям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24000" y="1125360"/>
            <a:ext cx="3743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ямые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координатной плоскости могут располагаться только тремя способ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468360" y="40719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горизонта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19" descr=""/>
          <p:cNvPicPr/>
          <p:nvPr/>
        </p:nvPicPr>
        <p:blipFill>
          <a:blip r:embed="rId1"/>
          <a:stretch/>
        </p:blipFill>
        <p:spPr>
          <a:xfrm>
            <a:off x="3851280" y="112536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0"/>
          <p:cNvSpPr/>
          <p:nvPr/>
        </p:nvSpPr>
        <p:spPr>
          <a:xfrm>
            <a:off x="468360" y="4508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ертика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468360" y="501336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под наклоном к ося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4067280" y="2565360"/>
            <a:ext cx="4465440" cy="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>
            <a:off x="6300720" y="1413000"/>
            <a:ext cx="0" cy="39607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24"/>
          <p:cNvSpPr/>
          <p:nvPr/>
        </p:nvSpPr>
        <p:spPr>
          <a:xfrm>
            <a:off x="4067280" y="1773360"/>
            <a:ext cx="3600360" cy="360036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C770-FCBC-4298-8788-D294DE5C57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Уравнение вертикальных прям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24000" y="1125360"/>
            <a:ext cx="7993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равнение вида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x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 =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a 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координатной плоскости задает множество точек, имеющих одну и ту же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абсцисс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95280" y="299736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ссмотрим, например, уравнение: </a:t>
            </a:r>
            <a:br>
              <a:rPr sz="2800"/>
            </a:br>
            <a:r>
              <a:rPr b="1" i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x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 = </a:t>
            </a: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1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68360" y="4071960"/>
            <a:ext cx="75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метим на координатной плоскости некоторые точки, имеющие абсциссу, равную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3BD0-FF4B-4418-9954-AA65625F1B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556000" y="1484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  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31"/>
          <p:cNvSpPr/>
          <p:nvPr/>
        </p:nvSpPr>
        <p:spPr>
          <a:xfrm>
            <a:off x="0" y="756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275" descr=""/>
          <p:cNvPicPr/>
          <p:nvPr/>
        </p:nvPicPr>
        <p:blipFill>
          <a:blip r:embed="rId1"/>
          <a:stretch/>
        </p:blipFill>
        <p:spPr>
          <a:xfrm>
            <a:off x="3924360" y="90792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276"/>
          <p:cNvSpPr/>
          <p:nvPr/>
        </p:nvSpPr>
        <p:spPr>
          <a:xfrm>
            <a:off x="611280" y="981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277"/>
          <p:cNvSpPr/>
          <p:nvPr/>
        </p:nvSpPr>
        <p:spPr>
          <a:xfrm>
            <a:off x="469800" y="1484280"/>
            <a:ext cx="12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 0),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2278"/>
          <p:cNvSpPr/>
          <p:nvPr/>
        </p:nvSpPr>
        <p:spPr>
          <a:xfrm>
            <a:off x="5867280" y="3500280"/>
            <a:ext cx="144720" cy="1447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2279"/>
          <p:cNvSpPr/>
          <p:nvPr/>
        </p:nvSpPr>
        <p:spPr>
          <a:xfrm>
            <a:off x="5867280" y="2708280"/>
            <a:ext cx="14472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2280"/>
          <p:cNvSpPr/>
          <p:nvPr/>
        </p:nvSpPr>
        <p:spPr>
          <a:xfrm>
            <a:off x="5867280" y="4292640"/>
            <a:ext cx="14472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281"/>
          <p:cNvSpPr/>
          <p:nvPr/>
        </p:nvSpPr>
        <p:spPr>
          <a:xfrm>
            <a:off x="395280" y="2205000"/>
            <a:ext cx="33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точки лежат на вертикальной прямой, проходящей через точку с абсциссой 1 на ос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95280" y="522936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значит, что уравнение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cc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cc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ет на плоскости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вертикальную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282"/>
          <p:cNvSpPr/>
          <p:nvPr/>
        </p:nvSpPr>
        <p:spPr>
          <a:xfrm>
            <a:off x="1621080" y="148428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2),</a:t>
            </a:r>
            <a:r>
              <a:rPr b="1" lang="ru-RU" sz="1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284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Уравнение вертикальных прям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2285"/>
          <p:cNvSpPr/>
          <p:nvPr/>
        </p:nvSpPr>
        <p:spPr>
          <a:xfrm>
            <a:off x="5940360" y="1125360"/>
            <a:ext cx="0" cy="41040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286"/>
          <p:cNvSpPr/>
          <p:nvPr/>
        </p:nvSpPr>
        <p:spPr>
          <a:xfrm rot="16200000">
            <a:off x="5448600" y="21186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Arial"/>
              </a:rPr>
              <a:t>х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3EFF-4B12-46AA-94FA-90A86BAFD1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3059280" y="1787400"/>
            <a:ext cx="4968720" cy="4589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539640" y="1989000"/>
                <a:ext cx="2252880" cy="249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Line 7"/>
          <p:cNvSpPr/>
          <p:nvPr/>
        </p:nvSpPr>
        <p:spPr>
          <a:xfrm>
            <a:off x="5940360" y="2060640"/>
            <a:ext cx="0" cy="396072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 rot="16200000">
            <a:off x="5140440" y="256716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00"/>
                </a:solidFill>
                <a:latin typeface="Arial Black"/>
              </a:rPr>
              <a:t>x</a:t>
            </a:r>
            <a:r>
              <a:rPr b="0" lang="en-US" sz="3200" spc="-1" strike="noStrike">
                <a:solidFill>
                  <a:srgbClr val="00cc00"/>
                </a:solidFill>
                <a:latin typeface="Arial Black"/>
              </a:rPr>
              <a:t> = </a:t>
            </a:r>
            <a:r>
              <a:rPr b="0" lang="ru-RU" sz="3200" spc="-1" strike="noStrike">
                <a:solidFill>
                  <a:srgbClr val="00cc0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на координатной плоскости множества точек, соответствующих уравнени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3708360" y="2060640"/>
            <a:ext cx="0" cy="396072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643280" y="2060640"/>
            <a:ext cx="0" cy="396072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 rot="16200000">
            <a:off x="3346200" y="2788920"/>
            <a:ext cx="11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cc"/>
                </a:solidFill>
                <a:latin typeface="Arial Black"/>
              </a:rPr>
              <a:t>x</a:t>
            </a:r>
            <a:r>
              <a:rPr b="0" lang="en-US" sz="3200" spc="-1" strike="noStrike">
                <a:solidFill>
                  <a:srgbClr val="6600cc"/>
                </a:solidFill>
                <a:latin typeface="Arial Black"/>
              </a:rPr>
              <a:t> = </a:t>
            </a:r>
            <a:r>
              <a:rPr b="0" lang="ru-RU" sz="3200" spc="-1" strike="noStrike">
                <a:solidFill>
                  <a:srgbClr val="6600cc"/>
                </a:solidFill>
                <a:latin typeface="Arial Black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 rot="16200000">
            <a:off x="4348080" y="271188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Arial Black"/>
              </a:rPr>
              <a:t>x</a:t>
            </a: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 = </a:t>
            </a:r>
            <a:r>
              <a:rPr b="0" lang="ru-RU" sz="3200" spc="-1" strike="noStrike">
                <a:solidFill>
                  <a:srgbClr val="ff3399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4C84-1A71-42E5-BAE5-6BEB183D27C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Уравнение горизонтальных прям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24000" y="1125360"/>
            <a:ext cx="7993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равнение вида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y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 =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b 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координатной плоскости задает множество точек, имеющих одну и ту же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ордина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95280" y="299736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ссмотрим, например, уравнение: </a:t>
            </a:r>
            <a:br>
              <a:rPr sz="2800"/>
            </a:br>
            <a:r>
              <a:rPr b="1" i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y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 = </a:t>
            </a: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1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68360" y="4071960"/>
            <a:ext cx="75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метим на координатной плоскости некоторые точки, имеющие ординату, равную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CF4B-EAFA-4D0A-A916-85B905022F9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2556000" y="1484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756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3708360" y="907920"/>
            <a:ext cx="4969080" cy="4589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611280" y="981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69800" y="1484280"/>
            <a:ext cx="12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5219640" y="3068640"/>
            <a:ext cx="14436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6084720" y="3068640"/>
            <a:ext cx="14472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4284720" y="3068640"/>
            <a:ext cx="14436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95280" y="2205000"/>
            <a:ext cx="33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точки лежат на вертикальной прямой, проходящей через точку с абсциссой 1 на ос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395280" y="522936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значит, что уравнение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cc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cc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ет на плоскости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горизонтальную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1621080" y="1484280"/>
            <a:ext cx="10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lang="ru-RU" sz="1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Уравнение горизонтальных прям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 flipH="1">
            <a:off x="3851280" y="3141720"/>
            <a:ext cx="446400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6084720" y="2565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7848-60AF-4F7E-8B63-F2C288712F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4968720" cy="458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515880" y="1989000"/>
                <a:ext cx="2300400" cy="249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Line 6"/>
          <p:cNvSpPr/>
          <p:nvPr/>
        </p:nvSpPr>
        <p:spPr>
          <a:xfrm flipH="1">
            <a:off x="3276720" y="3284640"/>
            <a:ext cx="4464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6252840" y="2637000"/>
            <a:ext cx="10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00"/>
                </a:solidFill>
                <a:latin typeface="Arial Black"/>
              </a:rPr>
              <a:t>y</a:t>
            </a:r>
            <a:r>
              <a:rPr b="0" lang="en-US" sz="3200" spc="-1" strike="noStrike">
                <a:solidFill>
                  <a:srgbClr val="00cc00"/>
                </a:solidFill>
                <a:latin typeface="Arial Black"/>
              </a:rPr>
              <a:t> = </a:t>
            </a:r>
            <a:r>
              <a:rPr b="0" lang="ru-RU" sz="3200" spc="-1" strike="noStrike">
                <a:solidFill>
                  <a:srgbClr val="00cc0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на координатной плоскости множества точек, соответствующих уравнени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 flipH="1">
            <a:off x="3276720" y="5229360"/>
            <a:ext cx="4464000" cy="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 flipH="1">
            <a:off x="3276720" y="4437000"/>
            <a:ext cx="4464000" cy="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5534280" y="5157720"/>
            <a:ext cx="11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cc"/>
                </a:solidFill>
                <a:latin typeface="Arial Black"/>
              </a:rPr>
              <a:t>y</a:t>
            </a:r>
            <a:r>
              <a:rPr b="0" lang="en-US" sz="3200" spc="-1" strike="noStrike">
                <a:solidFill>
                  <a:srgbClr val="6600cc"/>
                </a:solidFill>
                <a:latin typeface="Arial Black"/>
              </a:rPr>
              <a:t> = </a:t>
            </a:r>
            <a:r>
              <a:rPr b="0" lang="ru-RU" sz="3200" spc="-1" strike="noStrike">
                <a:solidFill>
                  <a:srgbClr val="6600cc"/>
                </a:solidFill>
                <a:latin typeface="Arial Black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6108480" y="3716280"/>
            <a:ext cx="10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Arial Black"/>
              </a:rPr>
              <a:t>y</a:t>
            </a: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 = </a:t>
            </a:r>
            <a:r>
              <a:rPr b="0" lang="ru-RU" sz="3200" spc="-1" strike="noStrike">
                <a:solidFill>
                  <a:srgbClr val="ff3399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0:46:39Z</dcterms:created>
  <dc:creator>Inferno</dc:creator>
  <dc:description/>
  <dc:language>en-US</dc:language>
  <cp:lastModifiedBy>Любовь</cp:lastModifiedBy>
  <dcterms:modified xsi:type="dcterms:W3CDTF">2015-12-06T14:55:14Z</dcterms:modified>
  <cp:revision>157</cp:revision>
  <dc:subject/>
  <dc:title>Слайд 1</dc:title>
</cp:coreProperties>
</file>