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.gif" ContentType="image/gif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0F8F-14DC-48A8-B340-980AD292A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0F8A-176A-42E9-BEC6-2C13B495F1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118-2074-4AE1-84F1-80D745E6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00C-ED29-40BC-A2F2-6F50B96D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D19-E6A5-46D8-BFBE-D6A37AD3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5E4-748E-4209-915E-D74FBED8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5E30-ECA7-4FB8-914A-E9394EEB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7BD8-CB8D-40DF-8563-D5ACD726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B223-3D71-43FB-95FF-69D40E06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A706-F5AD-4636-B44F-C90DBE6F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8642-1744-417A-A21F-7ECC7A9C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5C59-7687-4525-9E30-6D37B373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30FC-2012-4F65-B19B-EEC443C0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DCE-88F6-4F70-B8C9-A8A1B0EE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CBCD-56DC-4AD6-BA45-B24A5B3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AC49-1A26-4FE0-BFAF-A37A967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DA20-97BA-4581-867A-0C998C03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E6C5-37DA-4D31-A978-C15802F7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89E2-9D7C-4411-B8E2-F6D96D77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2B06-F276-42B4-9C2F-D4E78454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C61A-A165-48F0-AE84-C28857C3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7229-D77D-469A-B982-CEC5397D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C02A-3CEA-43E4-8BFA-613C1475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C5C5-FBC0-4BA9-B01C-B9C7A6DF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21E-023A-49D6-978A-5E7D93BF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5CB8-0968-4606-81FF-37C86340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5DD1-C36C-4D26-9474-426A9401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1B9B-B773-41AD-9900-1E94FA2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CEBB4-6372-41EF-B9F5-1F82F75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C710-6D7B-4F6D-91FB-DF05C883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44E1-A1A1-42E9-9419-3E56BC29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A09B-1E41-465E-8320-1DDFB786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47C3-9F02-4680-AD1E-E1D02640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B2E1-1969-4E35-92B7-981336E6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4B84-826D-4482-953F-74AECFA2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6CD-F64A-45A3-9B76-BCBE09B1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E109-5F7C-4B38-8F88-153421ED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14C46-2B29-4195-A73B-FFA7C220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4841-242E-4107-AC70-2BF09D5F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5F13-950C-41A2-ABCD-2459FC0D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7DEA-F563-40BA-A373-CC8F455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B001-3BC4-4B51-8092-52C9EC20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B43E-0AA8-469D-AE2F-874AB11C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B228-1214-4EEA-931A-6F4F103D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B505-1622-49E7-81D4-917ED0B4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367-B39D-40A3-B536-E2DDE90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C5D-033E-4E41-963C-2B5C6219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999-57AA-412A-9794-684AF6B3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2C8-5683-404D-AAC6-0493B7F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D06-1C7C-4939-A505-53FD119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2F99-F316-4B0B-908C-3E91931071C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84FC-65BA-442A-8EA4-5AADD311143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4A9F-7D48-4973-9FF7-1461B6EC294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FC4-50AA-4355-A9C4-F401DE10D9A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920" y="222120"/>
            <a:ext cx="3421080" cy="30052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"/>
          <p:cNvPicPr/>
          <p:nvPr/>
        </p:nvPicPr>
        <p:blipFill>
          <a:blip r:embed="rId2"/>
          <a:stretch/>
        </p:blipFill>
        <p:spPr>
          <a:xfrm>
            <a:off x="3672000" y="2104920"/>
            <a:ext cx="6411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Рекреационный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Объект 3" descr=""/>
          <p:cNvPicPr/>
          <p:nvPr/>
        </p:nvPicPr>
        <p:blipFill>
          <a:blip r:embed="rId1"/>
          <a:stretch/>
        </p:blipFill>
        <p:spPr>
          <a:xfrm>
            <a:off x="120600" y="1573200"/>
            <a:ext cx="5649840" cy="4992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"/>
          <p:cNvPicPr/>
          <p:nvPr/>
        </p:nvPicPr>
        <p:blipFill>
          <a:blip r:embed="rId2"/>
          <a:stretch/>
        </p:blipFill>
        <p:spPr>
          <a:xfrm>
            <a:off x="5981760" y="1573200"/>
            <a:ext cx="594972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Активны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Объект 3" descr=""/>
          <p:cNvPicPr/>
          <p:nvPr/>
        </p:nvPicPr>
        <p:blipFill>
          <a:blip r:embed="rId1"/>
          <a:stretch/>
        </p:blipFill>
        <p:spPr>
          <a:xfrm>
            <a:off x="5291280" y="790560"/>
            <a:ext cx="3130560" cy="5079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8685360" y="96840"/>
            <a:ext cx="3352680" cy="51498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3"/>
          <a:stretch/>
        </p:blipFill>
        <p:spPr>
          <a:xfrm>
            <a:off x="149400" y="1819440"/>
            <a:ext cx="45162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131760" y="136440"/>
            <a:ext cx="5821200" cy="38815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"/>
          <p:cNvPicPr/>
          <p:nvPr/>
        </p:nvPicPr>
        <p:blipFill>
          <a:blip r:embed="rId2"/>
          <a:stretch/>
        </p:blipFill>
        <p:spPr>
          <a:xfrm>
            <a:off x="5280120" y="2185920"/>
            <a:ext cx="6912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5" name="Объект 3" descr=""/>
          <p:cNvPicPr/>
          <p:nvPr/>
        </p:nvPicPr>
        <p:blipFill>
          <a:blip r:embed="rId1"/>
          <a:stretch/>
        </p:blipFill>
        <p:spPr>
          <a:xfrm>
            <a:off x="249120" y="196920"/>
            <a:ext cx="978372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Продолжите фразу: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- Я знаю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- Я запомнил (а)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- Мне пригодится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омашнее задание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7520" y="1198440"/>
            <a:ext cx="85964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Напишите сочинение - рассуждение на тему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«Почему я хотел бы заняться туризмом?»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290920" y="2160360"/>
            <a:ext cx="60116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утешественник видит то, что видит, а турист, то, что он хочет видеть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илберт Кит Честерто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442800" y="609480"/>
            <a:ext cx="44593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2" descr=""/>
          <p:cNvPicPr/>
          <p:nvPr/>
        </p:nvPicPr>
        <p:blipFill>
          <a:blip r:embed="rId1"/>
          <a:stretch/>
        </p:blipFill>
        <p:spPr>
          <a:xfrm>
            <a:off x="655560" y="922320"/>
            <a:ext cx="4500720" cy="45640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"/>
          <p:cNvPicPr/>
          <p:nvPr/>
        </p:nvPicPr>
        <p:blipFill>
          <a:blip r:embed="rId2"/>
          <a:stretch/>
        </p:blipFill>
        <p:spPr>
          <a:xfrm>
            <a:off x="6505560" y="2852640"/>
            <a:ext cx="5097600" cy="3608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441360" y="3348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Узел двойной булин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6505560" y="163368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Узел проводник-восьмер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Объект 3" descr=""/>
          <p:cNvPicPr/>
          <p:nvPr/>
        </p:nvPicPr>
        <p:blipFill>
          <a:blip r:embed="rId1"/>
          <a:stretch/>
        </p:blipFill>
        <p:spPr>
          <a:xfrm>
            <a:off x="401760" y="406440"/>
            <a:ext cx="92660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1080468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уризм как вид активного отдыха.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Объект 3" descr=""/>
          <p:cNvPicPr/>
          <p:nvPr/>
        </p:nvPicPr>
        <p:blipFill>
          <a:blip r:embed="rId1"/>
          <a:stretch/>
        </p:blipFill>
        <p:spPr>
          <a:xfrm>
            <a:off x="677880" y="1603440"/>
            <a:ext cx="105948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словаря С.И.Ожегова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УРИЗМ, -а, м. 1. Вид спорта - групповые походы, имеющие целью физическую закалку организм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Вид путешествий, совершаемых для отдыха и самообразования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520" y="609120"/>
            <a:ext cx="98154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узнать, что такое активный туризм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Познавательный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Объект 3" descr=""/>
          <p:cNvPicPr/>
          <p:nvPr/>
        </p:nvPicPr>
        <p:blipFill>
          <a:blip r:embed="rId1"/>
          <a:stretch/>
        </p:blipFill>
        <p:spPr>
          <a:xfrm>
            <a:off x="225360" y="1379520"/>
            <a:ext cx="5486400" cy="529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"/>
          <p:cNvPicPr/>
          <p:nvPr/>
        </p:nvPicPr>
        <p:blipFill>
          <a:blip r:embed="rId2"/>
          <a:stretch/>
        </p:blipFill>
        <p:spPr>
          <a:xfrm>
            <a:off x="5830920" y="1379520"/>
            <a:ext cx="592128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елигиозный или паломнически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9" name="Объект 3" descr=""/>
          <p:cNvPicPr/>
          <p:nvPr/>
        </p:nvPicPr>
        <p:blipFill>
          <a:blip r:embed="rId1"/>
          <a:stretch/>
        </p:blipFill>
        <p:spPr>
          <a:xfrm>
            <a:off x="299880" y="1768320"/>
            <a:ext cx="5186520" cy="4646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2"/>
          <a:stretch/>
        </p:blipFill>
        <p:spPr>
          <a:xfrm>
            <a:off x="5711760" y="1768320"/>
            <a:ext cx="580068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Оздоровительный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Объект 7" descr=""/>
          <p:cNvPicPr/>
          <p:nvPr/>
        </p:nvPicPr>
        <p:blipFill>
          <a:blip r:embed="rId1"/>
          <a:stretch/>
        </p:blipFill>
        <p:spPr>
          <a:xfrm>
            <a:off x="195120" y="1393920"/>
            <a:ext cx="5276880" cy="54640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9" descr=""/>
          <p:cNvPicPr/>
          <p:nvPr/>
        </p:nvPicPr>
        <p:blipFill>
          <a:blip r:embed="rId2"/>
          <a:stretch/>
        </p:blipFill>
        <p:spPr>
          <a:xfrm>
            <a:off x="5800680" y="1184400"/>
            <a:ext cx="599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2T01:18:24Z</dcterms:created>
  <dc:creator>Пользователь</dc:creator>
  <dc:description/>
  <dc:language>en-US</dc:language>
  <cp:lastModifiedBy>Сервер</cp:lastModifiedBy>
  <dcterms:modified xsi:type="dcterms:W3CDTF">2019-11-25T09:44:15Z</dcterms:modified>
  <cp:revision>18</cp:revision>
  <dc:subject/>
  <dc:title>Презентация PowerPoint</dc:title>
</cp:coreProperties>
</file>