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1.gif" ContentType="image/gif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8C96-7166-4ED0-87DF-3A7AAF513F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E52A-B572-433A-8737-474CCCFCDA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8157-F783-4181-9671-D2F54DE5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8BFE-2CFE-4007-8F59-72B10E8D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FFD-7E4A-47F5-AAD2-6D9B1658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977B-48A2-4737-AAE6-40B4533C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5CF3-181B-455B-A1A9-0D69C430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6C25-D1FD-46A5-989E-813B0B79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E046-F07B-4DC9-9DB8-E68017D2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3998-9E79-4B95-B912-AB6D7A7B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A2C8-BCC7-450E-89B8-6D0A5FC4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6C85-6D98-484B-9852-B25D45A7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EA0C-2024-49FC-A34F-B0817124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AD21-0CCC-4966-B574-D1A1F2D2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4DFF-11EF-4572-B35E-CE509E38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3C88-4ECE-4388-A0DD-5D59755A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C7D4-81F9-4929-851B-02AD7CE0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74F4-E808-40BE-AC7F-D7A31C26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1AC3-E435-4F31-81E0-AAD53A12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B9F13-47A1-4C65-99F8-0C38488A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1BD29-46B4-4A28-9D4C-E41419CD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7BE76-E0AC-4221-A46B-6D930D00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EA96A-53B5-4B8A-AA4D-EEB9B9D0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01125-9CBB-406D-A057-BBF77823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178F-64AB-4DB0-9175-669BFB01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6ACF7-2DEB-4F59-A412-8B462F4A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77BCB-326E-4E6B-BEE7-DF38B8D8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25676-02E8-441D-9BC5-A8AFC45B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1FEE7-D716-4549-81D4-B09BA33F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F4D08-011C-4795-B09E-BE278226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C162A-BB0F-407B-AC8A-185C4816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75689-E296-4947-B848-7AE58F9B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588F3-465A-4D97-BE5D-8C96F2F0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3A258-931F-49E7-BDF3-1D05EC2F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BF53D-3A7A-4A47-AF99-AE9B4AAA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7E83-5109-471B-A6C2-5FB3753D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7C723-56AC-478C-BC1E-78ABB530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ADCD8-2753-44E3-BC6E-D1A5BAF4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29C8F-CC0D-4BB9-8401-BD321234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B3B22-A5CB-440E-8C47-7230C0E9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28C45-3CC8-4111-BDD8-4936D257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E1081-ABB9-45BF-AC92-A65701A2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267F4-DEC9-4C24-8304-20239E93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1FB37-DCEA-4A7B-935F-49DECBD0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22926-2BFC-41FA-BE51-FBC08E28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985-D213-4732-A779-3DCEC50E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7ADA-5110-41D5-8FD2-B2F7053F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D16-5E13-4828-A74D-E5A5AE86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93B3-DB4D-4CA9-9B0D-AC3840C4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DAC3-5954-48BE-B885-5EB15CFD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A94F-D9E0-4733-AAAD-F32CC2EEDF3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47CA-184B-4D44-8560-ED191B541D9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812E-9F45-407D-9E1D-A22953B8AB0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2255-ED55-4D0C-99B3-05CE1D15903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21" name="Рисунок 3" descr=""/>
          <p:cNvPicPr/>
          <p:nvPr/>
        </p:nvPicPr>
        <p:blipFill>
          <a:blip r:embed="rId1"/>
          <a:stretch/>
        </p:blipFill>
        <p:spPr>
          <a:xfrm>
            <a:off x="7920" y="222120"/>
            <a:ext cx="3421080" cy="300528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4" descr=""/>
          <p:cNvPicPr/>
          <p:nvPr/>
        </p:nvPicPr>
        <p:blipFill>
          <a:blip r:embed="rId2"/>
          <a:stretch/>
        </p:blipFill>
        <p:spPr>
          <a:xfrm>
            <a:off x="3672000" y="2104920"/>
            <a:ext cx="6411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Рекреационный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Объект 3" descr=""/>
          <p:cNvPicPr/>
          <p:nvPr/>
        </p:nvPicPr>
        <p:blipFill>
          <a:blip r:embed="rId1"/>
          <a:stretch/>
        </p:blipFill>
        <p:spPr>
          <a:xfrm>
            <a:off x="120600" y="1573200"/>
            <a:ext cx="5649840" cy="49928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4" descr=""/>
          <p:cNvPicPr/>
          <p:nvPr/>
        </p:nvPicPr>
        <p:blipFill>
          <a:blip r:embed="rId2"/>
          <a:stretch/>
        </p:blipFill>
        <p:spPr>
          <a:xfrm>
            <a:off x="5981760" y="1573200"/>
            <a:ext cx="594972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Активный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8" name="Объект 3" descr=""/>
          <p:cNvPicPr/>
          <p:nvPr/>
        </p:nvPicPr>
        <p:blipFill>
          <a:blip r:embed="rId1"/>
          <a:stretch/>
        </p:blipFill>
        <p:spPr>
          <a:xfrm>
            <a:off x="5291280" y="790560"/>
            <a:ext cx="3130560" cy="50799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" descr=""/>
          <p:cNvPicPr/>
          <p:nvPr/>
        </p:nvPicPr>
        <p:blipFill>
          <a:blip r:embed="rId2"/>
          <a:stretch/>
        </p:blipFill>
        <p:spPr>
          <a:xfrm>
            <a:off x="8685360" y="96840"/>
            <a:ext cx="3352680" cy="514980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2" descr=""/>
          <p:cNvPicPr/>
          <p:nvPr/>
        </p:nvPicPr>
        <p:blipFill>
          <a:blip r:embed="rId3"/>
          <a:stretch/>
        </p:blipFill>
        <p:spPr>
          <a:xfrm>
            <a:off x="149400" y="1819440"/>
            <a:ext cx="451620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2" name="Объект 3" descr=""/>
          <p:cNvPicPr/>
          <p:nvPr/>
        </p:nvPicPr>
        <p:blipFill>
          <a:blip r:embed="rId1"/>
          <a:stretch/>
        </p:blipFill>
        <p:spPr>
          <a:xfrm>
            <a:off x="131760" y="136440"/>
            <a:ext cx="5821200" cy="38815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4" descr=""/>
          <p:cNvPicPr/>
          <p:nvPr/>
        </p:nvPicPr>
        <p:blipFill>
          <a:blip r:embed="rId2"/>
          <a:stretch/>
        </p:blipFill>
        <p:spPr>
          <a:xfrm>
            <a:off x="5280120" y="2185920"/>
            <a:ext cx="6912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5" name="Объект 3" descr=""/>
          <p:cNvPicPr/>
          <p:nvPr/>
        </p:nvPicPr>
        <p:blipFill>
          <a:blip r:embed="rId1"/>
          <a:stretch/>
        </p:blipFill>
        <p:spPr>
          <a:xfrm>
            <a:off x="249120" y="196920"/>
            <a:ext cx="978372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Продолжите фразу: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- Я знаю…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- Я запомнил (а)…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- Мне пригодится…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Домашнее задание: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77520" y="1198440"/>
            <a:ext cx="85964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Напишите сочинение - рассуждение на тему: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«Почему я хотел бы заняться туризмом?»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290920" y="2160360"/>
            <a:ext cx="60116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утешественник видит то, что видит, а турист, то, что он хочет видеть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                                   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илберт Кит Честерто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2" name="Рисунок 3" descr=""/>
          <p:cNvPicPr/>
          <p:nvPr/>
        </p:nvPicPr>
        <p:blipFill>
          <a:blip r:embed="rId1"/>
          <a:stretch/>
        </p:blipFill>
        <p:spPr>
          <a:xfrm>
            <a:off x="442800" y="609480"/>
            <a:ext cx="445932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2" descr=""/>
          <p:cNvPicPr/>
          <p:nvPr/>
        </p:nvPicPr>
        <p:blipFill>
          <a:blip r:embed="rId1"/>
          <a:stretch/>
        </p:blipFill>
        <p:spPr>
          <a:xfrm>
            <a:off x="655560" y="922320"/>
            <a:ext cx="4500720" cy="45640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3" descr=""/>
          <p:cNvPicPr/>
          <p:nvPr/>
        </p:nvPicPr>
        <p:blipFill>
          <a:blip r:embed="rId2"/>
          <a:stretch/>
        </p:blipFill>
        <p:spPr>
          <a:xfrm>
            <a:off x="6505560" y="2852640"/>
            <a:ext cx="5097600" cy="36086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"/>
          <p:cNvSpPr/>
          <p:nvPr/>
        </p:nvSpPr>
        <p:spPr>
          <a:xfrm>
            <a:off x="441360" y="3348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Узел двойной булин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6505560" y="163368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Узел проводник-восьмер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Объект 3" descr=""/>
          <p:cNvPicPr/>
          <p:nvPr/>
        </p:nvPicPr>
        <p:blipFill>
          <a:blip r:embed="rId1"/>
          <a:stretch/>
        </p:blipFill>
        <p:spPr>
          <a:xfrm>
            <a:off x="401760" y="406440"/>
            <a:ext cx="926604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1080468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Туризм как вид активного отдыха.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Объект 3" descr=""/>
          <p:cNvPicPr/>
          <p:nvPr/>
        </p:nvPicPr>
        <p:blipFill>
          <a:blip r:embed="rId1"/>
          <a:stretch/>
        </p:blipFill>
        <p:spPr>
          <a:xfrm>
            <a:off x="677880" y="1603440"/>
            <a:ext cx="105948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 словаря С.И.Ожегова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УРИЗМ, -а, м. 1. Вид спорта - групповые походы, имеющие целью физическую закалку организма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Вид путешествий, совершаемых для отдыха и самообразования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77520" y="609120"/>
            <a:ext cx="981540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узнать, что такое активный туризм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Познавательный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6" name="Объект 3" descr=""/>
          <p:cNvPicPr/>
          <p:nvPr/>
        </p:nvPicPr>
        <p:blipFill>
          <a:blip r:embed="rId1"/>
          <a:stretch/>
        </p:blipFill>
        <p:spPr>
          <a:xfrm>
            <a:off x="225360" y="1379520"/>
            <a:ext cx="5486400" cy="52912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5" descr=""/>
          <p:cNvPicPr/>
          <p:nvPr/>
        </p:nvPicPr>
        <p:blipFill>
          <a:blip r:embed="rId2"/>
          <a:stretch/>
        </p:blipFill>
        <p:spPr>
          <a:xfrm>
            <a:off x="5830920" y="1379520"/>
            <a:ext cx="592128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Религиозный или паломнический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9" name="Объект 3" descr=""/>
          <p:cNvPicPr/>
          <p:nvPr/>
        </p:nvPicPr>
        <p:blipFill>
          <a:blip r:embed="rId1"/>
          <a:stretch/>
        </p:blipFill>
        <p:spPr>
          <a:xfrm>
            <a:off x="299880" y="1768320"/>
            <a:ext cx="5186520" cy="46468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4" descr=""/>
          <p:cNvPicPr/>
          <p:nvPr/>
        </p:nvPicPr>
        <p:blipFill>
          <a:blip r:embed="rId2"/>
          <a:stretch/>
        </p:blipFill>
        <p:spPr>
          <a:xfrm>
            <a:off x="5711760" y="1768320"/>
            <a:ext cx="580068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Оздоровительный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2" name="Объект 7" descr=""/>
          <p:cNvPicPr/>
          <p:nvPr/>
        </p:nvPicPr>
        <p:blipFill>
          <a:blip r:embed="rId1"/>
          <a:stretch/>
        </p:blipFill>
        <p:spPr>
          <a:xfrm>
            <a:off x="195120" y="1393920"/>
            <a:ext cx="5276880" cy="54640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9" descr=""/>
          <p:cNvPicPr/>
          <p:nvPr/>
        </p:nvPicPr>
        <p:blipFill>
          <a:blip r:embed="rId2"/>
          <a:stretch/>
        </p:blipFill>
        <p:spPr>
          <a:xfrm>
            <a:off x="5800680" y="1184400"/>
            <a:ext cx="5996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02T01:18:24Z</dcterms:created>
  <dc:creator>Пользователь</dc:creator>
  <dc:description/>
  <dc:language>en-US</dc:language>
  <cp:lastModifiedBy>Сервер</cp:lastModifiedBy>
  <dcterms:modified xsi:type="dcterms:W3CDTF">2019-11-25T09:44:15Z</dcterms:modified>
  <cp:revision>18</cp:revision>
  <dc:subject/>
  <dc:title>Презентация PowerPoint</dc:title>
</cp:coreProperties>
</file>