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10F-C83A-421F-87A4-143BC31E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634-FBB2-4963-8BA1-7EBCAED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CF3-C786-4486-9F6F-4978DD74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BD6-DAE2-4A43-A604-BEA18AF9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2C49-0EFA-4DCF-8C51-D120DD0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3D1-A0A4-4177-9197-AF2B0021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01F-EA7D-4323-AD43-12A2139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7153-102B-4501-A701-F25FDF3D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4261-9376-49D8-92FD-D45EA266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4A93-61EC-4343-B04C-E7A0E642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412C-BDBB-43AF-8912-39597CC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0F8-A3AA-4628-8605-6ABA9F4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E383-74F4-4BC5-9B60-5F5CC96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991-0372-40A8-AEAF-CD0D643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0432-4965-412C-960D-27B1B55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0C0A-29AE-448D-97C0-A3EB45F1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1F9A-5FC1-46F8-ABA9-3F6C6B04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E5B-8272-4D0E-ADE9-E5768B62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7B8-B8EA-4769-AE79-5768C03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A81-C59C-4D74-9F09-1059DA6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BB2-4A79-4CF9-A3D2-855196A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02C-9775-4EE2-BB24-F9640DC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9F0-C5B6-48B3-AF01-8E574D82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47C-C34A-49CC-9BE2-356BCB6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D15-222F-4FE3-ABFF-5CF8B92F9D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61BA-7C62-470C-A97E-C34DBBACB8D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19520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А ЗДОРОВЬЕ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НА УРОК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МАТЕМАТИКИ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 класс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9200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орма суточной потребности учащихся в различных витаминах составляет в среднем 125 мг. Одна выкуренная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игарета уничтожает 20% витаминов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. Сколько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г витаминов ворует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 себя тот, кто курит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27640" y="4578480"/>
            <a:ext cx="291636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Каждая выкуренная сигарета сокращает жизнь курильщика на 6 -10 мин. В общем,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урящие дети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кращают себе жизнь на 15%.</a:t>
            </a: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На сколько лет уменьшают свою жизнь курящие дети,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если средняя продол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-             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жительность жизни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в России 56 ле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мину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 гимнастикой друж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 всег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селым будь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оживешь сто ле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может быть, и бол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икстуры, порошки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 здоровью ложный пу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иродою лечис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в сад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в чистом поле.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(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Авиценн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которые фирмы за одну и ту же работу курильщикам устанавливают заработную плату  на 15% ниже, чем некурящим. Зарплата в фирме 9600 р. На сколько меньше получит курящий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 15% рабочего времени уходит на курение. Рабочий день длится 8ч. Сколько рабочего времени теряется  из-за курени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Запомни!!!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От причин, связанных с употреблением табак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умирает каждый пят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Ежегодно мы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теряем 500        тысяч человек!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(по данным Всемирной организации здравоохране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04000" y="3357720"/>
            <a:ext cx="2340000" cy="35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ком воля есть и сильны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ух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т победит любой недуг,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олезнь отступит перед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рды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Перед бесстрашным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непокорны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18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8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8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8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8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8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8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5120" y="2349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ЕДИНСТВЕННАЯ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РАСОТА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 КОТОРУЮ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Я ЗНАЮ, -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ЭТО ЗДОРОВЬЕ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ЕЙ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54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4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4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4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асшифровать части тела, на которы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губно влияет курение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3141720"/>
          <a:ext cx="7775640" cy="172728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504720"/>
                <a:gridCol w="574920"/>
                <a:gridCol w="433440"/>
                <a:gridCol w="593640"/>
                <a:gridCol w="495360"/>
                <a:gridCol w="495360"/>
                <a:gridCol w="431640"/>
                <a:gridCol w="574560"/>
                <a:gridCol w="609840"/>
                <a:gridCol w="566640"/>
                <a:gridCol w="552600"/>
                <a:gridCol w="576000"/>
                <a:gridCol w="5032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Ж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РДЦ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жает кровеносны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уды,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ЛАЯ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работу сердц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ПЕРЕКАЧИВАНИЮ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ОВ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ЕЕ ТРУДН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760920"/>
            <a:ext cx="4066920" cy="309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57120" y="119376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Легки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трудняет нормаль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ыха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340080" cy="334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УШИ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-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ведет к снижению слух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лаза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лужит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чиной снижения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рения, глаз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ас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60520" cy="393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РОТ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неприятный запах пр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ыхан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ОЖА ЛИЦА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степенно                      приобретет                       землистый цве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ННИЕ МОРЩИ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ВЛИЯНИЕ КУРЕНИЯ НА ЧЕЛОВЕКА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3068640"/>
            <a:ext cx="4284720" cy="378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Известно, что в среднем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80% курящих страдают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болев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ием легких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. Найти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количество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больных,если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 курит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900 человек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3564000" cy="279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ОТ ВИТАМИНА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сле курения одной сигареты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 кровь поступает 3 мг никотина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. Сколько никотин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оступит в кровь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человек выкурит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4 сигарет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341964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6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4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6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95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9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8:19:49Z</dcterms:created>
  <dc:creator>Service</dc:creator>
  <dc:description/>
  <dc:language>en-US</dc:language>
  <cp:lastModifiedBy>Родионов А.Е.</cp:lastModifiedBy>
  <dcterms:modified xsi:type="dcterms:W3CDTF">2009-03-05T06:04:18Z</dcterms:modified>
  <cp:revision>36</cp:revision>
  <dc:subject/>
  <dc:title>ЗА ЗДОРОВЬЕМ  НА УРОК   МАТЕМАТИКИ</dc:title>
</cp:coreProperties>
</file>