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441-908D-47A4-A7B2-CCB6357E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725-117A-453B-B845-8A4AB841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1B6-457F-42A3-B8C7-3A370861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67E-6B8C-4946-90EA-48FED770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72AC-1408-4806-8EC0-255D8EEB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CDB0-8E1A-48E1-92DB-7004F0B9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E493-1DEE-4B40-AE20-54F7CB9A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A56A-8979-49F8-BD34-17701E6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DBB5-A978-49B2-868D-0D6732C1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37DA-F18B-46E9-951D-A8E66BF7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F655-E726-4CBF-BBDC-AA3D453B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198-400E-4584-A5A6-E66BB49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5748-EA32-4DB9-B011-CACE9BF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A5DA-CCDE-4652-8655-8003BC8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0EF6-13E0-4884-8A1D-81B62A5E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F85F-B8DB-4087-A7BA-BE94ACC3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FDC2-D4B0-4CCD-AE9D-331963AC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ED2-B721-4314-89C4-E63B57E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1A8-C18C-419E-8B01-1113CC58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107-5A6A-415A-B582-AE080E61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87B-361F-4657-A0CF-0952EF2A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D9A-B9E3-4D74-8C17-EFB492EF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EBE-0C1E-4A46-AC16-818B3BA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26B-FA88-4E05-B8E3-742C4AF5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B193-8F92-4A41-9213-51D69E15F31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79D-5EBE-4627-B692-185D1B729AA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19520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А ЗДОРОВЬЕ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НА УРОК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МАТЕМАТИКИ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6 класс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800"/>
                            </p:stCondLst>
                            <p:childTnLst>
                              <p:par>
                                <p:cTn id="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ОТ ВИТАМИНА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9200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орма суточной потребности учащихся в различных витаминах составляет в среднем 125 мг. Одна выкуренная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игарета уничтожает 20% витаминов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. Сколько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г витаминов ворует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          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 себя тот, кто курит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27640" y="4578480"/>
            <a:ext cx="291636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ОТ ВИТАМИНА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Каждая выкуренная сигарета сокращает жизнь курильщика на 6 -10 мин. В общем,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урящие дети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окращают себе жизнь на 15%.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На сколько лет уменьшают свою жизнь курящие дети,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если средняя продол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-                           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жительность жизни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в России 56 ле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96000" y="4797360"/>
            <a:ext cx="33480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измину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 гимнастикой друж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, всег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еселым будь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оживешь сто ле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 может быть, и бол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икстуры, порошки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 здоровью ложный пу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иродою лечис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в сад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в чистом поле.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(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Авиценн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которые фирмы за одну и ту же работу курильщикам устанавливают заработную плату  на 15% ниже, чем некурящим. Зарплата в фирме 9600 р. На сколько меньше получит курящий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о 15% рабочего времени уходит на курение. Рабочий день длится 8ч. Сколько рабочего времени теряется  из-за курения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Запомни!!!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От причин, связанных с употреблением табак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умирает каждый пят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Ежегодно мы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теряем 500        тысяч человек!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(по данным Всемирной организации здравоохране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04000" y="3357720"/>
            <a:ext cx="2340000" cy="3500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4" marL="1851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 ком воля есть и сильный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ух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т победит любой недуг,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олезнь отступит перед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рды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Перед бесстрашным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непокорны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18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8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8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8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8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8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8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5120" y="2349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ЕДИНСТВЕННАЯ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РАСОТА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, КОТОРУЮ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Я ЗНАЮ, -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ЭТО ЗДОРОВЬЕ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ЕЙ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54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4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4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4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сшифровать части тела, на которы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губно влияет курение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0000" y="3141720"/>
          <a:ext cx="7775640" cy="172728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504720"/>
                <a:gridCol w="574920"/>
                <a:gridCol w="433440"/>
                <a:gridCol w="593640"/>
                <a:gridCol w="495360"/>
                <a:gridCol w="495360"/>
                <a:gridCol w="431640"/>
                <a:gridCol w="574560"/>
                <a:gridCol w="609840"/>
                <a:gridCol w="566640"/>
                <a:gridCol w="552600"/>
                <a:gridCol w="576000"/>
                <a:gridCol w="5032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Ж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жает кровеносны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уды,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ЕЛАЯ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работу сердц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ПЕРЕКАЧИВАНИЮ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РОВ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ЛЕЕ ТРУДН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3760920"/>
            <a:ext cx="4066920" cy="309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57120" y="1193760"/>
            <a:ext cx="74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ЛИЯНИЕ КУРЕНИЯ НА ЧЕЛОВЕ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45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ЛИЯНИЕ КУРЕНИЯ НА ЧЕЛОВЕКА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Легки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трудняет нормально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ыха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3340080" cy="334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ЛИЯНИЕ КУРЕНИЯ НА ЧЕЛОВЕКА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УШИ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-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едет к снижению слух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Глаза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лужит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ичиной снижения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рения, глаз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асн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260520" cy="39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РОТ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–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неприятный запах пр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дыхан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ОЖА ЛИЦА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степенно                      приобретет                       землистый цве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ННИЕ МОРЩИ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ЛИЯНИЕ КУРЕНИЯ НА ЧЕЛОВЕКА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9280" y="3068640"/>
            <a:ext cx="4284720" cy="3789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ОТ ВИТАМИНА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Известно, что в среднем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80% курящих страдают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болев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ием легких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. Найти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количество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больных,если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 курит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900 человек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3564000" cy="2794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ОТ ВИТАМИНА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осле курения одной сигареты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 кровь поступает 3 мг никотина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. Сколько никотин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оступит в кровь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если человек выкурит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14 сигарет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341964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6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4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6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95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9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8:19:49Z</dcterms:created>
  <dc:creator>Service</dc:creator>
  <dc:description/>
  <dc:language>en-US</dc:language>
  <cp:lastModifiedBy>Родионов А.Е.</cp:lastModifiedBy>
  <dcterms:modified xsi:type="dcterms:W3CDTF">2009-03-05T06:04:18Z</dcterms:modified>
  <cp:revision>36</cp:revision>
  <dc:subject/>
  <dc:title>ЗА ЗДОРОВЬЕМ  НА УРОК   МАТЕМАТИКИ</dc:title>
</cp:coreProperties>
</file>