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3.wmf" ContentType="image/x-wmf"/>
  <Override PartName="/ppt/media/image51.jpeg" ContentType="image/jpeg"/>
  <Override PartName="/ppt/media/image21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8.png" ContentType="image/png"/>
  <Override PartName="/ppt/media/image16.jpeg" ContentType="image/jpeg"/>
  <Override PartName="/ppt/media/image9.gif" ContentType="image/gif"/>
  <Override PartName="/ppt/media/image15.jpeg" ContentType="image/jpeg"/>
  <Override PartName="/ppt/media/image29.jpeg" ContentType="image/jpeg"/>
  <Override PartName="/ppt/media/image37.gif" ContentType="image/gif"/>
  <Override PartName="/ppt/media/image52.jpeg" ContentType="image/jpeg"/>
  <Override PartName="/ppt/media/image5.png" ContentType="image/png"/>
  <Override PartName="/ppt/media/image43.jpeg" ContentType="image/jpeg"/>
  <Override PartName="/ppt/media/image17.jpeg" ContentType="image/jpeg"/>
  <Override PartName="/ppt/media/image3.png" ContentType="image/png"/>
  <Override PartName="/ppt/media/image40.gif" ContentType="image/gif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42.jpeg" ContentType="image/jpeg"/>
  <Override PartName="/ppt/media/image11.gif" ContentType="image/gif"/>
  <Override PartName="/ppt/media/image44.jpeg" ContentType="image/jpeg"/>
  <Override PartName="/ppt/media/image31.gif" ContentType="image/gif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wmf" ContentType="image/x-wmf"/>
  <Override PartName="/ppt/media/image48.jpeg" ContentType="image/jpeg"/>
  <Override PartName="/ppt/media/image32.jpeg" ContentType="image/jpeg"/>
  <Override PartName="/ppt/media/image36.gif" ContentType="image/gif"/>
  <Override PartName="/ppt/media/image49.jpeg" ContentType="image/jpeg"/>
  <Override PartName="/ppt/media/image13.jpeg" ContentType="image/jpeg"/>
  <Override PartName="/ppt/media/image20.gif" ContentType="image/gif"/>
  <Override PartName="/ppt/media/image53.jpeg" ContentType="image/jpeg"/>
  <Override PartName="/ppt/media/image10.gif" ContentType="image/gif"/>
  <Override PartName="/ppt/media/image8.png" ContentType="image/png"/>
  <Override PartName="/ppt/media/image28.gif" ContentType="image/gif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6.png" ContentType="image/png"/>
  <Override PartName="/ppt/media/image2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2DD-E311-468D-A5A8-9F7E1DFF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E17-22F9-4FF9-B190-734A63AA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4C1-4F9E-49AA-A6BD-55C96787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53B-7B85-47CD-BD71-451DB107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9CFB-4E7C-42D9-BE57-1BC3C8DB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A563-9BD9-4E0F-929C-6BAEF137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44D2-D6D5-4BEA-87A9-175619BE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A560-D91E-4109-BE40-74FD2051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EEE1-ECB5-4996-9EB6-78735961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787B-65DB-40D9-B99D-0167A1BF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35B1-7559-4253-A4DF-A821685D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E20-A5F6-4164-8DED-F4C94271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6097-D6C5-41DA-B3C1-2EA6E930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6ECE-3453-4E5F-8FDA-C39CBA49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7C1B-CF9A-4343-8EEA-5494C75B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655A-0B4F-477A-99A0-4DA07889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BB21-53B6-421E-9E6A-97294D09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6ED5-003B-46B8-9B1A-0E09E6E5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40E62-9680-4BE9-BF79-031B6D6E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FA1F-E43C-4F54-B204-9663D0E3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5BE7-E2B2-4E16-B0A4-8526CD2C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7BB9-1F0F-4A6E-8C76-11458508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F65-0967-481D-A51D-7C547328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ACDF-A447-4FF6-8DF5-32B81190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8FA9B-6383-4744-AF8F-DA61EF1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6A7B-C010-427C-83D5-F38D3CB0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E229-6992-4720-9DBB-ED532CFE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469A-7B41-4CE9-A623-E1A7EE7C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3B30-0722-4561-AFE3-33AE7717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0842-D2CD-4B36-B8F4-7B626746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9D4A7-55F4-4145-BD6A-80AB2B98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06640-4188-4A27-B473-2CD89D50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B3DA-00FE-4E8B-B417-CC8B147A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275-058D-42C1-A905-489969D8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A808-EF59-4EED-8E46-9BD2A95C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264D-799D-46B8-85B8-3235BAB1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530A-EB42-45E8-87FA-182CACB2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A1107-CF37-4EBC-8DB5-55903553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C8EA-4F07-47F9-B390-DCB327E0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CF286-E0B3-4B01-9100-AF96A7EA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F543-8CBB-4591-A208-E2F77030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24BB-3560-4362-A85B-96CEAA29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5A917-9940-4E54-9D27-3C772B2B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E73-28AE-4E0B-99E0-85544D42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446-40A5-4DBD-9748-A2C4D79F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B49-F644-44C1-94D0-9BFE9EC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F47-2F53-4639-BFCF-4060BE21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F43-066D-4D77-9DCD-503AECB9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E003-F8FA-4348-8F2C-604A4F5C1D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4149-2754-46BC-BED6-BAB556ED865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74F1-851D-4BF4-A9A9-1343F3AD8B0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2416-D2CB-4AF6-8C1A-46EF8D7D108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" Target="slide14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" Target="slide11.xml"/><Relationship Id="rId3" Type="http://schemas.openxmlformats.org/officeDocument/2006/relationships/image" Target="../media/image37.gif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16.xm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" Target="slide11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48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" Target="slide5.xml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04920" y="3048120"/>
            <a:ext cx="42670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«Чтобы быть здоровым, нужны собственные усилия постоянные и значительные, и заменить их нельзя ни чем»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                           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Н.М. Ам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743200" y="579132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учитель физической культуры МБОУ «Шокинская школа»  Осипова Екатерина Михайловна</a:t>
            </a:r>
            <a:r>
              <a:rPr b="1" i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80880" y="1143000"/>
            <a:ext cx="853452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 Black"/>
              </a:rPr>
              <a:t>Здоровь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 Black"/>
              </a:rPr>
              <a:t>и как его сохра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2" descr="sova"/>
          <p:cNvPicPr/>
          <p:nvPr/>
        </p:nvPicPr>
        <p:blipFill>
          <a:blip r:embed="rId1"/>
          <a:stretch/>
        </p:blipFill>
        <p:spPr>
          <a:xfrm>
            <a:off x="5181480" y="2895480"/>
            <a:ext cx="29718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13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00" name="AutoShape 14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5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7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18" descr="02"/>
          <p:cNvPicPr/>
          <p:nvPr/>
        </p:nvPicPr>
        <p:blipFill>
          <a:blip r:embed="rId3"/>
          <a:srcRect l="16937" t="0" r="0" b="0"/>
          <a:stretch/>
        </p:blipFill>
        <p:spPr>
          <a:xfrm>
            <a:off x="838080" y="4952880"/>
            <a:ext cx="14954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28600" y="9140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500" spc="-1" strike="noStrike" u="sng">
                <a:solidFill>
                  <a:srgbClr val="000099"/>
                </a:solidFill>
                <a:uFillTx/>
                <a:latin typeface="Arial"/>
              </a:rPr>
              <a:t>Закаливание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– это система мероприятий, направленная на повышение устойчивости     организма к многообразным влияниям внешней среды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К основным средствам закаливания относятся естественные природные факторы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а) солнце;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б) воздух (сон при открытой форточке или окне, физические упражнения на свежем воздухе, занятия зимними видами спорта, воздушные ванны);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</a:rPr>
              <a:t>в) вода (обтирание, обливание, душ, купание)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К одним из древнейших форм закаливания относятся хождение босиком по траве и снегу,  хождение в воде, купание в снегу после банных процедур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Picture 5" descr="закаливание"/>
          <p:cNvPicPr/>
          <p:nvPr/>
        </p:nvPicPr>
        <p:blipFill>
          <a:blip r:embed="rId1"/>
          <a:stretch/>
        </p:blipFill>
        <p:spPr>
          <a:xfrm>
            <a:off x="1676520" y="449568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50"/>
          <p:cNvPicPr/>
          <p:nvPr/>
        </p:nvPicPr>
        <p:blipFill>
          <a:blip r:embed="rId2"/>
          <a:srcRect l="16982" t="21056" r="15098" b="9213"/>
          <a:stretch/>
        </p:blipFill>
        <p:spPr>
          <a:xfrm>
            <a:off x="6095880" y="228600"/>
            <a:ext cx="2743200" cy="40384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5029200" y="4800600"/>
            <a:ext cx="3886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ысшая форма закаливания –                     купание в проруб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AN090"/>
          <p:cNvPicPr/>
          <p:nvPr/>
        </p:nvPicPr>
        <p:blipFill>
          <a:blip r:embed="rId3"/>
          <a:stretch/>
        </p:blipFill>
        <p:spPr>
          <a:xfrm>
            <a:off x="6095880" y="5486400"/>
            <a:ext cx="1123920" cy="102888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9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99" name="AutoShape 10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25909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1430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Привыкание к табаку формируется 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  <a:ea typeface="Arial"/>
              </a:rPr>
              <a:t>от нескольких недель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до 10 лет в зависимости от индивидуальности организма и интенсивности курения.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 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  <a:ea typeface="Arial"/>
              </a:rPr>
              <a:t>Табак – это наркотик.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У человека, привыкшему к курению, в случае резкого прекращения приёма табака наблюдается </a:t>
            </a:r>
            <a:r>
              <a:rPr b="1" lang="ru-RU" sz="1500" spc="-1" strike="noStrike" u="sng">
                <a:solidFill>
                  <a:srgbClr val="660033"/>
                </a:solidFill>
                <a:uFillTx/>
                <a:latin typeface="Arial"/>
                <a:ea typeface="Arial"/>
              </a:rPr>
              <a:t>«ломка»</a:t>
            </a:r>
            <a:r>
              <a:rPr b="1" lang="ru-RU" sz="15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(головные боли, колебание артериального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давления, нервозность, агрессивность).  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Курение </a:t>
            </a:r>
            <a:r>
              <a:rPr b="1" lang="ru-RU" sz="1500" spc="-1" strike="noStrike" u="sng">
                <a:solidFill>
                  <a:srgbClr val="660033"/>
                </a:solidFill>
                <a:uFillTx/>
                <a:latin typeface="Arial"/>
                <a:ea typeface="Arial"/>
              </a:rPr>
              <a:t>в 2 раза опаснее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для растущего организма, чем для взрослого. Смертельная доза для  подростков полпачки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     </a:t>
            </a:r>
            <a:r>
              <a:rPr b="1" lang="ru-RU" sz="1500" spc="-1" strike="noStrike">
                <a:solidFill>
                  <a:srgbClr val="006600"/>
                </a:solidFill>
                <a:latin typeface="Arial"/>
                <a:ea typeface="Arial"/>
              </a:rPr>
              <a:t>Если человек начал курить в 15 лет, то продолжительность его жизни уменьшается более  чем на 8 лет. Начавшие курить до 15 лет в 5 раз чаще умирают от рака, чем те, кто стал курить позднее. 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                                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У курильщиков: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в 2 – 3 раза чаще бывают сердечно-сосудистые заболевания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в 15 – 30 раз чаще – рак лёгких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в 10 раз – язва желудка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  <a:ea typeface="Arial"/>
              </a:rPr>
              <a:t>Часто развивается рак губы, гортани, пищевода, нарушается зрение, слух. 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Picture 5" descr="sigar"/>
          <p:cNvPicPr/>
          <p:nvPr/>
        </p:nvPicPr>
        <p:blipFill>
          <a:blip r:embed="rId1"/>
          <a:stretch/>
        </p:blipFill>
        <p:spPr>
          <a:xfrm>
            <a:off x="6705720" y="304920"/>
            <a:ext cx="2066760" cy="1085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ost516"/>
          <p:cNvPicPr/>
          <p:nvPr/>
        </p:nvPicPr>
        <p:blipFill>
          <a:blip r:embed="rId2"/>
          <a:stretch/>
        </p:blipFill>
        <p:spPr>
          <a:xfrm>
            <a:off x="7391520" y="2971800"/>
            <a:ext cx="1104840" cy="235260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9"/>
          <p:cNvSpPr/>
          <p:nvPr/>
        </p:nvSpPr>
        <p:spPr>
          <a:xfrm>
            <a:off x="3276720" y="5486400"/>
            <a:ext cx="2209680" cy="609480"/>
          </a:xfrm>
          <a:prstGeom prst="cloudCallout">
            <a:avLst>
              <a:gd name="adj1" fmla="val -44611"/>
              <a:gd name="adj2" fmla="val 7005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Пассивное ку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0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09" name="AutoShape 11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2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3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рак легких 2"/>
          <p:cNvPicPr/>
          <p:nvPr/>
        </p:nvPicPr>
        <p:blipFill>
          <a:blip r:embed="rId1"/>
          <a:srcRect l="13748" t="16669" r="0" b="0"/>
          <a:stretch/>
        </p:blipFill>
        <p:spPr>
          <a:xfrm>
            <a:off x="533520" y="1143000"/>
            <a:ext cx="4922640" cy="4191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рак легких"/>
          <p:cNvPicPr/>
          <p:nvPr/>
        </p:nvPicPr>
        <p:blipFill>
          <a:blip r:embed="rId2"/>
          <a:stretch/>
        </p:blipFill>
        <p:spPr>
          <a:xfrm>
            <a:off x="5943600" y="99072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ost536"/>
          <p:cNvPicPr/>
          <p:nvPr/>
        </p:nvPicPr>
        <p:blipFill>
          <a:blip r:embed="rId3"/>
          <a:stretch/>
        </p:blipFill>
        <p:spPr>
          <a:xfrm>
            <a:off x="6934320" y="4114800"/>
            <a:ext cx="1218960" cy="160020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17" name="AutoShape 7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9">
              <a:hlinkClick r:id="rId5" action="ppaction://hlinksldjump"/>
            </p:cNvPr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2"/>
          <p:cNvSpPr/>
          <p:nvPr/>
        </p:nvSpPr>
        <p:spPr>
          <a:xfrm>
            <a:off x="2209680" y="5486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ак лёг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2666880" cy="3124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3"/>
          <p:cNvPicPr/>
          <p:nvPr/>
        </p:nvPicPr>
        <p:blipFill>
          <a:blip r:embed="rId2"/>
          <a:stretch/>
        </p:blipFill>
        <p:spPr>
          <a:xfrm>
            <a:off x="5181480" y="38088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4"/>
          <p:cNvPicPr/>
          <p:nvPr/>
        </p:nvPicPr>
        <p:blipFill>
          <a:blip r:embed="rId3"/>
          <a:stretch/>
        </p:blipFill>
        <p:spPr>
          <a:xfrm>
            <a:off x="1239840" y="3938760"/>
            <a:ext cx="2473200" cy="2187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кл час 101"/>
          <p:cNvPicPr/>
          <p:nvPr/>
        </p:nvPicPr>
        <p:blipFill>
          <a:blip r:embed="rId4"/>
          <a:stretch/>
        </p:blipFill>
        <p:spPr>
          <a:xfrm>
            <a:off x="5715000" y="4255920"/>
            <a:ext cx="1905120" cy="155268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27" name="AutoShape 7">
              <a:hlinkClick r:id="rId5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9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66520"/>
            <a:ext cx="8686800" cy="2590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В окружающую курильщика атмосферу попадает токсических компонентов во много раз больше, чем в организм самого курильщик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                    </a:t>
            </a: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Основной поток табачного дыма образуют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- 35% сгорающей сигар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92d050"/>
                </a:solidFill>
                <a:uFillTx/>
                <a:latin typeface="Arial"/>
              </a:rPr>
              <a:t>50% уходят в окружающий воздух</a:t>
            </a: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- от 5 до 15% компонентов сгоревшей сигареты остается на фильтр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Через 1,5 часа пребывания на рабочем месте в накуренном помещении у некурящих концентрация никотина в организме повышается в 8 раз, многократно увеличивается и содержание других токсичных компонентов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5" descr="ost514"/>
          <p:cNvPicPr/>
          <p:nvPr/>
        </p:nvPicPr>
        <p:blipFill>
          <a:blip r:embed="rId1"/>
          <a:stretch/>
        </p:blipFill>
        <p:spPr>
          <a:xfrm>
            <a:off x="8153280" y="380880"/>
            <a:ext cx="561960" cy="1933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ost52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5410080"/>
            <a:ext cx="1552320" cy="1143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20037773"/>
          <p:cNvPicPr/>
          <p:nvPr/>
        </p:nvPicPr>
        <p:blipFill>
          <a:blip r:embed="rId4"/>
          <a:stretch/>
        </p:blipFill>
        <p:spPr>
          <a:xfrm>
            <a:off x="2743200" y="228600"/>
            <a:ext cx="2736720" cy="2247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1621"/>
          <p:cNvPicPr/>
          <p:nvPr/>
        </p:nvPicPr>
        <p:blipFill>
          <a:blip r:embed="rId5"/>
          <a:stretch/>
        </p:blipFill>
        <p:spPr>
          <a:xfrm>
            <a:off x="3200400" y="5486400"/>
            <a:ext cx="2057400" cy="121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457200"/>
            <a:ext cx="289584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Алкогол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914400"/>
            <a:ext cx="6400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Алкоголь - это этиловый спирт, присутствующий в большом или меньшем количестве в любом алкогольном напитке.  Относится к наркотикам, т. е. веществам вызывающим наркоз. Очень сильно влияние алкоголя на нервную систему, а именно на кору головного мозг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лкоголизм – это заболевание, развитие которого можн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79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тановить, но излечить полностью невозможно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Один из признаков алкоголизма – неконтролируемое желание употреблять спиртные напитки.  Алкоголизм -прогрессирующая болезнь, результатом которой может быть полная деградация личности или смерт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Учёные доказали, что в 4 раза у подростков алкоголизм, как болезнь, возникает и развивается быстрее чем у взрослых. Привыкание у девушек происходит быстрее, чем у юношей, а вылечить намного сложнее (женский алкоголизм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осле употребления спиртных напитков через 10-15 минут алкоголь из желудка попадает в кровеносную систему. После этого он начинает циркулировать по всему организму. Воздействие алкоголя на центральную нервную систему вызывает состояние, которое принято называть опьянение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6" descr="1EER"/>
          <p:cNvPicPr/>
          <p:nvPr/>
        </p:nvPicPr>
        <p:blipFill>
          <a:blip r:embed="rId1"/>
          <a:stretch/>
        </p:blipFill>
        <p:spPr>
          <a:xfrm>
            <a:off x="6705720" y="4114800"/>
            <a:ext cx="2133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7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40" name="AutoShape 8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1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14" descr="a00"/>
          <p:cNvPicPr/>
          <p:nvPr/>
        </p:nvPicPr>
        <p:blipFill>
          <a:blip r:embed="rId3"/>
          <a:srcRect l="3581" t="2446" r="3581" b="4867"/>
          <a:stretch/>
        </p:blipFill>
        <p:spPr>
          <a:xfrm>
            <a:off x="6781680" y="762120"/>
            <a:ext cx="1981440" cy="2895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show_small"/>
          <p:cNvPicPr/>
          <p:nvPr/>
        </p:nvPicPr>
        <p:blipFill>
          <a:blip r:embed="rId1"/>
          <a:srcRect l="0" t="0" r="0" b="7879"/>
          <a:stretch/>
        </p:blipFill>
        <p:spPr>
          <a:xfrm>
            <a:off x="609480" y="2743200"/>
            <a:ext cx="2514600" cy="1295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m130692-liver_cirrhosis-spl"/>
          <p:cNvPicPr/>
          <p:nvPr/>
        </p:nvPicPr>
        <p:blipFill>
          <a:blip r:embed="rId2"/>
          <a:stretch/>
        </p:blipFill>
        <p:spPr>
          <a:xfrm>
            <a:off x="6553080" y="457200"/>
            <a:ext cx="1905120" cy="28576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7"/>
          <p:cNvSpPr/>
          <p:nvPr/>
        </p:nvSpPr>
        <p:spPr>
          <a:xfrm>
            <a:off x="2895480" y="419112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685800" y="762120"/>
            <a:ext cx="586728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ечень берет на себя основной удар по обезвреживанию алкоголя – 90% вещества разрушается 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Способность печени справляться с алкоголем не беспредельна. Клетки её начинают разруш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У людей, систематически употребляющих алкоголь, развивается цирроз печени, что приводит к смер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533520" y="4648320"/>
            <a:ext cx="1828800" cy="838080"/>
          </a:xfrm>
          <a:prstGeom prst="cloudCallout">
            <a:avLst>
              <a:gd name="adj1" fmla="val -40652"/>
              <a:gd name="adj2" fmla="val 55375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Кур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5"/>
          <p:cNvSpPr/>
          <p:nvPr/>
        </p:nvSpPr>
        <p:spPr>
          <a:xfrm>
            <a:off x="380880" y="5715000"/>
            <a:ext cx="2210040" cy="838080"/>
          </a:xfrm>
          <a:prstGeom prst="cloudCallout">
            <a:avLst>
              <a:gd name="adj1" fmla="val -42689"/>
              <a:gd name="adj2" fmla="val 46291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Нарко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с двумя скругленными противолежащими углами 13"/>
          <p:cNvSpPr/>
          <p:nvPr/>
        </p:nvSpPr>
        <p:spPr>
          <a:xfrm>
            <a:off x="3429000" y="3657600"/>
            <a:ext cx="5486400" cy="2743200"/>
          </a:xfrm>
          <a:prstGeom prst="pie">
            <a:avLst/>
          </a:prstGeom>
          <a:solidFill>
            <a:srgbClr val="0066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Constantia"/>
              </a:rPr>
              <a:t> 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"/>
              </a:rPr>
              <a:t>-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Один из каждых четырех подростков участвуют в пьяных драках или скандал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   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- Один из каждых десяти задерживается в нетрезвом виде полиц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   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- Спиртное очень быстро меняет настроение: веселье сменяется подавленностью или зл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   </a:t>
            </a:r>
            <a:r>
              <a:rPr b="1" lang="ru-RU" sz="1600" spc="-1" strike="noStrike">
                <a:solidFill>
                  <a:srgbClr val="ff99cc"/>
                </a:solidFill>
                <a:latin typeface="Arial"/>
                <a:ea typeface="Arial Unicode MS"/>
              </a:rPr>
              <a:t>-  Пьянство порождает насилие, вандализм, воровство и другие преступ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9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53" name="AutoShape 10">
              <a:hlinkClick r:id="rId5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2">
              <a:hlinkClick r:id="rId6" action="ppaction://hlinksldjump"/>
            </p:cNvPr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320040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аркоман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8" name="Picture 4" descr="1143413968_nar"/>
          <p:cNvPicPr/>
          <p:nvPr/>
        </p:nvPicPr>
        <p:blipFill>
          <a:blip r:embed="rId1"/>
          <a:stretch/>
        </p:blipFill>
        <p:spPr>
          <a:xfrm>
            <a:off x="6172200" y="762120"/>
            <a:ext cx="2666880" cy="17809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228600" y="685800"/>
            <a:ext cx="57913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У людей, принимающих наркотики могут быть провалы в памяти и галлюцинации через несколько месяцев или даже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Тяжелее всего наркотики сказываются на психике. Люди впадают в депрессию и даже думают о самоубийстве, потому что им становится все труднее получить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"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заряд бодрости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"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от наркотик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600x600,fs-GALERT-03,04,8180_JPG"/>
          <p:cNvPicPr/>
          <p:nvPr/>
        </p:nvPicPr>
        <p:blipFill>
          <a:blip r:embed="rId2"/>
          <a:stretch/>
        </p:blipFill>
        <p:spPr>
          <a:xfrm>
            <a:off x="3200400" y="5257800"/>
            <a:ext cx="43815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7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62" name="AutoShape 8">
              <a:hlinkClick r:id="rId3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AutoShape 12"/>
          <p:cNvSpPr/>
          <p:nvPr/>
        </p:nvSpPr>
        <p:spPr>
          <a:xfrm>
            <a:off x="457200" y="5715000"/>
            <a:ext cx="2057400" cy="685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Это фак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1"/>
          <p:cNvSpPr/>
          <p:nvPr/>
        </p:nvSpPr>
        <p:spPr>
          <a:xfrm>
            <a:off x="990720" y="2590920"/>
            <a:ext cx="80010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Многие наркоманы болеют вирусными инфекциями, вызывающими гепатит Б или СПИД. Оба эти заболевания практически не лечатся и приводят к смер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Вирус гепатита Б разрушает печен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СПИД разрушает иммунную систему человека и любое заболевание становится смертельным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Гепатит Б и СПИД передаются через кровь. Люди, использующие один и тот же шприц для введения наркотиков, неизбежно заражают друг друга этими страшными болезн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28240" y="8380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е существует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наркотиков, которые бы не вызывали зависимост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е существует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людей, для которых наркотики были бы не опасн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т наркомании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е возможно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полностью излечиться – человек остаётся зависимым от наркотиков</a:t>
            </a:r>
            <a:r>
              <a:rPr b="1" lang="ru-RU" sz="16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сю жизн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9" name="Picture 5" descr="icon"/>
          <p:cNvPicPr/>
          <p:nvPr/>
        </p:nvPicPr>
        <p:blipFill>
          <a:blip r:embed="rId1"/>
          <a:srcRect l="2027" t="0" r="0" b="0"/>
          <a:stretch/>
        </p:blipFill>
        <p:spPr>
          <a:xfrm>
            <a:off x="457200" y="3429000"/>
            <a:ext cx="4191120" cy="2895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drags"/>
          <p:cNvPicPr/>
          <p:nvPr/>
        </p:nvPicPr>
        <p:blipFill>
          <a:blip r:embed="rId2"/>
          <a:stretch/>
        </p:blipFill>
        <p:spPr>
          <a:xfrm>
            <a:off x="5029200" y="30492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10"/>
          <p:cNvPicPr/>
          <p:nvPr/>
        </p:nvPicPr>
        <p:blipFill>
          <a:blip r:embed="rId3"/>
          <a:stretch/>
        </p:blipFill>
        <p:spPr>
          <a:xfrm>
            <a:off x="5029200" y="3429000"/>
            <a:ext cx="3809880" cy="289548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8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73" name="AutoShape 9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914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Марихуана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еняет работу мозга. Страдает сердце, нарушается координация движений, работа легких и  сосудов, кружиться голов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Экстази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сужает сосуды и уменьшает теплоотдачу. Это может привести к смерти от перегревания и теплового удара. Легко проникает в клетки коры головного мозга, в результате возникает синдром органического поражения головного мозг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Винт (ментамфетамин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вызывает сужение сосудов и скачки давления. Учащается дыхание, сердцебиение. Регулярное употребление амфетаминов приводит к истощению. Смерть может наступить в результате кровоизлияния в мозг, остановки сердца или от теплового удар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Грибы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вызывают галлюцинации. Возникают психозы, а при регулярном употреблении -  необратимое поражение психики, печени и желудк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Picture 4" descr="101568"/>
          <p:cNvPicPr/>
          <p:nvPr/>
        </p:nvPicPr>
        <p:blipFill>
          <a:blip r:embed="rId1"/>
          <a:srcRect l="0" t="20000" r="0" b="30000"/>
          <a:stretch/>
        </p:blipFill>
        <p:spPr>
          <a:xfrm>
            <a:off x="2235240" y="4800600"/>
            <a:ext cx="4470480" cy="167652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80" name="AutoShape 6">
              <a:hlinkClick r:id="" action="ppaction://hlinkshowjump?jump=nextslide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Скругленный прямоугольник 7"/>
          <p:cNvSpPr/>
          <p:nvPr/>
        </p:nvSpPr>
        <p:spPr>
          <a:xfrm>
            <a:off x="304920" y="457200"/>
            <a:ext cx="8610480" cy="5943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Здоровье – это состояние полного физического, психологического и социального благополучия, а не только отсутствие болезней или физических деф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(из устава Всемирной организации здравоохра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Здоровье – это, прежде всего процесс, сохранения и развития  психических и физиологических качеств, оптимальной работоспособности и социальной активности при максимальной продолжительности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Здоровый образ жизни – это  процесс соблюдения человеком определённых норм, правил и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ограничений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в повседневной жизни, способствующих сохранения здоровья, оптимальному приспособлению организма к условиям среды, высокому уровню работоспособности в учебной и профессио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07" name="AutoShape 6">
              <a:hlinkClick r:id="rId1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28600" y="609480"/>
            <a:ext cx="6858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Героин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угнетает центральную нервную систему, замедляет сердцебиение, дыхание, снижает активность головного мозга, что вызывает пневмонию т туберкулез, нарушает обмен веществ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Кокаин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сужает сосуды, поэтому у всех кокаинщиков проблемы с сердцем. При длительном употреблении кокаина развивается так называемый кокаиновый психоз. Человеку постоянно страшно, кажется, что за ним кто-то следит. Кокс действует на нервную систему – возникают припадки, напоминающие эпилепсию, постоянно чешется кожа. При передозировке возможны кровоизлияния в мозг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ЛСД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– один из самых токсичных галлюциногенов. Он действует на мозг и нервную систему, что вызывает страх, панику, желание выйти в окно или прикончить окружающих. ЛСД разрушает нейроны мозга, и его длительный прием ведет к шизофрени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Метадон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по своему действию схож с героином. С первого же приема сильно поражает мозг, вызывая необратимые наруше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5" name="Picture 4" descr="868342_20060706164203"/>
          <p:cNvPicPr/>
          <p:nvPr/>
        </p:nvPicPr>
        <p:blipFill>
          <a:blip r:embed="rId1"/>
          <a:srcRect l="44904" t="0" r="18365" b="0"/>
          <a:stretch/>
        </p:blipFill>
        <p:spPr>
          <a:xfrm>
            <a:off x="7162920" y="1371600"/>
            <a:ext cx="13716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87" name="AutoShape 6"/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всех всегда есть выбор. Используй его правильно!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2" name="Picture 5" descr="17209_prev_425"/>
          <p:cNvPicPr/>
          <p:nvPr/>
        </p:nvPicPr>
        <p:blipFill>
          <a:blip r:embed="rId1"/>
          <a:stretch/>
        </p:blipFill>
        <p:spPr>
          <a:xfrm>
            <a:off x="457200" y="3938760"/>
            <a:ext cx="3886200" cy="2538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17"/>
          <p:cNvPicPr/>
          <p:nvPr/>
        </p:nvPicPr>
        <p:blipFill>
          <a:blip r:embed="rId2"/>
          <a:srcRect l="6066" t="0" r="6066" b="0"/>
          <a:stretch/>
        </p:blipFill>
        <p:spPr>
          <a:xfrm>
            <a:off x="5715000" y="990720"/>
            <a:ext cx="23623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394" name="Group 11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395" name="AutoShape 12"/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3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5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Picture 16" descr="10"/>
          <p:cNvPicPr/>
          <p:nvPr/>
        </p:nvPicPr>
        <p:blipFill>
          <a:blip r:embed="rId3"/>
          <a:stretch/>
        </p:blipFill>
        <p:spPr>
          <a:xfrm>
            <a:off x="5486400" y="3962520"/>
            <a:ext cx="2895480" cy="23619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400" name="Line 17"/>
          <p:cNvSpPr/>
          <p:nvPr/>
        </p:nvSpPr>
        <p:spPr>
          <a:xfrm>
            <a:off x="4952880" y="3657600"/>
            <a:ext cx="3962520" cy="259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8"/>
          <p:cNvSpPr/>
          <p:nvPr/>
        </p:nvSpPr>
        <p:spPr>
          <a:xfrm flipH="1">
            <a:off x="5028840" y="3657600"/>
            <a:ext cx="3809880" cy="2819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9"/>
          <p:cNvSpPr/>
          <p:nvPr/>
        </p:nvSpPr>
        <p:spPr>
          <a:xfrm>
            <a:off x="5257800" y="1066680"/>
            <a:ext cx="3505320" cy="221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0"/>
          <p:cNvSpPr/>
          <p:nvPr/>
        </p:nvSpPr>
        <p:spPr>
          <a:xfrm flipH="1">
            <a:off x="5105160" y="914400"/>
            <a:ext cx="3352680" cy="243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1" descr="16_2836"/>
          <p:cNvPicPr/>
          <p:nvPr/>
        </p:nvPicPr>
        <p:blipFill>
          <a:blip r:embed="rId4"/>
          <a:stretch/>
        </p:blipFill>
        <p:spPr>
          <a:xfrm>
            <a:off x="533520" y="91440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Список использованной литературы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68580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1.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уянова Н.Ю. Я познаю мир: Дет. энцикл.: Медицина. М.: АСТ, 199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 Готовые экзаменационные ответы, физическая культура, 11 класс: Санкт-Петербург, «Тригон»,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3.  Дереклеева Н.И. Родительские собрания. 5 - 11 классы. М.: ВАКО,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4.  Ковалёва Н.В. Родительские собрания в 5 – 7 классах. Изд. 2-е. – Ростов н/Д: изд-во «Феникс»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5.  Кузнецов В.С., Колодницкий Г.А. Экзаменационные вопросы и ответы. Физическая культура. 9 и 11 выпускные классы: Учебное пособие. – М.: АСТ-ПРЕСС ШКОЛА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6.  Литвинов Е,Н,, Погадаев Г.И., Торочкова Т.Ю., Шитова Р.Я. Методика физического воспитания учащихся 1 – 4 классов: Пособие для учителя. – М.: Просвещение, 1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7.  Лукьяненко В.П. Формирование здорового образа жизни (ЗОЖ): Физическая культура в школе № 2;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408" name="AutoShape 6">
              <a:hlinkClick r:id="" action="ppaction://hlinkshowjump?jump=nextslide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457200" y="685800"/>
            <a:ext cx="815328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ядова Н.В., Аносова Ю.А., Кожарская В,И., Ослон В.Н. Формирование здорового образа жизни и профилактика социально значимых заболеваний: Учебно-методическое пособие – Пермь: ПОИПКРО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9.  Мишин Б.И., Погадаев Г.И. Примерные билеты и ответы по физической культуре для подготовки к устной итоговой аттестации выпускников 9 классов общеобразовательных учреждений в 2002 – 2003 учебном году. – М.:Дрофа,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0.  Перминова Г.В. Физическая культура 11 класс. Готовые ответы на экзаменационные вопросы. – М.: «Абрис Д», СПб.: «Виктория плюс»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1.  Шевченко С.В., Денисова В,Г., Цыбулина Г.М., Зорина В.В. Классные часы (беседы, устный журнал, уроки мужества, ток-шоу). 1 – 11 классы.- Волгоград: Учитель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2.  Энциклопедия для детей. Том 18. Человек. Ч. 1, Происхождение и природа человека. Как работает тело. Искусство быть здоровым./ Глав. Ред. В.А. Володин. – М.: Аванта+,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азета «Аргументы и факты» № 22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айты -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ntasyflash.r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hnostb.narod.ru/Animashki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animashk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414" name="AutoShape 6"/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Прямоугольник 7"/>
          <p:cNvSpPr/>
          <p:nvPr/>
        </p:nvSpPr>
        <p:spPr>
          <a:xfrm>
            <a:off x="4508640" y="5943600"/>
            <a:ext cx="22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etlanal.naro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705960" y="762120"/>
            <a:ext cx="80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сновные составляющие современной концепции здоровь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457200" y="1219320"/>
            <a:ext cx="525780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Физическа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– включает в себя уровень роста и развитие органов и систем организма, а также текущее состояние их функционир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сихологическа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– состояние психической сферы, определяющееся мотивационными, эмоциональными, мыслительными и нравственно-духовными фактор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оведенческа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– внешнее проявление состояния человека (адекватность поведения, умение общатьс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$$Р$$Ы~1"/>
          <p:cNvPicPr/>
          <p:nvPr/>
        </p:nvPicPr>
        <p:blipFill>
          <a:blip r:embed="rId1"/>
          <a:stretch/>
        </p:blipFill>
        <p:spPr>
          <a:xfrm>
            <a:off x="6248520" y="5105520"/>
            <a:ext cx="1523880" cy="144756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17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15" name="AutoShape 18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9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0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23" descr="J0282737"/>
          <p:cNvPicPr/>
          <p:nvPr/>
        </p:nvPicPr>
        <p:blipFill>
          <a:blip r:embed="rId3"/>
          <a:stretch/>
        </p:blipFill>
        <p:spPr>
          <a:xfrm>
            <a:off x="5562720" y="3276720"/>
            <a:ext cx="1295280" cy="1230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J0282753"/>
          <p:cNvPicPr/>
          <p:nvPr/>
        </p:nvPicPr>
        <p:blipFill>
          <a:blip r:embed="rId4"/>
          <a:stretch/>
        </p:blipFill>
        <p:spPr>
          <a:xfrm>
            <a:off x="7467480" y="32767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C:\Home\Ольга\Рабочий стол\мама\двигательная нагрузка\2.gif"/>
          <p:cNvPicPr/>
          <p:nvPr/>
        </p:nvPicPr>
        <p:blipFill>
          <a:blip r:embed="rId5"/>
          <a:stretch/>
        </p:blipFill>
        <p:spPr>
          <a:xfrm>
            <a:off x="6095880" y="1066680"/>
            <a:ext cx="2311560" cy="1600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2"/>
          <p:cNvGraphicFramePr/>
          <p:nvPr/>
        </p:nvGraphicFramePr>
        <p:xfrm>
          <a:off x="2552760" y="1376280"/>
          <a:ext cx="403848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1376280"/>
                    <a:ext cx="403848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4"/>
          <p:cNvSpPr/>
          <p:nvPr/>
        </p:nvSpPr>
        <p:spPr>
          <a:xfrm>
            <a:off x="228600" y="1143000"/>
            <a:ext cx="2743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 жизни –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(30% из 50% ЗОЖ отводит правильно организованной  двигательной активности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402240" y="17524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ология –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869440" y="541008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дравоохранение – 10%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300680" y="54864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следственность –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858400" y="6400800"/>
            <a:ext cx="37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Данные министерства здравоо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922760" y="533520"/>
            <a:ext cx="491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акторы, определяющие здоровь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 flipH="1">
            <a:off x="7086240" y="2209680"/>
            <a:ext cx="30492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6934320" y="4572000"/>
            <a:ext cx="380880" cy="838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 flipH="1">
            <a:off x="3276360" y="4724280"/>
            <a:ext cx="228600" cy="8384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2057400" y="2133720"/>
            <a:ext cx="137160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35" name="AutoShape 17">
              <a:hlinkClick r:id="rId3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Organization Chart 6"/>
          <p:cNvGrpSpPr/>
          <p:nvPr/>
        </p:nvGrpSpPr>
        <p:grpSpPr>
          <a:xfrm>
            <a:off x="762120" y="304920"/>
            <a:ext cx="7847280" cy="5983920"/>
            <a:chOff x="762120" y="304920"/>
            <a:chExt cx="7847280" cy="5983920"/>
          </a:xfrm>
        </p:grpSpPr>
        <p:cxnSp>
          <p:nvCxnSpPr>
            <p:cNvPr id="240" name="_s2052"/>
            <p:cNvCxnSpPr>
              <a:stCxn id="241" idx="0"/>
              <a:endCxn id="242" idx="5"/>
            </p:cNvCxnSpPr>
            <p:nvPr/>
          </p:nvCxnSpPr>
          <p:spPr>
            <a:xfrm rot="10800000">
              <a:off x="4685040" y="1392120"/>
              <a:ext cx="561240" cy="4352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3" name="_s2053"/>
            <p:cNvCxnSpPr>
              <a:stCxn id="244" idx="0"/>
              <a:endCxn id="242" idx="4"/>
            </p:cNvCxnSpPr>
            <p:nvPr/>
          </p:nvCxnSpPr>
          <p:spPr>
            <a:xfrm flipV="1">
              <a:off x="4124880" y="1392120"/>
              <a:ext cx="561240" cy="4352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_s2054"/>
            <p:cNvCxnSpPr>
              <a:stCxn id="246" idx="0"/>
              <a:endCxn id="242" idx="3"/>
            </p:cNvCxnSpPr>
            <p:nvPr/>
          </p:nvCxnSpPr>
          <p:spPr>
            <a:xfrm rot="10800000">
              <a:off x="4685040" y="1392120"/>
              <a:ext cx="561240" cy="272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_s2055"/>
            <p:cNvCxnSpPr>
              <a:stCxn id="248" idx="0"/>
              <a:endCxn id="242" idx="2"/>
            </p:cNvCxnSpPr>
            <p:nvPr/>
          </p:nvCxnSpPr>
          <p:spPr>
            <a:xfrm flipV="1">
              <a:off x="4124880" y="1392120"/>
              <a:ext cx="561240" cy="272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" name="_s2056"/>
            <p:cNvCxnSpPr>
              <a:stCxn id="250" idx="0"/>
              <a:endCxn id="242" idx="1"/>
            </p:cNvCxnSpPr>
            <p:nvPr/>
          </p:nvCxnSpPr>
          <p:spPr>
            <a:xfrm rot="10800000">
              <a:off x="4685040" y="1392840"/>
              <a:ext cx="561240" cy="108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1" name="_s2057"/>
            <p:cNvCxnSpPr>
              <a:stCxn id="252" idx="0"/>
              <a:endCxn id="242" idx="0"/>
            </p:cNvCxnSpPr>
            <p:nvPr/>
          </p:nvCxnSpPr>
          <p:spPr>
            <a:xfrm flipV="1">
              <a:off x="4124880" y="1392840"/>
              <a:ext cx="561240" cy="108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_s2058"/>
            <p:cNvSpPr/>
            <p:nvPr/>
          </p:nvSpPr>
          <p:spPr>
            <a:xfrm>
              <a:off x="3004200" y="30492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f6fc6"/>
                </a:gs>
                <a:gs pos="50000">
                  <a:srgbClr val="ffffff"/>
                </a:gs>
                <a:gs pos="100000">
                  <a:srgbClr val="0f6fc6"/>
                </a:gs>
              </a:gsLst>
              <a:lin ang="8100000"/>
            </a:gradFill>
            <a:ln w="32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33"/>
                  </a:solidFill>
                  <a:latin typeface="Gill Sans Ultra Bold"/>
                </a:rPr>
                <a:t>Услови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33"/>
                  </a:solidFill>
                  <a:latin typeface="Gill Sans Ultra Bold"/>
                </a:rPr>
                <a:t>сохранения здоровь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59"/>
            <p:cNvSpPr/>
            <p:nvPr/>
          </p:nvSpPr>
          <p:spPr>
            <a:xfrm>
              <a:off x="762120" y="193680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Gill Sans Ultra Bold"/>
                  <a:hlinkClick r:id="rId2" action="ppaction://hlinksldjump"/>
                </a:rPr>
                <a:t>Желание быть здоровы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60"/>
            <p:cNvSpPr/>
            <p:nvPr/>
          </p:nvSpPr>
          <p:spPr>
            <a:xfrm>
              <a:off x="5246280" y="193680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Arial"/>
                  <a:hlinkClick r:id="rId3" action="ppaction://hlinksldjump"/>
                </a:rPr>
                <a:t>Двигательная активнос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61"/>
            <p:cNvSpPr/>
            <p:nvPr/>
          </p:nvSpPr>
          <p:spPr>
            <a:xfrm>
              <a:off x="762120" y="356868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Gill Sans Ultra Bold"/>
                  <a:hlinkClick r:id="rId4" action="ppaction://hlinksldjump"/>
                </a:rPr>
                <a:t>Рациональное питан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2062"/>
            <p:cNvSpPr/>
            <p:nvPr/>
          </p:nvSpPr>
          <p:spPr>
            <a:xfrm>
              <a:off x="5246280" y="356868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Arial"/>
                  <a:hlinkClick r:id="rId5" action="ppaction://hlinksldjump"/>
                </a:rPr>
                <a:t>Личная гигиен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2063"/>
            <p:cNvSpPr/>
            <p:nvPr/>
          </p:nvSpPr>
          <p:spPr>
            <a:xfrm>
              <a:off x="762120" y="520092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Arial"/>
                  <a:hlinkClick r:id="rId6" action="ppaction://hlinksldjump"/>
                </a:rPr>
                <a:t>Закаливан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2064"/>
            <p:cNvSpPr/>
            <p:nvPr/>
          </p:nvSpPr>
          <p:spPr>
            <a:xfrm>
              <a:off x="5246280" y="5200920"/>
              <a:ext cx="3363120" cy="1087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dd9"/>
                </a:gs>
                <a:gs pos="50000">
                  <a:srgbClr val="ffffff"/>
                </a:gs>
                <a:gs pos="100000">
                  <a:srgbClr val="009dd9"/>
                </a:gs>
              </a:gsLst>
              <a:lin ang="8100000"/>
            </a:gradFill>
            <a:ln w="3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Arial"/>
                  <a:hlinkClick r:id="rId7" action="ppaction://hlinksldjump"/>
                </a:rPr>
                <a:t>Отказ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e2d700"/>
                  </a:solidFill>
                  <a:uFillTx/>
                  <a:latin typeface="Arial"/>
                  <a:hlinkClick r:id="rId8" action="ppaction://hlinksldjump"/>
                </a:rPr>
                <a:t>от вредных привычек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6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54" name="AutoShape 17">
              <a:hlinkClick r:id="rId9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8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9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20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685800"/>
            <a:ext cx="5638680" cy="65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оспринимайте своё тело как здоровое, даже если вас беспокоит какой-либо недуг (элемент самовнуш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О сохранении вашего здоровья, кроме вас самих, никто не позаботит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обходимо помнить, что для успеха над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поте лица трудиться всю жиз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Чтобы быть здоровым, нужны собственные усилия постоянные и значительные, и заменить их нельзя нич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Жить в согласии с природ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 обществом (доброта и милосердие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Культура труда, отдыха, сна, питания, физической и духовной жизни – всё это в целом и есть основа кодекса здоров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знательное отношение к собственному здоровью должно стать нормой поведения, главной отличительной чертой культурной, цивилизованной личн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new18"/>
          <p:cNvPicPr/>
          <p:nvPr/>
        </p:nvPicPr>
        <p:blipFill>
          <a:blip r:embed="rId1"/>
          <a:srcRect l="1890" t="0" r="5663" b="1958"/>
          <a:stretch/>
        </p:blipFill>
        <p:spPr>
          <a:xfrm>
            <a:off x="5181480" y="1066680"/>
            <a:ext cx="3733920" cy="381024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5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61" name="AutoShape 6">
              <a:hlinkClick r:id="rId2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28240" y="228600"/>
            <a:ext cx="4343400" cy="3200400"/>
          </a:xfrm>
          <a:prstGeom prst="rect">
            <a:avLst/>
          </a:prstGeom>
          <a:solidFill>
            <a:srgbClr val="0e64b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вигательная активность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– главны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и решающий фактор сохранения и укрепления здоровья, ни чем не заменимое универсальное средство профилактики недугов и замедления процессов старения организма.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становлено, что если потребность в движении не удовлетворяется, то наступает гиподинам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Рекомендуемая норма двигательной активности для школьников 12-14 часов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 неделю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11" descr="46"/>
          <p:cNvPicPr/>
          <p:nvPr/>
        </p:nvPicPr>
        <p:blipFill>
          <a:blip r:embed="rId1"/>
          <a:srcRect l="14493" t="0" r="0" b="0"/>
          <a:stretch/>
        </p:blipFill>
        <p:spPr>
          <a:xfrm>
            <a:off x="380880" y="365760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sheip_09_b"/>
          <p:cNvPicPr/>
          <p:nvPr/>
        </p:nvPicPr>
        <p:blipFill>
          <a:blip r:embed="rId2"/>
          <a:stretch/>
        </p:blipFill>
        <p:spPr>
          <a:xfrm>
            <a:off x="4952880" y="3657600"/>
            <a:ext cx="3834000" cy="2895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1" descr="DSC01228"/>
          <p:cNvPicPr/>
          <p:nvPr/>
        </p:nvPicPr>
        <p:blipFill>
          <a:blip r:embed="rId3"/>
          <a:srcRect l="14118" t="15150" r="11764" b="0"/>
          <a:stretch/>
        </p:blipFill>
        <p:spPr>
          <a:xfrm>
            <a:off x="4952880" y="152280"/>
            <a:ext cx="38862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22"/>
          <p:cNvGrpSpPr/>
          <p:nvPr/>
        </p:nvGrpSpPr>
        <p:grpSpPr>
          <a:xfrm>
            <a:off x="8077320" y="6248520"/>
            <a:ext cx="704880" cy="380880"/>
            <a:chOff x="8077320" y="6248520"/>
            <a:chExt cx="704880" cy="380880"/>
          </a:xfrm>
        </p:grpSpPr>
        <p:sp>
          <p:nvSpPr>
            <p:cNvPr id="270" name="AutoShape 23">
              <a:hlinkClick r:id="rId4" action="ppaction://hlinksldjump"/>
            </p:cNvPr>
            <p:cNvSpPr/>
            <p:nvPr/>
          </p:nvSpPr>
          <p:spPr>
            <a:xfrm>
              <a:off x="8246880" y="6326280"/>
              <a:ext cx="363240" cy="2332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8077320" y="6551640"/>
              <a:ext cx="2088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5"/>
            <p:cNvSpPr/>
            <p:nvPr/>
          </p:nvSpPr>
          <p:spPr>
            <a:xfrm>
              <a:off x="8325360" y="6248520"/>
              <a:ext cx="208800" cy="77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6"/>
            <p:cNvSpPr/>
            <p:nvPr/>
          </p:nvSpPr>
          <p:spPr>
            <a:xfrm>
              <a:off x="8573400" y="6551640"/>
              <a:ext cx="208800" cy="77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logo"/>
          <p:cNvPicPr/>
          <p:nvPr/>
        </p:nvPicPr>
        <p:blipFill>
          <a:blip r:embed="rId1"/>
          <a:srcRect l="2039" t="2968" r="2289" b="2226"/>
          <a:stretch/>
        </p:blipFill>
        <p:spPr>
          <a:xfrm>
            <a:off x="2666880" y="609480"/>
            <a:ext cx="3581640" cy="24386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5"/>
          <p:cNvSpPr/>
          <p:nvPr/>
        </p:nvSpPr>
        <p:spPr>
          <a:xfrm>
            <a:off x="609480" y="3657600"/>
            <a:ext cx="77724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J0223774"/>
          <p:cNvPicPr/>
          <p:nvPr/>
        </p:nvPicPr>
        <p:blipFill>
          <a:blip r:embed="rId2"/>
          <a:stretch/>
        </p:blipFill>
        <p:spPr>
          <a:xfrm>
            <a:off x="838080" y="1371600"/>
            <a:ext cx="1244880" cy="901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J0223780"/>
          <p:cNvPicPr/>
          <p:nvPr/>
        </p:nvPicPr>
        <p:blipFill>
          <a:blip r:embed="rId3"/>
          <a:stretch/>
        </p:blipFill>
        <p:spPr>
          <a:xfrm>
            <a:off x="7162920" y="1523880"/>
            <a:ext cx="1244520" cy="93996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1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79" name="AutoShape 12">
              <a:hlinkClick r:id="rId4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4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5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Прямоугольник 11"/>
          <p:cNvSpPr/>
          <p:nvPr/>
        </p:nvSpPr>
        <p:spPr>
          <a:xfrm>
            <a:off x="380880" y="32767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авильное питание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подразумевает меню, богато овощами, фруктами,  съедобными трав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ища должна быть питательной и разнообраз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Ежедневное употребление первых блюд, овощных салатов, соков, каш способствует хорошей работе органов пищева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Режим 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регулярность приёма пи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(не менее 3 – 4 раз в день, желательно в одни и те же час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гигиена рук, гигиена приёма пищ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ища при приёме – не очень холодная, но и не очень горячая и мн.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000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AN088"/>
          <p:cNvPicPr/>
          <p:nvPr/>
        </p:nvPicPr>
        <p:blipFill>
          <a:blip r:embed="rId1"/>
          <a:stretch/>
        </p:blipFill>
        <p:spPr>
          <a:xfrm>
            <a:off x="3895560" y="3621240"/>
            <a:ext cx="1352880" cy="10191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2819520" y="990720"/>
            <a:ext cx="5867280" cy="231516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Гигиена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– наука о влиянии различных факторов окружающей среды на здоровье человека, его работоспособность, продолжительность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Arial"/>
              </a:rPr>
              <a:t>Личная гигиена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– это соблюдение основных принципов и правил данной науки каждым человеком в процессе его индивидуальной жизни (режим дня, гигиена питания, одежды, жилья, полезный досуг, сочетание труда и отдыха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4028"/>
          <p:cNvPicPr/>
          <p:nvPr/>
        </p:nvPicPr>
        <p:blipFill>
          <a:blip r:embed="rId2"/>
          <a:stretch/>
        </p:blipFill>
        <p:spPr>
          <a:xfrm>
            <a:off x="685800" y="914400"/>
            <a:ext cx="1714680" cy="241920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9"/>
          <p:cNvGrpSpPr/>
          <p:nvPr/>
        </p:nvGrpSpPr>
        <p:grpSpPr>
          <a:xfrm>
            <a:off x="8153280" y="6248520"/>
            <a:ext cx="704880" cy="342720"/>
            <a:chOff x="8153280" y="6248520"/>
            <a:chExt cx="704880" cy="342720"/>
          </a:xfrm>
        </p:grpSpPr>
        <p:sp>
          <p:nvSpPr>
            <p:cNvPr id="288" name="AutoShape 10">
              <a:hlinkClick r:id="rId3" action="ppaction://hlinksldjump"/>
            </p:cNvPr>
            <p:cNvSpPr/>
            <p:nvPr/>
          </p:nvSpPr>
          <p:spPr>
            <a:xfrm>
              <a:off x="8322840" y="6318360"/>
              <a:ext cx="363240" cy="209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1"/>
            <p:cNvSpPr/>
            <p:nvPr/>
          </p:nvSpPr>
          <p:spPr>
            <a:xfrm>
              <a:off x="8153280" y="6521400"/>
              <a:ext cx="208800" cy="69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"/>
            <p:cNvSpPr/>
            <p:nvPr/>
          </p:nvSpPr>
          <p:spPr>
            <a:xfrm>
              <a:off x="8401320" y="6248520"/>
              <a:ext cx="208800" cy="69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3"/>
            <p:cNvSpPr/>
            <p:nvPr/>
          </p:nvSpPr>
          <p:spPr>
            <a:xfrm>
              <a:off x="8649360" y="6521400"/>
              <a:ext cx="208800" cy="69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14" descr="AEROBICS"/>
          <p:cNvPicPr/>
          <p:nvPr/>
        </p:nvPicPr>
        <p:blipFill>
          <a:blip r:embed="rId4"/>
          <a:stretch/>
        </p:blipFill>
        <p:spPr>
          <a:xfrm>
            <a:off x="2286000" y="4038480"/>
            <a:ext cx="1392120" cy="136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1-25T14:04:34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