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3.wmf" ContentType="image/x-wmf"/>
  <Override PartName="/ppt/media/image51.jpeg" ContentType="image/jpeg"/>
  <Override PartName="/ppt/media/image21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png" ContentType="image/png"/>
  <Override PartName="/ppt/media/image16.jpeg" ContentType="image/jpeg"/>
  <Override PartName="/ppt/media/image9.gif" ContentType="image/gif"/>
  <Override PartName="/ppt/media/image15.jpeg" ContentType="image/jpeg"/>
  <Override PartName="/ppt/media/image29.jpeg" ContentType="image/jpeg"/>
  <Override PartName="/ppt/media/image37.gif" ContentType="image/gif"/>
  <Override PartName="/ppt/media/image52.jpeg" ContentType="image/jpeg"/>
  <Override PartName="/ppt/media/image5.png" ContentType="image/png"/>
  <Override PartName="/ppt/media/image43.jpeg" ContentType="image/jpeg"/>
  <Override PartName="/ppt/media/image17.jpeg" ContentType="image/jpeg"/>
  <Override PartName="/ppt/media/image3.png" ContentType="image/png"/>
  <Override PartName="/ppt/media/image40.gif" ContentType="image/gif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42.jpeg" ContentType="image/jpeg"/>
  <Override PartName="/ppt/media/image11.gif" ContentType="image/gif"/>
  <Override PartName="/ppt/media/image44.jpeg" ContentType="image/jpeg"/>
  <Override PartName="/ppt/media/image31.gif" ContentType="image/gif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wmf" ContentType="image/x-wmf"/>
  <Override PartName="/ppt/media/image48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13.jpeg" ContentType="image/jpeg"/>
  <Override PartName="/ppt/media/image20.gif" ContentType="image/gif"/>
  <Override PartName="/ppt/media/image53.jpeg" ContentType="image/jpeg"/>
  <Override PartName="/ppt/media/image10.gif" ContentType="image/gif"/>
  <Override PartName="/ppt/media/image8.png" ContentType="image/png"/>
  <Override PartName="/ppt/media/image28.gif" ContentType="image/gif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6.png" ContentType="image/png"/>
  <Override PartName="/ppt/media/image2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713-35FB-435C-BB94-794F6FBD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926-CA37-420C-90D4-140D21DE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75F-7BA3-4E03-AB69-1B6F5E31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BD5-50CC-493F-A3DD-AED242D5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8EA0-1B84-4C93-9718-2FFFD83B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A0DA-20C1-46DB-8A22-C607BFCD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47C0-73A1-4C1E-9809-1C6D857E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6F43-7928-418D-9912-B372CA4B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02E5-77E3-433D-BDD7-09573B7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D6A-BDF7-4673-BBE6-F180015D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8A4-525C-41A3-8BBE-3B0CA072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3C9-57EE-431A-A583-5CC40CEC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2A93-0C2A-4E92-83A9-94DDDB2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6062-8792-46FA-94CA-754ACAB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FE0A-77FC-4E64-9C48-EC942EA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0EF9-AC39-4BC6-A353-F93FD686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55BD-4907-4D15-9B6B-0F4030E2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A6B9-1DE1-4D0C-B0F9-F64F7442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3F1F-70C1-4AF5-BCD0-01D05F29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E03B-F9AF-4E50-96DA-06E5FD3D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453A-8124-436E-A6DE-79B5379B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49DB-B1DF-40F3-8134-C92B4C35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112-7E63-4D7A-B15B-A9D15CAF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6605-B02E-43D5-B110-5CE21588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314C-290E-44AA-AD8B-DF48DE9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6CD1-73F8-48C8-B120-DADDE96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3829-0B04-4862-A5A7-A307142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DDC1-063C-4217-B4DE-C7B2936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1E20-B472-4F99-AAB3-53FE0765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03EA-4643-4473-90CE-AA23D977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B2DC-E030-41C6-9C9A-7155CB14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872C-3343-4408-9E1A-34A22DF6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62FE-CCC4-4696-BB38-2DC6D4DD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732-CBF8-407E-B993-FDFAC2BE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3007-A3F4-4154-9CC6-027AAD9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E2AC-D45A-4668-A0BE-F98A572A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203F-D76C-4E74-ABDB-AF5C8002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1EA0-C548-45BD-8F03-DB6056A5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D6D9-2C05-4010-879D-F60102A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AA9D-C5A0-47FF-84E5-0E4BAC69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1D0A7-4536-42C3-87CA-66BC275B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9262-DC98-4BAF-BD69-2D5FD220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28FA-5B36-4B6C-8FE5-E0B342DE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2D0-2801-4307-9548-71B94B3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0EF-D424-453B-9CAA-4A3F8A84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B15-76A0-4D1C-9231-56CFA78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8BF-D277-4BC1-9F3E-B833C32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E9B-9798-468F-B858-B083A00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852C-AB92-4F01-8042-E509917909F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6432-39DD-4D12-9977-52B8EC57F3C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E857-30EB-4E8D-B19E-79AC958E452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0270-1BCB-4240-9E2E-898C89482C7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" Target="slide14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slide11.xml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16.xm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" Target="slide11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48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" Target="slide5.xml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04920" y="3048120"/>
            <a:ext cx="42670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«Чтобы быть здоровым, нужны собственные усилия постоянные и значительные, и заменить их нельзя ни чем»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                        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Н.М. Ам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743200" y="579132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учитель физической культуры МБОУ «Шокинская школа»  Осипова Екатерина Михайловна</a:t>
            </a:r>
            <a:r>
              <a:rPr b="1" i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0880" y="1143000"/>
            <a:ext cx="853452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 Black"/>
              </a:rPr>
              <a:t>Здоровь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 Black"/>
              </a:rPr>
              <a:t>и как его сохра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2" descr="sova"/>
          <p:cNvPicPr/>
          <p:nvPr/>
        </p:nvPicPr>
        <p:blipFill>
          <a:blip r:embed="rId1"/>
          <a:stretch/>
        </p:blipFill>
        <p:spPr>
          <a:xfrm>
            <a:off x="5181480" y="2895480"/>
            <a:ext cx="29718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00" name="AutoShape 14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5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7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18" descr="02"/>
          <p:cNvPicPr/>
          <p:nvPr/>
        </p:nvPicPr>
        <p:blipFill>
          <a:blip r:embed="rId3"/>
          <a:srcRect l="16937" t="0" r="0" b="0"/>
          <a:stretch/>
        </p:blipFill>
        <p:spPr>
          <a:xfrm>
            <a:off x="838080" y="4952880"/>
            <a:ext cx="14954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28600" y="9140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500" spc="-1" strike="noStrike" u="sng">
                <a:solidFill>
                  <a:srgbClr val="000099"/>
                </a:solidFill>
                <a:uFillTx/>
                <a:latin typeface="Arial"/>
              </a:rPr>
              <a:t>Закаливание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– это система мероприятий, направленная на повышение устойчивости     организма к многообразным влияниям внешней среды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К основным средствам закаливания относятся естественные природные факторы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а) солнце;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б) воздух (сон при открытой форточке или окне, физические упражнения на свежем воздухе, занятия зимними видами спорта, воздушные ванны);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в) вода (обтирание, обливание, душ, купание)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К одним из древнейших форм закаливания относятся хождение босиком по траве и снегу,  хождение в воде, купание в снегу после банных процедур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Picture 5" descr="закаливание"/>
          <p:cNvPicPr/>
          <p:nvPr/>
        </p:nvPicPr>
        <p:blipFill>
          <a:blip r:embed="rId1"/>
          <a:stretch/>
        </p:blipFill>
        <p:spPr>
          <a:xfrm>
            <a:off x="1676520" y="449568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50"/>
          <p:cNvPicPr/>
          <p:nvPr/>
        </p:nvPicPr>
        <p:blipFill>
          <a:blip r:embed="rId2"/>
          <a:srcRect l="16982" t="21056" r="15098" b="9213"/>
          <a:stretch/>
        </p:blipFill>
        <p:spPr>
          <a:xfrm>
            <a:off x="6095880" y="228600"/>
            <a:ext cx="2743200" cy="40384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5029200" y="4800600"/>
            <a:ext cx="3886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ысшая форма закаливания –                     купание в проруб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AN090"/>
          <p:cNvPicPr/>
          <p:nvPr/>
        </p:nvPicPr>
        <p:blipFill>
          <a:blip r:embed="rId3"/>
          <a:stretch/>
        </p:blipFill>
        <p:spPr>
          <a:xfrm>
            <a:off x="6095880" y="5486400"/>
            <a:ext cx="1123920" cy="102888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99" name="AutoShape 10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5909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1430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Привыкание к табаку формируется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  <a:ea typeface="Arial"/>
              </a:rPr>
              <a:t>от нескольких недель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до 10 лет в зависимости от индивидуальности организма и интенсивности курения.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Табак – это наркотик.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У человека, привыкшему к курению, в случае резкого прекращения приёма табака наблюдается </a:t>
            </a:r>
            <a:r>
              <a:rPr b="1" lang="ru-RU" sz="15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«ломка»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(головные боли, колебание артериальног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давления, нервозность, агрессивность). 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Курение </a:t>
            </a:r>
            <a:r>
              <a:rPr b="1" lang="ru-RU" sz="15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в 2 раза опаснее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для растущего организма, чем для взрослого. Смертельная доза для  подростков полпачки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Если человек начал курить в 15 лет, то продолжительность его жизни уменьшается более  чем на 8 лет. Начавшие курить до 15 лет в 5 раз чаще умирают от рака, чем те, кто стал курить позднее.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          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У курильщиков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в 2 – 3 раза чаще бывают сердечно-сосудистые заболевания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в 15 – 30 раз чаще – рак лёгких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в 10 раз – язва желудка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Часто развивается рак губы, гортани, пищевода, нарушается зрение, слух.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5" descr="sigar"/>
          <p:cNvPicPr/>
          <p:nvPr/>
        </p:nvPicPr>
        <p:blipFill>
          <a:blip r:embed="rId1"/>
          <a:stretch/>
        </p:blipFill>
        <p:spPr>
          <a:xfrm>
            <a:off x="6705720" y="304920"/>
            <a:ext cx="2066760" cy="1085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ost516"/>
          <p:cNvPicPr/>
          <p:nvPr/>
        </p:nvPicPr>
        <p:blipFill>
          <a:blip r:embed="rId2"/>
          <a:stretch/>
        </p:blipFill>
        <p:spPr>
          <a:xfrm>
            <a:off x="7391520" y="2971800"/>
            <a:ext cx="1104840" cy="23526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9"/>
          <p:cNvSpPr/>
          <p:nvPr/>
        </p:nvSpPr>
        <p:spPr>
          <a:xfrm>
            <a:off x="3276720" y="5486400"/>
            <a:ext cx="2209680" cy="609480"/>
          </a:xfrm>
          <a:prstGeom prst="cloudCallout">
            <a:avLst>
              <a:gd name="adj1" fmla="val -44611"/>
              <a:gd name="adj2" fmla="val 7005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Пассивное ку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0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09" name="AutoShape 11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2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рак легких 2"/>
          <p:cNvPicPr/>
          <p:nvPr/>
        </p:nvPicPr>
        <p:blipFill>
          <a:blip r:embed="rId1"/>
          <a:srcRect l="13748" t="16669" r="0" b="0"/>
          <a:stretch/>
        </p:blipFill>
        <p:spPr>
          <a:xfrm>
            <a:off x="533520" y="1143000"/>
            <a:ext cx="4922640" cy="4191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рак легких"/>
          <p:cNvPicPr/>
          <p:nvPr/>
        </p:nvPicPr>
        <p:blipFill>
          <a:blip r:embed="rId2"/>
          <a:stretch/>
        </p:blipFill>
        <p:spPr>
          <a:xfrm>
            <a:off x="5943600" y="9907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ost536"/>
          <p:cNvPicPr/>
          <p:nvPr/>
        </p:nvPicPr>
        <p:blipFill>
          <a:blip r:embed="rId3"/>
          <a:stretch/>
        </p:blipFill>
        <p:spPr>
          <a:xfrm>
            <a:off x="6934320" y="4114800"/>
            <a:ext cx="12189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17" name="AutoShape 7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9">
              <a:hlinkClick r:id="rId5" action="ppaction://hlinksldjump"/>
            </p:cNvPr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2"/>
          <p:cNvSpPr/>
          <p:nvPr/>
        </p:nvSpPr>
        <p:spPr>
          <a:xfrm>
            <a:off x="2209680" y="5486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к лёг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666880" cy="3124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3"/>
          <p:cNvPicPr/>
          <p:nvPr/>
        </p:nvPicPr>
        <p:blipFill>
          <a:blip r:embed="rId2"/>
          <a:stretch/>
        </p:blipFill>
        <p:spPr>
          <a:xfrm>
            <a:off x="5181480" y="38088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4"/>
          <p:cNvPicPr/>
          <p:nvPr/>
        </p:nvPicPr>
        <p:blipFill>
          <a:blip r:embed="rId3"/>
          <a:stretch/>
        </p:blipFill>
        <p:spPr>
          <a:xfrm>
            <a:off x="1239840" y="3938760"/>
            <a:ext cx="2473200" cy="2187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кл час 101"/>
          <p:cNvPicPr/>
          <p:nvPr/>
        </p:nvPicPr>
        <p:blipFill>
          <a:blip r:embed="rId4"/>
          <a:stretch/>
        </p:blipFill>
        <p:spPr>
          <a:xfrm>
            <a:off x="5715000" y="4255920"/>
            <a:ext cx="1905120" cy="155268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27" name="AutoShape 7">
              <a:hlinkClick r:id="rId5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66520"/>
            <a:ext cx="8686800" cy="2590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В окружающую курильщика атмосферу попадает токсических компонентов во много раз больше, чем в организм самого курильщик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Основной поток табачного дыма образуют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- 35% сгорающей сигар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92d050"/>
                </a:solidFill>
                <a:uFillTx/>
                <a:latin typeface="Arial"/>
              </a:rPr>
              <a:t>50% уходят в окружающий воздух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- от 5 до 15% компонентов сгоревшей сигареты остается на фильтр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Через 1,5 часа пребывания на рабочем месте в накуренном помещении у некурящих концентрация никотина в организме повышается в 8 раз, многократно увеличивается и содержание других токсичных компонентов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5" descr="ost514"/>
          <p:cNvPicPr/>
          <p:nvPr/>
        </p:nvPicPr>
        <p:blipFill>
          <a:blip r:embed="rId1"/>
          <a:stretch/>
        </p:blipFill>
        <p:spPr>
          <a:xfrm>
            <a:off x="8153280" y="380880"/>
            <a:ext cx="561960" cy="1933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ost52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5410080"/>
            <a:ext cx="155232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20037773"/>
          <p:cNvPicPr/>
          <p:nvPr/>
        </p:nvPicPr>
        <p:blipFill>
          <a:blip r:embed="rId4"/>
          <a:stretch/>
        </p:blipFill>
        <p:spPr>
          <a:xfrm>
            <a:off x="2743200" y="228600"/>
            <a:ext cx="2736720" cy="2247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1621"/>
          <p:cNvPicPr/>
          <p:nvPr/>
        </p:nvPicPr>
        <p:blipFill>
          <a:blip r:embed="rId5"/>
          <a:stretch/>
        </p:blipFill>
        <p:spPr>
          <a:xfrm>
            <a:off x="3200400" y="5486400"/>
            <a:ext cx="20574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457200"/>
            <a:ext cx="289584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91440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лкоголь - это этиловый спирт, присутствующий в большом или меньшем количестве в любом алкогольном напитке.  Относится к наркотикам, т. е. веществам вызывающим наркоз. Очень сильно влияние алкоголя на нервную систему, а именно на кору головного мозг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лкоголизм – это заболевание, развитие которого можн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тановить, но излечить полностью невозможно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дин из признаков алкоголизма – неконтролируемое желание употреблять спиртные напитки.  Алкоголизм -прогрессирующая болезнь, результатом которой может быть полная деградация личности или смер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Учёные доказали, что в 4 раза у подростков алкоголизм, как болезнь, возникает и развивается быстрее чем у взрослых. Привыкание у девушек происходит быстрее, чем у юношей, а вылечить намного сложнее (женский алкоголизм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осле употребления спиртных напитков через 10-15 минут алкоголь из желудка попадает в кровеносную систему. После этого он начинает циркулировать по всему организму. Воздействие алкоголя на центральную нервную систему вызывает состояние, которое принято называть опьянение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6" descr="1EER"/>
          <p:cNvPicPr/>
          <p:nvPr/>
        </p:nvPicPr>
        <p:blipFill>
          <a:blip r:embed="rId1"/>
          <a:stretch/>
        </p:blipFill>
        <p:spPr>
          <a:xfrm>
            <a:off x="6705720" y="4114800"/>
            <a:ext cx="2133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40" name="AutoShape 8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4" descr="a00"/>
          <p:cNvPicPr/>
          <p:nvPr/>
        </p:nvPicPr>
        <p:blipFill>
          <a:blip r:embed="rId3"/>
          <a:srcRect l="3581" t="2446" r="3581" b="4867"/>
          <a:stretch/>
        </p:blipFill>
        <p:spPr>
          <a:xfrm>
            <a:off x="6781680" y="762120"/>
            <a:ext cx="198144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show_small"/>
          <p:cNvPicPr/>
          <p:nvPr/>
        </p:nvPicPr>
        <p:blipFill>
          <a:blip r:embed="rId1"/>
          <a:srcRect l="0" t="0" r="0" b="7879"/>
          <a:stretch/>
        </p:blipFill>
        <p:spPr>
          <a:xfrm>
            <a:off x="609480" y="274320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m130692-liver_cirrhosis-spl"/>
          <p:cNvPicPr/>
          <p:nvPr/>
        </p:nvPicPr>
        <p:blipFill>
          <a:blip r:embed="rId2"/>
          <a:stretch/>
        </p:blipFill>
        <p:spPr>
          <a:xfrm>
            <a:off x="6553080" y="45720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2895480" y="419112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685800" y="762120"/>
            <a:ext cx="586728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ечень берет на себя основной удар по обезвреживанию алкоголя – 90% вещества разрушается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пособность печени справляться с алкоголем не беспредельна. Клетки её начинают разруш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У людей, систематически употребляющих алкоголь, развивается цирроз печени, что приводит к смер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533520" y="4648320"/>
            <a:ext cx="1828800" cy="838080"/>
          </a:xfrm>
          <a:prstGeom prst="cloudCallout">
            <a:avLst>
              <a:gd name="adj1" fmla="val -40652"/>
              <a:gd name="adj2" fmla="val 5537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Ку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380880" y="5715000"/>
            <a:ext cx="2210040" cy="838080"/>
          </a:xfrm>
          <a:prstGeom prst="cloudCallout">
            <a:avLst>
              <a:gd name="adj1" fmla="val -42689"/>
              <a:gd name="adj2" fmla="val 46291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Нарко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с двумя скругленными противолежащими углами 13"/>
          <p:cNvSpPr/>
          <p:nvPr/>
        </p:nvSpPr>
        <p:spPr>
          <a:xfrm>
            <a:off x="3429000" y="3657600"/>
            <a:ext cx="5486400" cy="2743200"/>
          </a:xfrm>
          <a:prstGeom prst="pie">
            <a:avLst/>
          </a:prstGeom>
          <a:solidFill>
            <a:srgbClr val="00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Constantia"/>
              </a:rPr>
              <a:t>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"/>
              </a:rPr>
              <a:t>-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Один из каждых четырех подростков участвуют в пьяных драках или скандал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Один из каждых десяти задерживается в нетрезвом виде полиц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Спиртное очень быстро меняет настроение: веселье сменяется подавленностью или зл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 Пьянство порождает насилие, вандализм, воровство и другие преступ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53" name="AutoShape 10">
              <a:hlinkClick r:id="rId5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2">
              <a:hlinkClick r:id="rId6" action="ppaction://hlinksldjump"/>
            </p:cNvPr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320040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ркома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4" descr="1143413968_nar"/>
          <p:cNvPicPr/>
          <p:nvPr/>
        </p:nvPicPr>
        <p:blipFill>
          <a:blip r:embed="rId1"/>
          <a:stretch/>
        </p:blipFill>
        <p:spPr>
          <a:xfrm>
            <a:off x="6172200" y="762120"/>
            <a:ext cx="2666880" cy="17809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228600" y="685800"/>
            <a:ext cx="57913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У людей, принимающих наркотики могут быть провалы в памяти и галлюцинации через несколько месяцев или даже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Тяжелее всего наркотики сказываются на психике. Люди впадают в депрессию и даже думают о самоубийстве, потому что им становится все труднее получить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"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заряд бодр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"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от наркотик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600x600,fs-GALERT-03,04,8180_JPG"/>
          <p:cNvPicPr/>
          <p:nvPr/>
        </p:nvPicPr>
        <p:blipFill>
          <a:blip r:embed="rId2"/>
          <a:stretch/>
        </p:blipFill>
        <p:spPr>
          <a:xfrm>
            <a:off x="3200400" y="5257800"/>
            <a:ext cx="43815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62" name="AutoShape 8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AutoShape 12"/>
          <p:cNvSpPr/>
          <p:nvPr/>
        </p:nvSpPr>
        <p:spPr>
          <a:xfrm>
            <a:off x="457200" y="5715000"/>
            <a:ext cx="2057400" cy="685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Это фак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1"/>
          <p:cNvSpPr/>
          <p:nvPr/>
        </p:nvSpPr>
        <p:spPr>
          <a:xfrm>
            <a:off x="990720" y="2590920"/>
            <a:ext cx="80010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Многие наркоманы болеют вирусными инфекциями, вызывающими гепатит Б или СПИД. Оба эти заболевания практически не лечатся и приводят к смер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Вирус гепатита Б разрушает печен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СПИД разрушает иммунную систему человека и любое заболевание становится смертельным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Гепатит Б и СПИД передаются через кровь. Люди, использующие один и тот же шприц для введения наркотиков, неизбежно заражают друг друга этими страшными болезн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28240" y="838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е существует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наркотиков, которые бы не вызывали зависимос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е существует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людей, для которых наркотики были бы не опасн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 наркомании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е возможно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полностью излечиться – человек остаётся зависимым от наркотиков</a:t>
            </a:r>
            <a:r>
              <a:rPr b="1" lang="ru-RU" sz="16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ю жизн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Picture 5" descr="icon"/>
          <p:cNvPicPr/>
          <p:nvPr/>
        </p:nvPicPr>
        <p:blipFill>
          <a:blip r:embed="rId1"/>
          <a:srcRect l="2027" t="0" r="0" b="0"/>
          <a:stretch/>
        </p:blipFill>
        <p:spPr>
          <a:xfrm>
            <a:off x="457200" y="34290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drags"/>
          <p:cNvPicPr/>
          <p:nvPr/>
        </p:nvPicPr>
        <p:blipFill>
          <a:blip r:embed="rId2"/>
          <a:stretch/>
        </p:blipFill>
        <p:spPr>
          <a:xfrm>
            <a:off x="5029200" y="30492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10"/>
          <p:cNvPicPr/>
          <p:nvPr/>
        </p:nvPicPr>
        <p:blipFill>
          <a:blip r:embed="rId3"/>
          <a:stretch/>
        </p:blipFill>
        <p:spPr>
          <a:xfrm>
            <a:off x="5029200" y="3429000"/>
            <a:ext cx="38098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8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73" name="AutoShape 9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914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Марихуана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еняет работу мозга. Страдает сердце, нарушается координация движений, работа легких и  сосудов, кружиться голо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Экстази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сужает сосуды и уменьшает теплоотдачу. Это может привести к смерти от перегревания и теплового удара. Легко проникает в клетки коры головного мозга, в результате возникает синдром органического поражения головного мозг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Винт (ментамфетамин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вызывает сужение сосудов и скачки давления. Учащается дыхание, сердцебиение. Регулярное употребление амфетаминов приводит к истощению. Смерть может наступить в результате кровоизлияния в мозг, остановки сердца или от теплового удар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рибы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вызывают галлюцинации. Возникают психозы, а при регулярном употреблении -  необратимое поражение психики, печени и желуд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4" descr="101568"/>
          <p:cNvPicPr/>
          <p:nvPr/>
        </p:nvPicPr>
        <p:blipFill>
          <a:blip r:embed="rId1"/>
          <a:srcRect l="0" t="20000" r="0" b="30000"/>
          <a:stretch/>
        </p:blipFill>
        <p:spPr>
          <a:xfrm>
            <a:off x="2235240" y="4800600"/>
            <a:ext cx="44704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80" name="AutoShape 6">
              <a:hlinkClick r:id="" action="ppaction://hlinkshowjump?jump=nextslide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7"/>
          <p:cNvSpPr/>
          <p:nvPr/>
        </p:nvSpPr>
        <p:spPr>
          <a:xfrm>
            <a:off x="304920" y="457200"/>
            <a:ext cx="8610480" cy="5943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Здоровье – это состояние полного физического, психологического и социального благополучия, а не только отсутствие болезней или физических деф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(из устава Всемирной организации здравоохра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Здоровье – это, прежде всего процесс, сохранения и развития  психических и физиологических качеств, оптимальной работоспособности и социальной активности при максимальной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Здоровый образ жизни – это  процесс соблюдения человеком определённых норм, правил и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ограничений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в повседневной жизни, способствующих сохранения здоровья, оптимальному приспособлению организма к условиям среды, высокому уровню работоспособности в учебной и профессио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07" name="AutoShape 6">
              <a:hlinkClick r:id="rId1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28600" y="609480"/>
            <a:ext cx="6858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ерои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угнетает центральную нервную систему, замедляет сердцебиение, дыхание, снижает активность головного мозга, что вызывает пневмонию т туберкулез, нарушает обмен веществ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Кокаи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сужает сосуды, поэтому у всех кокаинщиков проблемы с сердцем. При длительном употреблении кокаина развивается так называемый кокаиновый психоз. Человеку постоянно страшно, кажется, что за ним кто-то следит. Кокс действует на нервную систему – возникают припадки, напоминающие эпилепсию, постоянно чешется кожа. При передозировке возможны кровоизлияния в моз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ЛСД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– один из самых токсичных галлюциногенов. Он действует на мозг и нервную систему, что вызывает страх, панику, желание выйти в окно или прикончить окружающих. ЛСД разрушает нейроны мозга, и его длительный прием ведет к шизофрен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Метадо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по своему действию схож с героином. С первого же приема сильно поражает мозг, вызывая необратимые наруш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Picture 4" descr="868342_20060706164203"/>
          <p:cNvPicPr/>
          <p:nvPr/>
        </p:nvPicPr>
        <p:blipFill>
          <a:blip r:embed="rId1"/>
          <a:srcRect l="44904" t="0" r="18365" b="0"/>
          <a:stretch/>
        </p:blipFill>
        <p:spPr>
          <a:xfrm>
            <a:off x="7162920" y="1371600"/>
            <a:ext cx="1371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87" name="AutoShape 6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всех всегда есть выбор. Используй его правильно!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2" name="Picture 5" descr="17209_prev_425"/>
          <p:cNvPicPr/>
          <p:nvPr/>
        </p:nvPicPr>
        <p:blipFill>
          <a:blip r:embed="rId1"/>
          <a:stretch/>
        </p:blipFill>
        <p:spPr>
          <a:xfrm>
            <a:off x="457200" y="3938760"/>
            <a:ext cx="3886200" cy="2538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17"/>
          <p:cNvPicPr/>
          <p:nvPr/>
        </p:nvPicPr>
        <p:blipFill>
          <a:blip r:embed="rId2"/>
          <a:srcRect l="6066" t="0" r="6066" b="0"/>
          <a:stretch/>
        </p:blipFill>
        <p:spPr>
          <a:xfrm>
            <a:off x="5715000" y="990720"/>
            <a:ext cx="2362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11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95" name="AutoShape 12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3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5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16" descr="10"/>
          <p:cNvPicPr/>
          <p:nvPr/>
        </p:nvPicPr>
        <p:blipFill>
          <a:blip r:embed="rId3"/>
          <a:stretch/>
        </p:blipFill>
        <p:spPr>
          <a:xfrm>
            <a:off x="5486400" y="3962520"/>
            <a:ext cx="2895480" cy="23619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400" name="Line 17"/>
          <p:cNvSpPr/>
          <p:nvPr/>
        </p:nvSpPr>
        <p:spPr>
          <a:xfrm>
            <a:off x="4952880" y="3657600"/>
            <a:ext cx="3962520" cy="259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8"/>
          <p:cNvSpPr/>
          <p:nvPr/>
        </p:nvSpPr>
        <p:spPr>
          <a:xfrm flipH="1">
            <a:off x="5028840" y="3657600"/>
            <a:ext cx="3809880" cy="281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9"/>
          <p:cNvSpPr/>
          <p:nvPr/>
        </p:nvSpPr>
        <p:spPr>
          <a:xfrm>
            <a:off x="5257800" y="1066680"/>
            <a:ext cx="3505320" cy="221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 flipH="1">
            <a:off x="5105160" y="914400"/>
            <a:ext cx="3352680" cy="243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1" descr="16_2836"/>
          <p:cNvPicPr/>
          <p:nvPr/>
        </p:nvPicPr>
        <p:blipFill>
          <a:blip r:embed="rId4"/>
          <a:stretch/>
        </p:blipFill>
        <p:spPr>
          <a:xfrm>
            <a:off x="533520" y="91440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Список использованной литературы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68580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1.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уянова Н.Ю. Я познаю мир: Дет. энцикл.: Медицина. М.: АСТ, 199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 Готовые экзаменационные ответы, физическая культура, 11 класс: Санкт-Петербург, «Тригон»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.  Дереклеева Н.И. Родительские собрания. 5 - 11 классы. М.: ВАКО,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.  Ковалёва Н.В. Родительские собрания в 5 – 7 классах. Изд. 2-е. – Ростов н/Д: изд-во «Феникс»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5.  Кузнецов В.С., Колодницкий Г.А. Экзаменационные вопросы и ответы. Физическая культура. 9 и 11 выпускные классы: Учебное пособие. – М.: АСТ-ПРЕСС ШКОЛА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6.  Литвинов Е,Н,, Погадаев Г.И., Торочкова Т.Ю., Шитова Р.Я. Методика физического воспитания учащихся 1 – 4 классов: Пособие для учителя. – М.: Просвещение, 1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7.  Лукьяненко В.П. Формирование здорового образа жизни (ЗОЖ): Физическая культура в школе № 2;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408" name="AutoShape 6">
              <a:hlinkClick r:id="" action="ppaction://hlinkshowjump?jump=nextslide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457200" y="685800"/>
            <a:ext cx="815328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ядова Н.В., Аносова Ю.А., Кожарская В,И., Ослон В.Н. Формирование здорового образа жизни и профилактика социально значимых заболеваний: Учебно-методическое пособие – Пермь: ПОИПКРО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9.  Мишин Б.И., Погадаев Г.И. Примерные билеты и ответы по физической культуре для подготовки к устной итоговой аттестации выпускников 9 классов общеобразовательных учреждений в 2002 – 2003 учебном году. – М.:Дрофа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0.  Перминова Г.В. Физическая культура 11 класс. Готовые ответы на экзаменационные вопросы. – М.: «Абрис Д», СПб.: «Виктория плюс»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1.  Шевченко С.В., Денисова В,Г., Цыбулина Г.М., Зорина В.В. Классные часы (беседы, устный журнал, уроки мужества, ток-шоу). 1 – 11 классы.- Волгоград: Учитель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2.  Энциклопедия для детей. Том 18. Человек. Ч. 1, Происхождение и природа человека. Как работает тело. Искусство быть здоровым./ Глав. Ред. В.А. Володин. – М.: Аванта+,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азета «Аргументы и факты» № 22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айты 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tasyflash.r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hnostb.narod.ru/Animashki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nimashk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414" name="AutoShape 6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Прямоугольник 7"/>
          <p:cNvSpPr/>
          <p:nvPr/>
        </p:nvSpPr>
        <p:spPr>
          <a:xfrm>
            <a:off x="4508640" y="594360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etlanal.naro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705960" y="762120"/>
            <a:ext cx="80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ные составляющие современной концепции здоров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57200" y="1219320"/>
            <a:ext cx="525780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Физи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– включает в себя уровень роста и развитие органов и систем организма, а также текущее состояние их функцион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сихологи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– состояние психической сферы, определяющееся мотивационными, эмоциональными, мыслительными и нравственно-духовными фактор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оведен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– внешнее проявление состояния человека (адекватность поведения, умение общатьс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$$Р$$Ы~1"/>
          <p:cNvPicPr/>
          <p:nvPr/>
        </p:nvPicPr>
        <p:blipFill>
          <a:blip r:embed="rId1"/>
          <a:stretch/>
        </p:blipFill>
        <p:spPr>
          <a:xfrm>
            <a:off x="6248520" y="5105520"/>
            <a:ext cx="1523880" cy="14475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15" name="AutoShape 18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23" descr="J0282737"/>
          <p:cNvPicPr/>
          <p:nvPr/>
        </p:nvPicPr>
        <p:blipFill>
          <a:blip r:embed="rId3"/>
          <a:stretch/>
        </p:blipFill>
        <p:spPr>
          <a:xfrm>
            <a:off x="5562720" y="3276720"/>
            <a:ext cx="1295280" cy="1230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J0282753"/>
          <p:cNvPicPr/>
          <p:nvPr/>
        </p:nvPicPr>
        <p:blipFill>
          <a:blip r:embed="rId4"/>
          <a:stretch/>
        </p:blipFill>
        <p:spPr>
          <a:xfrm>
            <a:off x="7467480" y="3276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C:\Home\Ольга\Рабочий стол\мама\двигательная нагрузка\2.gif"/>
          <p:cNvPicPr/>
          <p:nvPr/>
        </p:nvPicPr>
        <p:blipFill>
          <a:blip r:embed="rId5"/>
          <a:stretch/>
        </p:blipFill>
        <p:spPr>
          <a:xfrm>
            <a:off x="6095880" y="1066680"/>
            <a:ext cx="231156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2552760" y="1376280"/>
          <a:ext cx="40384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1376280"/>
                    <a:ext cx="40384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228600" y="1143000"/>
            <a:ext cx="274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 жизни –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(30% из 50% ЗОЖ отводит правильно организованной  двигательной активности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402240" y="17524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логия 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869440" y="54100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дравоохранение – 10%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300680" y="54864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следственность 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858400" y="6400800"/>
            <a:ext cx="37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Данные министерства здравоо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922760" y="533520"/>
            <a:ext cx="49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акторы, определяющие здоровь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 flipH="1">
            <a:off x="7086240" y="2209680"/>
            <a:ext cx="30492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6934320" y="4572000"/>
            <a:ext cx="380880" cy="83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 flipH="1">
            <a:off x="3276360" y="4724280"/>
            <a:ext cx="228600" cy="8384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057400" y="2133720"/>
            <a:ext cx="137160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35" name="AutoShape 17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Organization Chart 6"/>
          <p:cNvGrpSpPr/>
          <p:nvPr/>
        </p:nvGrpSpPr>
        <p:grpSpPr>
          <a:xfrm>
            <a:off x="762120" y="304920"/>
            <a:ext cx="7847280" cy="5983920"/>
            <a:chOff x="762120" y="304920"/>
            <a:chExt cx="7847280" cy="5983920"/>
          </a:xfrm>
        </p:grpSpPr>
        <p:cxnSp>
          <p:nvCxnSpPr>
            <p:cNvPr id="240" name="_s2052"/>
            <p:cNvCxnSpPr>
              <a:stCxn id="241" idx="0"/>
              <a:endCxn id="242" idx="5"/>
            </p:cNvCxnSpPr>
            <p:nvPr/>
          </p:nvCxnSpPr>
          <p:spPr>
            <a:xfrm rot="10800000">
              <a:off x="4685040" y="1392120"/>
              <a:ext cx="561240" cy="4352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" name="_s2053"/>
            <p:cNvCxnSpPr>
              <a:stCxn id="244" idx="0"/>
              <a:endCxn id="242" idx="4"/>
            </p:cNvCxnSpPr>
            <p:nvPr/>
          </p:nvCxnSpPr>
          <p:spPr>
            <a:xfrm flipV="1">
              <a:off x="4124880" y="1392120"/>
              <a:ext cx="561240" cy="4352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_s2054"/>
            <p:cNvCxnSpPr>
              <a:stCxn id="246" idx="0"/>
              <a:endCxn id="242" idx="3"/>
            </p:cNvCxnSpPr>
            <p:nvPr/>
          </p:nvCxnSpPr>
          <p:spPr>
            <a:xfrm rot="10800000">
              <a:off x="4685040" y="1392120"/>
              <a:ext cx="561240" cy="272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_s2055"/>
            <p:cNvCxnSpPr>
              <a:stCxn id="248" idx="0"/>
              <a:endCxn id="242" idx="2"/>
            </p:cNvCxnSpPr>
            <p:nvPr/>
          </p:nvCxnSpPr>
          <p:spPr>
            <a:xfrm flipV="1">
              <a:off x="4124880" y="1392120"/>
              <a:ext cx="561240" cy="272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_s2056"/>
            <p:cNvCxnSpPr>
              <a:stCxn id="250" idx="0"/>
              <a:endCxn id="242" idx="1"/>
            </p:cNvCxnSpPr>
            <p:nvPr/>
          </p:nvCxnSpPr>
          <p:spPr>
            <a:xfrm rot="10800000">
              <a:off x="4685040" y="1392840"/>
              <a:ext cx="561240" cy="108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" name="_s2057"/>
            <p:cNvCxnSpPr>
              <a:stCxn id="252" idx="0"/>
              <a:endCxn id="242" idx="0"/>
            </p:cNvCxnSpPr>
            <p:nvPr/>
          </p:nvCxnSpPr>
          <p:spPr>
            <a:xfrm flipV="1">
              <a:off x="4124880" y="1392840"/>
              <a:ext cx="561240" cy="108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_s2058"/>
            <p:cNvSpPr/>
            <p:nvPr/>
          </p:nvSpPr>
          <p:spPr>
            <a:xfrm>
              <a:off x="3004200" y="304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f6fc6"/>
                </a:gs>
                <a:gs pos="50000">
                  <a:srgbClr val="ffffff"/>
                </a:gs>
                <a:gs pos="100000">
                  <a:srgbClr val="0f6fc6"/>
                </a:gs>
              </a:gsLst>
              <a:lin ang="8100000"/>
            </a:gradFill>
            <a:ln w="32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33"/>
                  </a:solidFill>
                  <a:latin typeface="Gill Sans Ultra Bold"/>
                </a:rPr>
                <a:t>Услови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33"/>
                  </a:solidFill>
                  <a:latin typeface="Gill Sans Ultra Bold"/>
                </a:rPr>
                <a:t>сохранения здоровь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59"/>
            <p:cNvSpPr/>
            <p:nvPr/>
          </p:nvSpPr>
          <p:spPr>
            <a:xfrm>
              <a:off x="762120" y="193680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Gill Sans Ultra Bold"/>
                  <a:hlinkClick r:id="rId2" action="ppaction://hlinksldjump"/>
                </a:rPr>
                <a:t>Желание быть здоровы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60"/>
            <p:cNvSpPr/>
            <p:nvPr/>
          </p:nvSpPr>
          <p:spPr>
            <a:xfrm>
              <a:off x="5246280" y="193680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3" action="ppaction://hlinksldjump"/>
                </a:rPr>
                <a:t>Двигательная активно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61"/>
            <p:cNvSpPr/>
            <p:nvPr/>
          </p:nvSpPr>
          <p:spPr>
            <a:xfrm>
              <a:off x="762120" y="356868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Gill Sans Ultra Bold"/>
                  <a:hlinkClick r:id="rId4" action="ppaction://hlinksldjump"/>
                </a:rPr>
                <a:t>Рациональное пита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062"/>
            <p:cNvSpPr/>
            <p:nvPr/>
          </p:nvSpPr>
          <p:spPr>
            <a:xfrm>
              <a:off x="5246280" y="356868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5" action="ppaction://hlinksldjump"/>
                </a:rPr>
                <a:t>Личная гигиен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63"/>
            <p:cNvSpPr/>
            <p:nvPr/>
          </p:nvSpPr>
          <p:spPr>
            <a:xfrm>
              <a:off x="762120" y="5200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6" action="ppaction://hlinksldjump"/>
                </a:rPr>
                <a:t>Закалива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64"/>
            <p:cNvSpPr/>
            <p:nvPr/>
          </p:nvSpPr>
          <p:spPr>
            <a:xfrm>
              <a:off x="5246280" y="5200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7" action="ppaction://hlinksldjump"/>
                </a:rPr>
                <a:t>Отказ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8" action="ppaction://hlinksldjump"/>
                </a:rPr>
                <a:t>от вредных привыче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54" name="AutoShape 17">
              <a:hlinkClick r:id="rId9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685800"/>
            <a:ext cx="5638680" cy="65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оспринимайте своё тело как здоровое, даже если вас беспокоит какой-либо недуг (элемент самовнуш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О сохранении вашего здоровья, кроме вас самих, никто не позаботит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обходимо помнить, что для успеха над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поте лица трудиться всю жиз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тобы быть здоровым, нужны собственные усилия постоянные и значительные, и заменить их нельзя нич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Жить в согласии с природ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 обществом (доброта и милосердие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Культура труда, отдыха, сна, питания, физической и духовной жизни – всё это в целом и есть основа кодекса здоров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знательное отношение к собственному здоровью должно стать нормой поведения, главной отличительной чертой культурной, цивилизованной личн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new18"/>
          <p:cNvPicPr/>
          <p:nvPr/>
        </p:nvPicPr>
        <p:blipFill>
          <a:blip r:embed="rId1"/>
          <a:srcRect l="1890" t="0" r="5663" b="1958"/>
          <a:stretch/>
        </p:blipFill>
        <p:spPr>
          <a:xfrm>
            <a:off x="5181480" y="1066680"/>
            <a:ext cx="3733920" cy="381024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61" name="AutoShape 6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28240" y="228600"/>
            <a:ext cx="4343400" cy="3200400"/>
          </a:xfrm>
          <a:prstGeom prst="rect">
            <a:avLst/>
          </a:prstGeom>
          <a:solidFill>
            <a:srgbClr val="0e64b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вигательная активность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– главны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и решающий фактор сохранения и укрепления здоровья, ни чем не заменимое универсальное средство профилактики недугов и замедления процессов старения организма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тановлено, что если потребность в движении не удовлетворяется, то наступает гиподинам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комендуемая норма двигательной активности для школьников 12-14 часов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 неделю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11" descr="46"/>
          <p:cNvPicPr/>
          <p:nvPr/>
        </p:nvPicPr>
        <p:blipFill>
          <a:blip r:embed="rId1"/>
          <a:srcRect l="14493" t="0" r="0" b="0"/>
          <a:stretch/>
        </p:blipFill>
        <p:spPr>
          <a:xfrm>
            <a:off x="380880" y="365760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sheip_09_b"/>
          <p:cNvPicPr/>
          <p:nvPr/>
        </p:nvPicPr>
        <p:blipFill>
          <a:blip r:embed="rId2"/>
          <a:stretch/>
        </p:blipFill>
        <p:spPr>
          <a:xfrm>
            <a:off x="4952880" y="3657600"/>
            <a:ext cx="3834000" cy="2895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1" descr="DSC01228"/>
          <p:cNvPicPr/>
          <p:nvPr/>
        </p:nvPicPr>
        <p:blipFill>
          <a:blip r:embed="rId3"/>
          <a:srcRect l="14118" t="15150" r="11764" b="0"/>
          <a:stretch/>
        </p:blipFill>
        <p:spPr>
          <a:xfrm>
            <a:off x="4952880" y="152280"/>
            <a:ext cx="3886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22"/>
          <p:cNvGrpSpPr/>
          <p:nvPr/>
        </p:nvGrpSpPr>
        <p:grpSpPr>
          <a:xfrm>
            <a:off x="8077320" y="6248520"/>
            <a:ext cx="704880" cy="380880"/>
            <a:chOff x="8077320" y="6248520"/>
            <a:chExt cx="704880" cy="380880"/>
          </a:xfrm>
        </p:grpSpPr>
        <p:sp>
          <p:nvSpPr>
            <p:cNvPr id="270" name="AutoShape 23">
              <a:hlinkClick r:id="rId4" action="ppaction://hlinksldjump"/>
            </p:cNvPr>
            <p:cNvSpPr/>
            <p:nvPr/>
          </p:nvSpPr>
          <p:spPr>
            <a:xfrm>
              <a:off x="8246880" y="6326280"/>
              <a:ext cx="363240" cy="2332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8077320" y="6551640"/>
              <a:ext cx="2088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5"/>
            <p:cNvSpPr/>
            <p:nvPr/>
          </p:nvSpPr>
          <p:spPr>
            <a:xfrm>
              <a:off x="8325360" y="6248520"/>
              <a:ext cx="208800" cy="77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6"/>
            <p:cNvSpPr/>
            <p:nvPr/>
          </p:nvSpPr>
          <p:spPr>
            <a:xfrm>
              <a:off x="8573400" y="6551640"/>
              <a:ext cx="208800" cy="77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logo"/>
          <p:cNvPicPr/>
          <p:nvPr/>
        </p:nvPicPr>
        <p:blipFill>
          <a:blip r:embed="rId1"/>
          <a:srcRect l="2039" t="2968" r="2289" b="2226"/>
          <a:stretch/>
        </p:blipFill>
        <p:spPr>
          <a:xfrm>
            <a:off x="2666880" y="6094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609480" y="3657600"/>
            <a:ext cx="77724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J0223774"/>
          <p:cNvPicPr/>
          <p:nvPr/>
        </p:nvPicPr>
        <p:blipFill>
          <a:blip r:embed="rId2"/>
          <a:stretch/>
        </p:blipFill>
        <p:spPr>
          <a:xfrm>
            <a:off x="838080" y="1371600"/>
            <a:ext cx="1244880" cy="90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J0223780"/>
          <p:cNvPicPr/>
          <p:nvPr/>
        </p:nvPicPr>
        <p:blipFill>
          <a:blip r:embed="rId3"/>
          <a:stretch/>
        </p:blipFill>
        <p:spPr>
          <a:xfrm>
            <a:off x="7162920" y="1523880"/>
            <a:ext cx="1244520" cy="939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1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79" name="AutoShape 12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Прямоугольник 11"/>
          <p:cNvSpPr/>
          <p:nvPr/>
        </p:nvSpPr>
        <p:spPr>
          <a:xfrm>
            <a:off x="380880" y="32767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авильное питание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подразумевает меню, богато овощами, фруктами,  съедобными трав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ища должна быть питательной и разнообраз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Ежедневное употребление первых блюд, овощных салатов, соков, каш способствует хорошей работе органов пищева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жим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гулярность приёма пи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(не менее 3 – 4 раз в день, желательно в одни и те же час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гигиена рук, гигиена приёма пищ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ища при приёме – не очень холодная, но и не очень горячая и мн.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AN088"/>
          <p:cNvPicPr/>
          <p:nvPr/>
        </p:nvPicPr>
        <p:blipFill>
          <a:blip r:embed="rId1"/>
          <a:stretch/>
        </p:blipFill>
        <p:spPr>
          <a:xfrm>
            <a:off x="3895560" y="3621240"/>
            <a:ext cx="1352880" cy="10191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2819520" y="990720"/>
            <a:ext cx="5867280" cy="231516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Гигиена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– наука о влиянии различных факторов окружающей среды на здоровье человека, его работоспособность, продолжительность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Личная гигиена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– это соблюдение основных принципов и правил данной науки каждым человеком в процессе его индивидуальной жизни (режим дня, гигиена питания, одежды, жилья, полезный досуг, сочетание труда и отдых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4028"/>
          <p:cNvPicPr/>
          <p:nvPr/>
        </p:nvPicPr>
        <p:blipFill>
          <a:blip r:embed="rId2"/>
          <a:stretch/>
        </p:blipFill>
        <p:spPr>
          <a:xfrm>
            <a:off x="685800" y="914400"/>
            <a:ext cx="1714680" cy="24192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88" name="AutoShape 10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4" descr="AEROBICS"/>
          <p:cNvPicPr/>
          <p:nvPr/>
        </p:nvPicPr>
        <p:blipFill>
          <a:blip r:embed="rId4"/>
          <a:stretch/>
        </p:blipFill>
        <p:spPr>
          <a:xfrm>
            <a:off x="2286000" y="4038480"/>
            <a:ext cx="1392120" cy="136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25T14:04:3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