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592-823E-4DF1-AE79-EC732443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819-748C-4C9D-BED8-337A8E80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740-D057-4BC0-A9BB-7390061B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71F-AABA-4887-89A5-5174C539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98F0-521F-4E90-A1EB-D82C8778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ADC5-E617-41F2-8386-67673789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A591-1D71-492B-9352-62395DA1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998E-0CF7-410A-9ACA-7B287A7E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83F0-017A-4308-9B63-1E02781A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0408-F9B6-4D51-A39D-543EE01D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0F16-F283-42E0-BFAA-C2C40562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848-1416-41BF-B8EC-2F89FE85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4790-EDAE-483F-856B-2AB37846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064E-10D3-4FBC-98D9-F830776F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05FE-7D94-4603-8E4F-DC2526D6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FD2D-578F-4896-8873-E31DC539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B3AA-D9BD-41D8-A43F-0626BA3F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B67-788F-4E67-947D-64B990E2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869-390C-49DD-BDCE-478EB8DB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FEC-5AD9-4612-A51C-07BDD27B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121-6C6D-4B02-B664-254145DA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045-8DF8-462A-BFC8-793018D5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B77-8E56-4E35-ABD9-34D266CA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1BF-0286-46CD-A51D-AA0E2D40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602D-2783-48D8-9CB9-F7157CE3A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2BB6-D061-4A87-BC90-4BB7DDC27D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Tahoma"/>
              </a:rPr>
              <a:t>Здоровьесберегающая организация учебного процесс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95280" y="981000"/>
          <a:ext cx="7992720" cy="5111640"/>
        </p:xfrm>
        <a:graphic>
          <a:graphicData uri="http://schemas.openxmlformats.org/drawingml/2006/table">
            <a:tbl>
              <a:tblPr/>
              <a:tblGrid>
                <a:gridCol w="2664360"/>
                <a:gridCol w="2664000"/>
                <a:gridCol w="2664360"/>
              </a:tblGrid>
              <a:tr h="56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Режим д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го соблюда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– 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гда наруша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 – 5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соблюда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 – 3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облюдаете ли гигиенический реж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оян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2 – 8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г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 – 1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г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– 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Делаете ли по утрам заряд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оян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– 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г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 – 4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г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 – 5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24000" y="404640"/>
          <a:ext cx="8280360" cy="6261120"/>
        </p:xfrm>
        <a:graphic>
          <a:graphicData uri="http://schemas.openxmlformats.org/drawingml/2006/table">
            <a:tbl>
              <a:tblPr/>
              <a:tblGrid>
                <a:gridCol w="2760480"/>
                <a:gridCol w="2759040"/>
                <a:gridCol w="2760840"/>
              </a:tblGrid>
              <a:tr h="363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роводятся ли физкультпаузы на урок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оян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– 1,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 – 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4 – 6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ак много времени тратится на выполнение домашнего за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часа и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– 1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 1 часа до 3-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 – 5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 1 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– 2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На выполнение каких предметов тратится больше вс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2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имия  56 – 4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 26 – 2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иология 39 – 3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ография 19 – 1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еометрия 41 – 3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лгебра 63 – 5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30 – 2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ка 14 – 1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рия 9 – 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ознание 4 – 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тика 2 – 1,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а 20 – 1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чение 3 – 2,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ология 2 – 1,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Школьные факторы риска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трессовая педагогическая такти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Интенсификация учебного процес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есоответствие методик и технологий обучения возрастным и функциональным возможностям школь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ерациональная организация учебн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36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Организация урока на основе принципов здоровьесбереж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равило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1:</a:t>
            </a: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Правильная организация уро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2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ет критериев здоровьесбереж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отивация к обучению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заимный интерес в процессе уро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равило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2:</a:t>
            </a: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Использование каналов восприят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981080"/>
          <a:ext cx="8218440" cy="4753080"/>
        </p:xfrm>
        <a:graphic>
          <a:graphicData uri="http://schemas.openxmlformats.org/drawingml/2006/table">
            <a:tbl>
              <a:tblPr/>
              <a:tblGrid>
                <a:gridCol w="3438360"/>
                <a:gridCol w="4780080"/>
              </a:tblGrid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Левополушарн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ужны технология, ясные и четкие инструкции, абстрактный линейный стиль изложения информации от части к целому, неоднократное повторение учебного материала, проверка выполненной работы, тишина на урок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равополушарн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ы контекст, связь информации с реальностью и практикой, анализ от целого к частному, задачи зрительно – пространственного анализа, творческие задания, эксперименты, эмоции, музыкальный фон, речевой и музыкальный фо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620640"/>
          <a:ext cx="8332920" cy="5475240"/>
        </p:xfrm>
        <a:graphic>
          <a:graphicData uri="http://schemas.openxmlformats.org/drawingml/2006/table">
            <a:tbl>
              <a:tblPr/>
              <a:tblGrid>
                <a:gridCol w="2746440"/>
                <a:gridCol w="5586480"/>
              </a:tblGrid>
              <a:tr h="20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Визуальное восприят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нение педагогом слов, описывающих цвет, размер, форму, место расположения. Выделение цветом (в тетради, схемах, таблицах и др.) различных пунктов и аспектов содержания. Выполнение письменных упражнений, составление опорных конспектов, использование письменных инструкций и заданий. Применение схем, таблиц, наглядных пособий, видео, кни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Аудиальное восприяти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вариаций голоса (громкость, паузы, высота), сигнальных слов (говорить, слушать, другими словами, звук, тон, беседа и т.д.), отражение телом ритма метронома (головой, руками). Рекомендуются дискуссии, магнитофонные записи, рассказы, устные задачи, упражнения, просмотр видеофильмо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инестетическое восприят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жестов, прикосновения, сигнальных слов (ощущаю, управляю, действую и др.). Предоставление возможности играть роль различных частей вашей информации. Передача информации в игре, при выполнении практического эксперимента. Смена видов деятель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052640"/>
          <a:ext cx="8229600" cy="4681440"/>
        </p:xfrm>
        <a:graphic>
          <a:graphicData uri="http://schemas.openxmlformats.org/drawingml/2006/table">
            <a:tbl>
              <a:tblPr/>
              <a:tblGrid>
                <a:gridCol w="2530440"/>
                <a:gridCol w="5699160"/>
              </a:tblGrid>
              <a:tr h="264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Юнош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строй на рабочий ритм. Необходимо выполнение поисковой деятельности, решение принципиально новых задач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Девушк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учше выполняют типовые, шаблонные задачи. Создание благоприятной эмоциональной обстановки: связь обучения с радостью и удовольствие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765000"/>
          <a:ext cx="8229600" cy="5855040"/>
        </p:xfrm>
        <a:graphic>
          <a:graphicData uri="http://schemas.openxmlformats.org/drawingml/2006/table">
            <a:tbl>
              <a:tblPr/>
              <a:tblGrid>
                <a:gridCol w="2530440"/>
                <a:gridCol w="5699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ильный, холериче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строй на работу, требование дисциплины, ответственности. Необходима частая смена видов деятельности, использование игры, учебных инсценировок, конструиров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ильный, флегма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нообразные задания по содержанию и по способу решения. Последовательное изложение учебного материала. Осуществление контроля в письменном виде. Четкий инструктаж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ильный, сангвиниче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нообразные задания по содержанию и по способу решения. Применение деятельностных форм обучения (самостоятельные работы, дискуссии, игры и др.). Работа в группа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лабый, меланхоличе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строй на работу. Работа в тихой, спокойной обстановке. Индивидуальный, медленный темп. Выполнение заданий, не требующих распределения внимания, переключения с одного вида работы на другой. Наиболее удобны ответы в письменной форме. Необходимо постоянное формирование уверенности в своих силах, знаниях, в возможности учиться путем поощрений, подбадрива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равило 3:</a:t>
            </a: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Учет зоны работоспособност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«Десять десятых нашего счастья зависит от здоровья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А.Шопенгауэ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Работоспособность 1-6 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1484280"/>
          <a:ext cx="8351640" cy="496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84280"/>
                    <a:ext cx="835164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Работоспособность 7-11 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1557360"/>
          <a:ext cx="8569080" cy="4896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557360"/>
                    <a:ext cx="85690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Работоспособность 1-6 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79912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Работоспособность 7-11 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95280" y="1413000"/>
          <a:ext cx="8280360" cy="5111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2803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авило 4:</a:t>
            </a: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Распределение интенсивности умственной деятельности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981080"/>
          <a:ext cx="8229600" cy="4575240"/>
        </p:xfrm>
        <a:graphic>
          <a:graphicData uri="http://schemas.openxmlformats.org/drawingml/2006/table">
            <a:tbl>
              <a:tblPr/>
              <a:tblGrid>
                <a:gridCol w="2057400"/>
                <a:gridCol w="2055960"/>
                <a:gridCol w="2058840"/>
                <a:gridCol w="2057400"/>
              </a:tblGrid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ь уро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грузк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 эта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Врабаты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мину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ительно невел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продуктивная, переходящая в продуктивну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2 эта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Максимальная работоспособ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 – 25 мину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ксимальное снижение на 15 мину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ивная, творческая, знакомство с новым материал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3 эта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онечный поры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– 15 мину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большое повышение работоспособ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продуктивная, отработка узловых моментов пройденн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Эффективность усвоения знаний в течение урок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5 – 25 минута – </a:t>
            </a: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80%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25 – 35 минута – </a:t>
            </a: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60 – 40%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35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– 40 минута –</a:t>
            </a: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10%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Внедрение инновационных технолог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Здоровьесберегающая технология -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то качественная характеристика педагогической технологии, показывающая, насколько решается задача сохранения здоровья учителя и учен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Виды здоровьесберегающих технологий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Адаптивные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работа в группах, парах, модульное обучение, семинары- практикумы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Тестовые: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иагностические тесты, тематические тесты, контрольные тесты, ЕГ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Игровые: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идактические игры, обучающие игры, интерактивные игры (сюжетно- ролевы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Принципы здоровьесбережени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Не навреди!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оритет заботы о здоровье учителя и учащего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рерывность и преемствен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бьект-субьектные взаимоотнош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т возрастных особеннос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лексный, междисциплинарный подход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пех порождает успе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тив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ff"/>
                </a:solidFill>
                <a:latin typeface="Tahoma"/>
              </a:rPr>
              <a:t>Физическое развит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981080"/>
          <a:ext cx="8229600" cy="3657600"/>
        </p:xfrm>
        <a:graphic>
          <a:graphicData uri="http://schemas.openxmlformats.org/drawingml/2006/table">
            <a:tbl>
              <a:tblPr/>
              <a:tblGrid>
                <a:gridCol w="1652760"/>
                <a:gridCol w="1095120"/>
                <a:gridCol w="1096920"/>
                <a:gridCol w="1095480"/>
                <a:gridCol w="1096920"/>
                <a:gridCol w="1095480"/>
                <a:gridCol w="1096920"/>
              </a:tblGrid>
              <a:tr h="47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4-2005уч.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-2006 уч.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6-2007 уч.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ормаль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 отклонени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изкий  ро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збыток  ве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фицит  ве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«Десять десятых нашего счастья зависит от здоровья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А.Шопенгауэ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ff"/>
                </a:solidFill>
                <a:latin typeface="Tahoma"/>
              </a:rPr>
              <a:t>Заболевания учащих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905120"/>
          <a:ext cx="8229600" cy="4821120"/>
        </p:xfrm>
        <a:graphic>
          <a:graphicData uri="http://schemas.openxmlformats.org/drawingml/2006/table">
            <a:tbl>
              <a:tblPr/>
              <a:tblGrid>
                <a:gridCol w="1787400"/>
                <a:gridCol w="1611360"/>
                <a:gridCol w="1609920"/>
                <a:gridCol w="1611360"/>
                <a:gridCol w="1609560"/>
              </a:tblGrid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ов зр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ов дых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стномышечной систе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ов пищевар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вной систе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ожденные аномал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ндокринной систе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ff"/>
                </a:solidFill>
                <a:latin typeface="Tahoma"/>
              </a:rPr>
              <a:t>Группы здоровь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981080"/>
          <a:ext cx="8229600" cy="3657600"/>
        </p:xfrm>
        <a:graphic>
          <a:graphicData uri="http://schemas.openxmlformats.org/drawingml/2006/table">
            <a:tbl>
              <a:tblPr/>
              <a:tblGrid>
                <a:gridCol w="1467000"/>
                <a:gridCol w="1292040"/>
                <a:gridCol w="787320"/>
                <a:gridCol w="1444680"/>
                <a:gridCol w="881280"/>
                <a:gridCol w="1350720"/>
                <a:gridCol w="1006560"/>
              </a:tblGrid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4-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-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6-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его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Результаты мониторинга здоровья за два год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2380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менилась группа здоровья у 15 учащихся (улучшилась у 11 учащихся, ухудшилась у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остальных учащихся без изме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533240" y="171360"/>
            <a:ext cx="6163560" cy="6362640"/>
            <a:chOff x="1533240" y="171360"/>
            <a:chExt cx="6163560" cy="6362640"/>
          </a:xfrm>
        </p:grpSpPr>
        <p:sp>
          <p:nvSpPr>
            <p:cNvPr id="94" name="_s73732"/>
            <p:cNvSpPr/>
            <p:nvPr/>
          </p:nvSpPr>
          <p:spPr>
            <a:xfrm flipH="1" flipV="1">
              <a:off x="3513240" y="2058840"/>
              <a:ext cx="650520" cy="807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73733"/>
            <p:cNvSpPr/>
            <p:nvPr/>
          </p:nvSpPr>
          <p:spPr>
            <a:xfrm>
              <a:off x="2359440" y="76176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omic Sans MS"/>
                </a:rPr>
                <a:t>Выполн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Comic Sans MS"/>
                </a:rPr>
                <a:t>норм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omic Sans MS"/>
                </a:rPr>
                <a:t>СанПи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73734"/>
            <p:cNvSpPr/>
            <p:nvPr/>
          </p:nvSpPr>
          <p:spPr>
            <a:xfrm flipH="1" flipV="1">
              <a:off x="2928600" y="3117960"/>
              <a:ext cx="995040" cy="18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73735"/>
            <p:cNvSpPr/>
            <p:nvPr/>
          </p:nvSpPr>
          <p:spPr>
            <a:xfrm>
              <a:off x="1533240" y="225648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 Sans MS"/>
                </a:rPr>
                <a:t>Орган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 Sans MS"/>
                </a:rPr>
                <a:t>зация горячего питания учащихс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73736"/>
            <p:cNvSpPr/>
            <p:nvPr/>
          </p:nvSpPr>
          <p:spPr>
            <a:xfrm flipH="1">
              <a:off x="3132360" y="3794760"/>
              <a:ext cx="874440" cy="52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73737"/>
            <p:cNvSpPr/>
            <p:nvPr/>
          </p:nvSpPr>
          <p:spPr>
            <a:xfrm>
              <a:off x="1820520" y="395604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Дни Здоровь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73738"/>
            <p:cNvSpPr/>
            <p:nvPr/>
          </p:nvSpPr>
          <p:spPr>
            <a:xfrm flipH="1">
              <a:off x="4030200" y="4116960"/>
              <a:ext cx="344880" cy="99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73739"/>
            <p:cNvSpPr/>
            <p:nvPr/>
          </p:nvSpPr>
          <p:spPr>
            <a:xfrm>
              <a:off x="3086640" y="506484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 Sans MS"/>
                </a:rPr>
                <a:t>Внеурочная деятел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 Sans MS"/>
                </a:rPr>
                <a:t>ность учащихс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73740"/>
            <p:cNvSpPr/>
            <p:nvPr/>
          </p:nvSpPr>
          <p:spPr>
            <a:xfrm>
              <a:off x="4855680" y="4116960"/>
              <a:ext cx="345600" cy="99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73741"/>
            <p:cNvSpPr/>
            <p:nvPr/>
          </p:nvSpPr>
          <p:spPr>
            <a:xfrm>
              <a:off x="4738680" y="506484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Семья учащегос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73742"/>
            <p:cNvSpPr/>
            <p:nvPr/>
          </p:nvSpPr>
          <p:spPr>
            <a:xfrm>
              <a:off x="5223600" y="3794040"/>
              <a:ext cx="874440" cy="52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73743"/>
            <p:cNvSpPr/>
            <p:nvPr/>
          </p:nvSpPr>
          <p:spPr>
            <a:xfrm>
              <a:off x="6004080" y="395496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Учебный пла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73744"/>
            <p:cNvSpPr/>
            <p:nvPr/>
          </p:nvSpPr>
          <p:spPr>
            <a:xfrm flipV="1">
              <a:off x="5306400" y="3116520"/>
              <a:ext cx="994680" cy="1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73745"/>
            <p:cNvSpPr/>
            <p:nvPr/>
          </p:nvSpPr>
          <p:spPr>
            <a:xfrm>
              <a:off x="6290280" y="225576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Классные руководит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л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73746"/>
            <p:cNvSpPr/>
            <p:nvPr/>
          </p:nvSpPr>
          <p:spPr>
            <a:xfrm flipV="1">
              <a:off x="5065920" y="2058120"/>
              <a:ext cx="648720" cy="80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73747"/>
            <p:cNvSpPr/>
            <p:nvPr/>
          </p:nvSpPr>
          <p:spPr>
            <a:xfrm>
              <a:off x="5464440" y="76104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Психологическая служба МОУ СШ №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73748"/>
            <p:cNvSpPr/>
            <p:nvPr/>
          </p:nvSpPr>
          <p:spPr>
            <a:xfrm flipV="1">
              <a:off x="4614840" y="1639800"/>
              <a:ext cx="0" cy="105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73749"/>
            <p:cNvSpPr/>
            <p:nvPr/>
          </p:nvSpPr>
          <p:spPr>
            <a:xfrm>
              <a:off x="3911760" y="17136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ДОО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73750"/>
            <p:cNvSpPr/>
            <p:nvPr/>
          </p:nvSpPr>
          <p:spPr>
            <a:xfrm>
              <a:off x="3911760" y="2694600"/>
              <a:ext cx="1406520" cy="1469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ученик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755640" y="404640"/>
          <a:ext cx="7848720" cy="622152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Занимаюсь спорто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скетбол 8 – 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нажерный зал 13 – 1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удожественная гимнастика 1 – 0,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копашный бой 1 – 0,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Йога 1 – 0,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тнес 1 – 0,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ыжи 3 – 2,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тбол 2 – 1,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нцы 1 – 0,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кур 1 – 0,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ате 1 – 0,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ккей 1 – 0,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95280" y="620640"/>
          <a:ext cx="8064000" cy="5472000"/>
        </p:xfrm>
        <a:graphic>
          <a:graphicData uri="http://schemas.openxmlformats.org/drawingml/2006/table">
            <a:tbl>
              <a:tblPr/>
              <a:tblGrid>
                <a:gridCol w="2688120"/>
                <a:gridCol w="2688120"/>
                <a:gridCol w="2687760"/>
              </a:tblGrid>
              <a:tr h="410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Занимаюсь спорт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оян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 – 2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гд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 – 4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занимаюс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 – 2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ак я питаюс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 – 8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оч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 – 1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х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урю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оян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– 8,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дк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 – 16,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кур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 – 75,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Выпиваю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– 0,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г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 – 32,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г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 – 6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Употребляю наркот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оян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г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г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2 – 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05:56:18Z</dcterms:created>
  <dc:creator>Родионов А.Е.</dc:creator>
  <dc:description/>
  <dc:language>en-US</dc:language>
  <cp:lastModifiedBy>Родионов А.Е.</cp:lastModifiedBy>
  <dcterms:modified xsi:type="dcterms:W3CDTF">2010-03-22T06:02:17Z</dcterms:modified>
  <cp:revision>6</cp:revision>
  <dc:subject/>
  <dc:title>Здоровьесберегающая организация учебного процесса</dc:title>
</cp:coreProperties>
</file>