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CEE-E244-4240-85BA-E8F7F5EC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352-72EF-4680-B352-56B2A9C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B3A-12C8-4F1D-8F89-B54FA1B1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921-F7C7-4FE5-B164-9B3FA909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774-3FAA-434D-AEC9-D075707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6CC-2AD2-4167-841B-4EC0865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2C2-2990-4EFE-930B-26B3529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8FA5-41F1-486B-8BD0-534EDDA0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A68-593A-444B-A607-3A04BC38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DC01-57CE-4B80-A40D-B240581E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3027-87B8-4F31-A423-C1A7164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754-8317-4987-BAAA-F583C3DC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833D-0566-4807-A4B6-7B74F47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0F2-9800-4C93-9F05-1459966B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3D1B-BA4F-4585-8092-4908721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981-CD4C-46AA-9E78-D3E9CE3D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66E-AAAC-4A44-BDB9-66E6A52A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799-CCB9-41C5-BE59-2F6BF8A0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264-C608-4C8C-865B-42872F6B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07D-382B-409D-ACE1-C327ACB6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97D-7027-4C86-835C-DEDB7F8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C0C-FC31-4CC1-B8E9-68E3F3A8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89D-AEC6-406F-8B4E-B779C3B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0C1-D2B5-4331-A1E6-C433EFA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7BA-060F-43AD-AD45-792B6CF4E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0D9-38C6-427A-B71D-8344CA14D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Tahoma"/>
              </a:rPr>
              <a:t>Здоровьесберегающая организация учебного процес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95280" y="981000"/>
          <a:ext cx="7992720" cy="5111640"/>
        </p:xfrm>
        <a:graphic>
          <a:graphicData uri="http://schemas.openxmlformats.org/drawingml/2006/table">
            <a:tbl>
              <a:tblPr/>
              <a:tblGrid>
                <a:gridCol w="2664360"/>
                <a:gridCol w="2664000"/>
                <a:gridCol w="2664360"/>
              </a:tblGrid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Режим д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го соблюд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– 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 наруш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 – 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облюд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 – 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облюдаете ли гигиенический реж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 – 8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– 1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– 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лаете ли по утрам заряд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– 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 – 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 – 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24000" y="404640"/>
          <a:ext cx="8280360" cy="626112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363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оводятся ли физкультпаузы на урок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 – 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 – 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ак много времени тратится на выполнение домашнего за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часа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– 1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1 часа до 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 – 5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1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– 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На выполнение каких предметов тратится больше всего вре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2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имия  56 – 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 26 – 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иология 39 – 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 19 – 1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метрия 41 – 3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гебра 63 – 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30 – 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 14 – 1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 9 –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 4 – 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 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 20 – 1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чение 3 – 2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логия 2 – 1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Школьные факторы риска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трессовая педагогическая такт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нтенсификация учебного процес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соответствие методик и технологий обучения возрастным и функциональным возможностям школь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рациональная организация учеб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Организация урока на основе принципов здоровьесбере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1: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Правильная организация уро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т критериев здоровьесбере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отивация к обучению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заимный интерес в процессе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2: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Использование каналов восприят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81080"/>
          <a:ext cx="8218440" cy="4753080"/>
        </p:xfrm>
        <a:graphic>
          <a:graphicData uri="http://schemas.openxmlformats.org/drawingml/2006/table">
            <a:tbl>
              <a:tblPr/>
              <a:tblGrid>
                <a:gridCol w="3438360"/>
                <a:gridCol w="47800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Левополушар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жны технология, ясные и четкие инструкции, абстрактный линейный стиль изложения информации от части к целому, неоднократное повторение учебного материала, проверка выполненной работы, тишина на уро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Правополушарны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ы контекст, связь информации с реальностью и практикой, анализ от целого к частному, задачи зрительно – пространственного анализа, творческие задания, эксперименты, эмоции, музыкальный фон, речевой и музыкальный фо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620640"/>
          <a:ext cx="8332920" cy="5475240"/>
        </p:xfrm>
        <a:graphic>
          <a:graphicData uri="http://schemas.openxmlformats.org/drawingml/2006/table">
            <a:tbl>
              <a:tblPr/>
              <a:tblGrid>
                <a:gridCol w="2746440"/>
                <a:gridCol w="5586480"/>
              </a:tblGrid>
              <a:tr h="20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изуальное восприя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ение педагогом слов, описывающих цвет, размер, форму, место расположения. Выделение цветом (в тетради, схемах, таблицах и др.) различных пунктов и аспектов содержания. Выполнение письменных упражнений, составление опорных конспектов, использование письменных инструкций и заданий. Применение схем, таблиц, наглядных пособий, видео, кни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Аудиальное восприят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вариаций голоса (громкость, паузы, высота), сигнальных слов (говорить, слушать, другими словами, звук, тон, беседа и т.д.), отражение телом ритма метронома (головой, руками). Рекомендуются дискуссии, магнитофонные записи, рассказы, устные задачи, упражнения, просмотр видеофильм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инестетическое восприя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жестов, прикосновения, сигнальных слов (ощущаю, управляю, действую и др.). Предоставление возможности играть роль различных частей вашей информации. Передача информации в игре, при выполнении практического эксперимента. Смена видов деятельн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052640"/>
          <a:ext cx="8229600" cy="468144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26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Юнош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чий ритм. Необходимо выполнение поисковой деятельности, решение принципиально новых задач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Девушк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учше выполняют типовые, шаблонные задачи. Создание благоприятной эмоциональной обстановки: связь обучения с радостью и удовольствие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765000"/>
          <a:ext cx="8229600" cy="585504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холер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ту, требование дисциплины, ответственности. Необходима частая смена видов деятельности, использование игры, учебных инсценировок, конструир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флегма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ообразные задания по содержанию и по способу решения. Последовательное изложение учебного материала. Осуществление контроля в письменном виде. Четкий инструктаж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ильный, сангвин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ообразные задания по содержанию и по способу решения. Применение деятельностных форм обучения (самостоятельные работы, дискуссии, игры и др.). Работа в групп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Слабый, меланхоли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рой на работу. Работа в тихой, спокойной обстановке. Индивидуальный, медленный темп. Выполнение заданий, не требующих распределения внимания, переключения с одного вида работы на другой. Наиболее удобны ответы в письменной форме. Необходимо постоянное формирование уверенности в своих силах, знаниях, в возможности учиться путем поощрений, подбадрива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авило 3: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Учет зоны работоспособност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«Десять десятых нашего счастья зависит от здоровь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.Шопенгауэ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1-6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84280"/>
          <a:ext cx="8351640" cy="496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35164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7-11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557360"/>
          <a:ext cx="8569080" cy="48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8569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1-6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91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Работоспособность 7-11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1413000"/>
          <a:ext cx="8280360" cy="511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авило 4:</a:t>
            </a: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Распределение интенсивности умственной деятельности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981080"/>
          <a:ext cx="8229600" cy="4575240"/>
        </p:xfrm>
        <a:graphic>
          <a:graphicData uri="http://schemas.openxmlformats.org/drawingml/2006/table">
            <a:tbl>
              <a:tblPr/>
              <a:tblGrid>
                <a:gridCol w="2057400"/>
                <a:gridCol w="2055960"/>
                <a:gridCol w="2058840"/>
                <a:gridCol w="205740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ь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руз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рабаты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о невел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продуктивная, переходящая в продуктивну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Максимальная работоспособ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– 2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ое снижение на 15 мину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ивная, творческая, знакомство с новым материа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онечный поры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5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большое повышение работоспособ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продуктивная, отработка узловых моментов пройден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Эффективность усвоения знаний в течение уро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5 – 25 минута –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25 – 35 минута –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60 – 4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– 40 минута –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1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Внедрение инновационных технолог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Здоровьесберегающая технология -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о качественная характеристика педагогической технологии, показывающая, насколько решается задача сохранения здоровья учителя и уче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Виды здоровьесберегающих технологий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Адаптивные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работа в группах, парах, модульное обучение, семинары- практикумы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Тестовые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агностические тесты, тематические тесты, контрольные тесты,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</a:rPr>
              <a:t>Игровые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дактические игры, обучающие игры, интерактивные игры (сюжетно- ролев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Принципы здоровьесбереже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Не навреди!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оритет заботы о здоровье учителя и учащего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ерывность и преемств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ьект-субьектные взаимоотно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т возрастных особ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лексный, междисциплинарный подх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х порождает успе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Физическое развит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1652760"/>
                <a:gridCol w="1095120"/>
                <a:gridCol w="1096920"/>
                <a:gridCol w="1095480"/>
                <a:gridCol w="1096920"/>
                <a:gridCol w="1095480"/>
                <a:gridCol w="1096920"/>
              </a:tblGrid>
              <a:tr h="47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-2005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2006 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2007 уч.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рмаль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отклонени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изкий  ро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быток  в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фицит  в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«Десять десятых нашего счастья зависит от здоровья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.Шопенгауэ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Заболевания учащих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29600" cy="4821120"/>
        </p:xfrm>
        <a:graphic>
          <a:graphicData uri="http://schemas.openxmlformats.org/drawingml/2006/table">
            <a:tbl>
              <a:tblPr/>
              <a:tblGrid>
                <a:gridCol w="1787400"/>
                <a:gridCol w="1611360"/>
                <a:gridCol w="1609920"/>
                <a:gridCol w="1611360"/>
                <a:gridCol w="16095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зр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дых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тномышеч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ов пищевар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в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ожденные аномал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кринной сис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ff"/>
                </a:solidFill>
                <a:latin typeface="Tahoma"/>
              </a:rPr>
              <a:t>Группы здоровь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1467000"/>
                <a:gridCol w="1292040"/>
                <a:gridCol w="787320"/>
                <a:gridCol w="1444680"/>
                <a:gridCol w="881280"/>
                <a:gridCol w="1350720"/>
                <a:gridCol w="100656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-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-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Результаты мониторинга здоровья за два год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2380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менилась группа здоровья у 15 учащихся (улучшилась у 11 учащихся, ухудшилась у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остальных учащихся без изме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33240" y="171360"/>
            <a:ext cx="6163560" cy="6362640"/>
            <a:chOff x="1533240" y="171360"/>
            <a:chExt cx="6163560" cy="6362640"/>
          </a:xfrm>
        </p:grpSpPr>
        <p:sp>
          <p:nvSpPr>
            <p:cNvPr id="94" name="_s73732"/>
            <p:cNvSpPr/>
            <p:nvPr/>
          </p:nvSpPr>
          <p:spPr>
            <a:xfrm flipH="1" flipV="1">
              <a:off x="3513240" y="2058840"/>
              <a:ext cx="650520" cy="807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73733"/>
            <p:cNvSpPr/>
            <p:nvPr/>
          </p:nvSpPr>
          <p:spPr>
            <a:xfrm>
              <a:off x="2359440" y="7617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Выполн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норм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omic Sans MS"/>
                </a:rPr>
                <a:t>СанПи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73734"/>
            <p:cNvSpPr/>
            <p:nvPr/>
          </p:nvSpPr>
          <p:spPr>
            <a:xfrm flipH="1" flipV="1">
              <a:off x="2928600" y="3117960"/>
              <a:ext cx="99504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73735"/>
            <p:cNvSpPr/>
            <p:nvPr/>
          </p:nvSpPr>
          <p:spPr>
            <a:xfrm>
              <a:off x="1533240" y="225648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Орган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зация горячего питания учащих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73736"/>
            <p:cNvSpPr/>
            <p:nvPr/>
          </p:nvSpPr>
          <p:spPr>
            <a:xfrm flipH="1">
              <a:off x="3132360" y="3794760"/>
              <a:ext cx="87444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73737"/>
            <p:cNvSpPr/>
            <p:nvPr/>
          </p:nvSpPr>
          <p:spPr>
            <a:xfrm>
              <a:off x="1820520" y="39560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Дни Здоровь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73738"/>
            <p:cNvSpPr/>
            <p:nvPr/>
          </p:nvSpPr>
          <p:spPr>
            <a:xfrm flipH="1">
              <a:off x="4030200" y="4116960"/>
              <a:ext cx="344880" cy="9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73739"/>
            <p:cNvSpPr/>
            <p:nvPr/>
          </p:nvSpPr>
          <p:spPr>
            <a:xfrm>
              <a:off x="3086640" y="50648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Внеурочная деятел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omic Sans MS"/>
                </a:rPr>
                <a:t>ность учащих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73740"/>
            <p:cNvSpPr/>
            <p:nvPr/>
          </p:nvSpPr>
          <p:spPr>
            <a:xfrm>
              <a:off x="4855680" y="4116960"/>
              <a:ext cx="345600" cy="99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73741"/>
            <p:cNvSpPr/>
            <p:nvPr/>
          </p:nvSpPr>
          <p:spPr>
            <a:xfrm>
              <a:off x="4738680" y="50648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Семья учащегос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73742"/>
            <p:cNvSpPr/>
            <p:nvPr/>
          </p:nvSpPr>
          <p:spPr>
            <a:xfrm>
              <a:off x="5223600" y="3794040"/>
              <a:ext cx="874440" cy="52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3743"/>
            <p:cNvSpPr/>
            <p:nvPr/>
          </p:nvSpPr>
          <p:spPr>
            <a:xfrm>
              <a:off x="6004080" y="39549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Учебный план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3744"/>
            <p:cNvSpPr/>
            <p:nvPr/>
          </p:nvSpPr>
          <p:spPr>
            <a:xfrm flipV="1">
              <a:off x="5306400" y="3116520"/>
              <a:ext cx="994680" cy="1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3745"/>
            <p:cNvSpPr/>
            <p:nvPr/>
          </p:nvSpPr>
          <p:spPr>
            <a:xfrm>
              <a:off x="6290280" y="22557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Классные руководит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л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3746"/>
            <p:cNvSpPr/>
            <p:nvPr/>
          </p:nvSpPr>
          <p:spPr>
            <a:xfrm flipV="1">
              <a:off x="5065920" y="2058120"/>
              <a:ext cx="64872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3747"/>
            <p:cNvSpPr/>
            <p:nvPr/>
          </p:nvSpPr>
          <p:spPr>
            <a:xfrm>
              <a:off x="5464440" y="76104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Психологическая служба МОУ СШ №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3748"/>
            <p:cNvSpPr/>
            <p:nvPr/>
          </p:nvSpPr>
          <p:spPr>
            <a:xfrm flipV="1">
              <a:off x="4614840" y="1639800"/>
              <a:ext cx="0" cy="105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3749"/>
            <p:cNvSpPr/>
            <p:nvPr/>
          </p:nvSpPr>
          <p:spPr>
            <a:xfrm>
              <a:off x="3911760" y="171360"/>
              <a:ext cx="1406520" cy="14691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ДОО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73750"/>
            <p:cNvSpPr/>
            <p:nvPr/>
          </p:nvSpPr>
          <p:spPr>
            <a:xfrm>
              <a:off x="3911760" y="2694600"/>
              <a:ext cx="1406520" cy="1469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Comic Sans MS"/>
                </a:rPr>
                <a:t>ученик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55640" y="404640"/>
          <a:ext cx="7848720" cy="622152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имаюсь спорто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скетбол 8 – 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нажерный зал 13 – 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удожественная гимнастика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пашный бой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га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нес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ыжи 3 – 2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тбол 2 – 1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нцы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кур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ате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ккей 1 – 0,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620640"/>
          <a:ext cx="8064000" cy="5472000"/>
        </p:xfrm>
        <a:graphic>
          <a:graphicData uri="http://schemas.openxmlformats.org/drawingml/2006/table">
            <a:tbl>
              <a:tblPr/>
              <a:tblGrid>
                <a:gridCol w="2688120"/>
                <a:gridCol w="2688120"/>
                <a:gridCol w="2687760"/>
              </a:tblGrid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Занимаюсь спор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 – 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– 4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анимаюс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 – 2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ак я питаю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– 8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о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– 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Кур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8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д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– 1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ур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 – 75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Выпива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0,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– 32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– 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Употребляю нарко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 –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5:56:18Z</dcterms:created>
  <dc:creator>Родионов А.Е.</dc:creator>
  <dc:description/>
  <dc:language>en-US</dc:language>
  <cp:lastModifiedBy>Родионов А.Е.</cp:lastModifiedBy>
  <dcterms:modified xsi:type="dcterms:W3CDTF">2010-03-22T06:02:17Z</dcterms:modified>
  <cp:revision>6</cp:revision>
  <dc:subject/>
  <dc:title>Здоровьесберегающая организация учебного процесса</dc:title>
</cp:coreProperties>
</file>