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jpeg" ContentType="image/jpeg"/>
  <Override PartName="/ppt/media/image16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4D1-516A-43FF-BB69-42F9D6C4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CD8-91CC-42A7-986F-367F47D7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E4F-E957-48D9-9BB7-BC7F5E4B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16F-0344-4840-935D-F2A9DB70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7CE-4135-4A91-85AA-BAD6FBD6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5F7-F305-4868-9ABD-F4247048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30A-35AF-436F-B44F-383E7185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111-55BD-475E-8F8F-34CE7056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DDF-3960-44D5-9E77-A5C471B3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3E6-08D6-4C4B-84B2-06CB1F88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244-4598-4C57-86AB-3AF3F5D5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96B-3CEC-4D1B-A96B-3C7DF22F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FD53-758E-4279-BB40-E66CC8F16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i.pinimg.com/736x/16/5b/24/165b2432ae5b7a8c1c8714af5e85dd7a.jpg"/>
          <p:cNvPicPr/>
          <p:nvPr/>
        </p:nvPicPr>
        <p:blipFill>
          <a:blip r:embed="rId1"/>
          <a:stretch/>
        </p:blipFill>
        <p:spPr>
          <a:xfrm>
            <a:off x="179280" y="-68400"/>
            <a:ext cx="5545080" cy="6926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5535720" y="1584360"/>
            <a:ext cx="3906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re is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re 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9036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…… two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 ………a wom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 …………a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…….. two chai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 …..a wardrob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……….. ho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… …..two des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471920" y="1413000"/>
            <a:ext cx="4259160" cy="374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1438560" cy="10494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3"/>
          <a:stretch/>
        </p:blipFill>
        <p:spPr>
          <a:xfrm>
            <a:off x="1371600" y="1670040"/>
            <a:ext cx="1390680" cy="11523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9" descr=""/>
          <p:cNvPicPr/>
          <p:nvPr/>
        </p:nvPicPr>
        <p:blipFill>
          <a:blip r:embed="rId4"/>
          <a:stretch/>
        </p:blipFill>
        <p:spPr>
          <a:xfrm>
            <a:off x="1481040" y="2292480"/>
            <a:ext cx="1390680" cy="11523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0" descr=""/>
          <p:cNvPicPr/>
          <p:nvPr/>
        </p:nvPicPr>
        <p:blipFill>
          <a:blip r:embed="rId5"/>
          <a:stretch/>
        </p:blipFill>
        <p:spPr>
          <a:xfrm>
            <a:off x="817560" y="2871720"/>
            <a:ext cx="1870200" cy="11509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1" descr=""/>
          <p:cNvPicPr/>
          <p:nvPr/>
        </p:nvPicPr>
        <p:blipFill>
          <a:blip r:embed="rId6"/>
          <a:stretch/>
        </p:blipFill>
        <p:spPr>
          <a:xfrm>
            <a:off x="1170000" y="3444840"/>
            <a:ext cx="1390680" cy="11509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7"/>
          <a:stretch/>
        </p:blipFill>
        <p:spPr>
          <a:xfrm>
            <a:off x="1127160" y="4035600"/>
            <a:ext cx="187164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3" descr=""/>
          <p:cNvPicPr/>
          <p:nvPr/>
        </p:nvPicPr>
        <p:blipFill>
          <a:blip r:embed="rId8"/>
          <a:stretch/>
        </p:blipFill>
        <p:spPr>
          <a:xfrm>
            <a:off x="817560" y="4668840"/>
            <a:ext cx="1870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designmyhome.ru/sites/default/files/images/detskaya_komnata_dlya_dvuh_malchikov-11.jpg"/>
          <p:cNvPicPr/>
          <p:nvPr/>
        </p:nvPicPr>
        <p:blipFill>
          <a:blip r:embed="rId2"/>
          <a:stretch/>
        </p:blipFill>
        <p:spPr>
          <a:xfrm>
            <a:off x="969840" y="1341360"/>
            <a:ext cx="7056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Possessive adjectives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тяж. мес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019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h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eddy bea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s://i.pinimg.com/236x/a9/e7/11/a9e71165f36b8e88aae84fd66d8c265f--precious-children-cute-kids.jpg"/>
          <p:cNvPicPr/>
          <p:nvPr/>
        </p:nvPicPr>
        <p:blipFill>
          <a:blip r:embed="rId1"/>
          <a:stretch/>
        </p:blipFill>
        <p:spPr>
          <a:xfrm>
            <a:off x="971640" y="1628640"/>
            <a:ext cx="31795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src.photogenica.ru/400/CLP/1938/CLP1938873.jpg"/>
          <p:cNvPicPr/>
          <p:nvPr/>
        </p:nvPicPr>
        <p:blipFill>
          <a:blip r:embed="rId1"/>
          <a:stretch/>
        </p:blipFill>
        <p:spPr>
          <a:xfrm>
            <a:off x="250920" y="549360"/>
            <a:ext cx="4429080" cy="295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s://cdn.mamazin.com.ua/img/news/obuvka.jpg"/>
          <p:cNvPicPr/>
          <p:nvPr/>
        </p:nvPicPr>
        <p:blipFill>
          <a:blip r:embed="rId2"/>
          <a:stretch/>
        </p:blipFill>
        <p:spPr>
          <a:xfrm>
            <a:off x="5003640" y="1243080"/>
            <a:ext cx="387684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www.accbud.ua/data/images/fd/fdf441240680ae1bc884aef961128a21.jpg"/>
          <p:cNvPicPr/>
          <p:nvPr/>
        </p:nvPicPr>
        <p:blipFill>
          <a:blip r:embed="rId3"/>
          <a:stretch/>
        </p:blipFill>
        <p:spPr>
          <a:xfrm>
            <a:off x="4767120" y="3755880"/>
            <a:ext cx="4113360" cy="273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24.com.ua/photos/news/30365/310x205.jpg"/>
          <p:cNvPicPr/>
          <p:nvPr/>
        </p:nvPicPr>
        <p:blipFill>
          <a:blip r:embed="rId4"/>
          <a:stretch/>
        </p:blipFill>
        <p:spPr>
          <a:xfrm>
            <a:off x="225360" y="3755880"/>
            <a:ext cx="42022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892800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0" y="115920"/>
            <a:ext cx="9036000" cy="1990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08000" y="4508640"/>
            <a:ext cx="8496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3920" y="685800"/>
            <a:ext cx="8696160" cy="180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76040" y="2610000"/>
            <a:ext cx="8791920" cy="163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328680" y="4543560"/>
            <a:ext cx="86392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yourself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re is/are a carpet in the living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re is/are pain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re is/are a sofa in the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re is/are a de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re is/are windo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is is he/his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is is she/her p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These are their/its book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5T10:41:27Z</dcterms:created>
  <dc:creator>ПК310</dc:creator>
  <dc:description/>
  <dc:language>en-US</dc:language>
  <cp:lastModifiedBy>User</cp:lastModifiedBy>
  <dcterms:modified xsi:type="dcterms:W3CDTF">2019-11-26T14:52:08Z</dcterms:modified>
  <cp:revision>6</cp:revision>
  <dc:subject/>
  <dc:title>Презентация PowerPoint</dc:title>
</cp:coreProperties>
</file>