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C7B2E-EB9B-472B-B799-1F5345869FB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D9800-DAC4-4C5F-BCDD-540EF445B9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8D9D9-DE98-41B9-82E0-2D0BDE62436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A8E07-3E55-43B4-B928-1D8D1A4E32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002BD-A966-4CCE-A73E-3DA563A98A7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27124-DFAF-415C-92EE-D501D6A5D05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34B03-3A9C-4C88-88E6-39FE643232F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95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D48D0-4C6A-412D-B0C6-6917921AF2D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98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94A9B-8829-4F87-A8B0-AF80B3F8F87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CEF3F-AD93-4D88-A958-397B3DCB520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39BD0-88BA-40B7-A0AE-9C460619DC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06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FD050-9AEF-4EEB-8857-02A15DB8A7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09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94A08-8AF9-43BA-A517-AF4B419BE3F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494F8-243A-4DB4-A5B3-5E76C3D4FC1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1E752-BB82-498A-8549-78FCD4B4CA8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3BD0E-8786-45EC-8077-977C392A0D8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8A3E8-4C74-43B2-A750-95B5B057D97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1AB21-5173-4AB2-A05F-2EBFF51F2F4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10C08-AA54-4B8B-9B1A-370E76BE35A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0A4B7-F519-4751-9BDB-7E66151DA04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CE690-3683-4FAC-A959-446B43A6730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29362-C57F-4AE3-B95A-EFC8C6F277F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93DFB-C58D-47FF-8290-CA1211B0A07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2C702-A006-4761-B66A-3B0F6175E65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AB817-BD9F-4A86-9637-9C8272850FC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28111-3B35-4738-AC45-054AF3124D1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F7B07-891C-4062-9550-7F611E5973D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D80D1-330A-40FF-BC87-FE68EC43E76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60CD6-68EB-46AF-98DB-120CB7B5439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6DC7C-0AE8-4D8A-9C89-5741113B9A6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C903E-4AE3-453B-AFEC-47286B873CE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D9FE3-8885-4355-BD30-7D90E654FC8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D998-BE1E-4DC4-AAA4-A03584329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340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4F0A-DE27-4FC5-8E1D-4685245AA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1936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C8CA-8A00-42FA-A7EA-A63DD7E8E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516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732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516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6732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409A-334D-43D2-BEE9-06F05F634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26F2-57D2-428A-A625-389B9F7232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172E-FDCA-47B8-8649-E00C229AEE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1850-6DF5-4E28-91AD-450CC360F5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55ED-DC50-487D-9FA4-5054203ABD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9D34-9975-41F4-BFB6-E2FC7D8407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840"/>
            <a:ext cx="650556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C104-2E06-4712-A7CA-2057C2AAE5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6959-9F16-4456-9A9F-D069ED1161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6FA6-2430-45AA-B2FC-DF09B5488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1936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2A94-4D90-4378-A140-54652577EA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FF2E-8102-477B-A236-E29173B5C2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340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6906-6756-404A-9FDA-0590F61469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1936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40CF-0D7B-4133-B74A-50FB950850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516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6732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516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6732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6B2D-E67B-4674-847D-89EE034A3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2BE8-0F84-4135-B76F-2A09ECD8F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8D60-58F4-4EF1-B04F-84B9F99AE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0A77-0F68-4241-B445-200FF657D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840"/>
            <a:ext cx="650556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ABBE-9033-4EA2-B915-561A3FFBE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F644-356B-4F8D-8C10-3987AD54F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1936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C19B-A5FB-48D3-BE1B-58E342103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28FA-7941-48DF-BC58-1A16425D6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6480" y="5102280"/>
            <a:ext cx="9150480" cy="1755720"/>
            <a:chOff x="-6480" y="5102280"/>
            <a:chExt cx="9150480" cy="175572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0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0" y="5105520"/>
              <a:ext cx="9137520" cy="17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-6480" y="-6480"/>
            <a:ext cx="9150480" cy="5114880"/>
            <a:chOff x="-6480" y="-6480"/>
            <a:chExt cx="9150480" cy="511488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048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0" y="0"/>
              <a:ext cx="9137520" cy="50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6" name="Rectangle 7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6480" y="1596960"/>
            <a:ext cx="9150480" cy="5108760"/>
            <a:chOff x="-6480" y="1596960"/>
            <a:chExt cx="9150480" cy="5108760"/>
          </a:xfrm>
        </p:grpSpPr>
        <p:pic>
          <p:nvPicPr>
            <p:cNvPr id="8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048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0"/>
            <p:cNvSpPr/>
            <p:nvPr/>
          </p:nvSpPr>
          <p:spPr>
            <a:xfrm>
              <a:off x="1339920" y="2347920"/>
              <a:ext cx="645804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6172200" y="6172200"/>
            <a:ext cx="2511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3809520" y="6171840"/>
            <a:ext cx="18226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C4948-0B81-41DB-825B-13C103FC5D3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-6480" y="3859200"/>
            <a:ext cx="9150480" cy="2998800"/>
            <a:chOff x="-6480" y="3859200"/>
            <a:chExt cx="9150480" cy="2998800"/>
          </a:xfrm>
        </p:grpSpPr>
        <p:pic>
          <p:nvPicPr>
            <p:cNvPr id="52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0480" cy="29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3867120"/>
              <a:ext cx="9137520" cy="29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54" name="Group 4"/>
          <p:cNvGrpSpPr/>
          <p:nvPr/>
        </p:nvGrpSpPr>
        <p:grpSpPr>
          <a:xfrm>
            <a:off x="-6480" y="-6480"/>
            <a:ext cx="9150480" cy="3870360"/>
            <a:chOff x="-6480" y="-6480"/>
            <a:chExt cx="9150480" cy="3870360"/>
          </a:xfrm>
        </p:grpSpPr>
        <p:pic>
          <p:nvPicPr>
            <p:cNvPr id="55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048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37520" cy="38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57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-6480" y="1596960"/>
            <a:ext cx="9150480" cy="5108760"/>
            <a:chOff x="-6480" y="1596960"/>
            <a:chExt cx="9150480" cy="5108760"/>
          </a:xfrm>
        </p:grpSpPr>
        <p:pic>
          <p:nvPicPr>
            <p:cNvPr id="59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048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/>
            <p:cNvSpPr/>
            <p:nvPr/>
          </p:nvSpPr>
          <p:spPr>
            <a:xfrm>
              <a:off x="1339920" y="2347920"/>
              <a:ext cx="645804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172200" y="6172200"/>
            <a:ext cx="2511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2"/>
          </p:nvPr>
        </p:nvSpPr>
        <p:spPr>
          <a:xfrm>
            <a:off x="3809520" y="6171840"/>
            <a:ext cx="18226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41640-2E79-42C5-87F1-4FE7232A36CE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744480" y="1197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Calibri"/>
              </a:rPr>
              <a:t>Исследовательская  работа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нг численности дождевых червей в почвах с различными уровнями техногенной нагрузки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21a08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132000" y="37162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р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олова Виктория,  ученица 9 класс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Пуликова И.П.., учитель биологии и географии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imes New Roman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2017г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390680" y="96840"/>
            <a:ext cx="691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a"/>
                </a:solidFill>
                <a:latin typeface="Arial"/>
                <a:ea typeface="Arial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a"/>
                </a:solidFill>
                <a:latin typeface="Arial"/>
                <a:ea typeface="Arial"/>
              </a:rPr>
              <a:t>«ПЕРЕНСКАЯ СРЕДНЯЯ ШКОЛА»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390680" y="279360"/>
            <a:ext cx="62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rcRect l="0" t="0" r="27" b="59"/>
          <a:stretch/>
        </p:blipFill>
        <p:spPr>
          <a:xfrm>
            <a:off x="237960" y="3284640"/>
            <a:ext cx="24624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042920" y="-100080"/>
            <a:ext cx="7199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7245360" cy="5112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66520" y="259920"/>
            <a:ext cx="734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ойме реки, окрестности д. Перенка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042920" y="333360"/>
            <a:ext cx="7259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кладка площадки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618320" cy="54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1793880" y="4371840"/>
            <a:ext cx="6508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936720" y="404640"/>
            <a:ext cx="7561080" cy="5400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4360" y="5786280"/>
            <a:ext cx="734364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уг, подготовка площадки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2"/>
          <a:srcRect l="0" t="0" r="21" b="-4063"/>
          <a:stretch/>
        </p:blipFill>
        <p:spPr>
          <a:xfrm>
            <a:off x="647640" y="360360"/>
            <a:ext cx="8028000" cy="62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4643280" y="585720"/>
            <a:ext cx="4205520" cy="4675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250920" y="487440"/>
            <a:ext cx="4070160" cy="4773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600" y="5463720"/>
            <a:ext cx="777564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 месте туристической стоянки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547640" y="5630760"/>
            <a:ext cx="669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68360" y="360360"/>
            <a:ext cx="8351640" cy="5270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5280" y="5732280"/>
            <a:ext cx="770400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счет дождевых червей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2133720"/>
            <a:ext cx="9258480" cy="3295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143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зультаты исследования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468360" y="404640"/>
            <a:ext cx="828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21a08"/>
                </a:solidFill>
                <a:latin typeface="Arial"/>
                <a:ea typeface="Arial"/>
              </a:rPr>
              <a:t>Вы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ибольшее количество дождевых червей было нами отмечено на лугу и у школьной теплицы,  дождевые черви отсутствовали в почве у железной дороги, на месте кострища, и на месте туристической стоянк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различные виды антропогенных воздействий на почвы приводят к резкому сокращению численности  дождевых червей, следовательно, уменьшению почвенного плодородия и снижению важнейших экологических функций почвы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9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Arial"/>
                <a:ea typeface="Arial"/>
              </a:rPr>
              <a:t>Практическая значимость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значимость работы  в том, что жизненные формы дождевых червей могут быть использованы при оценке степени антропогенного воздействия на экосистемы.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826920" y="2367000"/>
            <a:ext cx="737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Arial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539640" y="3380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ект исследования: дождевые черви как биоиндикаторы почв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863640" y="1171440"/>
            <a:ext cx="741672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590400" y="620640"/>
            <a:ext cx="79203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Цель исследования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ть численность дождевых червей в почвах с различным уровнем антропогенной нагрузки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88880" y="2500200"/>
            <a:ext cx="805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Задачи исследования:</a:t>
            </a:r>
            <a:r>
              <a:rPr b="0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Изучить литературные источники  по влиянию техногенной нагрузки на численность дождевых червей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Провести обследование территории и выделить участки с различным уровнем антропогенной нагрузки на почвы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Установить связи между уровнем антропогенной нагрузки и численностью дождевых червей, сделать выводы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35892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сто проведения исследования-территория МБОУ «Перенская средняя школа», окрестности деревни Перен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116000" y="1606680"/>
            <a:ext cx="750240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324000" y="-5010480"/>
            <a:ext cx="8280360" cy="11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Методика проведения исследовани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1.Провести обследование территории и выделить участки с различными уровнями    техногенной нагрузк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2.Заложить на каждом участке площадку размером 1х1м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3.На каждой площадке перекопать почву глубиной на штык лопаты (примерно 20-25 см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4.Собрать всех дождевых червей, которые обитают на этой площадке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5.Подсчитать количество дождевых червей на каждой площадке и определить их массу на 1м</a:t>
            </a:r>
            <a:r>
              <a:rPr b="0" lang="ru-RU" sz="2400" spc="-1" strike="noStrike" baseline="30000">
                <a:solidFill>
                  <a:srgbClr val="00000a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6.Полученные данные оформить в виде таблицы, сделать выводы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552600" y="404640"/>
            <a:ext cx="77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тка площадки на УО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274160" cy="52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2"/>
          <a:stretch/>
        </p:blipFill>
        <p:spPr>
          <a:xfrm>
            <a:off x="900000" y="944640"/>
            <a:ext cx="7561440" cy="5292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36360" y="216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копка почвы и сбор дождевых червей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83520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647640" y="576360"/>
            <a:ext cx="7956720" cy="574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7:07:22Z</dcterms:created>
  <dc:creator>User</dc:creator>
  <dc:description/>
  <cp:keywords/>
  <dc:language>en-US</dc:language>
  <cp:lastModifiedBy>Перенская сш</cp:lastModifiedBy>
  <dcterms:modified xsi:type="dcterms:W3CDTF">2017-10-12T12:08:34Z</dcterms:modified>
  <cp:revision>164</cp:revision>
  <dc:subject/>
  <dc:title>МУНИЦИПАЛЬНОЕ БЮДЖЕТНОЕ ОБРАЗОВАТЕЛЬНОЕ УЧРЕЖДЕНИЕ «ПЕРЕНСКАЯ СРЕДНЯЯ (ПОЛНАЯ) ОБЩЕОБРАЗОВАТЕЛЬНАЯ ШКО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1e0000000000010282310207f7000400038000</vt:lpwstr>
  </property>
</Properties>
</file>