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CFB8B-1428-45C6-80D7-8C3C4D40DC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8643-ABAB-4540-8CDB-D9ECA5EB1F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3CAA2-343A-47F0-9A38-57919C60E1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904A7-E093-4139-A371-47956F8625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8F42-E324-4AAE-B80A-F729AC1D7D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64EB2-336A-4E8D-9E2C-703602F437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5E229-8FC2-48FF-BCD3-3E138EC35A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591F-7D27-48D4-8431-6C25A6D3DB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4AB82-E504-4C0F-9607-EEF9E16476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BF01-6071-4190-B8CA-4383D5F9AC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64A3E-B59F-4D70-8F64-D4B86FA07A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F1DCA-C49E-4D03-8A31-24AD1F3DB6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5742E-708C-4FE2-94AC-699329E7C5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3D009-AD55-4DE0-9DFE-1DB001C200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BEC3E-A5AF-423D-A4D5-28D6B9A54C1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380AE-DD01-4141-8D53-818D85A905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6251-7FDF-4FC2-9FB8-C8439D0B1A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07969-715C-4C25-AAD8-D4338CD37C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EC294-6403-4135-9C48-84F3F709356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10D39-EE29-420B-9894-64A23122F0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F58A3-4ABE-4424-BA04-429A8B8A0D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F1DD1-216F-4855-B044-C2C1070D69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0C449-ABA7-4E43-8B5A-2662989F61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A33AC-D7A9-4A8C-B021-A036F8BD10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C0EA-46F2-49DD-AE15-D7DA5102E1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BC5E4-DD11-4344-B41B-9E83E02876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410FC-152C-441F-A28A-B741057192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1D827-A4EA-4D6D-98AF-D4F5569B861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2F33A-D85F-44FD-8C03-4E5146688D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C3340-0C47-4986-BE23-5FDD407283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218D0-BD4B-450D-A8CF-AD9408D7F8A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64481-88C8-4215-A8ED-1115E9FFBA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3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FCA2-6A22-4859-8A7C-5A46ECB7D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1C3B-CD5E-4F1F-A827-0807A1DB6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B068-A57C-4C5E-8D8E-182834E3A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9E12-39E7-473A-89EF-B7A219380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F1EE-AE06-4024-BE70-F642E1DF47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E698-6D87-466F-BCF9-7F5A383AF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0CC2-FECF-483D-8CC0-553F3C7DF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FB36-ACBE-47C8-B23B-E2E62FD7FE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DEE2-9FA7-41E6-A9A1-0A8CF0B80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D9C6-C927-46A3-8543-E5B9AEEDF9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7321-5C54-4B32-9994-EF0FA3A0F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BDC9-34C1-464E-9178-008439785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330A-45E8-48BB-9F0A-0A18C5CA45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E1B2-8863-48B3-B6E1-12A3FD78D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51D3-5D9C-4B2D-B3A9-F72317D0B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4D10-0519-4BC4-A4F7-AA4217E64A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516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67320" y="73152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516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67320" y="2543400"/>
            <a:ext cx="2058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29E0-97D1-41D1-93D6-622501578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067F-3C52-4A06-88C2-923A62A6B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1C26-DE79-4DD0-8CD1-3A6B8AE9C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A153-6D40-45B8-B43C-556E63F6C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840"/>
            <a:ext cx="650556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266C-FD80-4F84-A2A8-C4A14BCC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418E-95CD-4F2F-80E0-FFFA21A2F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9360" y="254340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8E4A-7767-4527-BF8D-6ED61136D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9360" y="731520"/>
            <a:ext cx="31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3400"/>
            <a:ext cx="63943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1B5A-3566-444A-8C86-553308EDA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5102280"/>
            <a:ext cx="9150480" cy="1755720"/>
            <a:chOff x="-6480" y="5102280"/>
            <a:chExt cx="9150480" cy="17557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0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5105520"/>
              <a:ext cx="913752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0480" cy="5114880"/>
            <a:chOff x="-6480" y="-6480"/>
            <a:chExt cx="9150480" cy="511488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3752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869BF-A0F9-4DF9-97D1-9A16707148F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3859200"/>
            <a:ext cx="9150480" cy="2998800"/>
            <a:chOff x="-6480" y="3859200"/>
            <a:chExt cx="9150480" cy="299880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048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3752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0480" cy="3870360"/>
            <a:chOff x="-6480" y="-6480"/>
            <a:chExt cx="9150480" cy="387036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048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3752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0480" cy="5108760"/>
            <a:chOff x="-6480" y="1596960"/>
            <a:chExt cx="9150480" cy="510876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0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5804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840"/>
            <a:ext cx="65055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432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72200" y="6172200"/>
            <a:ext cx="2511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2"/>
          </p:nvPr>
        </p:nvSpPr>
        <p:spPr>
          <a:xfrm>
            <a:off x="3809520" y="6171840"/>
            <a:ext cx="18226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75A38-DACB-4665-8593-C2756F2801E7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44480" y="1197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Calibri"/>
              </a:rPr>
              <a:t>Исследовательская  работа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численности дождевых червей в почвах с различными уровнями техногенной нагрузки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21a0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132000" y="3716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олова Виктория,  ученица 9 класс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Пуликова И.П.., учитель биологии и географии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2017г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390680" y="96840"/>
            <a:ext cx="69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a"/>
                </a:solidFill>
                <a:latin typeface="Arial"/>
                <a:ea typeface="Arial"/>
              </a:rPr>
              <a:t>«ПЕРЕНСКАЯ СРЕДНЯЯ ШКОЛА»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390680" y="279360"/>
            <a:ext cx="62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rcRect l="0" t="0" r="27" b="59"/>
          <a:stretch/>
        </p:blipFill>
        <p:spPr>
          <a:xfrm>
            <a:off x="237960" y="3284640"/>
            <a:ext cx="24624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042920" y="-100080"/>
            <a:ext cx="719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7245360" cy="5112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6520" y="259920"/>
            <a:ext cx="734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йме реки, окрестности д. Перенка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042920" y="333360"/>
            <a:ext cx="7259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кладка площадк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61832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793880" y="4371840"/>
            <a:ext cx="6508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936720" y="404640"/>
            <a:ext cx="7561080" cy="5400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4360" y="5786280"/>
            <a:ext cx="734364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уг, подготовка площадки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rcRect l="0" t="0" r="21" b="-4063"/>
          <a:stretch/>
        </p:blipFill>
        <p:spPr>
          <a:xfrm>
            <a:off x="647640" y="360360"/>
            <a:ext cx="802800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4643280" y="585720"/>
            <a:ext cx="4205520" cy="467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250920" y="487440"/>
            <a:ext cx="4070160" cy="4773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5463720"/>
            <a:ext cx="777564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 месте туристической стоянки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547640" y="5630760"/>
            <a:ext cx="669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68360" y="360360"/>
            <a:ext cx="8351640" cy="5270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5280" y="5732280"/>
            <a:ext cx="770400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счет дождевых червей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9258480" cy="329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143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468360" y="40464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21a08"/>
                </a:solidFill>
                <a:latin typeface="Arial"/>
                <a:ea typeface="Arial"/>
              </a:rPr>
              <a:t>Вы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ее количество дождевых червей было нами отмечено на лугу и у школьной теплицы,  дождевые черви отсутствовали в почве у железной дороги, на месте кострища, и на месте туристической стоянки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различные виды антропогенных воздействий на почвы приводят к резкому сокращению численности  дождевых червей, следовательно, уменьшению почвенного плодородия и снижению важнейших экологических функций почвы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9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a0000"/>
                </a:solidFill>
                <a:latin typeface="Arial"/>
                <a:ea typeface="Arial"/>
              </a:rPr>
              <a:t>Практическая значимост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 работы  в том, что жизненные формы дождевых червей могут быть использованы при оценке степени антропогенного воздействия на экосистемы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826920" y="2367000"/>
            <a:ext cx="73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a000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539640" y="3380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кт исследования: дождевые черви как биоиндикаторы поч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863640" y="1171440"/>
            <a:ext cx="741672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590400" y="620640"/>
            <a:ext cx="7920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ь численность дождевых червей в почвах с различным уровнем антропогенной нагрузк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8880" y="2500200"/>
            <a:ext cx="805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Задачи исследования:</a:t>
            </a:r>
            <a:r>
              <a:rPr b="0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зучить литературные источники  по влиянию техногенной нагрузки на численность дождевых червей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Провести обследование территории и выделить участки с различным уровнем антропогенной нагрузки на почв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Установить связи между уровнем антропогенной нагрузки и численностью дождевых червей, сделать вывод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358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сто проведения исследования-территория МБОУ «Перенская средняя школа», окрестности деревни Пере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116000" y="1606680"/>
            <a:ext cx="750240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324000" y="-5010480"/>
            <a:ext cx="8280360" cy="11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Arial"/>
                <a:ea typeface="Arial"/>
              </a:rPr>
              <a:t>Методика проведения исследовани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1.Провести обследование территории и выделить участки с различными уровнями    техногенной нагрузк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2.Заложить на каждом участке площадку размером 1х1м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3.На каждой площадке перекопать почву глубиной на штык лопаты (примерно 20-25 см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4.Собрать всех дождевых червей, которые обитают на этой площадк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5.Подсчитать количество дождевых червей на каждой площадке и определить их массу на 1м</a:t>
            </a:r>
            <a:r>
              <a:rPr b="0" lang="ru-RU" sz="2400" spc="-1" strike="noStrike" baseline="30000">
                <a:solidFill>
                  <a:srgbClr val="00000a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a"/>
                </a:solidFill>
                <a:latin typeface="Arial"/>
                <a:ea typeface="Arial"/>
              </a:rPr>
              <a:t>6.Полученные данные оформить в виде таблицы, сделать вывод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552600" y="404640"/>
            <a:ext cx="77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тка площадки на УО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27416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900000" y="944640"/>
            <a:ext cx="7561440" cy="5292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36360" y="216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копка почвы и сбор дождевых червей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8352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647640" y="576360"/>
            <a:ext cx="7956720" cy="574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7:07:22Z</dcterms:created>
  <dc:creator>User</dc:creator>
  <dc:description/>
  <cp:keywords/>
  <dc:language>en-US</dc:language>
  <cp:lastModifiedBy>Перенская сш</cp:lastModifiedBy>
  <dcterms:modified xsi:type="dcterms:W3CDTF">2017-10-12T12:08:34Z</dcterms:modified>
  <cp:revision>164</cp:revision>
  <dc:subject/>
  <dc:title>МУНИЦИПАЛЬНОЕ БЮДЖЕТНОЕ ОБРАЗОВАТЕЛЬНОЕ УЧРЕЖДЕНИЕ «ПЕРЕНСКАЯ СРЕДНЯЯ (ПОЛНАЯ) ОБЩЕОБРАЗОВАТЕЛЬНАЯ ШКО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e0000000000010282310207f7000400038000</vt:lpwstr>
  </property>
</Properties>
</file>