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6B9-9B96-4F1C-B356-428BD16F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0BA-E2E5-42EB-B486-C1CB7FE1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2CF-2DE9-4474-B778-76CAE5B3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7CC-A0B2-4537-8E28-13065044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E85-4A81-409A-A979-236BCE39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F63-D119-4EE9-B552-A3AF8A7F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25C-2E43-4B71-982F-B523A4B3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8D8-041D-4853-8248-833D00AF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8A9-713A-4B26-9887-BBB095F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F9A-0909-438C-B9DA-B447DC8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CB4-EE9F-4B8E-BCDB-79BB4D06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85C-07E2-4853-9B87-451C8A78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7412-422C-4B2D-B073-2FF93EA11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42840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Гимнастика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 (греч.  [gymnastike]— упражняю, тренирую; по другой версии  [gymnos] — голый, обнажённый) — один из наиболее популярных видов 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первые термин «гимнастика» появился у древних греков (эллинов) в </a:t>
            </a:r>
            <a:r>
              <a:rPr b="0" lang="en-US" sz="2400" spc="-1" strike="noStrike">
                <a:solidFill>
                  <a:srgbClr val="0d0d0d"/>
                </a:solidFill>
                <a:latin typeface="Calibri"/>
              </a:rPr>
              <a:t>VIII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. до н. э. Занятия физическими упражнениями они проводили в специальных заведениях - гимназиях.  В те времена гимнастика включала в себя все известные в античную эпоху физические упражнения (то, что мы теперь относим к легкой атлетике, тяжелой атлетике, борьбе, фехтованию, гребле), а также акробатику, игры с мячом, тан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9.jpg"/>
          <p:cNvPicPr/>
          <p:nvPr/>
        </p:nvPicPr>
        <p:blipFill>
          <a:blip r:embed="rId1"/>
          <a:stretch/>
        </p:blipFill>
        <p:spPr>
          <a:xfrm>
            <a:off x="7229520" y="5357880"/>
            <a:ext cx="1700280" cy="1307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гим5.jpg"/>
          <p:cNvPicPr/>
          <p:nvPr/>
        </p:nvPicPr>
        <p:blipFill>
          <a:blip r:embed="rId2"/>
          <a:stretch/>
        </p:blipFill>
        <p:spPr>
          <a:xfrm>
            <a:off x="392040" y="5286240"/>
            <a:ext cx="1251000" cy="1360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г8.jpg"/>
          <p:cNvPicPr/>
          <p:nvPr/>
        </p:nvPicPr>
        <p:blipFill>
          <a:blip r:embed="rId3"/>
          <a:stretch/>
        </p:blipFill>
        <p:spPr>
          <a:xfrm>
            <a:off x="3452760" y="535788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84360" y="61272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е развитие гимнастики получила в Древней Греции, где занятия велись с раннего возраста в специальных заведениях - гимназиях под наблюдением опытного педагога-гимнаста. В зрелищной форме элементы гимнастики включались в выступления странствующих артистов во время празднеств и пи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1.jpg"/>
          <p:cNvPicPr/>
          <p:nvPr/>
        </p:nvPicPr>
        <p:blipFill>
          <a:blip r:embed="rId1"/>
          <a:stretch/>
        </p:blipFill>
        <p:spPr>
          <a:xfrm>
            <a:off x="2548080" y="3754440"/>
            <a:ext cx="41875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0920" y="357120"/>
            <a:ext cx="853596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программу Олимпийских игр гимнастика включена с 1896г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имнастика является технической основой многих видов спорта: соответствующие упражнения включаются в программу подготовки представителей самых разных спортивных дисципли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мнастика не только даёт определённые технические навыки, но и вырабаты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равновес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ю дв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знак2.jpg"/>
          <p:cNvPicPr/>
          <p:nvPr/>
        </p:nvPicPr>
        <p:blipFill>
          <a:blip r:embed="rId1"/>
          <a:stretch/>
        </p:blipFill>
        <p:spPr>
          <a:xfrm>
            <a:off x="222120" y="142920"/>
            <a:ext cx="8636040" cy="6429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вопрос.jpg"/>
          <p:cNvPicPr/>
          <p:nvPr/>
        </p:nvPicPr>
        <p:blipFill>
          <a:blip r:embed="rId2"/>
          <a:stretch/>
        </p:blipFill>
        <p:spPr>
          <a:xfrm>
            <a:off x="6786720" y="507204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00040" y="357120"/>
            <a:ext cx="350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ята, а какие виды гимнастики вы знае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гимна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ортивная гимнасти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ртивная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арядов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удожестве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робат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ровая (улич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здоровительная гимнасти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гиеническая гимнастика (УГГ, физкультминутк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тмическая гимнастика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йога,фитнес, лечебная аэробика,стретчин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6"/>
          <p:cNvCxnSpPr/>
          <p:nvPr/>
        </p:nvCxnSpPr>
        <p:spPr>
          <a:xfrm flipH="1">
            <a:off x="2214000" y="1214280"/>
            <a:ext cx="114372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5000760" y="1142640"/>
            <a:ext cx="107208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ая гимнаст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жское многобор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ь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ла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ь с руч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ные пры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ны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аллельные брус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нское многобор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ные пры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овысокие брус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ны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мнастическое бре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8"/>
          <p:cNvCxnSpPr/>
          <p:nvPr/>
        </p:nvCxnSpPr>
        <p:spPr>
          <a:xfrm flipH="1">
            <a:off x="2785680" y="1143000"/>
            <a:ext cx="5724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2"/>
          <p:cNvCxnSpPr/>
          <p:nvPr/>
        </p:nvCxnSpPr>
        <p:spPr>
          <a:xfrm>
            <a:off x="5571720" y="1143000"/>
            <a:ext cx="5007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6T16:34:41Z</dcterms:created>
  <dc:creator>Алла</dc:creator>
  <dc:description/>
  <dc:language>en-US</dc:language>
  <cp:lastModifiedBy>Алла</cp:lastModifiedBy>
  <dcterms:modified xsi:type="dcterms:W3CDTF">2019-11-26T16:38:31Z</dcterms:modified>
  <cp:revision>1</cp:revision>
  <dc:subject/>
  <dc:title>Слайд 1</dc:title>
</cp:coreProperties>
</file>