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F122-C68F-4D7A-A43D-BD7F9ABD8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872B-2BBD-4AA0-AA02-ED6203E01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C335-1FBA-4396-A541-C6DEDAF2F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24DA-D78A-4096-AD85-470B7C2F7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5047-E80C-4FA2-A541-A06D9235E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92B2-CCD2-4602-B116-702BBA6C6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23B9-4BDA-440A-9621-D378E0F0F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F833-FA18-4B9C-B4ED-B2AE03690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B5DE-1D58-49AD-A0B6-68A96B3EB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4ED2-A8C1-43FD-8A4D-BAB9F729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A358-5FD7-4EBA-AA80-EAD2629C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B1DB-EDD5-4C12-B47C-EC6943DE7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CB52D-0800-426E-B366-0F0C6CA760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57120" y="428400"/>
            <a:ext cx="850104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d0d0d"/>
                </a:solidFill>
                <a:latin typeface="Calibri"/>
              </a:rPr>
              <a:t>Гимнастика</a:t>
            </a:r>
            <a:r>
              <a:rPr b="0" lang="ru-RU" sz="2400" spc="-1" strike="noStrike">
                <a:solidFill>
                  <a:srgbClr val="0d0d0d"/>
                </a:solidFill>
                <a:latin typeface="Calibri"/>
              </a:rPr>
              <a:t> (греч.  [gymnastike]— упражняю, тренирую; по другой версии  [gymnos] — голый, обнажённый) — один из наиболее популярных видов спор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d0d0d"/>
                </a:solidFill>
                <a:latin typeface="Calibri"/>
              </a:rPr>
              <a:t>Впервые термин «гимнастика» появился у древних греков (эллинов) в </a:t>
            </a:r>
            <a:r>
              <a:rPr b="0" lang="en-US" sz="2400" spc="-1" strike="noStrike">
                <a:solidFill>
                  <a:srgbClr val="0d0d0d"/>
                </a:solidFill>
                <a:latin typeface="Calibri"/>
              </a:rPr>
              <a:t>VIII </a:t>
            </a:r>
            <a:r>
              <a:rPr b="0" lang="ru-RU" sz="2400" spc="-1" strike="noStrike">
                <a:solidFill>
                  <a:srgbClr val="0d0d0d"/>
                </a:solidFill>
                <a:latin typeface="Calibri"/>
              </a:rPr>
              <a:t>в. до н. э. Занятия физическими упражнениями они проводили в специальных заведениях - гимназиях.  В те времена гимнастика включала в себя все известные в античную эпоху физические упражнения (то, что мы теперь относим к легкой атлетике, тяжелой атлетике, борьбе, фехтованию, гребле), а также акробатику, игры с мячом, танц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3" descr="9.jpg"/>
          <p:cNvPicPr/>
          <p:nvPr/>
        </p:nvPicPr>
        <p:blipFill>
          <a:blip r:embed="rId1"/>
          <a:stretch/>
        </p:blipFill>
        <p:spPr>
          <a:xfrm>
            <a:off x="7229520" y="5357880"/>
            <a:ext cx="1700280" cy="130788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4" descr="гим5.jpg"/>
          <p:cNvPicPr/>
          <p:nvPr/>
        </p:nvPicPr>
        <p:blipFill>
          <a:blip r:embed="rId2"/>
          <a:stretch/>
        </p:blipFill>
        <p:spPr>
          <a:xfrm>
            <a:off x="392040" y="5286240"/>
            <a:ext cx="1251000" cy="13608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5" descr="г8.jpg"/>
          <p:cNvPicPr/>
          <p:nvPr/>
        </p:nvPicPr>
        <p:blipFill>
          <a:blip r:embed="rId3"/>
          <a:stretch/>
        </p:blipFill>
        <p:spPr>
          <a:xfrm>
            <a:off x="3452760" y="5357880"/>
            <a:ext cx="1809720" cy="1357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684360" y="612720"/>
            <a:ext cx="7920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собенное развитие гимнастики получила в Древней Греции, где занятия велись с раннего возраста в специальных заведениях - гимназиях под наблюдением опытного педагога-гимнаста. В зрелищной форме элементы гимнастики включались в выступления странствующих артистов во время празднеств и пир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одержимое 5" descr="1.jpg"/>
          <p:cNvPicPr/>
          <p:nvPr/>
        </p:nvPicPr>
        <p:blipFill>
          <a:blip r:embed="rId1"/>
          <a:stretch/>
        </p:blipFill>
        <p:spPr>
          <a:xfrm>
            <a:off x="2548080" y="3754440"/>
            <a:ext cx="418752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250920" y="357120"/>
            <a:ext cx="8535960" cy="59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Times New Roman"/>
              </a:rPr>
              <a:t>В программу Олимпийских игр гимнастика включена с 1896г.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Гимнастика является технической основой многих видов спорта: соответствующие упражнения включаются в программу подготовки представителей самых разных спортивных дисциплин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имнастика не только даёт определённые технические навыки, но и вырабатывает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ил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ибк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нослив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увство равновес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ординацию движен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3" descr="знак2.jpg"/>
          <p:cNvPicPr/>
          <p:nvPr/>
        </p:nvPicPr>
        <p:blipFill>
          <a:blip r:embed="rId1"/>
          <a:stretch/>
        </p:blipFill>
        <p:spPr>
          <a:xfrm>
            <a:off x="222120" y="142920"/>
            <a:ext cx="8636040" cy="642924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2" descr="вопрос.jpg"/>
          <p:cNvPicPr/>
          <p:nvPr/>
        </p:nvPicPr>
        <p:blipFill>
          <a:blip r:embed="rId2"/>
          <a:stretch/>
        </p:blipFill>
        <p:spPr>
          <a:xfrm>
            <a:off x="6786720" y="5072040"/>
            <a:ext cx="2095200" cy="1571760"/>
          </a:xfrm>
          <a:prstGeom prst="rect">
            <a:avLst/>
          </a:prstGeom>
          <a:ln w="0">
            <a:noFill/>
          </a:ln>
        </p:spPr>
      </p:pic>
      <p:sp>
        <p:nvSpPr>
          <p:cNvPr id="53" name="TextBox 1"/>
          <p:cNvSpPr/>
          <p:nvPr/>
        </p:nvSpPr>
        <p:spPr>
          <a:xfrm>
            <a:off x="500040" y="357120"/>
            <a:ext cx="3500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Ребята, а какие виды гимнастики вы знает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иды гимнаст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2071800"/>
            <a:ext cx="403848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Спортивная гимнастик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ортивная (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нарядовая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удожественна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кробатическа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воровая (уличная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48320" y="2071800"/>
            <a:ext cx="403848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Оздоровительная гимнастик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игиеническая гимнастика (УГГ, физкультминутки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итмическая гимнастика (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йога,фитнес, лечебная аэробика,стретчинг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" name="Прямая со стрелкой 6"/>
          <p:cNvCxnSpPr/>
          <p:nvPr/>
        </p:nvCxnSpPr>
        <p:spPr>
          <a:xfrm flipH="1">
            <a:off x="2214000" y="1214280"/>
            <a:ext cx="1143720" cy="858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8" name="Прямая со стрелкой 8"/>
          <p:cNvCxnSpPr/>
          <p:nvPr/>
        </p:nvCxnSpPr>
        <p:spPr>
          <a:xfrm>
            <a:off x="5000760" y="1142640"/>
            <a:ext cx="1072080" cy="857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ортивная гимнастик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ужское многоборь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льц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еклади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нь с ручк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порные прыж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льные упражн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араллельные брусь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Женское многоборь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порные прыж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новысокие брусь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льные упражн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имнастическое бревн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Прямая со стрелкой 8"/>
          <p:cNvCxnSpPr/>
          <p:nvPr/>
        </p:nvCxnSpPr>
        <p:spPr>
          <a:xfrm flipH="1">
            <a:off x="2785680" y="1143000"/>
            <a:ext cx="57240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5" name="Прямая со стрелкой 12"/>
          <p:cNvCxnSpPr/>
          <p:nvPr/>
        </p:nvCxnSpPr>
        <p:spPr>
          <a:xfrm>
            <a:off x="5571720" y="1143000"/>
            <a:ext cx="50076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1-26T16:34:41Z</dcterms:created>
  <dc:creator>Алла</dc:creator>
  <dc:description/>
  <dc:language>en-US</dc:language>
  <cp:lastModifiedBy>Алла</cp:lastModifiedBy>
  <dcterms:modified xsi:type="dcterms:W3CDTF">2019-11-26T16:38:31Z</dcterms:modified>
  <cp:revision>1</cp:revision>
  <dc:subject/>
  <dc:title>Слайд 1</dc:title>
</cp:coreProperties>
</file>