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3972-E89F-4EF1-BE0F-9DB1C257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8588-70B3-44FA-A334-119698CF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8302-2F9C-4B1A-B46D-BA79D88A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472A-54B4-4578-BCE1-4FE9959B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A96E-FCEF-4863-BCB8-4043D286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4D9D-0282-4C0E-8C47-CE0FCABE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3EAB-995E-4744-9BD6-9BBCA03C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8648-AE08-4F66-A114-B71EB015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E7BE-9674-4128-99D9-33F865F0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7F62-82D4-482F-A69A-8D5A47C8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3D59-7126-45E6-88E1-2B57BBE1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61B3-432B-4224-A6FC-19964C2D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3AFA-1A64-445C-AD29-C4510815F8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57120" y="428400"/>
            <a:ext cx="85010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Гимнастика</a:t>
            </a: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 (греч.  [gymnastike]— упражняю, тренирую; по другой версии  [gymnos] — голый, обнажённый) — один из наиболее популярных видов спор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Впервые термин «гимнастика» появился у древних греков (эллинов) в </a:t>
            </a:r>
            <a:r>
              <a:rPr b="0" lang="en-US" sz="2400" spc="-1" strike="noStrike">
                <a:solidFill>
                  <a:srgbClr val="0d0d0d"/>
                </a:solidFill>
                <a:latin typeface="Calibri"/>
              </a:rPr>
              <a:t>VIII </a:t>
            </a: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в. до н. э. Занятия физическими упражнениями они проводили в специальных заведениях - гимназиях.  В те времена гимнастика включала в себя все известные в античную эпоху физические упражнения (то, что мы теперь относим к легкой атлетике, тяжелой атлетике, борьбе, фехтованию, гребле), а также акробатику, игры с мячом, танц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9.jpg"/>
          <p:cNvPicPr/>
          <p:nvPr/>
        </p:nvPicPr>
        <p:blipFill>
          <a:blip r:embed="rId1"/>
          <a:stretch/>
        </p:blipFill>
        <p:spPr>
          <a:xfrm>
            <a:off x="7229520" y="5357880"/>
            <a:ext cx="1700280" cy="13078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гим5.jpg"/>
          <p:cNvPicPr/>
          <p:nvPr/>
        </p:nvPicPr>
        <p:blipFill>
          <a:blip r:embed="rId2"/>
          <a:stretch/>
        </p:blipFill>
        <p:spPr>
          <a:xfrm>
            <a:off x="392040" y="5286240"/>
            <a:ext cx="1251000" cy="13608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г8.jpg"/>
          <p:cNvPicPr/>
          <p:nvPr/>
        </p:nvPicPr>
        <p:blipFill>
          <a:blip r:embed="rId3"/>
          <a:stretch/>
        </p:blipFill>
        <p:spPr>
          <a:xfrm>
            <a:off x="3452760" y="5357880"/>
            <a:ext cx="1809720" cy="1357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684360" y="612720"/>
            <a:ext cx="79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обенное развитие гимнастики получила в Древней Греции, где занятия велись с раннего возраста в специальных заведениях - гимназиях под наблюдением опытного педагога-гимнаста. В зрелищной форме элементы гимнастики включались в выступления странствующих артистов во время празднеств и пир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5" descr="1.jpg"/>
          <p:cNvPicPr/>
          <p:nvPr/>
        </p:nvPicPr>
        <p:blipFill>
          <a:blip r:embed="rId1"/>
          <a:stretch/>
        </p:blipFill>
        <p:spPr>
          <a:xfrm>
            <a:off x="2548080" y="3754440"/>
            <a:ext cx="418752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50920" y="357120"/>
            <a:ext cx="8535960" cy="59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В программу Олимпийских игр гимнастика включена с 1896г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имнастика является технической основой многих видов спорта: соответствующие упражнения включаются в программу подготовки представителей самых разных спортивных дисципли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мнастика не только даёт определённые технические навыки, но и вырабатыва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л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бк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нослив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увство равновес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ординацию движ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знак2.jpg"/>
          <p:cNvPicPr/>
          <p:nvPr/>
        </p:nvPicPr>
        <p:blipFill>
          <a:blip r:embed="rId1"/>
          <a:stretch/>
        </p:blipFill>
        <p:spPr>
          <a:xfrm>
            <a:off x="222120" y="142920"/>
            <a:ext cx="8636040" cy="64292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вопрос.jpg"/>
          <p:cNvPicPr/>
          <p:nvPr/>
        </p:nvPicPr>
        <p:blipFill>
          <a:blip r:embed="rId2"/>
          <a:stretch/>
        </p:blipFill>
        <p:spPr>
          <a:xfrm>
            <a:off x="6786720" y="5072040"/>
            <a:ext cx="2095200" cy="15717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500040" y="357120"/>
            <a:ext cx="3500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бята, а какие виды гимнастики вы знает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гимнас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71800"/>
            <a:ext cx="403848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портивная гимнасти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ртивная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нарядова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удожествен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робатическ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оровая (улична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2071800"/>
            <a:ext cx="403848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здоровительная гимнасти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игиеническая гимнастика (УГГ, физкультминутк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тмическая гимнастика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йога,фитнес, лечебная аэробика,стретчинг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Прямая со стрелкой 6"/>
          <p:cNvCxnSpPr/>
          <p:nvPr/>
        </p:nvCxnSpPr>
        <p:spPr>
          <a:xfrm flipH="1">
            <a:off x="2214000" y="1214280"/>
            <a:ext cx="1143720" cy="858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8"/>
          <p:cNvCxnSpPr/>
          <p:nvPr/>
        </p:nvCxnSpPr>
        <p:spPr>
          <a:xfrm>
            <a:off x="5000760" y="1142640"/>
            <a:ext cx="107208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ортивная гимнасти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ужское многобор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ь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клади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ь с руч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орные прыж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льные упражн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араллельные брус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енское многобор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орные прыж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новысокие брус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льные упражн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имнастическое брев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Прямая со стрелкой 8"/>
          <p:cNvCxnSpPr/>
          <p:nvPr/>
        </p:nvCxnSpPr>
        <p:spPr>
          <a:xfrm flipH="1">
            <a:off x="2785680" y="1143000"/>
            <a:ext cx="57240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12"/>
          <p:cNvCxnSpPr/>
          <p:nvPr/>
        </p:nvCxnSpPr>
        <p:spPr>
          <a:xfrm>
            <a:off x="5571720" y="1143000"/>
            <a:ext cx="5007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26T16:34:41Z</dcterms:created>
  <dc:creator>Алла</dc:creator>
  <dc:description/>
  <dc:language>en-US</dc:language>
  <cp:lastModifiedBy>Алла</cp:lastModifiedBy>
  <dcterms:modified xsi:type="dcterms:W3CDTF">2019-11-26T16:38:31Z</dcterms:modified>
  <cp:revision>1</cp:revision>
  <dc:subject/>
  <dc:title>Слайд 1</dc:title>
</cp:coreProperties>
</file>