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DFE-5FC3-4860-BD04-9066E611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9E0-041F-44B0-BAB9-CA324E23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23F-0165-4E4B-AD2F-EBE5B05E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AA2-2D5D-41AA-BCC9-4831BDAB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B9CD-06C9-4FC4-A833-7781A53C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BE52-2480-4537-8E04-C94EA5BE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6A65-15D8-4F21-80ED-EFA719F3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4443-24C5-4E3A-8EA8-45BECDAA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0870-3769-401F-A47C-8B49D4FA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AC6E-8E41-4168-891E-4B968827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6B5C-3D2E-48E3-99F7-FD6D3C6E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5C0-9858-4084-9EF1-D2BC655A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193D-B402-4494-B387-861425FD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98C6-2122-477E-A856-C7C57B37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0974-4706-428E-9221-7DDA2F5A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94F0-EE66-462C-A37C-05F3C659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8923-0A39-46EE-A4FA-271CE414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C69-3F27-4AB9-AE50-37D82BBE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13F-E5B3-41C5-92D6-7DF6E4CA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178-CBFC-4BCF-A73C-0B63A0F3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79B-644D-47A5-A463-66DCB9C9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772-1C8A-463F-9264-BCF737B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7D0-D930-4BC9-9AF0-77D76D58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DC4-C2EF-4551-8DC9-8CDDDBBE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ac66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F3A0-CA2B-4A94-98CD-3CBEC9F771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83d6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83d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ac66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83d6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83d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FE52-03CA-4930-B273-B0588CA786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Microsoft YaHei"/>
              </a:rPr>
              <a:t>Мы расскажем вам о том, как мы в садике живем…</a:t>
            </a:r>
            <a:br>
              <a:rPr sz="4000"/>
            </a:br>
            <a:endParaRPr b="0" lang="en-US" sz="40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55280" y="1980720"/>
            <a:ext cx="72723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Microsoft YaHei"/>
              </a:rPr>
              <a:t>Презентация группы «Родничок»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Microsoft YaHei"/>
              </a:rPr>
              <a:t>МАДОУ «Детский №6 «Солнышко»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Microsoft YaHei"/>
              </a:rPr>
              <a:t>с.Субханкулово 201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c66b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270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Times New Roman"/>
              </a:rPr>
              <a:t>Проблем у нас не будет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Times New Roman"/>
              </a:rPr>
              <a:t>В школе с математикой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1" name="Picture 4" descr="d:\User\Desktop\фото дете мое группы\IMG_20190130_094838.jpg"/>
          <p:cNvPicPr/>
          <p:nvPr/>
        </p:nvPicPr>
        <p:blipFill>
          <a:blip r:embed="rId1"/>
          <a:stretch/>
        </p:blipFill>
        <p:spPr>
          <a:xfrm>
            <a:off x="539640" y="1981080"/>
            <a:ext cx="338472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User\Desktop\фото дете мое группы\IMG_20190130_094928.jpg"/>
          <p:cNvPicPr/>
          <p:nvPr/>
        </p:nvPicPr>
        <p:blipFill>
          <a:blip r:embed="rId2"/>
          <a:stretch/>
        </p:blipFill>
        <p:spPr>
          <a:xfrm>
            <a:off x="4140360" y="1989000"/>
            <a:ext cx="4833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Художественно – эстетическое развитие (музыкальное развитие)</a:t>
            </a:r>
            <a:br>
              <a:rPr sz="2800"/>
            </a:br>
            <a:r>
              <a:rPr b="0" lang="ru-RU" sz="2800" spc="-1" strike="noStrike">
                <a:solidFill>
                  <a:srgbClr val="f4e7ed"/>
                </a:solidFill>
                <a:latin typeface="Times New Roman"/>
              </a:rPr>
              <a:t>Не только петь умеем мы</a:t>
            </a:r>
            <a:br>
              <a:rPr sz="2800"/>
            </a:br>
            <a:r>
              <a:rPr b="0" lang="ru-RU" sz="3200" spc="-1" strike="noStrike">
                <a:solidFill>
                  <a:srgbClr val="f4e7ed"/>
                </a:solidFill>
                <a:latin typeface="Times New Roman"/>
              </a:rPr>
              <a:t>Дружно и красиво.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4" name="Picture 6" descr="d:\User\Desktop\фото дете мое группы\IMG_20161027_162221.jpg"/>
          <p:cNvPicPr/>
          <p:nvPr/>
        </p:nvPicPr>
        <p:blipFill>
          <a:blip r:embed="rId1"/>
          <a:stretch/>
        </p:blipFill>
        <p:spPr>
          <a:xfrm>
            <a:off x="539640" y="1981080"/>
            <a:ext cx="8136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6" name="Picture 2" descr="d:\User\Desktop\фото дете мое группы\1542950904619.jpg"/>
          <p:cNvPicPr/>
          <p:nvPr/>
        </p:nvPicPr>
        <p:blipFill>
          <a:blip r:embed="rId1"/>
          <a:stretch/>
        </p:blipFill>
        <p:spPr>
          <a:xfrm>
            <a:off x="250920" y="189000"/>
            <a:ext cx="4249800" cy="648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User\Desktop\фото дете мое группы\1542951009328.jpg"/>
          <p:cNvPicPr/>
          <p:nvPr/>
        </p:nvPicPr>
        <p:blipFill>
          <a:blip r:embed="rId2"/>
          <a:stretch/>
        </p:blipFill>
        <p:spPr>
          <a:xfrm>
            <a:off x="4932360" y="189000"/>
            <a:ext cx="396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Умеем даже танцевать</a:t>
            </a:r>
            <a:br>
              <a:rPr sz="4400"/>
            </a:b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888000" cy="461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4211640" y="1413000"/>
            <a:ext cx="4640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есело, игриво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2" name="Picture 5" descr="d:\User\Desktop\фото дете мое группы\IMG_20181227_102323.jpg"/>
          <p:cNvPicPr/>
          <p:nvPr/>
        </p:nvPicPr>
        <p:blipFill>
          <a:blip r:embed="rId1"/>
          <a:stretch/>
        </p:blipFill>
        <p:spPr>
          <a:xfrm>
            <a:off x="324000" y="1628640"/>
            <a:ext cx="3887640" cy="504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User\Desktop\фото дете мое группы\IMG_20181010_101800.jpg"/>
          <p:cNvPicPr/>
          <p:nvPr/>
        </p:nvPicPr>
        <p:blipFill>
          <a:blip r:embed="rId2"/>
          <a:stretch/>
        </p:blipFill>
        <p:spPr>
          <a:xfrm>
            <a:off x="4572000" y="163836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</a:rPr>
              <a:t>Речевое развитие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137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611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214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Любим сказки мы послушать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0" name="Picture 2" descr="d:\User\Desktop\фото дете мое группы\IMG-20180516-WA0017.jpg"/>
          <p:cNvPicPr/>
          <p:nvPr/>
        </p:nvPicPr>
        <p:blipFill>
          <a:blip r:embed="rId1"/>
          <a:stretch/>
        </p:blipFill>
        <p:spPr>
          <a:xfrm>
            <a:off x="611280" y="1197000"/>
            <a:ext cx="8281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Да и сами почитать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</a:rPr>
              <a:t>Художественно эстетическое развитие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(рисование)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11280" y="1981080"/>
            <a:ext cx="799308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000"/>
                </a:solidFill>
                <a:latin typeface="Times New Roman"/>
              </a:rPr>
              <a:t>Наша группа</a:t>
            </a:r>
            <a:endParaRPr b="0" lang="en-US" sz="7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92" name="Picture 2" descr="d:\User\Desktop\фото дете мое группы\IMG-20181224-WA0014.jpg"/>
          <p:cNvPicPr/>
          <p:nvPr/>
        </p:nvPicPr>
        <p:blipFill>
          <a:blip r:embed="rId1"/>
          <a:stretch/>
        </p:blipFill>
        <p:spPr>
          <a:xfrm>
            <a:off x="468360" y="1981080"/>
            <a:ext cx="82803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e7ed"/>
                </a:solidFill>
                <a:latin typeface="Times New Roman"/>
              </a:rPr>
              <a:t>Аппликация</a:t>
            </a:r>
            <a:endParaRPr b="0" lang="en-US" sz="48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504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645080" y="1413000"/>
            <a:ext cx="4041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4e7ed"/>
                </a:solidFill>
                <a:latin typeface="Times New Roman"/>
              </a:rPr>
              <a:t>Лепка</a:t>
            </a:r>
            <a:endParaRPr b="0" lang="en-US" sz="5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171680" cy="5113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8098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85800" y="692280"/>
            <a:ext cx="3809880" cy="568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765000"/>
            <a:ext cx="38098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Культурно гигиенические навыки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539640" y="1981080"/>
            <a:ext cx="4032360" cy="4114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788000" y="1981080"/>
            <a:ext cx="396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0" name="Picture 2" descr="d:\User\Desktop\фото дете мое группы\IMG_20190523_161717.jpg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Есть дежурные у нас –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Сервировка – высший класс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194280" cy="42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889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5" name="Picture 2" descr="d:\User\Desktop\фото дете мое группы\IMG_20181106_115447.jpg"/>
          <p:cNvPicPr/>
          <p:nvPr/>
        </p:nvPicPr>
        <p:blipFill>
          <a:blip r:embed="rId1"/>
          <a:stretch/>
        </p:blipFill>
        <p:spPr>
          <a:xfrm>
            <a:off x="611280" y="549360"/>
            <a:ext cx="3522600" cy="5546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5010120" y="620640"/>
            <a:ext cx="373860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Вырастем большими,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Здоровыми, послушными.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Потому, что за обедом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ы всю  кашу скушали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58" name="Picture 6" descr="d:\User\Desktop\фото дете мое группы\IMG_20180420_084500.jpg"/>
          <p:cNvPicPr/>
          <p:nvPr/>
        </p:nvPicPr>
        <p:blipFill>
          <a:blip r:embed="rId1"/>
          <a:stretch/>
        </p:blipFill>
        <p:spPr>
          <a:xfrm>
            <a:off x="1979640" y="2205000"/>
            <a:ext cx="576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Тише, тише всем сейчас.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Мы уснули – ТИХИЙ ЧАС… 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0" name="Picture 8" descr="d:\User\Desktop\фото дете мое группы\IMG_20190219_124246.jpg"/>
          <p:cNvPicPr/>
          <p:nvPr/>
        </p:nvPicPr>
        <p:blipFill>
          <a:blip r:embed="rId1"/>
          <a:stretch/>
        </p:blipFill>
        <p:spPr>
          <a:xfrm>
            <a:off x="900000" y="1981080"/>
            <a:ext cx="7559640" cy="44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Посадили огород –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Много там цветов растёт.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2" name="Picture 7" descr="d:\User\Desktop\фото дете мое группы\IMG_20190322_164345.jpg"/>
          <p:cNvPicPr/>
          <p:nvPr/>
        </p:nvPicPr>
        <p:blipFill>
          <a:blip r:embed="rId1"/>
          <a:stretch/>
        </p:blipFill>
        <p:spPr>
          <a:xfrm>
            <a:off x="468360" y="1981080"/>
            <a:ext cx="8280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Посмотрите – хороши,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Times New Roman"/>
              </a:rPr>
              <a:t>Дошколята – малыши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94" name="Picture 4" descr="d:\User\Desktop\фото дете мое группы\IMG_20181101_163013.jpg"/>
          <p:cNvPicPr/>
          <p:nvPr/>
        </p:nvPicPr>
        <p:blipFill>
          <a:blip r:embed="rId1"/>
          <a:stretch/>
        </p:blipFill>
        <p:spPr>
          <a:xfrm>
            <a:off x="900000" y="1981080"/>
            <a:ext cx="74883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1608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Девчонки и мальчишки – 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Такие шалунишки!!!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4" name="Picture 6" descr="d:\User\Desktop\фото дете мое группы\IMG_20170915_164227.jpg"/>
          <p:cNvPicPr/>
          <p:nvPr/>
        </p:nvPicPr>
        <p:blipFill>
          <a:blip r:embed="rId1"/>
          <a:stretch/>
        </p:blipFill>
        <p:spPr>
          <a:xfrm>
            <a:off x="324000" y="1844640"/>
            <a:ext cx="3671640" cy="453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:\User\Desktop\фото дете мое группы\IMG_20181227_103729.jpg"/>
          <p:cNvPicPr/>
          <p:nvPr/>
        </p:nvPicPr>
        <p:blipFill>
          <a:blip r:embed="rId2"/>
          <a:stretch/>
        </p:blipFill>
        <p:spPr>
          <a:xfrm>
            <a:off x="4211640" y="1916280"/>
            <a:ext cx="4753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И свой доктор есть у нас – </a:t>
            </a:r>
            <a:br>
              <a:rPr sz="3200"/>
            </a:b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Куклу вылечит сейчас!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67" name="Picture 7" descr="d:\User\Desktop\фото дете мое группы\IMG_20171222_170558.jpg"/>
          <p:cNvPicPr/>
          <p:nvPr/>
        </p:nvPicPr>
        <p:blipFill>
          <a:blip r:embed="rId1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d:\User\Desktop\фото дете мое группы\IMG_20171222_170654.jpg"/>
          <p:cNvPicPr/>
          <p:nvPr/>
        </p:nvPicPr>
        <p:blipFill>
          <a:blip r:embed="rId2"/>
          <a:stretch/>
        </p:blipFill>
        <p:spPr>
          <a:xfrm>
            <a:off x="4648320" y="1989000"/>
            <a:ext cx="3809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4e7ed"/>
                </a:solidFill>
                <a:latin typeface="Arial"/>
              </a:rPr>
              <a:t>Так весь день играем, рисуем и поём,</a:t>
            </a:r>
            <a:endParaRPr b="0" lang="en-US" sz="32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868320" y="1981080"/>
            <a:ext cx="3444840" cy="4114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4648320" y="2071800"/>
            <a:ext cx="38098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есело и дружно</a:t>
            </a:r>
            <a:br>
              <a:rPr sz="4400"/>
            </a:br>
            <a:r>
              <a:rPr b="0" lang="ru-RU" sz="4400" spc="-1" strike="noStrike">
                <a:solidFill>
                  <a:srgbClr val="f4e7ed"/>
                </a:solidFill>
                <a:latin typeface="Arial"/>
              </a:rPr>
              <a:t>В садике живём!!!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68360" y="1519200"/>
            <a:ext cx="4103640" cy="291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4041720" cy="251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d:\User\Desktop\фото дете мое группы\IMG_20190222_092511.jpg"/>
          <p:cNvPicPr/>
          <p:nvPr/>
        </p:nvPicPr>
        <p:blipFill>
          <a:blip r:embed="rId3"/>
          <a:stretch/>
        </p:blipFill>
        <p:spPr>
          <a:xfrm>
            <a:off x="250920" y="3573360"/>
            <a:ext cx="4321080" cy="30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:\User\Desktop\фото дете мое группы\IMG_20190222_092638.jpg"/>
          <p:cNvPicPr/>
          <p:nvPr/>
        </p:nvPicPr>
        <p:blipFill>
          <a:blip r:embed="rId4"/>
          <a:stretch/>
        </p:blipFill>
        <p:spPr>
          <a:xfrm>
            <a:off x="4716360" y="1519200"/>
            <a:ext cx="4176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844280"/>
            <a:ext cx="84960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imes New Roman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16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Times New Roman"/>
              </a:rPr>
              <a:t>Утренняя гимнастика</a:t>
            </a:r>
            <a:br>
              <a:rPr sz="4800"/>
            </a:br>
            <a:r>
              <a:rPr b="0" lang="ru-RU" sz="2400" spc="-1" strike="noStrike">
                <a:solidFill>
                  <a:srgbClr val="f4e7ed"/>
                </a:solidFill>
                <a:latin typeface="Times New Roman"/>
              </a:rPr>
              <a:t>«Малыши крепыши, вышли на зарядку</a:t>
            </a:r>
            <a:br>
              <a:rPr sz="2400"/>
            </a:br>
            <a:r>
              <a:rPr b="0" lang="ru-RU" sz="2400" spc="-1" strike="noStrike">
                <a:solidFill>
                  <a:srgbClr val="f4e7ed"/>
                </a:solidFill>
                <a:latin typeface="Times New Roman"/>
              </a:rPr>
              <a:t>Малыши крепыши делают зарядку!»</a:t>
            </a:r>
            <a:endParaRPr b="0" lang="en-US" sz="2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96" name="Picture 2" descr="d:\User\Desktop\фото дете мое группы\IMG_20180919_083330.jpg"/>
          <p:cNvPicPr/>
          <p:nvPr/>
        </p:nvPicPr>
        <p:blipFill>
          <a:blip r:embed="rId1"/>
          <a:stretch/>
        </p:blipFill>
        <p:spPr>
          <a:xfrm>
            <a:off x="307800" y="1773360"/>
            <a:ext cx="3097440" cy="482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:\User\Desktop\фото дете мое группы\IMG_20180919_083336.jpg"/>
          <p:cNvPicPr/>
          <p:nvPr/>
        </p:nvPicPr>
        <p:blipFill>
          <a:blip r:embed="rId2"/>
          <a:stretch/>
        </p:blipFill>
        <p:spPr>
          <a:xfrm>
            <a:off x="6213600" y="1773360"/>
            <a:ext cx="2751120" cy="482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:\User\Desktop\фото дете мое группы\IMG_20180919_083015.jpg"/>
          <p:cNvPicPr/>
          <p:nvPr/>
        </p:nvPicPr>
        <p:blipFill>
          <a:blip r:embed="rId3"/>
          <a:stretch/>
        </p:blipFill>
        <p:spPr>
          <a:xfrm>
            <a:off x="3405240" y="1773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</a:rPr>
              <a:t>Пальчиковая гимнастика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527640" cy="511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38019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48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4e7ed"/>
                </a:solidFill>
                <a:latin typeface="Times New Roman"/>
              </a:rPr>
              <a:t>Формирование элементарных математических представлений</a:t>
            </a:r>
            <a:endParaRPr b="0" lang="en-US" sz="36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3" name="Picture 6" descr="d:\User\Desktop\фото дете мое группы\IMG_20190123_095000.jpg"/>
          <p:cNvPicPr/>
          <p:nvPr/>
        </p:nvPicPr>
        <p:blipFill>
          <a:blip r:embed="rId1"/>
          <a:stretch/>
        </p:blipFill>
        <p:spPr>
          <a:xfrm>
            <a:off x="826920" y="1981080"/>
            <a:ext cx="799308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5" name="Picture 2" descr="d:\User\Desktop\фото дете мое группы\IMG_20190123_094951.jpg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7" name="Picture 2" descr="d:\User\Desktop\фото дете мое группы\IMG_20190123_095006.jpg"/>
          <p:cNvPicPr/>
          <p:nvPr/>
        </p:nvPicPr>
        <p:blipFill>
          <a:blip r:embed="rId1"/>
          <a:stretch/>
        </p:blipFill>
        <p:spPr>
          <a:xfrm>
            <a:off x="684360" y="765000"/>
            <a:ext cx="79912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4e7ed"/>
              </a:solidFill>
              <a:latin typeface="Arial"/>
            </a:endParaRPr>
          </a:p>
        </p:txBody>
      </p:sp>
      <p:pic>
        <p:nvPicPr>
          <p:cNvPr id="109" name="Picture 2" descr="d:\User\Desktop\фото дете мое группы\IMG_20190130_094935.jpg"/>
          <p:cNvPicPr/>
          <p:nvPr/>
        </p:nvPicPr>
        <p:blipFill>
          <a:blip r:embed="rId1"/>
          <a:stretch/>
        </p:blipFill>
        <p:spPr>
          <a:xfrm>
            <a:off x="611280" y="620640"/>
            <a:ext cx="77058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3:40:52Z</dcterms:created>
  <dc:creator>***</dc:creator>
  <dc:description/>
  <dc:language>en-US</dc:language>
  <cp:lastModifiedBy>User</cp:lastModifiedBy>
  <dcterms:modified xsi:type="dcterms:W3CDTF">2019-11-26T18:59:30Z</dcterms:modified>
  <cp:revision>50</cp:revision>
  <dc:subject/>
  <dc:title>Слайд 1</dc:title>
</cp:coreProperties>
</file>