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367-7F73-4C6E-9CE7-3BE2721E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06D-797D-41E0-B8AB-7FAA08D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39A-ECC4-45CB-AE6D-C2911116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F6E-AFFD-49B0-8FB7-B5B8E2E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0F34-F394-47EC-949F-FBED45DD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C1FB-C5C5-4650-8F1B-AC0B6857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8A0F-E9AF-41A4-82D3-140C3EC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BE56-BB29-4DC1-A7B8-26A8AED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19E-24C5-4EAF-AE94-FDA4D78F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96A-2F62-47CE-8AEB-A353602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73A4-2BF0-41B2-8CEC-646E906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C77-ED5B-4F60-89B6-040D9C1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094C-8B64-48FF-A498-06F87D2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80D-316D-4E38-837A-9F6C6FA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5E0D-4702-4CCD-95C5-40F79F96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0F1-7920-49BE-9D08-4B2F7FA0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1710-78BB-4D49-8F31-A2678336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DA7-B6BC-40BB-96C4-E31B27D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1ED-26E0-481F-804A-367C4FFB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90E-11C7-4D1A-B846-719C1939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D10-4134-4F0E-AFCC-B50FA6A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6C1-A2C1-477C-95F4-1BF06AF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EC5-9F6F-4EE0-ACB9-ACDDE6A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C3C-C309-490C-B247-07B1931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085-487E-465B-98F8-FC0E09360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E9A7-2407-4B70-A966-4BDE671F5C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Мы расскажем вам о том, как мы в садике живем…</a:t>
            </a:r>
            <a:br>
              <a:rPr sz="4000"/>
            </a:br>
            <a:endParaRPr b="0" lang="en-US" sz="40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5280" y="1980720"/>
            <a:ext cx="7272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Презентация группы «Родничок»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МАДОУ «Детский №6 «Солнышко»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с.Субханкулово 20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270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Проблем у нас не будет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В школе с математикой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1" name="Picture 4" descr="d:\User\Desktop\фото дете мое группы\IMG_20190130_094838.jpg"/>
          <p:cNvPicPr/>
          <p:nvPr/>
        </p:nvPicPr>
        <p:blipFill>
          <a:blip r:embed="rId1"/>
          <a:stretch/>
        </p:blipFill>
        <p:spPr>
          <a:xfrm>
            <a:off x="539640" y="1981080"/>
            <a:ext cx="338472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User\Desktop\фото дете мое группы\IMG_20190130_094928.jpg"/>
          <p:cNvPicPr/>
          <p:nvPr/>
        </p:nvPicPr>
        <p:blipFill>
          <a:blip r:embed="rId2"/>
          <a:stretch/>
        </p:blipFill>
        <p:spPr>
          <a:xfrm>
            <a:off x="4140360" y="1989000"/>
            <a:ext cx="4833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Художественно – эстетическое развитие (музыкальное развитие)</a:t>
            </a:r>
            <a:br>
              <a:rPr sz="2800"/>
            </a:br>
            <a:r>
              <a:rPr b="0" lang="ru-RU" sz="2800" spc="-1" strike="noStrike">
                <a:solidFill>
                  <a:srgbClr val="f4e7ed"/>
                </a:solidFill>
                <a:latin typeface="Times New Roman"/>
              </a:rPr>
              <a:t>Не только петь умеем мы</a:t>
            </a:r>
            <a:br>
              <a:rPr sz="2800"/>
            </a:b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Дружно и красиво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4" name="Picture 6" descr="d:\User\Desktop\фото дете мое группы\IMG_20161027_162221.jpg"/>
          <p:cNvPicPr/>
          <p:nvPr/>
        </p:nvPicPr>
        <p:blipFill>
          <a:blip r:embed="rId1"/>
          <a:stretch/>
        </p:blipFill>
        <p:spPr>
          <a:xfrm>
            <a:off x="539640" y="1981080"/>
            <a:ext cx="8136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6" name="Picture 2" descr="d:\User\Desktop\фото дете мое группы\1542950904619.jpg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648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User\Desktop\фото дете мое группы\1542951009328.jpg"/>
          <p:cNvPicPr/>
          <p:nvPr/>
        </p:nvPicPr>
        <p:blipFill>
          <a:blip r:embed="rId2"/>
          <a:stretch/>
        </p:blipFill>
        <p:spPr>
          <a:xfrm>
            <a:off x="4932360" y="189000"/>
            <a:ext cx="396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Умеем даже танцевать</a:t>
            </a:r>
            <a:br>
              <a:rPr sz="4400"/>
            </a:b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888000" cy="461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64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, игриво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2" name="Picture 5" descr="d:\User\Desktop\фото дете мое группы\IMG_20181227_102323.jpg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504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User\Desktop\фото дете мое группы\IMG_20181010_101800.jpg"/>
          <p:cNvPicPr/>
          <p:nvPr/>
        </p:nvPicPr>
        <p:blipFill>
          <a:blip r:embed="rId2"/>
          <a:stretch/>
        </p:blipFill>
        <p:spPr>
          <a:xfrm>
            <a:off x="4572000" y="1638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Речевое развитие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611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Любим сказки мы послушат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0" name="Picture 2" descr="d:\User\Desktop\фото дете мое группы\IMG-20180516-WA0017.jpg"/>
          <p:cNvPicPr/>
          <p:nvPr/>
        </p:nvPicPr>
        <p:blipFill>
          <a:blip r:embed="rId1"/>
          <a:stretch/>
        </p:blipFill>
        <p:spPr>
          <a:xfrm>
            <a:off x="611280" y="1197000"/>
            <a:ext cx="8281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Да и сами почитат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Художественно эстетическое развитие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(рисование)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11280" y="1981080"/>
            <a:ext cx="7993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Times New Roman"/>
              </a:rPr>
              <a:t>Наша группа</a:t>
            </a:r>
            <a:endParaRPr b="0" lang="en-US" sz="7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2" name="Picture 2" descr="d:\User\Desktop\фото дете мое группы\IMG-20181224-WA0014.jpg"/>
          <p:cNvPicPr/>
          <p:nvPr/>
        </p:nvPicPr>
        <p:blipFill>
          <a:blip r:embed="rId1"/>
          <a:stretch/>
        </p:blipFill>
        <p:spPr>
          <a:xfrm>
            <a:off x="468360" y="1981080"/>
            <a:ext cx="8280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e7ed"/>
                </a:solidFill>
                <a:latin typeface="Times New Roman"/>
              </a:rPr>
              <a:t>Аппликация</a:t>
            </a:r>
            <a:endParaRPr b="0" lang="en-US" sz="48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504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645080" y="1413000"/>
            <a:ext cx="4041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4e7ed"/>
                </a:solidFill>
                <a:latin typeface="Times New Roman"/>
              </a:rPr>
              <a:t>Лепка</a:t>
            </a:r>
            <a:endParaRPr b="0" lang="en-US" sz="5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71680" cy="511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809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5800" y="692280"/>
            <a:ext cx="3809880" cy="56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765000"/>
            <a:ext cx="38098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Культурно гигиенические навыки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981080"/>
            <a:ext cx="403236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788000" y="1981080"/>
            <a:ext cx="396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0" name="Picture 2" descr="d:\User\Desktop\фото дете мое группы\IMG_20190523_161717.jpg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Есть дежурные у нас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Сервировка – высший класс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194280" cy="42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8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5" name="Picture 2" descr="d:\User\Desktop\фото дете мое группы\IMG_20181106_115447.jpg"/>
          <p:cNvPicPr/>
          <p:nvPr/>
        </p:nvPicPr>
        <p:blipFill>
          <a:blip r:embed="rId1"/>
          <a:stretch/>
        </p:blipFill>
        <p:spPr>
          <a:xfrm>
            <a:off x="611280" y="549360"/>
            <a:ext cx="3522600" cy="554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5010120" y="620640"/>
            <a:ext cx="37386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ырастем большими,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Здоровыми, послушными.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тому, что за обедом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всю  кашу скушали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8" name="Picture 6" descr="d:\User\Desktop\фото дете мое группы\IMG_20180420_084500.jpg"/>
          <p:cNvPicPr/>
          <p:nvPr/>
        </p:nvPicPr>
        <p:blipFill>
          <a:blip r:embed="rId1"/>
          <a:stretch/>
        </p:blipFill>
        <p:spPr>
          <a:xfrm>
            <a:off x="1979640" y="2205000"/>
            <a:ext cx="576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Тише, тише всем сейчас.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Мы уснули – ТИХИЙ ЧАС… 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0" name="Picture 8" descr="d:\User\Desktop\фото дете мое группы\IMG_20190219_124246.jpg"/>
          <p:cNvPicPr/>
          <p:nvPr/>
        </p:nvPicPr>
        <p:blipFill>
          <a:blip r:embed="rId1"/>
          <a:stretch/>
        </p:blipFill>
        <p:spPr>
          <a:xfrm>
            <a:off x="900000" y="1981080"/>
            <a:ext cx="755964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садили огород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ного там цветов растёт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2" name="Picture 7" descr="d:\User\Desktop\фото дете мое группы\IMG_20190322_164345.jpg"/>
          <p:cNvPicPr/>
          <p:nvPr/>
        </p:nvPicPr>
        <p:blipFill>
          <a:blip r:embed="rId1"/>
          <a:stretch/>
        </p:blipFill>
        <p:spPr>
          <a:xfrm>
            <a:off x="468360" y="1981080"/>
            <a:ext cx="828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Посмотрите – хороши,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Дошколята – малыш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4" name="Picture 4" descr="d:\User\Desktop\фото дете мое группы\IMG_20181101_163013.jpg"/>
          <p:cNvPicPr/>
          <p:nvPr/>
        </p:nvPicPr>
        <p:blipFill>
          <a:blip r:embed="rId1"/>
          <a:stretch/>
        </p:blipFill>
        <p:spPr>
          <a:xfrm>
            <a:off x="900000" y="1981080"/>
            <a:ext cx="7488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1608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евчонки и мальчишки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акие шалунишки!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4" name="Picture 6" descr="d:\User\Desktop\фото дете мое группы\IMG_20170915_164227.jpg"/>
          <p:cNvPicPr/>
          <p:nvPr/>
        </p:nvPicPr>
        <p:blipFill>
          <a:blip r:embed="rId1"/>
          <a:stretch/>
        </p:blipFill>
        <p:spPr>
          <a:xfrm>
            <a:off x="324000" y="1844640"/>
            <a:ext cx="3671640" cy="453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:\User\Desktop\фото дете мое группы\IMG_20181227_103729.jpg"/>
          <p:cNvPicPr/>
          <p:nvPr/>
        </p:nvPicPr>
        <p:blipFill>
          <a:blip r:embed="rId2"/>
          <a:stretch/>
        </p:blipFill>
        <p:spPr>
          <a:xfrm>
            <a:off x="4211640" y="1916280"/>
            <a:ext cx="475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свой доктор есть у нас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уклу вылечит сейчас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7" name="Picture 7" descr="d:\User\Desktop\фото дете мое группы\IMG_20171222_170558.jpg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User\Desktop\фото дете мое группы\IMG_20171222_170654.jpg"/>
          <p:cNvPicPr/>
          <p:nvPr/>
        </p:nvPicPr>
        <p:blipFill>
          <a:blip r:embed="rId2"/>
          <a:stretch/>
        </p:blipFill>
        <p:spPr>
          <a:xfrm>
            <a:off x="4648320" y="1989000"/>
            <a:ext cx="3809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Так весь день играем, рисуем и поё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68320" y="1981080"/>
            <a:ext cx="344484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4648320" y="207180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 и дружно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садике живём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68360" y="151920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41720" cy="251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d:\User\Desktop\фото дете мое группы\IMG_20190222_092511.jpg"/>
          <p:cNvPicPr/>
          <p:nvPr/>
        </p:nvPicPr>
        <p:blipFill>
          <a:blip r:embed="rId3"/>
          <a:stretch/>
        </p:blipFill>
        <p:spPr>
          <a:xfrm>
            <a:off x="250920" y="3573360"/>
            <a:ext cx="43210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:\User\Desktop\фото дете мое группы\IMG_20190222_092638.jpg"/>
          <p:cNvPicPr/>
          <p:nvPr/>
        </p:nvPicPr>
        <p:blipFill>
          <a:blip r:embed="rId4"/>
          <a:stretch/>
        </p:blipFill>
        <p:spPr>
          <a:xfrm>
            <a:off x="4716360" y="1519200"/>
            <a:ext cx="4176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844280"/>
            <a:ext cx="8496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Times New Roman"/>
              </a:rPr>
              <a:t>Утренняя гимнастика</a:t>
            </a:r>
            <a:br>
              <a:rPr sz="4800"/>
            </a:br>
            <a:r>
              <a:rPr b="0" lang="ru-RU" sz="2400" spc="-1" strike="noStrike">
                <a:solidFill>
                  <a:srgbClr val="f4e7ed"/>
                </a:solidFill>
                <a:latin typeface="Times New Roman"/>
              </a:rPr>
              <a:t>«Малыши крепыши, вышли на зарядку</a:t>
            </a:r>
            <a:br>
              <a:rPr sz="2400"/>
            </a:br>
            <a:r>
              <a:rPr b="0" lang="ru-RU" sz="2400" spc="-1" strike="noStrike">
                <a:solidFill>
                  <a:srgbClr val="f4e7ed"/>
                </a:solidFill>
                <a:latin typeface="Times New Roman"/>
              </a:rPr>
              <a:t>Малыши крепыши делают зарядку!»</a:t>
            </a:r>
            <a:endParaRPr b="0" lang="en-US" sz="2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6" name="Picture 2" descr="d:\User\Desktop\фото дете мое группы\IMG_20180919_083330.jpg"/>
          <p:cNvPicPr/>
          <p:nvPr/>
        </p:nvPicPr>
        <p:blipFill>
          <a:blip r:embed="rId1"/>
          <a:stretch/>
        </p:blipFill>
        <p:spPr>
          <a:xfrm>
            <a:off x="307800" y="1773360"/>
            <a:ext cx="3097440" cy="482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User\Desktop\фото дете мое группы\IMG_20180919_083336.jpg"/>
          <p:cNvPicPr/>
          <p:nvPr/>
        </p:nvPicPr>
        <p:blipFill>
          <a:blip r:embed="rId2"/>
          <a:stretch/>
        </p:blipFill>
        <p:spPr>
          <a:xfrm>
            <a:off x="6213600" y="1773360"/>
            <a:ext cx="2751120" cy="48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User\Desktop\фото дете мое группы\IMG_20180919_083015.jpg"/>
          <p:cNvPicPr/>
          <p:nvPr/>
        </p:nvPicPr>
        <p:blipFill>
          <a:blip r:embed="rId3"/>
          <a:stretch/>
        </p:blipFill>
        <p:spPr>
          <a:xfrm>
            <a:off x="3405240" y="1773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Пальчиковая гимнастика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527640" cy="511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8019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48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e7ed"/>
                </a:solidFill>
                <a:latin typeface="Times New Roman"/>
              </a:rPr>
              <a:t>Формирование элементарных математических представлений</a:t>
            </a:r>
            <a:endParaRPr b="0" lang="en-US" sz="36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3" name="Picture 6" descr="d:\User\Desktop\фото дете мое группы\IMG_20190123_095000.jpg"/>
          <p:cNvPicPr/>
          <p:nvPr/>
        </p:nvPicPr>
        <p:blipFill>
          <a:blip r:embed="rId1"/>
          <a:stretch/>
        </p:blipFill>
        <p:spPr>
          <a:xfrm>
            <a:off x="826920" y="1981080"/>
            <a:ext cx="7993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5" name="Picture 2" descr="d:\User\Desktop\фото дете мое группы\IMG_20190123_094951.jpg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7" name="Picture 2" descr="d:\User\Desktop\фото дете мое группы\IMG_20190123_095006.jpg"/>
          <p:cNvPicPr/>
          <p:nvPr/>
        </p:nvPicPr>
        <p:blipFill>
          <a:blip r:embed="rId1"/>
          <a:stretch/>
        </p:blipFill>
        <p:spPr>
          <a:xfrm>
            <a:off x="684360" y="765000"/>
            <a:ext cx="7991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9" name="Picture 2" descr="d:\User\Desktop\фото дете мое группы\IMG_20190130_094935.jpg"/>
          <p:cNvPicPr/>
          <p:nvPr/>
        </p:nvPicPr>
        <p:blipFill>
          <a:blip r:embed="rId1"/>
          <a:stretch/>
        </p:blipFill>
        <p:spPr>
          <a:xfrm>
            <a:off x="611280" y="620640"/>
            <a:ext cx="77058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40:52Z</dcterms:created>
  <dc:creator>***</dc:creator>
  <dc:description/>
  <dc:language>en-US</dc:language>
  <cp:lastModifiedBy>User</cp:lastModifiedBy>
  <dcterms:modified xsi:type="dcterms:W3CDTF">2019-11-26T18:59:30Z</dcterms:modified>
  <cp:revision>50</cp:revision>
  <dc:subject/>
  <dc:title>Слайд 1</dc:title>
</cp:coreProperties>
</file>