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3C632-715B-495A-8946-657C96899A2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53477-84F7-4509-8F63-FC4B93E632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EC8EF-AD58-42D4-87C3-15640F2B62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F3176-2890-4CA4-92BC-3465E252BC5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1D42E-6A4A-4511-ACC8-D5FDF50EB6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BB5B9-4A07-44E8-8F7B-53453B7266C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CDAA5-B516-444E-A426-7706607C7E6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88E9F-E14D-41C5-9EB4-ED1E0353398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F3CA1-1875-4491-AB7A-C1F040B6DE4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88BAF-7A73-451A-AD14-458B5685C39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B2A8D-3E05-4E35-98A4-30F0F33AA35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2D5DD-AFC9-45AA-8EBF-4AA3D2BC262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CFF59-3BB8-45F4-920A-9C036DCBE0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793DC-BCFB-4EBC-A044-35125A5728E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16982-3AFD-4224-B2DA-AE27159D9F6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6970A-B8CA-4125-B905-C048E2C08C1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F1E62-CF51-4791-A6B4-C9A2A08116D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B8DE-1BB2-4F44-85E5-9494FBFDB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D2D8-5AEC-46AA-8C75-75379A6D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D17E-CCA6-4042-AC25-DFC4B68A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DAFD-06F2-4C9D-8197-9DD7A0503A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B0AAF-9E63-44E2-9F92-EA45E57A46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AD6D3-D1FB-445F-84F1-D90CDF4A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6C80B-63C1-4B9B-A38F-BCAD97C8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7FBB9-FECA-404E-B91E-F3ED654B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D8514-BBCA-441E-9FB9-6E282C4F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F7E21-92FC-4C9E-B92B-D6D8DDA5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8D0F8-BC76-4498-8F72-79EBBE00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0D11-81C9-40DF-8C24-8A7EC959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A392F-1401-478C-BA3D-33E0D5E1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09F32-7F4C-4C02-9265-8E71D958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1F82E-6E46-4222-8185-247036B2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5CCC4-24D2-417A-98BB-B2C2B160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B4A60-DCB8-4A41-BEF5-DA070A380E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5EA7-8C5C-4C9F-9197-2DCC731DC7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98B2-B8EE-48C1-934F-0DD4C5D2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1316-69ED-4170-98B2-FFD50687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5432-858C-4D49-9B57-FE01223A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4C65-8826-42C8-A2D4-2157C6B2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7021-4865-44B2-9A86-2F75DF63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C842-E25D-4E9D-B957-003AEADD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3839-DA78-4D44-A655-400960E3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860D-2783-4347-BBF9-1E46C0BA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1649-2CFA-4B9F-A521-4F18ADC2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BC8D-6F96-48AB-A987-6CD06164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1E34-1D93-4061-91A9-A1FEC460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6801-34FA-4AD3-BB36-F4AA9FFBF7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23A3D-FF9B-4505-B920-6A913C6131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6C6AF-B5E1-4160-9DB3-6B2C6FEE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CD587-603D-4417-9DE2-93785D35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A5FE-3EF6-44E0-96FF-57653202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6CB46-4440-4E22-AD68-23CF0C4F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B4E07-0C62-40DB-BAEE-BEAF9C92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7227B-D954-46DB-B09C-6CC633A1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141C9-DA33-4781-A139-BFF98A55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1E477-2620-4233-A277-CBB1A69F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08FC6-ADF6-4FDE-8776-9E211A4B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47803-170B-40B9-860A-41A1CEDF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61443-E74A-46C8-9961-83E103D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46F13-3B13-4837-B2DC-49CBEA901E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E95E-618B-4326-9359-80525180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6BDF-6CEF-43D9-885C-4EFC3C9F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EF7A-A2B8-43D9-A467-2A6ED804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181F-DF93-48ED-B33B-6221473C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D57C-DA03-41A0-8F4A-D14E7D5F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6480" y="5102280"/>
            <a:ext cx="9153720" cy="1758960"/>
            <a:chOff x="-6480" y="5102280"/>
            <a:chExt cx="9153720" cy="175896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372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0" y="5105520"/>
              <a:ext cx="9140760" cy="17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-6480" y="-6480"/>
            <a:ext cx="9153720" cy="5118120"/>
            <a:chOff x="-6480" y="-6480"/>
            <a:chExt cx="9153720" cy="511812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0" y="0"/>
              <a:ext cx="914076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6" name="Rectangle 7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8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2E3DDF-2E33-4347-8245-FF9EBA13F11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52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54" name="Group 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55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57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59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4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086EFD-F0DB-4EEB-847C-E4FC6FA0C13E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"/>
          <p:cNvGrpSpPr/>
          <p:nvPr/>
        </p:nvGrpSpPr>
        <p:grpSpPr>
          <a:xfrm>
            <a:off x="-6480" y="5102280"/>
            <a:ext cx="9153720" cy="1758960"/>
            <a:chOff x="-6480" y="5102280"/>
            <a:chExt cx="9153720" cy="1758960"/>
          </a:xfrm>
        </p:grpSpPr>
        <p:pic>
          <p:nvPicPr>
            <p:cNvPr id="103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372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3"/>
            <p:cNvSpPr/>
            <p:nvPr/>
          </p:nvSpPr>
          <p:spPr>
            <a:xfrm>
              <a:off x="0" y="5105520"/>
              <a:ext cx="9140760" cy="17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05" name="Group 4"/>
          <p:cNvGrpSpPr/>
          <p:nvPr/>
        </p:nvGrpSpPr>
        <p:grpSpPr>
          <a:xfrm>
            <a:off x="-6480" y="-6480"/>
            <a:ext cx="9153720" cy="5118120"/>
            <a:chOff x="-6480" y="-6480"/>
            <a:chExt cx="9153720" cy="5118120"/>
          </a:xfrm>
        </p:grpSpPr>
        <p:pic>
          <p:nvPicPr>
            <p:cNvPr id="106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6"/>
            <p:cNvSpPr/>
            <p:nvPr/>
          </p:nvSpPr>
          <p:spPr>
            <a:xfrm>
              <a:off x="0" y="0"/>
              <a:ext cx="914076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08" name="Rectangle 7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110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12" name="Group 1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113" name="Picture 12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15" name="Group 1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116" name="Picture 15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18" name="Rectangle 1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19" name="Group 1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120" name="Picture 1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2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DB5627-C786-4331-8CF4-7A5040A29A33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164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66" name="Group 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167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69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171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7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BD427E-EFCE-4D06-8258-60B18567BD43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755640" y="1197000"/>
            <a:ext cx="7993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21a08"/>
                </a:solidFill>
                <a:latin typeface="Calibri"/>
              </a:rPr>
              <a:t>Исследовательская  работа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Calibri"/>
              </a:rPr>
              <a:t>«ВЛИЯНИЕ СРОКОВ ПОСЕВА НА ВЫХОД ЗЕЛЕНОЙ МАССЫ ЛЯДВЕНЦА РОГАТОГО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036800" y="396720"/>
            <a:ext cx="7186320" cy="5907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2959200" y="3716280"/>
            <a:ext cx="593388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Автор: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Потапова Каролина,  ученица 9 класса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Руководитель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: Пуликова И.П.., учитель биологии и географии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Консультант: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Курдакова  Ольга  Васильевна, заведующая отделом селекции и семеноводства кормовых культур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областной  с\х  опытной станции   имени  А.Н.Энгельгардта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2015 г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1847880" cy="184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2"/>
          <a:stretch/>
        </p:blipFill>
        <p:spPr>
          <a:xfrm>
            <a:off x="503280" y="503280"/>
            <a:ext cx="8064360" cy="56498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3803760" y="287280"/>
            <a:ext cx="2604960" cy="3473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3"/>
          <a:stretch/>
        </p:blipFill>
        <p:spPr>
          <a:xfrm>
            <a:off x="1079640" y="1655640"/>
            <a:ext cx="3198600" cy="4392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т урожая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2"/>
          <a:stretch/>
        </p:blipFill>
        <p:spPr>
          <a:xfrm>
            <a:off x="433440" y="1008000"/>
            <a:ext cx="8207280" cy="5184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08000" y="0"/>
            <a:ext cx="7199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нешний вид опытных делянок после скашивания 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468360" y="189000"/>
            <a:ext cx="820908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21a08"/>
                </a:solidFill>
                <a:latin typeface="Arial"/>
              </a:rPr>
              <a:t>Предварительные выв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матические условия  Рославльского района СмоленсЛядвенец рогатый  отличается невысокой требовательностью к почвенным условиям,  хорошо мирится с почвенной кислотностью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й области   пригодны для выращивания  лядвенца  рогатого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ительно  лядвенец рогатый    зимостоек и выдерживает  длительное затопление в  весенний период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ормовым качествам не уступает традиционным кормовым культурам нашего регион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щивание лядвенца рогатого способствует улучшению почвенной структуры и обогащению  ее азотом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двенец рогатый пригоден для закладки долголетних  культурных сенокосов и пастбищ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Оптимальные сроки посева лядвенца рогатого для хозяйств  Рославльского  района  Смоленской области  третья декада апреля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684360" y="1197000"/>
            <a:ext cx="792000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21a08"/>
                </a:solidFill>
                <a:latin typeface="Arial"/>
              </a:rPr>
              <a:t>Практическая значимость: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ование в  хозяйствах области лядвенца рогатого позволит решить проблему создания прочной кормовой базы, увеличения производства растительного белка и повышения плодородия почв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2"/>
          <a:stretch/>
        </p:blipFill>
        <p:spPr>
          <a:xfrm>
            <a:off x="1474920" y="2255760"/>
            <a:ext cx="620064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4294080" y="47628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21a08"/>
                </a:solidFill>
                <a:latin typeface="Book Antiqua"/>
              </a:rPr>
              <a:t>Лядвенец рогатый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– перспективная кормовая культура в Нечерноземной зоне России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504720" y="4508640"/>
            <a:ext cx="832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Одной из задач современного кормопроизводства является внедрение этой культуры в полевые севообороты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1135080" y="146160"/>
            <a:ext cx="2365200" cy="434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"/>
          <p:cNvPicPr/>
          <p:nvPr/>
        </p:nvPicPr>
        <p:blipFill>
          <a:blip r:embed="rId2"/>
          <a:srcRect l="0" t="0" r="86" b="0"/>
          <a:stretch/>
        </p:blipFill>
        <p:spPr>
          <a:xfrm>
            <a:off x="2771640" y="1590840"/>
            <a:ext cx="2521080" cy="339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1" name="Rectangle 2"/>
          <p:cNvSpPr/>
          <p:nvPr/>
        </p:nvSpPr>
        <p:spPr>
          <a:xfrm>
            <a:off x="539640" y="549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лядвенец рогатый сорта « Смоленский 1»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087640" y="5229360"/>
            <a:ext cx="388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аш консультант  Курдакова   О.В. – зав. отделом селекции и   семеноводства кормовых культур областной  с\х  опытной станции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550800" y="620640"/>
            <a:ext cx="7920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21a08"/>
                </a:solidFill>
                <a:latin typeface="Bookman Old Style"/>
              </a:rPr>
              <a:t>Цель исследования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роведение агроэкологического испытания лядвенца рогатого сорта «Смоленский 1» в условиях Рославльского района Смоленской области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622440" y="2421000"/>
            <a:ext cx="7777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21a08"/>
                </a:solidFill>
                <a:latin typeface="Bookman Old Style"/>
              </a:rPr>
              <a:t>Задачи исследования:</a:t>
            </a:r>
            <a:r>
              <a:rPr b="0" lang="ru-RU" sz="2400" spc="-1" strike="noStrike">
                <a:solidFill>
                  <a:srgbClr val="821a08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роведение агроэкологического испытания  лядвенца рогатого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ровести фенологические наблюдения за данной культурой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зучить  морфологические  особенности  лядвенца рогатого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пределить зимостойкость культуры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о выходу зеленой массы определить оптимальные сроки посева лядвенца рогатого для хозяйств  Рославльского  района  Смоленской област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пределить хозяйственную перспективу использования лядвенца рогатого   в кормопроизводстве Рославльского района Смоленской област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403200" y="620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21a08"/>
                </a:solidFill>
                <a:latin typeface="Book Antiqua"/>
              </a:rPr>
              <a:t>Место проведения исследования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901800" y="1011240"/>
            <a:ext cx="75038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552600" y="404640"/>
            <a:ext cx="776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21a08"/>
                </a:solidFill>
                <a:latin typeface="Arial"/>
              </a:rPr>
              <a:t>Внешний вид растения лядвенца рогатого во время начала цветения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102360" cy="457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971640" y="54936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21a08"/>
                </a:solidFill>
                <a:latin typeface="Book Antiqua"/>
              </a:rPr>
              <a:t>Графическая схема опыт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1139760" y="2365200"/>
            <a:ext cx="7272360" cy="2097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1187280" y="2136600"/>
            <a:ext cx="73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15       15       15     15     15   15      15           30              15       15         15    15     15       15       15        30        15       15       15        15    15     15    15           </a:t>
            </a: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971640" y="119700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Исследование проводится в 2 повторности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1332000" y="47628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нешний вид  опытных делянок,  конец мая 2014 год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1092240" y="1052640"/>
            <a:ext cx="7008840" cy="52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971640" y="54936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Бутонизация ,  июнь 2014 год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344000" cy="550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7:07:22Z</dcterms:created>
  <dc:creator>User</dc:creator>
  <dc:description/>
  <cp:keywords/>
  <dc:language>en-US</dc:language>
  <cp:lastModifiedBy>Елена</cp:lastModifiedBy>
  <dcterms:modified xsi:type="dcterms:W3CDTF">2019-11-26T15:52:01Z</dcterms:modified>
  <cp:revision>83</cp:revision>
  <dc:subject/>
  <dc:title>МУНИЦИПАЛЬНОЕ БЮДЖЕТНОЕ ОБРАЗОВАТЕЛЬНОЕ УЧРЕЖДЕНИЕ «ПЕРЕНСКАЯ СРЕДНЯЯ (ПОЛНАЯ) ОБЩЕОБРАЗОВАТЕЛЬНАЯ ШКО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310000000000010282310207f7000400038000</vt:lpwstr>
  </property>
</Properties>
</file>