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E0F7-CFEE-4EC5-AD80-CDB4DB4371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75697-4072-4113-84C0-28010B7993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C7421-6E4B-4EFE-A421-FEA61D278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FB39C-2354-4A3A-BE77-D4DFA134B7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DF5FB-701F-4084-B8A1-DE6BFB7BB6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51782-8165-47F8-BFFF-5212150869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0968C-84C3-4CBE-A08E-223B28ABBF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D990D-F8A2-42CD-A0FB-7759B2A343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1F77E-F11C-48D0-B6DF-8BF1DB4D22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7F13B-3409-48A7-93EB-EBD79A6F7D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1569-4DD0-4B58-8F71-902CBF6BDE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CC8EB-F54A-4947-90E6-CE2C6368C2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C9D6A-ED08-4FD1-BE6F-001A7F7228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4D383-F1F1-4871-8FC7-D927866A59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CFD6-646A-4A68-BC11-6FE4B784A9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C3357-B595-4E6E-823A-83FB19D450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CAEE-1824-4BE6-B8D5-C458083CF2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1DA4-E860-4D7E-913B-0488C0820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00ED-778A-41CF-9A73-6B03A51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0EFE-7190-4AB6-8605-75C9AEE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2A08-0047-425F-906A-ACAC2C742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1A48C-3594-426F-9247-6C8B8B82F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21CC4-A2F4-4580-B863-A8442B43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B2BEF-62AF-4CA1-84A4-D8169FE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42B20-B818-4213-8EF2-6141AED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64727-890A-49C7-B326-27F26928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A15B0-0DE1-45E3-96DE-A7BA02E7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EC889-C0C9-4CE5-BF2A-A19EC81A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98F7E-1111-4351-97A4-DB22042C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E747-6385-4114-A7AC-A432117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5E320-7B73-4CA8-A0F6-FE8863A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A1E4E-8FA8-4D5D-8798-8D596B9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B5D6A-1544-4EC3-BA42-DD1F14F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2327A-A2F2-4269-8870-F6F93DAC9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957E-4B62-4403-AE7F-2BF024A17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AF3D-FA77-4FC3-87F2-F51FADDE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10FC-A584-496C-925A-3E6786C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95FD-BF29-45D7-8E9D-38D08EBC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9C3C-F1BB-4985-B418-D035C3D4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67F1-0171-4260-97BD-00C5B39B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8D8C-E2C9-44AA-A176-E105B5A3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EE0D-76EB-40E4-B56D-E7043749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62D3-9E1D-456C-BE09-AF326ED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1C9E-B275-45A6-9D1E-0D83AB9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77CF-5016-46C7-8C32-D58963F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60C1-AB83-49F5-9A3E-BA28096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34D9-C640-4C0A-AD93-5A0B3E588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1A417-7DB2-44DD-ABC7-8BE6EB5C2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E92D1-A133-40E5-9324-F3AD55BC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4A5D5-7E16-4FEA-B33A-E9CB5EB2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D456-71B5-4072-A249-DB5AB3A9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07AE4-2C70-4CDF-AE71-0525C1B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DD5C0-C2D1-48E0-992E-98DA2090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29F36-315F-4549-85ED-6C5726C3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962E8-3D90-4F96-B5EA-587DE15C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7D0D-8D79-4E00-BD9C-5E63130D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6D604-3D1A-4117-B755-385A5B7F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1C031-A176-4BF5-BDE0-08511BE7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79712-60A3-4A66-924A-067BEC8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C4136-DAC5-4D44-BF8D-806A9FA6C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5A75-B771-4EBC-AF0D-0D084BA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7821-2EC4-4AD7-B28C-EA826BD9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096B-F2ED-49E2-BEB0-0E4C0998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A820-D11F-4831-9606-D1FE6DA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457F-E392-46D9-8C86-3940EB5C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29E4AD-076F-4447-B7EB-A44EE295DDC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D1830C-2ADE-4D18-8817-50B23C4604C5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103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05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106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8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10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13" name="Picture 12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16" name="Picture 15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8" name="Rectangle 1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9" name="Group 1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20" name="Picture 1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2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30A7C2-A9E5-4D8E-8093-EAED3A7EFFC0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64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66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67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69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71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103CD4-11C8-4743-9CE1-3E298D92BEE0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755640" y="1197000"/>
            <a:ext cx="7993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Calibri"/>
              </a:rPr>
              <a:t>Исследовательская  работа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Calibri"/>
              </a:rPr>
              <a:t>«ВЛИЯНИЕ СРОКОВ ПОСЕВА НА ВЫХОД ЗЕЛЕНОЙ МАССЫ ЛЯДВЕНЦА РОГАТОГО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036800" y="396720"/>
            <a:ext cx="7186320" cy="5907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959200" y="3716280"/>
            <a:ext cx="59338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Автор: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Потапова Каролина,  ученица 9 класса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Руководитель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: Пуликова И.П.., учитель биологии и географии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Консультант: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урдакова  Ольга  Васильевна, заведующая отделом селекции и семеноводства кормовых культур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областной  с\х  опытной станции   имени  А.Н.Энгельгардта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5 г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1847880" cy="184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503280" y="503280"/>
            <a:ext cx="8064360" cy="56498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3803760" y="287280"/>
            <a:ext cx="2604960" cy="3473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1079640" y="1655640"/>
            <a:ext cx="3198600" cy="4392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т урожа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433440" y="1008000"/>
            <a:ext cx="8207280" cy="5184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8000" y="0"/>
            <a:ext cx="7199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нешний вид опытных делянок после скашивания </a:t>
            </a:r>
            <a:endParaRPr b="1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468360" y="189000"/>
            <a:ext cx="820908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21a08"/>
                </a:solidFill>
                <a:latin typeface="Arial"/>
              </a:rPr>
              <a:t>Предварительные вы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матические условия  Рославльского района СмоленсЛядвенец рогатый  отличается невысокой требовательностью к почвенным условиям,  хорошо мирится с почвенной кислотностью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й области   пригодны для выращивания  лядвенца  рогатого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тельно  лядвенец рогатый    зимостоек и выдерживает  длительное затопление в  весенний период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рмовым качествам не уступает традиционным кормовым культурам нашего регион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щивание лядвенца рогатого способствует улучшению почвенной структуры и обогащению  ее азотом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двенец рогатый пригоден для закладки долголетних  культурных сенокосов и пастбищ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Оптимальные сроки посева лядвенца рогатого для хозяйств  Рославльского  района  Смоленской области  третья декада апреля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684360" y="1197000"/>
            <a:ext cx="79200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Arial"/>
              </a:rPr>
              <a:t>Практическая значимость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в  хозяйствах области лядвенца рогатого позволит решить проблему создания прочной кормовой базы, увеличения производства растительного белка и повышения плодородия почв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2"/>
          <a:stretch/>
        </p:blipFill>
        <p:spPr>
          <a:xfrm>
            <a:off x="1474920" y="2255760"/>
            <a:ext cx="620064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4294080" y="47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21a08"/>
                </a:solidFill>
                <a:latin typeface="Book Antiqua"/>
              </a:rPr>
              <a:t>Лядвенец рогатый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– перспективная кормовая культура в Нечерноземной зоне России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04720" y="4508640"/>
            <a:ext cx="832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дной из задач современного кормопроизводства является внедрение этой культуры в полевые севообороты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1135080" y="146160"/>
            <a:ext cx="2365200" cy="434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2"/>
          <a:srcRect l="0" t="0" r="86" b="0"/>
          <a:stretch/>
        </p:blipFill>
        <p:spPr>
          <a:xfrm>
            <a:off x="2771640" y="1590840"/>
            <a:ext cx="2521080" cy="33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Rectangle 2"/>
          <p:cNvSpPr/>
          <p:nvPr/>
        </p:nvSpPr>
        <p:spPr>
          <a:xfrm>
            <a:off x="539640" y="549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лядвенец рогатый сорта « Смоленский 1»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087640" y="5229360"/>
            <a:ext cx="38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аш консультант  Курдакова   О.В. – зав. отделом селекции и   семеноводства кормовых культур областной  с\х  опытной станции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550800" y="620640"/>
            <a:ext cx="7920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Bookman Old Style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роведение агроэкологического испытания лядвенца рогатого сорта «Смоленский 1» в условиях Рославльского района Смоленской области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622440" y="2421000"/>
            <a:ext cx="7777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Bookman Old Style"/>
              </a:rPr>
              <a:t>Задачи исследования:</a:t>
            </a:r>
            <a:r>
              <a:rPr b="0" lang="ru-RU" sz="2400" spc="-1" strike="noStrike">
                <a:solidFill>
                  <a:srgbClr val="821a08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оведение агроэкологического испытания  лядвенца рогатого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овести фенологические наблюдения за данной культур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зучить  морфологические  особенности  лядвенца рогатого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пределить зимостойкость культуры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о выходу зеленой массы определить оптимальные сроки посева лядвенца рогатого для хозяйств  Рославльского  района  Смоленской област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пределить хозяйственную перспективу использования лядвенца рогатого   в кормопроизводстве Рославльского района Смоленской област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403200" y="620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21a08"/>
                </a:solidFill>
                <a:latin typeface="Book Antiqua"/>
              </a:rPr>
              <a:t>Место проведения исследован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901800" y="1011240"/>
            <a:ext cx="75038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552600" y="404640"/>
            <a:ext cx="776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21a08"/>
                </a:solidFill>
                <a:latin typeface="Arial"/>
              </a:rPr>
              <a:t>Внешний вид растения лядвенца рогатого во время начала цветения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102360" cy="457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971640" y="549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Book Antiqua"/>
              </a:rPr>
              <a:t>Графическая схема опыт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1139760" y="236520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1187280" y="213660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15       15       15     15     15   15      15           30              15       15         15    15     15       15       15        30        15       15       15        15    15     15    15           </a:t>
            </a: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971640" y="1197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сследование проводится в 2 повторности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332000" y="476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нешний вид  опытных делянок,  конец мая 2014 год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092240" y="1052640"/>
            <a:ext cx="7008840" cy="52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971640" y="5493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Бутонизация ,  июнь 2014 год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344000" cy="550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07:22Z</dcterms:created>
  <dc:creator>User</dc:creator>
  <dc:description/>
  <cp:keywords/>
  <dc:language>en-US</dc:language>
  <cp:lastModifiedBy>Елена</cp:lastModifiedBy>
  <dcterms:modified xsi:type="dcterms:W3CDTF">2019-11-26T15:52:01Z</dcterms:modified>
  <cp:revision>83</cp:revision>
  <dc:subject/>
  <dc:title>МУНИЦИПАЛЬНОЕ БЮДЖЕТНОЕ ОБРАЗОВАТЕЛЬНОЕ УЧРЕЖДЕНИЕ «ПЕРЕНСКАЯ СРЕДНЯЯ (ПОЛНАЯ)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310000000000010282310207f7000400038000</vt:lpwstr>
  </property>
</Properties>
</file>