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4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2.png" ContentType="image/png"/>
  <Override PartName="/ppt/media/image2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3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4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5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6" name="Text Box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Text Box 6"/>
          <p:cNvSpPr/>
          <p:nvPr/>
        </p:nvSpPr>
        <p:spPr>
          <a:xfrm>
            <a:off x="3884760" y="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252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1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9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sldNum" idx="2"/>
          </p:nvPr>
        </p:nvSpPr>
        <p:spPr>
          <a:xfrm>
            <a:off x="388440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F19DE2-4355-4727-87FC-DB2E633471FF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6330D0-CA1D-4C67-89B8-D4F0DE6A61BA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9" name="Text Box 1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CFEC1A-966E-4520-A3BF-9310260E2335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Text Box 3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4AC299-E855-4255-8F09-1B8CC6F8226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2640" cy="342252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Номер слайда 3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93D58C-E610-4232-8457-400312846224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565072-132D-4B48-ADA6-177BD7CF3FDF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4" name="Text Box 1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FCA0C3-5064-4FAF-ABBD-0B8A70613005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Text Box 3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C7FD1F-83FE-43FA-9935-1CF40DCF19DF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7" name="Text Box 1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D87DDF-A7A9-446D-A7D7-BCBAC7B50B10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Text Box 3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0BC9BA-C674-4414-8678-FC277B930F6F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67320" cy="342432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22ED62-81AF-47C8-8697-7B3D0C199ECF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4" name="Text Box 1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670082-D12A-4111-90DB-BC7E941AB2A3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Text Box 3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6C336D-5D28-4473-84CF-76B90272E8F8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8" name="Text Box 1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FDDEC1-C8CF-4413-BE57-539EED259DCD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Text Box 3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4E91BE-E091-4472-B2EF-60CCEAACEC7F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3" name="Text Box 1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9D2BE9-B6D9-4871-8CCE-1DCA346BBF31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Text Box 3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7F2365-A95D-4ECC-828E-A057A0F8E9C7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68760" cy="3425760"/>
          </a:xfrm>
          <a:prstGeom prst="rect">
            <a:avLst/>
          </a:prstGeom>
          <a:ln w="0">
            <a:noFill/>
          </a:ln>
        </p:spPr>
      </p:sp>
      <p:sp>
        <p:nvSpPr>
          <p:cNvPr id="138" name="Text Box 2"/>
          <p:cNvSpPr/>
          <p:nvPr/>
        </p:nvSpPr>
        <p:spPr>
          <a:xfrm>
            <a:off x="685800" y="4343400"/>
            <a:ext cx="5483160" cy="41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F53D1B-4193-4408-A926-63A399FAFC1C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0" name="Text Box 1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B78594-B716-4A32-A09A-7E1164AF660A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Text Box 3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FEE345-E2A5-40A9-86F2-8753F26510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840"/>
            <a:ext cx="650556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39432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3400"/>
            <a:ext cx="639432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D98DDA-D168-4B8B-AEED-615D1841E7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840"/>
            <a:ext cx="650556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012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19360" y="731520"/>
            <a:ext cx="312012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3400"/>
            <a:ext cx="312012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19360" y="2543400"/>
            <a:ext cx="312012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CFC84F-3440-4BC6-A633-05422B45EB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840"/>
            <a:ext cx="650556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5884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5160" y="731520"/>
            <a:ext cx="205884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67320" y="731520"/>
            <a:ext cx="205884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3400"/>
            <a:ext cx="205884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5160" y="2543400"/>
            <a:ext cx="205884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67320" y="2543400"/>
            <a:ext cx="205884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A7CB8-40E6-4836-A292-CCEDE38340D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840"/>
            <a:ext cx="650556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394320" cy="34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651C00-F547-4FF3-A6F4-C1595D352CC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840"/>
            <a:ext cx="650556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39432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8F56D3-D2F4-42A6-A7E2-BD4F29B077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840"/>
            <a:ext cx="650556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012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19360" y="731520"/>
            <a:ext cx="312012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D56C2D-6597-4608-934B-80D1BBE6D1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840"/>
            <a:ext cx="650556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43EFB0-08BA-408E-98AE-1C50D104FF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840"/>
            <a:ext cx="6505560" cy="52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10917B-0005-4861-9DA7-27BFC65669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840"/>
            <a:ext cx="650556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012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19360" y="731520"/>
            <a:ext cx="312012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3400"/>
            <a:ext cx="312012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C0722E-88A1-48F8-A281-3DF6F6E6DF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840"/>
            <a:ext cx="650556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012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19360" y="731520"/>
            <a:ext cx="312012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19360" y="2543400"/>
            <a:ext cx="312012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10DC99-032D-41F6-B51C-9A0235D54E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840"/>
            <a:ext cx="650556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012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19360" y="731520"/>
            <a:ext cx="312012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3400"/>
            <a:ext cx="639432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08D395-A0B0-4F15-AE2A-6F9EFAB4D3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"/>
          <p:cNvGrpSpPr/>
          <p:nvPr/>
        </p:nvGrpSpPr>
        <p:grpSpPr>
          <a:xfrm>
            <a:off x="-6480" y="3859200"/>
            <a:ext cx="9150480" cy="2998800"/>
            <a:chOff x="-6480" y="3859200"/>
            <a:chExt cx="9150480" cy="2998800"/>
          </a:xfrm>
        </p:grpSpPr>
        <p:pic>
          <p:nvPicPr>
            <p:cNvPr id="1" name="Picture 2" descr=""/>
            <p:cNvPicPr/>
            <p:nvPr/>
          </p:nvPicPr>
          <p:blipFill>
            <a:blip r:embed="rId3"/>
            <a:stretch/>
          </p:blipFill>
          <p:spPr>
            <a:xfrm>
              <a:off x="-6480" y="3859200"/>
              <a:ext cx="9150480" cy="299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Text Box 3"/>
            <p:cNvSpPr/>
            <p:nvPr/>
          </p:nvSpPr>
          <p:spPr>
            <a:xfrm>
              <a:off x="0" y="3867120"/>
              <a:ext cx="9137520" cy="29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</p:grpSp>
      <p:grpSp>
        <p:nvGrpSpPr>
          <p:cNvPr id="3" name="Group 4"/>
          <p:cNvGrpSpPr/>
          <p:nvPr/>
        </p:nvGrpSpPr>
        <p:grpSpPr>
          <a:xfrm>
            <a:off x="-6480" y="-6480"/>
            <a:ext cx="9150480" cy="3870360"/>
            <a:chOff x="-6480" y="-6480"/>
            <a:chExt cx="9150480" cy="3870360"/>
          </a:xfrm>
        </p:grpSpPr>
        <p:pic>
          <p:nvPicPr>
            <p:cNvPr id="4" name="Picture 5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0480" cy="387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Text Box 6"/>
            <p:cNvSpPr/>
            <p:nvPr/>
          </p:nvSpPr>
          <p:spPr>
            <a:xfrm>
              <a:off x="0" y="0"/>
              <a:ext cx="9137520" cy="38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</p:grpSp>
      <p:sp>
        <p:nvSpPr>
          <p:cNvPr id="6" name="Rectangle 7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grpSp>
        <p:nvGrpSpPr>
          <p:cNvPr id="7" name="Group 8"/>
          <p:cNvGrpSpPr/>
          <p:nvPr/>
        </p:nvGrpSpPr>
        <p:grpSpPr>
          <a:xfrm>
            <a:off x="-6480" y="1596960"/>
            <a:ext cx="9150480" cy="5108760"/>
            <a:chOff x="-6480" y="1596960"/>
            <a:chExt cx="9150480" cy="5108760"/>
          </a:xfrm>
        </p:grpSpPr>
        <p:pic>
          <p:nvPicPr>
            <p:cNvPr id="8" name="Picture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0480" cy="510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Text Box 10"/>
            <p:cNvSpPr/>
            <p:nvPr/>
          </p:nvSpPr>
          <p:spPr>
            <a:xfrm>
              <a:off x="1339920" y="2347920"/>
              <a:ext cx="6458040" cy="360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840"/>
            <a:ext cx="650556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39432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343080" indent="-3430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2" marL="343080" indent="-3430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3" marL="343080" indent="-3430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4" marL="343080" indent="-3430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5" marL="343080" indent="-3430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6" marL="343080" indent="-3430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" name="Text Box 13"/>
          <p:cNvSpPr/>
          <p:nvPr/>
        </p:nvSpPr>
        <p:spPr>
          <a:xfrm>
            <a:off x="6172200" y="6172200"/>
            <a:ext cx="251136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" name="Text Box 14"/>
          <p:cNvSpPr/>
          <p:nvPr/>
        </p:nvSpPr>
        <p:spPr>
          <a:xfrm>
            <a:off x="45720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 type="sldNum" idx="1"/>
          </p:nvPr>
        </p:nvSpPr>
        <p:spPr>
          <a:xfrm>
            <a:off x="3809520" y="6171840"/>
            <a:ext cx="1822680" cy="3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F4CA654-D07C-442D-9F15-45D71F37D5AE}" type="slidenum">
              <a:rPr b="1" lang="ru-RU" sz="1200" spc="-1" strike="noStrike">
                <a:solidFill>
                  <a:srgbClr val="7f7f7f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1"/>
          <p:cNvSpPr/>
          <p:nvPr/>
        </p:nvSpPr>
        <p:spPr>
          <a:xfrm>
            <a:off x="744480" y="1197000"/>
            <a:ext cx="7993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spcAft>
                <a:spcPts val="300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8a0000"/>
                </a:solidFill>
                <a:latin typeface="Calibri"/>
              </a:rPr>
              <a:t>Исследовательская  работа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spcAft>
                <a:spcPts val="300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8a0000"/>
                </a:solidFill>
                <a:latin typeface="Calibri"/>
              </a:rPr>
              <a:t>«</a:t>
            </a:r>
            <a:r>
              <a:rPr b="1" lang="ru-RU" sz="2800" spc="-1" strike="noStrike">
                <a:solidFill>
                  <a:srgbClr val="8a0000"/>
                </a:solidFill>
                <a:latin typeface="Arial"/>
                <a:ea typeface="Arial"/>
              </a:rPr>
              <a:t>Кто ты, медведка?»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spcAft>
                <a:spcPts val="300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spcAft>
                <a:spcPts val="300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821a08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spcAft>
                <a:spcPts val="300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3" name="Text Box 2"/>
          <p:cNvSpPr/>
          <p:nvPr/>
        </p:nvSpPr>
        <p:spPr>
          <a:xfrm>
            <a:off x="3132000" y="3716280"/>
            <a:ext cx="5761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Автор: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Шевчук Вероника,  ученица 6 класса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Руководитель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: Пуликова И.П., учитель биологии и географии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212745"/>
                </a:solidFill>
                <a:latin typeface="Times New Roman"/>
              </a:rPr>
              <a:t>                      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212745"/>
                </a:solidFill>
                <a:latin typeface="Times New Roman"/>
              </a:rPr>
              <a:t>                                               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</a:rPr>
              <a:t>2019г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4" name="Rectangle 3"/>
          <p:cNvSpPr/>
          <p:nvPr/>
        </p:nvSpPr>
        <p:spPr>
          <a:xfrm>
            <a:off x="1390680" y="96840"/>
            <a:ext cx="6913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a"/>
                </a:solidFill>
                <a:latin typeface="Arial"/>
                <a:ea typeface="Arial"/>
              </a:rPr>
              <a:t>МУНИЦИПАЛЬНОЕ БЮДЖЕТНОЕ ОБЩЕОБРАЗОВАТЕЛЬНОЕ УЧРЕЖДЕНИЕ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a"/>
                </a:solidFill>
                <a:latin typeface="Arial"/>
                <a:ea typeface="Arial"/>
              </a:rPr>
              <a:t>«ПЕРЕНСКАЯ СРЕДНЯЯ ШКОЛА»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Rectangle 4"/>
          <p:cNvSpPr/>
          <p:nvPr/>
        </p:nvSpPr>
        <p:spPr>
          <a:xfrm>
            <a:off x="1390680" y="279360"/>
            <a:ext cx="620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66" name="Picture 8" descr="https://web-selo.ru/wp-content/uploads/2018/07/IMG_2123_resize-1024x656.jpg"/>
          <p:cNvPicPr/>
          <p:nvPr/>
        </p:nvPicPr>
        <p:blipFill>
          <a:blip r:embed="rId2"/>
          <a:stretch/>
        </p:blipFill>
        <p:spPr>
          <a:xfrm>
            <a:off x="395280" y="3510000"/>
            <a:ext cx="2808360" cy="1798560"/>
          </a:xfrm>
          <a:prstGeom prst="rect">
            <a:avLst/>
          </a:prstGeom>
          <a:ln w="9360">
            <a:solidFill>
              <a:srgbClr val="009973"/>
            </a:solidFill>
            <a:miter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https://poklopu.ru/wp-content/uploads/2019/04/medvedka-s-krylyami-foto-1.jpg"/>
          <p:cNvPicPr/>
          <p:nvPr/>
        </p:nvPicPr>
        <p:blipFill>
          <a:blip r:embed="rId1"/>
          <a:stretch/>
        </p:blipFill>
        <p:spPr>
          <a:xfrm>
            <a:off x="611280" y="1484280"/>
            <a:ext cx="8029440" cy="4938840"/>
          </a:xfrm>
          <a:prstGeom prst="rect">
            <a:avLst/>
          </a:prstGeom>
          <a:ln w="9360">
            <a:solidFill>
              <a:srgbClr val="00b050"/>
            </a:solidFill>
            <a:miter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793520" y="260280"/>
            <a:ext cx="650556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600" spc="-1" strike="noStrike">
                <a:solidFill>
                  <a:srgbClr val="8a0000"/>
                </a:solidFill>
                <a:latin typeface="Calibri"/>
              </a:rPr>
              <a:t>Крылья медведки</a:t>
            </a:r>
            <a:endParaRPr b="1" lang="en-US" sz="4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http://macroid.ru/mdata/medium/39/MG_4713.jpg"/>
          <p:cNvPicPr/>
          <p:nvPr/>
        </p:nvPicPr>
        <p:blipFill>
          <a:blip r:embed="rId1"/>
          <a:stretch/>
        </p:blipFill>
        <p:spPr>
          <a:xfrm>
            <a:off x="789120" y="2133720"/>
            <a:ext cx="7831080" cy="3227400"/>
          </a:xfrm>
          <a:prstGeom prst="rect">
            <a:avLst/>
          </a:prstGeom>
          <a:ln w="9360">
            <a:solidFill>
              <a:srgbClr val="009973"/>
            </a:solidFill>
            <a:miter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58560" y="404640"/>
            <a:ext cx="6505560" cy="13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8a0000"/>
                </a:solidFill>
                <a:latin typeface="Calibri"/>
              </a:rPr>
              <a:t>Медведка-хороший пловец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https://www.sad2.info/wp-content/uploads/2010/12/medved_b.jpg"/>
          <p:cNvPicPr/>
          <p:nvPr/>
        </p:nvPicPr>
        <p:blipFill>
          <a:blip r:embed="rId1"/>
          <a:stretch/>
        </p:blipFill>
        <p:spPr>
          <a:xfrm>
            <a:off x="1187280" y="3222720"/>
            <a:ext cx="2737080" cy="24746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4" descr="https://glavses.ru/%D1%83%D0%BD%D0%B8%D1%87%D1%82%D0%BE%D0%B6%D0%B5%D0%BD%D0%B8%D0%B5-%D0%BA%D1%80%D0%BE%D1%82%D0%BE%D0%B2/%D1%83%D0%BD%D0%B8%D1%87%D1%82%D0%BE%D0%B6%D0%B5%D0%BD%D0%B8%D0%B5-%D0%BA%D1%80%D0%BE%D1%82%D0%BE%D0%B2-%D0%BD%D0%B0-%D1%83%D1%87%D0%B0%D1%81%D1%82%D0%BA%D0%B5-22-6.jpg"/>
          <p:cNvPicPr/>
          <p:nvPr/>
        </p:nvPicPr>
        <p:blipFill>
          <a:blip r:embed="rId2"/>
          <a:stretch/>
        </p:blipFill>
        <p:spPr>
          <a:xfrm>
            <a:off x="5292720" y="3271680"/>
            <a:ext cx="3143160" cy="24544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6" descr="http://chamaeleon.ru/index.php?option=com_true&amp;Itemid=117&amp;func=wmark&amp;lang=ru&amp;oid=1806"/>
          <p:cNvPicPr/>
          <p:nvPr/>
        </p:nvPicPr>
        <p:blipFill>
          <a:blip r:embed="rId3"/>
          <a:stretch/>
        </p:blipFill>
        <p:spPr>
          <a:xfrm>
            <a:off x="3348000" y="765000"/>
            <a:ext cx="3324240" cy="210348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600" spc="-1" strike="noStrike">
                <a:solidFill>
                  <a:srgbClr val="8a0000"/>
                </a:solidFill>
                <a:latin typeface="Calibri"/>
              </a:rPr>
              <a:t>Сравните</a:t>
            </a:r>
            <a:endParaRPr b="1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9360">
            <a:solidFill>
              <a:srgbClr val="00664d"/>
            </a:solidFill>
            <a:round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едведка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Calibri"/>
              </a:rPr>
              <a:t>сверчок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9360">
            <a:solidFill>
              <a:srgbClr val="00664d"/>
            </a:solidFill>
            <a:round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верчок</a:t>
            </a:r>
            <a:r>
              <a:rPr b="0" lang="ru-RU" sz="2400" spc="-1" strike="noStrike">
                <a:solidFill>
                  <a:srgbClr val="404040"/>
                </a:solidFill>
                <a:latin typeface="Calibri"/>
              </a:rPr>
              <a:t>               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рот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793520" y="4371840"/>
            <a:ext cx="650556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600" spc="-1" strike="noStrike">
                <a:solidFill>
                  <a:srgbClr val="000000"/>
                </a:solidFill>
                <a:latin typeface="Calibri"/>
              </a:rPr>
              <a:t>Вход в нору медведки</a:t>
            </a:r>
            <a:endParaRPr b="1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2" descr="https://pp.userapi.com/c543106/v543106230/32f80/B8vrR7dYY_Y.jpg"/>
          <p:cNvPicPr/>
          <p:nvPr/>
        </p:nvPicPr>
        <p:blipFill>
          <a:blip r:embed="rId1"/>
          <a:stretch/>
        </p:blipFill>
        <p:spPr>
          <a:xfrm>
            <a:off x="250920" y="260280"/>
            <a:ext cx="8713800" cy="6246720"/>
          </a:xfrm>
          <a:prstGeom prst="rect">
            <a:avLst/>
          </a:prstGeom>
          <a:ln w="9360">
            <a:solidFill>
              <a:srgbClr val="00997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https://i.ytimg.com/vi/RoIuOocpldU/maxresdefault.jpg"/>
          <p:cNvPicPr/>
          <p:nvPr/>
        </p:nvPicPr>
        <p:blipFill>
          <a:blip r:embed="rId1"/>
          <a:stretch/>
        </p:blipFill>
        <p:spPr>
          <a:xfrm>
            <a:off x="611280" y="1825560"/>
            <a:ext cx="7921440" cy="4556160"/>
          </a:xfrm>
          <a:prstGeom prst="rect">
            <a:avLst/>
          </a:prstGeom>
          <a:ln w="9360">
            <a:solidFill>
              <a:srgbClr val="00664d"/>
            </a:solidFill>
            <a:miter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93520" y="188640"/>
            <a:ext cx="650556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600" spc="-1" strike="noStrike">
                <a:solidFill>
                  <a:srgbClr val="8a0000"/>
                </a:solidFill>
                <a:latin typeface="Calibri"/>
              </a:rPr>
              <a:t>Рытье нор медведкой</a:t>
            </a:r>
            <a:endParaRPr b="1" lang="en-US" sz="4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https://avatars.mds.yandex.net/get-pdb/1899866/92220c52-d56e-443b-8bec-3d8c4d17cb4e/s1200?webp=false"/>
          <p:cNvPicPr/>
          <p:nvPr/>
        </p:nvPicPr>
        <p:blipFill>
          <a:blip r:embed="rId1"/>
          <a:stretch/>
        </p:blipFill>
        <p:spPr>
          <a:xfrm>
            <a:off x="684360" y="1557360"/>
            <a:ext cx="7854840" cy="4808520"/>
          </a:xfrm>
          <a:prstGeom prst="rect">
            <a:avLst/>
          </a:prstGeom>
          <a:ln w="9360">
            <a:solidFill>
              <a:srgbClr val="009973"/>
            </a:solidFill>
            <a:miter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93520" y="404640"/>
            <a:ext cx="650556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8a0000"/>
                </a:solidFill>
                <a:latin typeface="Calibri"/>
              </a:rPr>
              <a:t>Подземные ходы насекомого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https://yandex.ru/images/_crpd/qDN130f36/b1219d_beLT/tRWXiJfoOkbjySrN_WfRsnRbS8TyFnvM7HXsb8qrB8zrVAPP49ZEFIaq33iHypkrgrYyQk8wCxrUH1IaLj7ng2QQUBpXeG9DYtn7i-tmRqUmT5xR5JWpD-knvi5I6tX"/>
          <p:cNvPicPr/>
          <p:nvPr/>
        </p:nvPicPr>
        <p:blipFill>
          <a:blip r:embed="rId1"/>
          <a:stretch/>
        </p:blipFill>
        <p:spPr>
          <a:xfrm>
            <a:off x="539640" y="404640"/>
            <a:ext cx="8136000" cy="5904000"/>
          </a:xfrm>
          <a:prstGeom prst="rect">
            <a:avLst/>
          </a:prstGeom>
          <a:ln w="9360">
            <a:solidFill>
              <a:srgbClr val="00997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https://avatars.mds.yandex.net/get-zen_doc/98844/pub_5c9ad3e32290da00b2735cef_5c9ad3eb8635032d6aabf47e/scale_1200"/>
          <p:cNvPicPr/>
          <p:nvPr/>
        </p:nvPicPr>
        <p:blipFill>
          <a:blip r:embed="rId1"/>
          <a:stretch/>
        </p:blipFill>
        <p:spPr>
          <a:xfrm>
            <a:off x="755640" y="1700280"/>
            <a:ext cx="7848720" cy="4784760"/>
          </a:xfrm>
          <a:prstGeom prst="rect">
            <a:avLst/>
          </a:prstGeom>
          <a:ln w="9360">
            <a:solidFill>
              <a:srgbClr val="00664d"/>
            </a:solidFill>
            <a:miter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793520" y="260280"/>
            <a:ext cx="650556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600" spc="-1" strike="noStrike">
                <a:solidFill>
                  <a:srgbClr val="8a0000"/>
                </a:solidFill>
                <a:latin typeface="Calibri"/>
              </a:rPr>
              <a:t>Яйца медведки</a:t>
            </a:r>
            <a:endParaRPr b="1" lang="en-US" sz="4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https://www.botanichka.ru/wp-content/uploads/2016/07/Gryllotalpa-gryllotalpa-07.jpg"/>
          <p:cNvPicPr/>
          <p:nvPr/>
        </p:nvPicPr>
        <p:blipFill>
          <a:blip r:embed="rId1"/>
          <a:stretch/>
        </p:blipFill>
        <p:spPr>
          <a:xfrm>
            <a:off x="298440" y="1557360"/>
            <a:ext cx="8450280" cy="4967280"/>
          </a:xfrm>
          <a:prstGeom prst="rect">
            <a:avLst/>
          </a:prstGeom>
          <a:ln w="9360">
            <a:solidFill>
              <a:srgbClr val="00664d"/>
            </a:solidFill>
            <a:miter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18920" y="333360"/>
            <a:ext cx="65055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600" spc="-1" strike="noStrike">
                <a:solidFill>
                  <a:srgbClr val="8a0000"/>
                </a:solidFill>
                <a:latin typeface="Calibri"/>
              </a:rPr>
              <a:t>Личинки медведки</a:t>
            </a:r>
            <a:endParaRPr b="1" lang="en-US" sz="4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93520" y="4371840"/>
            <a:ext cx="650556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100" spc="-1" strike="noStrike">
                <a:solidFill>
                  <a:srgbClr val="000000"/>
                </a:solidFill>
                <a:latin typeface="Calibri"/>
              </a:rPr>
              <a:t>Картофель, поврежденный медведкой</a:t>
            </a:r>
            <a:endParaRPr b="1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2" descr="http://sotki.ru/public/article/images/f01c6701263901210bd630fadaaf5a2e139facab.jpg"/>
          <p:cNvPicPr/>
          <p:nvPr/>
        </p:nvPicPr>
        <p:blipFill>
          <a:blip r:embed="rId1"/>
          <a:stretch/>
        </p:blipFill>
        <p:spPr>
          <a:xfrm>
            <a:off x="684360" y="620640"/>
            <a:ext cx="7848360" cy="5688000"/>
          </a:xfrm>
          <a:prstGeom prst="rect">
            <a:avLst/>
          </a:prstGeom>
          <a:ln w="9360">
            <a:solidFill>
              <a:srgbClr val="00664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1"/>
          <p:cNvSpPr/>
          <p:nvPr/>
        </p:nvSpPr>
        <p:spPr>
          <a:xfrm>
            <a:off x="539640" y="338040"/>
            <a:ext cx="806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8a0000"/>
                </a:solidFill>
                <a:latin typeface="Arial"/>
                <a:ea typeface="Arial"/>
              </a:rPr>
              <a:t>Объект исследования: медведка обыкновенная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68" name="Picture 7" descr="http://o-g-o-r-o-d.ru/wp-content/uploads/2015/03/8-sposobov-prognat-medvedku.jpg"/>
          <p:cNvPicPr/>
          <p:nvPr/>
        </p:nvPicPr>
        <p:blipFill>
          <a:blip r:embed="rId2"/>
          <a:stretch/>
        </p:blipFill>
        <p:spPr>
          <a:xfrm>
            <a:off x="250920" y="1052640"/>
            <a:ext cx="8661240" cy="54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Как избавиться от медведки на даче с помощью ловушки"/>
          <p:cNvPicPr/>
          <p:nvPr/>
        </p:nvPicPr>
        <p:blipFill>
          <a:blip r:embed="rId1"/>
          <a:stretch/>
        </p:blipFill>
        <p:spPr>
          <a:xfrm>
            <a:off x="385920" y="1413000"/>
            <a:ext cx="8196120" cy="4824360"/>
          </a:xfrm>
          <a:prstGeom prst="rect">
            <a:avLst/>
          </a:prstGeom>
          <a:ln w="9360">
            <a:solidFill>
              <a:srgbClr val="00664d"/>
            </a:solidFill>
            <a:miter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93520" y="549000"/>
            <a:ext cx="650556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600" spc="-1" strike="noStrike">
                <a:solidFill>
                  <a:srgbClr val="8a0000"/>
                </a:solidFill>
                <a:latin typeface="Calibri"/>
              </a:rPr>
              <a:t>Ловушки для медведок</a:t>
            </a:r>
            <a:endParaRPr b="1" lang="en-US" sz="4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23640" y="189000"/>
            <a:ext cx="78310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8a0000"/>
                </a:solidFill>
                <a:latin typeface="Calibri"/>
              </a:rPr>
              <a:t>Биологический способ борьбы</a:t>
            </a:r>
            <a:br>
              <a:rPr sz="3600"/>
            </a:b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2" descr="https://avatars.mds.yandex.net/get-zen_doc/1362956/pub_5d3ec2b443bee300aefb6ed3_5d3ec2db6c300400ac632c7c/scale_1200"/>
          <p:cNvPicPr/>
          <p:nvPr/>
        </p:nvPicPr>
        <p:blipFill>
          <a:blip r:embed="rId1"/>
          <a:stretch/>
        </p:blipFill>
        <p:spPr>
          <a:xfrm>
            <a:off x="539640" y="1916280"/>
            <a:ext cx="7799400" cy="4465440"/>
          </a:xfrm>
          <a:prstGeom prst="rect">
            <a:avLst/>
          </a:prstGeom>
          <a:ln w="9360">
            <a:solidFill>
              <a:srgbClr val="00664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87280" y="404280"/>
            <a:ext cx="612144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8a0000"/>
                </a:solidFill>
                <a:latin typeface="Calibri"/>
              </a:rPr>
              <a:t>Химический способ борьбы с медведкой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2" descr="http://daachka.ru/foto/medvedka-i-ee-lichinka-foto-i-opisanie-kak-borotsya-i-izbavitsya-video-5.jpg"/>
          <p:cNvPicPr/>
          <p:nvPr/>
        </p:nvPicPr>
        <p:blipFill>
          <a:blip r:embed="rId1"/>
          <a:stretch/>
        </p:blipFill>
        <p:spPr>
          <a:xfrm>
            <a:off x="1258920" y="1692360"/>
            <a:ext cx="6337440" cy="4548240"/>
          </a:xfrm>
          <a:prstGeom prst="rect">
            <a:avLst/>
          </a:prstGeom>
          <a:ln w="9360">
            <a:solidFill>
              <a:srgbClr val="00664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93520" y="4371840"/>
            <a:ext cx="650556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600" spc="-1" strike="noStrike">
                <a:solidFill>
                  <a:srgbClr val="000000"/>
                </a:solidFill>
                <a:latin typeface="Calibri"/>
              </a:rPr>
              <a:t>Блюдо из медведок</a:t>
            </a:r>
            <a:endParaRPr b="1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2" descr="https://medvedka.familyhealthlibrary.org/wp-content/uploads/2013/06/P208938011.jpg"/>
          <p:cNvPicPr/>
          <p:nvPr/>
        </p:nvPicPr>
        <p:blipFill>
          <a:blip r:embed="rId1"/>
          <a:stretch/>
        </p:blipFill>
        <p:spPr>
          <a:xfrm>
            <a:off x="539640" y="404640"/>
            <a:ext cx="7993080" cy="59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793520" y="333360"/>
            <a:ext cx="65055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8a0000"/>
                </a:solidFill>
                <a:latin typeface="Calibri"/>
              </a:rPr>
              <a:t>Результаты исследования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95280" y="1125000"/>
            <a:ext cx="8569440" cy="5472360"/>
          </a:xfrm>
          <a:prstGeom prst="rect">
            <a:avLst/>
          </a:prstGeom>
          <a:noFill/>
          <a:ln w="9360">
            <a:solidFill>
              <a:srgbClr val="00664d"/>
            </a:solidFill>
            <a:round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Медведки активно передвигаются в почве и на ее поверхности, способны быстро закапываться, летать и даже плавать</a:t>
            </a: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. Роют сложные. разветвленные  подземные ходы</a:t>
            </a: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.Откладывают большое количество яиц</a:t>
            </a: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4.Питаются растительной и животной пищей</a:t>
            </a: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5.Медведка обыкновенная часто встречающийся вид в садах и огородах в деревне Перенка</a:t>
            </a: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1"/>
          <p:cNvSpPr/>
          <p:nvPr/>
        </p:nvSpPr>
        <p:spPr>
          <a:xfrm>
            <a:off x="539640" y="907920"/>
            <a:ext cx="8280360" cy="5760720"/>
          </a:xfrm>
          <a:prstGeom prst="rect">
            <a:avLst/>
          </a:prstGeom>
          <a:noFill/>
          <a:ln w="9360">
            <a:solidFill>
              <a:srgbClr val="00997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821a08"/>
                </a:solidFill>
                <a:latin typeface="Arial"/>
                <a:ea typeface="Arial"/>
              </a:rPr>
              <a:t>Вывод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Book Antiqua"/>
              </a:rPr>
              <a:t>Медведка обыкновенная - вид, имеющий широкий ареал обитания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ok Antiqua"/>
              </a:rPr>
              <a:t>         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Book Antiqua"/>
              </a:rPr>
              <a:t>За миллионы лет существования  он очень хорошо приспособился  к условиям среды и обладает высокой выживаемостью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360" y="549360"/>
            <a:ext cx="792000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8a0000"/>
                </a:solidFill>
                <a:latin typeface="Arial"/>
                <a:ea typeface="Arial"/>
              </a:rPr>
              <a:t>Практическая значимость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9640" y="1125360"/>
            <a:ext cx="81360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spcBef>
                <a:spcPts val="1400"/>
              </a:spcBef>
              <a:spcAft>
                <a:spcPts val="1400"/>
              </a:spcAft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indent="4492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едведка освоила разнообразные места обитания, прекрасно себя чувствует на пашнях и огородах. 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indent="4492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Это грозный вредитель сельскохозяйственных культур. 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indent="4492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Чтобы бороться с ней, надо знать особенности биологии вредителя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Box 2"/>
          <p:cNvSpPr/>
          <p:nvPr/>
        </p:nvSpPr>
        <p:spPr>
          <a:xfrm>
            <a:off x="826920" y="2367000"/>
            <a:ext cx="7372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8a0000"/>
                </a:solidFill>
                <a:latin typeface="Arial"/>
                <a:ea typeface="Arial"/>
              </a:rPr>
              <a:t>СПАСИБО ЗА ВНИМАНИЕ!</a:t>
            </a: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1"/>
          <p:cNvSpPr/>
          <p:nvPr/>
        </p:nvSpPr>
        <p:spPr>
          <a:xfrm>
            <a:off x="358920" y="404640"/>
            <a:ext cx="849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Место проведения исследования-территория МБОУ «Перенская средняя школа», окрестности деревни Перенка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2"/>
          <a:stretch/>
        </p:blipFill>
        <p:spPr>
          <a:xfrm>
            <a:off x="755640" y="1606680"/>
            <a:ext cx="7862760" cy="4630680"/>
          </a:xfrm>
          <a:prstGeom prst="rect">
            <a:avLst/>
          </a:prstGeom>
          <a:ln w="9360">
            <a:solidFill>
              <a:srgbClr val="00664d"/>
            </a:solidFill>
            <a:round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1"/>
          <p:cNvSpPr/>
          <p:nvPr/>
        </p:nvSpPr>
        <p:spPr>
          <a:xfrm>
            <a:off x="590400" y="620640"/>
            <a:ext cx="792036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8a0000"/>
                </a:solidFill>
                <a:latin typeface="Arial"/>
                <a:ea typeface="Arial"/>
              </a:rPr>
              <a:t>Цель исследования: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Изучить внешнее строение и поведение медведки обыкновенной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Rectangle 2"/>
          <p:cNvSpPr/>
          <p:nvPr/>
        </p:nvSpPr>
        <p:spPr>
          <a:xfrm>
            <a:off x="488880" y="2500200"/>
            <a:ext cx="80535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8a0000"/>
                </a:solidFill>
                <a:latin typeface="Arial"/>
                <a:ea typeface="Arial"/>
              </a:rPr>
              <a:t>Задачи исследования:</a:t>
            </a:r>
            <a:r>
              <a:rPr b="0" lang="ru-RU" sz="2400" spc="-1" strike="noStrike">
                <a:solidFill>
                  <a:srgbClr val="8a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1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Найти информацию о медведке и изучить ее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2.Пронаблюдать, как ведут себя медведки в природе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3. Установить, какую пользу и вред приносят эти насекомые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4.Познакомиться с методами борьбы с насекомым-вредителем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1"/>
          <p:cNvSpPr/>
          <p:nvPr/>
        </p:nvSpPr>
        <p:spPr>
          <a:xfrm>
            <a:off x="324000" y="-5650560"/>
            <a:ext cx="8280360" cy="12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8a0000"/>
                </a:solidFill>
                <a:latin typeface="Arial"/>
                <a:ea typeface="Arial"/>
              </a:rPr>
              <a:t>Методика проведения исследования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a"/>
                </a:solidFill>
                <a:latin typeface="Arial"/>
                <a:ea typeface="Arial"/>
              </a:rPr>
              <a:t>1.Провести обследование территории и выделить участки где обитает медведка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a"/>
                </a:solidFill>
                <a:latin typeface="Arial"/>
                <a:ea typeface="Arial"/>
              </a:rPr>
              <a:t>2.Выловить насекомое, рассмотреть его внешний вид,изучить черты приспособленности к местообитанию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a"/>
                </a:solidFill>
                <a:latin typeface="Arial"/>
                <a:ea typeface="Arial"/>
              </a:rPr>
              <a:t>3.Рассмотреть, как передвигается насекомое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a"/>
                </a:solidFill>
                <a:latin typeface="Arial"/>
                <a:ea typeface="Arial"/>
              </a:rPr>
              <a:t>4.Рассмотреть ходы насекомого в почве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a"/>
                </a:solidFill>
                <a:latin typeface="Arial"/>
                <a:ea typeface="Arial"/>
              </a:rPr>
              <a:t>5.Провести опрос местных жителей о наличии данного насекомого на огородах, сделать выводы о широте расселения данного вида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 baseline="30000">
                <a:solidFill>
                  <a:srgbClr val="00000a"/>
                </a:solidFill>
                <a:latin typeface="Arial"/>
                <a:ea typeface="Arial"/>
              </a:rPr>
              <a:t>6.Провести опрос местных жителей  о применяемых ими методов борьбы с насекомым вредителем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a"/>
                </a:solidFill>
                <a:latin typeface="Arial"/>
                <a:ea typeface="Arial"/>
              </a:rPr>
              <a:t>7.По результатам работы составить описание, сделать выводы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http://data.cyclowiki.org/images/thumb/6/68/Gryllotalpidae-verbreitung.png/300px-Gryllotalpidae-verbreitung.png"/>
          <p:cNvPicPr/>
          <p:nvPr/>
        </p:nvPicPr>
        <p:blipFill>
          <a:blip r:embed="rId1"/>
          <a:stretch/>
        </p:blipFill>
        <p:spPr>
          <a:xfrm>
            <a:off x="395280" y="1557360"/>
            <a:ext cx="8353440" cy="496728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75920"/>
            <a:ext cx="650556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8a0000"/>
                </a:solidFill>
                <a:latin typeface="Arial Unicode MS"/>
                <a:ea typeface="Arial Unicode MS"/>
              </a:rPr>
              <a:t>Ареал обитания медведки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"/>
          <p:cNvSpPr/>
          <p:nvPr/>
        </p:nvSpPr>
        <p:spPr>
          <a:xfrm>
            <a:off x="539640" y="338040"/>
            <a:ext cx="806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2400" spc="-1" strike="noStrike">
                <a:solidFill>
                  <a:srgbClr val="8a0000"/>
                </a:solidFill>
                <a:latin typeface="Arial"/>
                <a:ea typeface="Arial"/>
              </a:rPr>
              <a:t>медведка обыкновенная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77" name="Picture 7" descr="http://o-g-o-r-o-d.ru/wp-content/uploads/2015/03/8-sposobov-prognat-medvedku.jpg"/>
          <p:cNvPicPr/>
          <p:nvPr/>
        </p:nvPicPr>
        <p:blipFill>
          <a:blip r:embed="rId1"/>
          <a:stretch/>
        </p:blipFill>
        <p:spPr>
          <a:xfrm>
            <a:off x="250920" y="1052640"/>
            <a:ext cx="8661240" cy="54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https://st2.depositphotos.com/2370731/8274/i/950/depositphotos_82746116-stock-photo-gryllotalpa-macro-eyes.jpg"/>
          <p:cNvPicPr/>
          <p:nvPr/>
        </p:nvPicPr>
        <p:blipFill>
          <a:blip r:embed="rId1"/>
          <a:stretch/>
        </p:blipFill>
        <p:spPr>
          <a:xfrm>
            <a:off x="298440" y="333360"/>
            <a:ext cx="8450280" cy="61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https://nashzeleniymir.ru/wp-content/uploads/2017/08/%D0%A1%D1%82%D1%80%D0%BE%D0%B5%D0%BD%D0%B8%D0%B5-%D0%BA%D0%BE%D0%BD%D0%B5%D1%87%D0%BD%D0%BE%D1%81%D1%82%D0%B8-%D0%BC%D0%B5%D0%B4%D0%B2%D0%B5%D0%B4%D0%BA%D0%B8-%D1%84%D0%BE%D1%82%D0%BE.jpg"/>
          <p:cNvPicPr/>
          <p:nvPr/>
        </p:nvPicPr>
        <p:blipFill>
          <a:blip r:embed="rId1"/>
          <a:stretch/>
        </p:blipFill>
        <p:spPr>
          <a:xfrm>
            <a:off x="468360" y="404640"/>
            <a:ext cx="8280360" cy="5977080"/>
          </a:xfrm>
          <a:prstGeom prst="rect">
            <a:avLst/>
          </a:prstGeom>
          <a:ln w="9360">
            <a:solidFill>
              <a:srgbClr val="47ffd1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3T07:07:22Z</dcterms:created>
  <dc:creator>User</dc:creator>
  <dc:description/>
  <dc:language>en-US</dc:language>
  <cp:lastModifiedBy>Елена</cp:lastModifiedBy>
  <dcterms:modified xsi:type="dcterms:W3CDTF">2019-11-26T15:47:01Z</dcterms:modified>
  <cp:revision>222</cp:revision>
  <dc:subject/>
  <dc:title>МУНИЦИПАЛЬНОЕ БЮДЖЕТНОЕ ОБРАЗОВАТЕЛЬНОЕ УЧРЕЖДЕНИЕ «ПЕРЕНСКАЯ СРЕДНЯЯ (ПОЛНАЯ) ОБЩЕОБРАЗОВАТЕЛЬНАЯ ШКОЛА»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92420000000000010282310207f7000400038000</vt:lpwstr>
  </property>
</Properties>
</file>