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0BAB9-A182-46E0-AE52-3C164605547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057AE-4F93-4BD7-B479-895E9691D29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C7C72-6B06-492A-BC27-E061CEA0F2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D6901-C704-4748-BCDB-B38C20E95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467A6-8FAE-401C-A6D7-710BAB95032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DFB91-E89C-4434-BE36-362B9D5D83E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87ED7-E860-4D3E-8E94-7780F6C8DC0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8281B-53A3-403A-9321-B0F68AE7EF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9C4BD-7B44-4128-9CEA-E3494B2C430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8B3DE-B252-4093-AD57-844DB30342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173B7-97C0-4265-BBBC-0A5327C818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27B84-BAE6-4562-A1B9-39E91EABF9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098C9-3D30-4DD2-B36E-E18BCBC19A9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B7517-7CC5-4ED6-9FA3-DF6BDAC883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13214-B3CB-4954-9449-5637EDA84C9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A01C5-D01D-4781-AE95-1689935B13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699B7-AF6B-4755-9953-2BB914BC79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8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93C24-F4B9-4DFE-96F3-5F99A98EE6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A2707-AFD9-4546-B9A1-7CD00386741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164E-E4BA-4AB1-B309-D7A55633B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228E-8F97-4B11-AE61-FF19CE967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6D0E-4E88-47E8-AC41-F75C27528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16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732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16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732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E72B-01DE-4114-BBD3-7A84A18CE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3E84-026F-40C9-91B2-E1D6BD1B96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F13B-877B-4A1B-9F06-C70A321C3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D381-73BA-4954-B391-D3C1DCF79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52C3-99A3-44E2-BDA7-1FAA82C40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840"/>
            <a:ext cx="650556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891D-98F7-44FA-AA9A-78F4CE450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A41F-9DC2-4D30-9F70-35C81CE6B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3ED3-49D4-49D7-AEE6-D63D52909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74B3-E6BF-4190-8F86-F9DD86DA0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3859200"/>
            <a:ext cx="9150480" cy="2998800"/>
            <a:chOff x="-6480" y="3859200"/>
            <a:chExt cx="9150480" cy="29988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0480" cy="29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3867120"/>
              <a:ext cx="9137520" cy="29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0480" cy="3870360"/>
            <a:chOff x="-6480" y="-6480"/>
            <a:chExt cx="9150480" cy="387036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048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37520" cy="38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0480" cy="5108760"/>
            <a:chOff x="-6480" y="1596960"/>
            <a:chExt cx="9150480" cy="510876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048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5804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6172200" y="6172200"/>
            <a:ext cx="2511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3809520" y="6171840"/>
            <a:ext cx="18226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AF6676-17F7-43F8-82EE-E8B5EF617D2E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744480" y="1197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Calibri"/>
              </a:rPr>
              <a:t>Исследовательская  работа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8a0000"/>
                </a:solidFill>
                <a:latin typeface="Arial"/>
                <a:ea typeface="Arial"/>
              </a:rPr>
              <a:t>Кто ты, медведка?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21a08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132000" y="3716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евчук Вероника,  ученица 6 класс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Пуликова И.П., учитель биологии и географии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9г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390680" y="96840"/>
            <a:ext cx="69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a"/>
                </a:solidFill>
                <a:latin typeface="Arial"/>
                <a:ea typeface="Arial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a"/>
                </a:solidFill>
                <a:latin typeface="Arial"/>
                <a:ea typeface="Arial"/>
              </a:rPr>
              <a:t>«ПЕРЕНСКАЯ СРЕДНЯЯ ШКОЛА»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390680" y="279360"/>
            <a:ext cx="62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6" name="Picture 8" descr="https://web-selo.ru/wp-content/uploads/2018/07/IMG_2123_resize-1024x656.jpg"/>
          <p:cNvPicPr/>
          <p:nvPr/>
        </p:nvPicPr>
        <p:blipFill>
          <a:blip r:embed="rId2"/>
          <a:stretch/>
        </p:blipFill>
        <p:spPr>
          <a:xfrm>
            <a:off x="395280" y="3510000"/>
            <a:ext cx="2808360" cy="179856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poklopu.ru/wp-content/uploads/2019/04/medvedka-s-krylyami-foto-1.jpg"/>
          <p:cNvPicPr/>
          <p:nvPr/>
        </p:nvPicPr>
        <p:blipFill>
          <a:blip r:embed="rId1"/>
          <a:stretch/>
        </p:blipFill>
        <p:spPr>
          <a:xfrm>
            <a:off x="611280" y="1484280"/>
            <a:ext cx="8029440" cy="49388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3520" y="260280"/>
            <a:ext cx="6505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Крылья медведки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macroid.ru/mdata/medium/39/MG_4713.jpg"/>
          <p:cNvPicPr/>
          <p:nvPr/>
        </p:nvPicPr>
        <p:blipFill>
          <a:blip r:embed="rId1"/>
          <a:stretch/>
        </p:blipFill>
        <p:spPr>
          <a:xfrm>
            <a:off x="789120" y="2133720"/>
            <a:ext cx="7831080" cy="322740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055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Calibri"/>
              </a:rPr>
              <a:t>Медведка-хороший пловец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s://www.sad2.info/wp-content/uploads/2010/12/medved_b.jpg"/>
          <p:cNvPicPr/>
          <p:nvPr/>
        </p:nvPicPr>
        <p:blipFill>
          <a:blip r:embed="rId1"/>
          <a:stretch/>
        </p:blipFill>
        <p:spPr>
          <a:xfrm>
            <a:off x="1187280" y="3222720"/>
            <a:ext cx="2737080" cy="2474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s://glavses.ru/%D1%83%D0%BD%D0%B8%D1%87%D1%82%D0%BE%D0%B6%D0%B5%D0%BD%D0%B8%D0%B5-%D0%BA%D1%80%D0%BE%D1%82%D0%BE%D0%B2/%D1%83%D0%BD%D0%B8%D1%87%D1%82%D0%BE%D0%B6%D0%B5%D0%BD%D0%B8%D0%B5-%D0%BA%D1%80%D0%BE%D1%82%D0%BE%D0%B2-%D0%BD%D0%B0-%D1%83%D1%87%D0%B0%D1%81%D1%82%D0%BA%D0%B5-22-6.jpg"/>
          <p:cNvPicPr/>
          <p:nvPr/>
        </p:nvPicPr>
        <p:blipFill>
          <a:blip r:embed="rId2"/>
          <a:stretch/>
        </p:blipFill>
        <p:spPr>
          <a:xfrm>
            <a:off x="5292720" y="3271680"/>
            <a:ext cx="3143160" cy="245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chamaeleon.ru/index.php?option=com_true&amp;Itemid=117&amp;func=wmark&amp;lang=ru&amp;oid=1806"/>
          <p:cNvPicPr/>
          <p:nvPr/>
        </p:nvPicPr>
        <p:blipFill>
          <a:blip r:embed="rId3"/>
          <a:stretch/>
        </p:blipFill>
        <p:spPr>
          <a:xfrm>
            <a:off x="3348000" y="765000"/>
            <a:ext cx="3324240" cy="210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Сравните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664d"/>
            </a:solidFill>
            <a:round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дведк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верчок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00664d"/>
            </a:solidFill>
            <a:round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чок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         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Вход в нору медведки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s://pp.userapi.com/c543106/v543106230/32f80/B8vrR7dYY_Y.jpg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4672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s://i.ytimg.com/vi/RoIuOocpldU/maxresdefault.jpg"/>
          <p:cNvPicPr/>
          <p:nvPr/>
        </p:nvPicPr>
        <p:blipFill>
          <a:blip r:embed="rId1"/>
          <a:stretch/>
        </p:blipFill>
        <p:spPr>
          <a:xfrm>
            <a:off x="611280" y="1825560"/>
            <a:ext cx="7921440" cy="455616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3520" y="188640"/>
            <a:ext cx="65055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Рытье нор медведкой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avatars.mds.yandex.net/get-pdb/1899866/92220c52-d56e-443b-8bec-3d8c4d17cb4e/s1200?webp=false"/>
          <p:cNvPicPr/>
          <p:nvPr/>
        </p:nvPicPr>
        <p:blipFill>
          <a:blip r:embed="rId1"/>
          <a:stretch/>
        </p:blipFill>
        <p:spPr>
          <a:xfrm>
            <a:off x="684360" y="1557360"/>
            <a:ext cx="7854840" cy="480852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3520" y="404640"/>
            <a:ext cx="6505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Calibri"/>
              </a:rPr>
              <a:t>Подземные ходы насекомого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yandex.ru/images/_crpd/qDN130f36/b1219d_beLT/tRWXiJfoOkbjySrN_WfRsnRbS8TyFnvM7HXsb8qrB8zrVAPP49ZEFIaq33iHypkrgrYyQk8wCxrUH1IaLj7ng2QQUBpXeG9DYtn7i-tmRqUmT5xR5JWpD-knvi5I6tX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90400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s://avatars.mds.yandex.net/get-zen_doc/98844/pub_5c9ad3e32290da00b2735cef_5c9ad3eb8635032d6aabf47e/scale_1200"/>
          <p:cNvPicPr/>
          <p:nvPr/>
        </p:nvPicPr>
        <p:blipFill>
          <a:blip r:embed="rId1"/>
          <a:stretch/>
        </p:blipFill>
        <p:spPr>
          <a:xfrm>
            <a:off x="755640" y="1700280"/>
            <a:ext cx="7848720" cy="478476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260280"/>
            <a:ext cx="6505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Яйца медведки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s://www.botanichka.ru/wp-content/uploads/2016/07/Gryllotalpa-gryllotalpa-07.jpg"/>
          <p:cNvPicPr/>
          <p:nvPr/>
        </p:nvPicPr>
        <p:blipFill>
          <a:blip r:embed="rId1"/>
          <a:stretch/>
        </p:blipFill>
        <p:spPr>
          <a:xfrm>
            <a:off x="298440" y="1557360"/>
            <a:ext cx="8450280" cy="496728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505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Личинки медведки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Картофель, поврежденный медведкой</a:t>
            </a: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sotki.ru/public/article/images/f01c6701263901210bd630fadaaf5a2e139facab.jpg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68800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539640" y="3380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Объект исследования: медведка обыкновенн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8" name="Picture 7" descr="http://o-g-o-r-o-d.ru/wp-content/uploads/2015/03/8-sposobov-prognat-medvedku.jpg"/>
          <p:cNvPicPr/>
          <p:nvPr/>
        </p:nvPicPr>
        <p:blipFill>
          <a:blip r:embed="rId2"/>
          <a:stretch/>
        </p:blipFill>
        <p:spPr>
          <a:xfrm>
            <a:off x="250920" y="1052640"/>
            <a:ext cx="86612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Как избавиться от медведки на даче с помощью ловушки"/>
          <p:cNvPicPr/>
          <p:nvPr/>
        </p:nvPicPr>
        <p:blipFill>
          <a:blip r:embed="rId1"/>
          <a:stretch/>
        </p:blipFill>
        <p:spPr>
          <a:xfrm>
            <a:off x="385920" y="1413000"/>
            <a:ext cx="8196120" cy="482436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549000"/>
            <a:ext cx="65055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Ловушки для медведок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83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Calibri"/>
              </a:rPr>
              <a:t>Биологический способ борьбы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s://avatars.mds.yandex.net/get-zen_doc/1362956/pub_5d3ec2b443bee300aefb6ed3_5d3ec2db6c300400ac632c7c/scale_1200"/>
          <p:cNvPicPr/>
          <p:nvPr/>
        </p:nvPicPr>
        <p:blipFill>
          <a:blip r:embed="rId1"/>
          <a:stretch/>
        </p:blipFill>
        <p:spPr>
          <a:xfrm>
            <a:off x="539640" y="1916280"/>
            <a:ext cx="7799400" cy="446544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Химический способ борьбы с медведкой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daachka.ru/foto/medvedka-i-ee-lichinka-foto-i-opisanie-kak-borotsya-i-izbavitsya-video-5.jpg"/>
          <p:cNvPicPr/>
          <p:nvPr/>
        </p:nvPicPr>
        <p:blipFill>
          <a:blip r:embed="rId1"/>
          <a:stretch/>
        </p:blipFill>
        <p:spPr>
          <a:xfrm>
            <a:off x="1258920" y="1692360"/>
            <a:ext cx="6337440" cy="454824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Блюдо из медведок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s://medvedka.familyhealthlibrary.org/wp-content/uploads/2013/06/P208938011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333360"/>
            <a:ext cx="6505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Calibri"/>
              </a:rPr>
              <a:t>Результаты исследования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9360">
            <a:solidFill>
              <a:srgbClr val="00664d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Медведки активно передвигаются в почве и на ее поверхности, способны быстро закапываться, летать и даже плавать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оют сложные. разветвленные  подземные ходы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Откладывают большое количество яиц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Питаются растительной и животной пищей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Медведка обыкновенная часто встречающийся вид в садах и огородах в деревне Перенка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539640" y="907920"/>
            <a:ext cx="8280360" cy="5760720"/>
          </a:xfrm>
          <a:prstGeom prst="rect">
            <a:avLst/>
          </a:prstGeom>
          <a:noFill/>
          <a:ln w="9360">
            <a:solidFill>
              <a:srgbClr val="0099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21a08"/>
                </a:solidFill>
                <a:latin typeface="Arial"/>
                <a:ea typeface="Arial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Медведка обыкновенная - вид, имеющий широкий ареал обитания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За миллионы лет существования  он очень хорошо приспособился  к условиям среды и обладает высокой выживаемостью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9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Arial"/>
                <a:ea typeface="Arial"/>
              </a:rPr>
              <a:t>Практическая значимость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640" y="1125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44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ведка освоила разнообразные места обитания, прекрасно себя чувствует на пашнях и огородах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44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грозный вредитель сельскохозяйственных культур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44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бороться с ней, надо знать особенности биологии вредителя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826920" y="2367000"/>
            <a:ext cx="73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5892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сто проведения исследования-территория МБОУ «Перенская средняя школа», окрестности деревни Пере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755640" y="1606680"/>
            <a:ext cx="7862760" cy="4630680"/>
          </a:xfrm>
          <a:prstGeom prst="rect">
            <a:avLst/>
          </a:prstGeom>
          <a:ln w="9360">
            <a:solidFill>
              <a:srgbClr val="00664d"/>
            </a:solidFill>
            <a:round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590400" y="620640"/>
            <a:ext cx="792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Цель исследования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ь внешнее строение и поведение медведки обыкновенно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88880" y="2500200"/>
            <a:ext cx="805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Задачи исследования:</a:t>
            </a:r>
            <a:r>
              <a:rPr b="0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информацию о медведке и изучить е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Пронаблюдать, как ведут себя медведки в природ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Установить, какую пользу и вред приносят эти насекомы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Познакомиться с методами борьбы с насекомым-вредителем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324000" y="-5650560"/>
            <a:ext cx="8280360" cy="12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Методика проведения исследовани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1.Провести обследование территории и выделить участки где обитает медвед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2.Выловить насекомое, рассмотреть его внешний вид,изучить черты приспособленности к местообитанию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3.Рассмотреть, как передвигается насекомо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4.Рассмотреть ходы насекомого в почв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5.Провести опрос местных жителей о наличии данного насекомого на огородах, сделать выводы о широте расселения данного вид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baseline="30000">
                <a:solidFill>
                  <a:srgbClr val="00000a"/>
                </a:solidFill>
                <a:latin typeface="Arial"/>
                <a:ea typeface="Arial"/>
              </a:rPr>
              <a:t>6.Провести опрос местных жителей  о применяемых ими методов борьбы с насекомым вредителем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7.По результатам работы составить описание, сделать выводы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data.cyclowiki.org/images/thumb/6/68/Gryllotalpidae-verbreitung.png/300px-Gryllotalpidae-verbreitung.png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967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75920"/>
            <a:ext cx="65055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Arial Unicode MS"/>
                <a:ea typeface="Arial Unicode MS"/>
              </a:rPr>
              <a:t>Ареал обитания медведки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539640" y="3380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медведка обыкновенн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7" name="Picture 7" descr="http://o-g-o-r-o-d.ru/wp-content/uploads/2015/03/8-sposobov-prognat-medvedku.jpg"/>
          <p:cNvPicPr/>
          <p:nvPr/>
        </p:nvPicPr>
        <p:blipFill>
          <a:blip r:embed="rId1"/>
          <a:stretch/>
        </p:blipFill>
        <p:spPr>
          <a:xfrm>
            <a:off x="250920" y="1052640"/>
            <a:ext cx="86612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s://st2.depositphotos.com/2370731/8274/i/950/depositphotos_82746116-stock-photo-gryllotalpa-macro-eyes.jpg"/>
          <p:cNvPicPr/>
          <p:nvPr/>
        </p:nvPicPr>
        <p:blipFill>
          <a:blip r:embed="rId1"/>
          <a:stretch/>
        </p:blipFill>
        <p:spPr>
          <a:xfrm>
            <a:off x="298440" y="333360"/>
            <a:ext cx="8450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nashzeleniymir.ru/wp-content/uploads/2017/08/%D0%A1%D1%82%D1%80%D0%BE%D0%B5%D0%BD%D0%B8%D0%B5-%D0%BA%D0%BE%D0%BD%D0%B5%D1%87%D0%BD%D0%BE%D1%81%D1%82%D0%B8-%D0%BC%D0%B5%D0%B4%D0%B2%D0%B5%D0%B4%D0%BA%D0%B8-%D1%84%D0%BE%D1%82%D0%BE.jpg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977080"/>
          </a:xfrm>
          <a:prstGeom prst="rect">
            <a:avLst/>
          </a:prstGeom>
          <a:ln w="9360">
            <a:solidFill>
              <a:srgbClr val="47ffd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7:07:22Z</dcterms:created>
  <dc:creator>User</dc:creator>
  <dc:description/>
  <dc:language>en-US</dc:language>
  <cp:lastModifiedBy>Елена</cp:lastModifiedBy>
  <dcterms:modified xsi:type="dcterms:W3CDTF">2019-11-26T15:47:01Z</dcterms:modified>
  <cp:revision>222</cp:revision>
  <dc:subject/>
  <dc:title>МУНИЦИПАЛЬНОЕ БЮДЖЕТНОЕ ОБРАЗОВАТЕЛЬНОЕ УЧРЕЖДЕНИЕ «ПЕРЕНСКАЯ СРЕДНЯЯ (ПОЛНАЯ) ОБЩЕОБРАЗОВАТЕЛЬНАЯ 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420000000000010282310207f7000400038000</vt:lpwstr>
  </property>
</Properties>
</file>