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6643-D897-4266-B0C4-C368D48E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768A-B963-4F45-ADD9-4C5AECE6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271-1342-4C6D-A3DF-E3DAB06C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457-0A5A-4247-83C0-D98CB86F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50EA-D5A9-4078-AA3F-60ABF82C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CE4A-8AB6-41E9-8BF6-62CD1453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F4D9-FB56-45F8-8C2E-A68585DE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C203-D289-4BF7-929F-D9307010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31A7-F793-41E1-BD1A-76C9C2B9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359E-B8B7-43A8-8867-73DF22F2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9428-F8E6-4679-91AA-B06EEABE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35B4-7251-4729-A960-1FC51D8D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9C70-849E-4A41-A124-D1F5802A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CA4A-1541-4C3E-96BF-61397784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8739-AEBC-4654-B881-FCE3CB74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6F59-16B6-40F9-8DE1-5703C4D5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3239-2D77-4A02-A15E-0449F160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2BBC2-9A35-4C1B-B58B-E650F863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F97C7-0A15-4F66-8BB7-30A9C48E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66B2F-C19A-4162-A2C0-01703C18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9339F-AD51-4B5A-967B-122422E9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D0C77-1D17-40E5-9749-4687661D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E43F-9ABF-4F0E-8BFB-0A2503C2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D56E1-E823-4F5B-BEB0-6069E19A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82042-28DC-4080-BF58-081CF0B6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653E8-8362-403E-AF56-6EBFCF03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ED5FE-E72A-42AF-B791-215C4A44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F6216-856E-4A23-8EE8-70712F8C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27E7C-A487-4B02-A428-0BBBE89F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F557E-2918-4C96-ADED-9F4781CD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06D33-1F84-44A0-8873-202F21DD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CC933-68D7-4D16-AF5E-92363BE9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B4AE5-0C82-42B3-BC83-3AE12303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92A-2177-45E5-BCC7-06FA6273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7765B-71B8-4BDF-81BF-95E29DE6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76858-C686-4259-8B8D-1BBB5AF0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739AA-B788-4A7B-B910-8D478F3F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66EB1-B642-4AA4-A825-7E020B49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0C973-4A4C-4889-A8BB-38B89AE2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EAB6A-254A-4D39-9FAD-0BF1E74E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F9123-6393-459F-8773-0D3A9B0F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F8F71-EA76-4C4C-9BCF-4071FDED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32A5C-9206-4D01-A293-9EEB5972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F0A2-A2A6-464D-838F-6FCA2C5D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7900-105B-4503-BA3C-C19101F1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7433-E5B2-4A83-99AB-21B621D3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53C-276C-4D9B-A54F-E540D689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92E4-A6EF-4A5C-89E1-3547136C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8D52AD-18D2-4DF5-8911-EC16B9B2D2A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DC5C8C-F5F7-4179-AC50-ED92FC74F5E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D764E-013F-40A4-A6FA-C54C1712607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58DC6-532E-455F-BD4A-F0043BA6620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Тема урока по кубановедению: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92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rebuchet MS"/>
              </a:rPr>
              <a:t>«Население Кубани»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Все публикации пользователя zafe &quot; Страница 8 &quot; Адыги - История, культура, традиции и быт адыгов (черкесов)"/>
          <p:cNvPicPr/>
          <p:nvPr/>
        </p:nvPicPr>
        <p:blipFill>
          <a:blip r:embed="rId1"/>
          <a:stretch/>
        </p:blipFill>
        <p:spPr>
          <a:xfrm>
            <a:off x="214200" y="357120"/>
            <a:ext cx="8572680" cy="6072120"/>
          </a:xfrm>
          <a:prstGeom prst="rect">
            <a:avLst/>
          </a:prstGeom>
          <a:ln w="5076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57760" y="213840"/>
            <a:ext cx="48290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Адыги на земле моей живу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Их издревле черкесами зову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Смеются солнцу. Добрых ждут дождей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Живут адыги на земле людей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А ты о них не знаешь ничего –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Ни песен их гортанных, ни традиций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Когда в ауле человек родится,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То дерево сажают в честь него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И выстрелами миру известят,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то человека нового растят,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Адыги на земле моей живу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Их издревле черкесами зову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о имя счастья не прощают зла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Не верят трусам. Уважают гордых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И сердца мудрость, и поступков твердость –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се им природа щедрая дала!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Тебе б увидеть, как они танцуют,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тебе б услышать, как они поют!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На скакунах по праздникам гарцуют,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еркески и кинжалы достаю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0" lang="ru-RU" sz="5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Picture 2" descr="Кавказский Узел"/>
          <p:cNvPicPr/>
          <p:nvPr/>
        </p:nvPicPr>
        <p:blipFill>
          <a:blip r:embed="rId1"/>
          <a:stretch/>
        </p:blipFill>
        <p:spPr>
          <a:xfrm>
            <a:off x="420840" y="2736720"/>
            <a:ext cx="242244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85840" y="285480"/>
            <a:ext cx="82296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Несмотря на общее самоназвание, адыги жили многочисленными племенами, каждое из которых называлось по-своему. Самыми многочисленными были шапсуги, абадзехи и натукаевц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8" name="Picture 2" descr="День памяти адыгов-жертв Кавказской войны - Страница 2 - Nalchik On Line - Форум Нальчика и КБР"/>
          <p:cNvPicPr/>
          <p:nvPr/>
        </p:nvPicPr>
        <p:blipFill>
          <a:blip r:embed="rId1"/>
          <a:stretch/>
        </p:blipFill>
        <p:spPr>
          <a:xfrm>
            <a:off x="4357800" y="3000240"/>
            <a:ext cx="4071960" cy="3286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Купить книгу &quot;Адыги-черкесы: люди, нравы, обычаи и традиции&quot; Сообцокова Н.И. 978-5-9619-0011-8 по цене 495 руб. или заказать с д"/>
          <p:cNvPicPr/>
          <p:nvPr/>
        </p:nvPicPr>
        <p:blipFill>
          <a:blip r:embed="rId2"/>
          <a:stretch/>
        </p:blipFill>
        <p:spPr>
          <a:xfrm>
            <a:off x="214200" y="3071880"/>
            <a:ext cx="414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7120" y="500040"/>
            <a:ext cx="83296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00b050"/>
                </a:solidFill>
                <a:uFillTx/>
                <a:latin typeface="Trebuchet MS"/>
              </a:rPr>
              <a:t>Словарная работ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Черкесо-гаи – горские армяне, армянские поселенцы, перебравшиеся на Кубань в 16 веке и заимствовавшие у них обычаи и язык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Подсечная система земледелия?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2" descr="Book Questions"/>
          <p:cNvPicPr/>
          <p:nvPr/>
        </p:nvPicPr>
        <p:blipFill>
          <a:blip r:embed="rId1"/>
          <a:stretch/>
        </p:blipFill>
        <p:spPr>
          <a:xfrm>
            <a:off x="5715000" y="4786200"/>
            <a:ext cx="24289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28760" y="28584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вои поселения адыги называли “хабль”. Адыгская усадьба состояла из дома главы семьи и домов женатых сыновей. Интерьер адыгского жилища был скромен. Там стояли низкие деревянные диваны, скамейки, табуретки, маленькие столики с тремя ножкам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Picture 2" descr="Материальная культура адыгов в XIV-XVI вв &quot; Адыги - История, культура, традиции и быт адыгов (черкесов)"/>
          <p:cNvPicPr/>
          <p:nvPr/>
        </p:nvPicPr>
        <p:blipFill>
          <a:blip r:embed="rId1"/>
          <a:stretch/>
        </p:blipFill>
        <p:spPr>
          <a:xfrm>
            <a:off x="428760" y="3500280"/>
            <a:ext cx="4071960" cy="2928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В Туапсинском районе откроются адыгейские музеи. Портал Черноморского побережья"/>
          <p:cNvPicPr/>
          <p:nvPr/>
        </p:nvPicPr>
        <p:blipFill>
          <a:blip r:embed="rId2"/>
          <a:stretch/>
        </p:blipFill>
        <p:spPr>
          <a:xfrm>
            <a:off x="4857840" y="3500280"/>
            <a:ext cx="40003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500040" y="357120"/>
            <a:ext cx="8229600" cy="30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Адыги были прекрасными земледельцами и скотоводами. Они выращивали просо, пшеницу, кукурузу, занимались огородничеством и садоводством. Скотоводство обеспечивало горцев пищей и одеждой, скот был платежной единицей. Ремесло адыгов носило характер домашних промыслов, особенно славились оружейники и ювелир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Picture 2" descr="Кто такие черкесы? &quot; Адыги - История, культура, традиции и быт адыгов (черкесов)"/>
          <p:cNvPicPr/>
          <p:nvPr/>
        </p:nvPicPr>
        <p:blipFill>
          <a:blip r:embed="rId1"/>
          <a:stretch/>
        </p:blipFill>
        <p:spPr>
          <a:xfrm>
            <a:off x="2071800" y="3214800"/>
            <a:ext cx="47149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00040" y="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Наездничество – основное занятие знатных адыгов. (наездничество – набеги с целью захвата пленных и имущества. Это святая обязанность вассалов князя. Кто не являлся воином, не пользовался уважением. Обучение военному делу с раннего детства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Picture 2" descr="Материалы за Июль 2012 года &quot; Черкесы Адыги - История Черкесии"/>
          <p:cNvPicPr/>
          <p:nvPr/>
        </p:nvPicPr>
        <p:blipFill>
          <a:blip r:embed="rId1"/>
          <a:stretch/>
        </p:blipFill>
        <p:spPr>
          <a:xfrm>
            <a:off x="4214880" y="3214800"/>
            <a:ext cx="4486320" cy="3257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ИСТОРИЯ Джигитовка.инфо"/>
          <p:cNvPicPr/>
          <p:nvPr/>
        </p:nvPicPr>
        <p:blipFill>
          <a:blip r:embed="rId2"/>
          <a:stretch/>
        </p:blipFill>
        <p:spPr>
          <a:xfrm>
            <a:off x="214200" y="3214800"/>
            <a:ext cx="344808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Домашнее задание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716000" y="1627200"/>
            <a:ext cx="1435320" cy="10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П.11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Picture 2" descr="Анимационные картинки"/>
          <p:cNvPicPr/>
          <p:nvPr/>
        </p:nvPicPr>
        <p:blipFill>
          <a:blip r:embed="rId1"/>
          <a:stretch/>
        </p:blipFill>
        <p:spPr>
          <a:xfrm>
            <a:off x="4181400" y="3411360"/>
            <a:ext cx="17812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5:01:37Z</dcterms:created>
  <dc:creator>user</dc:creator>
  <dc:description/>
  <dc:language>en-US</dc:language>
  <cp:lastModifiedBy>Джон Новиков</cp:lastModifiedBy>
  <dcterms:modified xsi:type="dcterms:W3CDTF">2019-11-26T14:07:52Z</dcterms:modified>
  <cp:revision>3</cp:revision>
  <dc:subject/>
  <dc:title>Тема урока по кубановедению:</dc:title>
</cp:coreProperties>
</file>