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8D4-1576-48C6-B42D-B8F09618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AA6-47A3-412B-ABD5-3CA2C896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E88-8F18-4AFE-AFF0-4E308BFE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0E2-2421-4DF5-B347-6D59D0CA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C1A7-F8E6-44F0-9C85-5253689E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5232-FE24-4130-BCD4-B7850EAA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F1FF-3B4B-477D-85A2-E4F81C74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6C8B-9352-47CA-B328-8DB98FBE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6CD1-7598-47DF-9B7C-17C70278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EF50-01E0-40E8-8194-372EFECF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936A-63CF-497D-B3F4-758EEC30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BCB-02F5-4E79-A984-7042C0E7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7479-6397-4B33-883E-B9BE153B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1E01-4943-443C-ACC6-CE22465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F18B-1E72-4E3F-AF02-7F766B3E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C60A-4EB1-417E-9D43-830B3A46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D26C-D419-4364-A11A-BB328781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CC32-15AA-423B-9CD1-E2DF6141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5E73-0AF0-45B1-AD01-AD485393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72F1-FAC9-4A42-8FB1-68CE55ED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2E63-C3FB-4B6C-957A-540C359B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3A3B-33BD-4A11-98B8-58D74781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5B1-2200-4A01-945C-9AB33950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37922-E28E-485F-AE78-D08933A1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243F-0278-4868-A924-9E17D72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FE80-D800-4063-97FC-447BCA31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8B3E-BFB0-4CCF-B015-0A8854DE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2494-B347-4F5A-833E-19D8FEB9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B53F-04E8-478D-9596-32992BAB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25E9-D93A-4C5B-9D73-73BB586C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C45F-6E38-4784-9FDF-0B6ED019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591D-C4D3-4AD9-A3EC-6D17B7BB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2C3F3-56C9-4F82-AE0C-B59022E4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1CE-2090-4EC3-AB2D-18F9A143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5A56-6752-44A4-BCD9-F66C0D3E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1F424-E36E-4631-ACDA-B2FDD71A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DA865-1CC2-4238-9617-7AB6C82F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AFF4-2B04-475A-8944-5BC048A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A6E4-A2D5-49C1-A506-A134E98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F2F9-F943-47BC-8FCB-7870DD68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078B-9179-4427-B317-8ADEF384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D486-E3AB-451C-9DA0-A9B71E63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2C42-3271-4C35-A2E7-70DCCC37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24E-03D7-4294-90F6-DB0A5F4F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105-C53B-4032-9555-6049BE22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FF6-7786-4125-A19D-8382E7F2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0BC-8BBD-45A5-ADCE-61CA2467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1EE-FBBF-4ADA-B2EC-04E56973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870D7-142F-4B21-98F4-E97789A9828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D383B-F606-4DC0-A787-694305FE2DC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E5B05-9B91-4295-AA49-1B37C61A69C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A3439-2F0F-48FC-8D5C-5CCE77D4274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Тема урока по кубановедению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rebuchet MS"/>
              </a:rPr>
              <a:t>«Население Кубани»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Все публикации пользователя zafe &quot; Страница 8 &quot; Адыги - История, культура, традиции и быт адыгов (черкесов)"/>
          <p:cNvPicPr/>
          <p:nvPr/>
        </p:nvPicPr>
        <p:blipFill>
          <a:blip r:embed="rId1"/>
          <a:stretch/>
        </p:blipFill>
        <p:spPr>
          <a:xfrm>
            <a:off x="214200" y="357120"/>
            <a:ext cx="8572680" cy="6072120"/>
          </a:xfrm>
          <a:prstGeom prst="rect">
            <a:avLst/>
          </a:prstGeom>
          <a:ln w="507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57760" y="213840"/>
            <a:ext cx="48290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дыги на земле моей живу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х издревле черкесами зову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меются солнцу. Добрых ждут дожде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Живут адыги на земле люде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 ты о них не знаешь ничего –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Ни песен их гортанных, ни традици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Когда в ауле человек родится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То дерево сажают в честь него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 выстрелами миру известят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то человека нового растят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дыги на земле моей живу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х издревле черкесами зову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о имя счастья не прощают зл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Не верят трусам. Уважают гордых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 сердца мудрость, и поступков твердость –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се им природа щедрая дала!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Тебе б увидеть, как они танцуют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тебе б услышать, как они поют!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На скакунах по праздникам гарцуют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ркески и кинжалы достаю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0" lang="ru-RU" sz="5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2" descr="Кавказский Узел"/>
          <p:cNvPicPr/>
          <p:nvPr/>
        </p:nvPicPr>
        <p:blipFill>
          <a:blip r:embed="rId1"/>
          <a:stretch/>
        </p:blipFill>
        <p:spPr>
          <a:xfrm>
            <a:off x="420840" y="2736720"/>
            <a:ext cx="24224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85840" y="28548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смотря на общее самоназвание, адыги жили многочисленными племенами, каждое из которых называлось по-своему. Самыми многочисленными были шапсуги, абадзехи и натукаевц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День памяти адыгов-жертв Кавказской войны - Страница 2 - Nalchik On Line - Форум Нальчика и КБР"/>
          <p:cNvPicPr/>
          <p:nvPr/>
        </p:nvPicPr>
        <p:blipFill>
          <a:blip r:embed="rId1"/>
          <a:stretch/>
        </p:blipFill>
        <p:spPr>
          <a:xfrm>
            <a:off x="4357800" y="3000240"/>
            <a:ext cx="4071960" cy="3286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Купить книгу &quot;Адыги-черкесы: люди, нравы, обычаи и традиции&quot; Сообцокова Н.И. 978-5-9619-0011-8 по цене 495 руб. или заказать с д"/>
          <p:cNvPicPr/>
          <p:nvPr/>
        </p:nvPicPr>
        <p:blipFill>
          <a:blip r:embed="rId2"/>
          <a:stretch/>
        </p:blipFill>
        <p:spPr>
          <a:xfrm>
            <a:off x="214200" y="3071880"/>
            <a:ext cx="414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712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b050"/>
                </a:solidFill>
                <a:uFillTx/>
                <a:latin typeface="Trebuchet MS"/>
              </a:rPr>
              <a:t>Словарная рабо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Черкесо-гаи – горские армяне, армянские поселенцы, перебравшиеся на Кубань в 16 веке и заимствовавшие у них обычаи и язык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одсечная система земледелия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Book Questions"/>
          <p:cNvPicPr/>
          <p:nvPr/>
        </p:nvPicPr>
        <p:blipFill>
          <a:blip r:embed="rId1"/>
          <a:stretch/>
        </p:blipFill>
        <p:spPr>
          <a:xfrm>
            <a:off x="5715000" y="478620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28760" y="2858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вои поселения адыги называли “хабль”. Адыгская усадьба состояла из дома главы семьи и домов женатых сыновей. Интерьер адыгского жилища был скромен. Там стояли низкие деревянные диваны, скамейки, табуретки, маленькие столики с тремя ножка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2" descr="Материальная культура адыгов в XIV-XVI вв &quot; Адыги - История, культура, традиции и быт адыгов (черкесов)"/>
          <p:cNvPicPr/>
          <p:nvPr/>
        </p:nvPicPr>
        <p:blipFill>
          <a:blip r:embed="rId1"/>
          <a:stretch/>
        </p:blipFill>
        <p:spPr>
          <a:xfrm>
            <a:off x="428760" y="350028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В Туапсинском районе откроются адыгейские музеи. Портал Черноморского побережья"/>
          <p:cNvPicPr/>
          <p:nvPr/>
        </p:nvPicPr>
        <p:blipFill>
          <a:blip r:embed="rId2"/>
          <a:stretch/>
        </p:blipFill>
        <p:spPr>
          <a:xfrm>
            <a:off x="4857840" y="3500280"/>
            <a:ext cx="4000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0040" y="357120"/>
            <a:ext cx="8229600" cy="30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дыги были прекрасными земледельцами и скотоводами. Они выращивали просо, пшеницу, кукурузу, занимались огородничеством и садоводством. Скотоводство обеспечивало горцев пищей и одеждой, скот был платежной единицей. Ремесло адыгов носило характер домашних промыслов, особенно славились оружейники и ювелир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Кто такие черкесы? &quot; Адыги - История, культура, традиции и быт адыгов (черкесов)"/>
          <p:cNvPicPr/>
          <p:nvPr/>
        </p:nvPicPr>
        <p:blipFill>
          <a:blip r:embed="rId1"/>
          <a:stretch/>
        </p:blipFill>
        <p:spPr>
          <a:xfrm>
            <a:off x="2071800" y="3214800"/>
            <a:ext cx="47149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0040" y="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аездничество – основное занятие знатных адыгов. (наездничество – набеги с целью захвата пленных и имущества. Это святая обязанность вассалов князя. Кто не являлся воином, не пользовался уважением. Обучение военному делу с раннего детства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2" descr="Материалы за Июль 2012 года &quot; Черкесы Адыги - История Черкесии"/>
          <p:cNvPicPr/>
          <p:nvPr/>
        </p:nvPicPr>
        <p:blipFill>
          <a:blip r:embed="rId1"/>
          <a:stretch/>
        </p:blipFill>
        <p:spPr>
          <a:xfrm>
            <a:off x="4214880" y="3214800"/>
            <a:ext cx="4486320" cy="3257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ИСТОРИЯ Джигитовка.инфо"/>
          <p:cNvPicPr/>
          <p:nvPr/>
        </p:nvPicPr>
        <p:blipFill>
          <a:blip r:embed="rId2"/>
          <a:stretch/>
        </p:blipFill>
        <p:spPr>
          <a:xfrm>
            <a:off x="214200" y="3214800"/>
            <a:ext cx="34480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Домашнее задани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16000" y="1627200"/>
            <a:ext cx="143532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.1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2" descr="Анимационные картинки"/>
          <p:cNvPicPr/>
          <p:nvPr/>
        </p:nvPicPr>
        <p:blipFill>
          <a:blip r:embed="rId1"/>
          <a:stretch/>
        </p:blipFill>
        <p:spPr>
          <a:xfrm>
            <a:off x="4181400" y="3411360"/>
            <a:ext cx="1781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5:01:37Z</dcterms:created>
  <dc:creator>user</dc:creator>
  <dc:description/>
  <dc:language>en-US</dc:language>
  <cp:lastModifiedBy>Джон Новиков</cp:lastModifiedBy>
  <dcterms:modified xsi:type="dcterms:W3CDTF">2019-11-26T14:07:52Z</dcterms:modified>
  <cp:revision>3</cp:revision>
  <dc:subject/>
  <dc:title>Тема урока по кубановедению:</dc:title>
</cp:coreProperties>
</file>