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EEF-4BB4-4628-8D94-EB3FCF8B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684-757C-4C44-A8DD-D7398CA6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8E9-0E6F-4CC4-ACA3-097BEEAA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797-2939-415E-A03D-266DE18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901-CBBA-4738-B883-B25783A2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5D4-231E-4E01-AE75-F0569ED8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E44-B0C7-4449-B014-CF575F1E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953-063E-426B-834E-EC0A729E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F05-35F1-4FB8-9BFD-91F4619E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B0B-48AF-4911-A256-EB9E8798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39C-8E43-4292-9060-D7F69E2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6C0-B876-486F-9797-4006C7D8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c772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C6CA-D560-4B40-8E2C-CBAE777E4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Мама\Desktop\Untitled-1 copy.jpg"/>
          <p:cNvPicPr/>
          <p:nvPr/>
        </p:nvPicPr>
        <p:blipFill>
          <a:blip r:embed="rId1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684360" y="692280"/>
            <a:ext cx="6500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Формы МЕТОДИЧЕСКОЙ  РАБОТЫ   В  ДО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С ПЕДАГОГ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95280" y="508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старший воспитатель МДОАУ д/с «Сказка» п.Магдаг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А. Заля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ы педагогического масте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167280" cy="22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573720" cy="237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622680" cy="223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826920" y="4197240"/>
            <a:ext cx="3240360" cy="21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мотр конк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79280" y="12682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особ проверки профессиональных знаний, умений, навыков, педагогической эрудиции, возможность оценивать результаты путём сравнения своих способностей с другими. В детском саду проходят разнообразные конк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ckazka1987.ucoz.com/KONKURS/DSC_0549.jpg"/>
          <p:cNvPicPr/>
          <p:nvPr/>
        </p:nvPicPr>
        <p:blipFill>
          <a:blip r:embed="rId1"/>
          <a:stretch/>
        </p:blipFill>
        <p:spPr>
          <a:xfrm>
            <a:off x="250920" y="2276640"/>
            <a:ext cx="2958840" cy="1968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2952720" cy="196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3419640" y="3213000"/>
            <a:ext cx="292392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4"/>
          <a:stretch/>
        </p:blipFill>
        <p:spPr>
          <a:xfrm>
            <a:off x="6516720" y="2276640"/>
            <a:ext cx="24001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АУКЦИОН ПЕДАГОГИЧЕСКИХ И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задач ДОУ является создание благоприятно морально-психологического климата, обстановки творческого взаимодействия и сотрудничества. Только творчески работающий коллектив педагогов способен обеспечить высокий уровень воспитательно-образовательной работы с детьми, формирование творческ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692360" y="3068640"/>
            <a:ext cx="5256000" cy="295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юз единомышлен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684360" y="1341360"/>
            <a:ext cx="75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рпорация, объединяющую педагогов общностью интересов. Это корпорация добрых, общительных, умных, душевных, организованных, удачлив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8760" y="3030480"/>
            <a:ext cx="268776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759040" y="4986360"/>
            <a:ext cx="281484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3132000" y="270828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5867280" y="4292640"/>
            <a:ext cx="2529000" cy="224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юз единомышлен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96540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5796000" y="3933720"/>
            <a:ext cx="1224000" cy="24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96540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7524720" y="3933720"/>
            <a:ext cx="133668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5"/>
          <a:stretch/>
        </p:blipFill>
        <p:spPr>
          <a:xfrm>
            <a:off x="4113360" y="3933720"/>
            <a:ext cx="137772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6"/>
          <a:stretch/>
        </p:blipFill>
        <p:spPr>
          <a:xfrm>
            <a:off x="250920" y="3933720"/>
            <a:ext cx="3790800" cy="241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юз единомышлен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14028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14028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1800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3492360" y="4149720"/>
            <a:ext cx="3314880" cy="220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7020000" y="4724280"/>
            <a:ext cx="187308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6084720" y="1773360"/>
            <a:ext cx="2814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640"/>
            <a:ext cx="8362800" cy="667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вик – настройка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строй педагога на успешную работ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ую квик -настройку можно проводить перед открытым просмотром или любым другим мероприятием.</a:t>
            </a:r>
            <a:br>
              <a:rPr sz="24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. Если вы хотите нравиться людям - улыбайтесь!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лыбка, солнечный лучик для опечаленных, противоядие созданное природой от неприятностей.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. Вы самые лучшие и красивые, пусть все манекенщицы мира вам позавидуют.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. Есть люди подобно золотой монете: чем дольше работают, тем дороже ценятся.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. Нет лучше любимой подруги, чем любимая работа: не стареет, и стареть не дает.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. Трудности закаляют на пути к сч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ейс – метод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гровой метод анализа и решения ситуаций, где педагоги участвуют в непосредственном обсуждении деловых ситуаций и задач, взятых из реальной практики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кейс–мет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том, что усвоение знаний и формирование умений есть результат активной самостоятельной деятельности педагогов по разрешению противоречий, в результате чего и происходит творческое овладение профессиональными знаниями, навыками, умениями и развитие творческих способносте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4537080" cy="287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Новые формы методической работы, связанные с использованием И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ектронные рассылки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-лайн конференции, 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б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айп-консуль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и на собственных сайтах 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тические консультации в интерактивном режиме на сайтах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ТАК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сновными формами методической работы с педагогами должны стать мероприятия, реализующие деятельный подход, когда педагоги получают не готовые знания, а 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«добывают»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 их в процессе самостоятельно. Это обеспечивает более осознанный подход к материалу, способствует его лучшему усвоению и запоминанию, поддерживает интерес и стимулирует творческую активность педагог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тод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Цель методической работы в ДОУ в условиях ФГОС ДО  сформулирована следующим образ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ышение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фессиональной компетенции педагогических работников по реализации ФГОС Д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через создание системы непрерывного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фессионального развития каждого педагогического работник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едрение эффективных технологий образования воспитанник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обмена опытом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фессиональной деятель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Задачи методической рабо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ормирование банка педагогической информац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направленной на решении задач введения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ГОС Д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ышение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фессиональн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и культурного уровня педагога Анализ и обобщение опыта введения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ГОС Д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нформировани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о новых направлениях в развитии дошкольного обра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спространение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инновационног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едагогического опы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знакомление и обеспечение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едагогических работник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с новинками литературы по проблематике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ГОС Д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9840" y="332640"/>
            <a:ext cx="8713800" cy="59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, к которому мы стремимся, соответствует следующим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осознанная готовность педагогов ДОУ к реализации новых образовательных стандарт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убъектная позиция педагога в отношении реализации ФГОС дошкольного образова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вышение профессиональной компетентности педагог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 активизация педагогической рефлексии собственной профессиональной деятельност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 самореализация педагога в 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Bookman Old Style"/>
              </a:rPr>
              <a:t>ЖЕЛАЕМ ВАМ </a:t>
            </a:r>
            <a:br>
              <a:rPr sz="4000"/>
            </a:br>
            <a:r>
              <a:rPr b="1" lang="ru-RU" sz="4000" spc="-1" strike="noStrike">
                <a:solidFill>
                  <a:srgbClr val="9900ff"/>
                </a:solidFill>
                <a:latin typeface="Bookman Old Style"/>
              </a:rPr>
              <a:t>ТВОРЧЕСКИХ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74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ктике ДОУ педагогические советы быва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диционные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классические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радиционные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основанные на высокой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ктивности всех участнико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е про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совет – Деловая 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совет – Круглый 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й совет – Дискус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й совет – Семин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681440" cy="311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Семинары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ют важную роль в повышении научно-теоретического уровня воспитателей, в совершенствовании их профессиональной компетенции. Готовить и проводить семинары можно по-разному в зависимости от содержания темы и цел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инар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инары – практику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инары - брифинги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Новая папка (2)\фото для семинара\DSCN8222.JPG"/>
          <p:cNvPicPr/>
          <p:nvPr/>
        </p:nvPicPr>
        <p:blipFill>
          <a:blip r:embed="rId1"/>
          <a:stretch/>
        </p:blipFill>
        <p:spPr>
          <a:xfrm>
            <a:off x="755640" y="3500280"/>
            <a:ext cx="320040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4908600" y="1484280"/>
            <a:ext cx="317016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32360" y="4038480"/>
            <a:ext cx="3168720" cy="24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дагогический всеобу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чаще всего это практические занятия для начинающих педагогов на которых свои педагогические находки представляют опытные педагоги, старший воспитатель, специалисты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ческие, творческие обме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стие в методических объединениях.</a:t>
            </a:r>
            <a:br>
              <a:rPr sz="2400"/>
            </a:b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Тренинг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403380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035600" cy="302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Фестиваль педагогического мастерства</a:t>
            </a:r>
            <a:br>
              <a:rPr sz="32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ревнование между педагогами, где начинается освещение проблемы, представляется лучший опыт работы педагога в любой форм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ершается фестиваль чествованием педагогов, показавшим высокие результаты методической работы за год, а также подведением итогов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789360" cy="25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Тематические выставки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наглядных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атериал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рисунков, изделий, литературы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ствуют обогащению знаний, являются содержательной формой обмена опытом педагог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ckazka1987.ucoz.com/KONKURS/20180312_103509.jpg"/>
          <p:cNvPicPr/>
          <p:nvPr/>
        </p:nvPicPr>
        <p:blipFill>
          <a:blip r:embed="rId1"/>
          <a:stretch/>
        </p:blipFill>
        <p:spPr>
          <a:xfrm>
            <a:off x="179280" y="2492280"/>
            <a:ext cx="2981520" cy="20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ckazka1987.ucoz.com/KONKURS/20171227_133701.jpg"/>
          <p:cNvPicPr/>
          <p:nvPr/>
        </p:nvPicPr>
        <p:blipFill>
          <a:blip r:embed="rId2"/>
          <a:stretch/>
        </p:blipFill>
        <p:spPr>
          <a:xfrm>
            <a:off x="2340000" y="4581360"/>
            <a:ext cx="3368520" cy="19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5116680" y="2565360"/>
            <a:ext cx="3200400" cy="18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Коллективный просмотр воспитательно-образовательного процесса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открытый показ педагогической деятель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– показать наиболее эффективные условия, формы или методы и приёмы работы с детьми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и их родителями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этом коллективный показ касается не только проведения занятий, но и организацию свободных  видов детской деятельности, совместной со взрослым деятельности и режимных момент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50920" y="3743280"/>
            <a:ext cx="4176720" cy="234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816440" y="3789360"/>
            <a:ext cx="3571920" cy="23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едагогические мастерские. Мастер – класс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цель – знакомство с педагогическим опытом, системой работы, авторскими находками и всем тем, что помогло педагогу достичь наилучши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396720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796000" y="4653000"/>
            <a:ext cx="3031920" cy="20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ckazka1987.ucoz.com/KONKURS/DSCN5929.jpg"/>
          <p:cNvPicPr/>
          <p:nvPr/>
        </p:nvPicPr>
        <p:blipFill>
          <a:blip r:embed="rId3"/>
          <a:stretch/>
        </p:blipFill>
        <p:spPr>
          <a:xfrm>
            <a:off x="5508720" y="177336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ckazka1987.ucoz.com/KONKURS/DSCN5963.jpg"/>
          <p:cNvPicPr/>
          <p:nvPr/>
        </p:nvPicPr>
        <p:blipFill>
          <a:blip r:embed="rId4"/>
          <a:stretch/>
        </p:blipFill>
        <p:spPr>
          <a:xfrm>
            <a:off x="2195640" y="4221000"/>
            <a:ext cx="2827080" cy="196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6:11:21Z</dcterms:created>
  <dc:creator>Katya</dc:creator>
  <dc:description/>
  <dc:language>en-US</dc:language>
  <cp:lastModifiedBy>User</cp:lastModifiedBy>
  <dcterms:modified xsi:type="dcterms:W3CDTF">2019-11-25T16:03:16Z</dcterms:modified>
  <cp:revision>113</cp:revision>
  <dc:subject/>
  <dc:title>Формы МЕТОДИЧЕСКОЙ РАБОТЫ В ДОУ С ПЕДАГОГ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