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2.jpeg" ContentType="image/jpeg"/>
  <Override PartName="/ppt/media/image36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BF97-2811-4A94-8FF2-B8CC04DC8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E6C1-6849-4BA2-8EB8-8D300CC93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B5C8-E6E9-4528-BD3C-5EB4A825F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7232-C4E0-43E3-8CC4-F6E79AC9F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2B78-4C5E-4085-B6DE-8D21CA01D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E7BC-6ED1-4C09-AF55-DCE50AC46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C505-89B7-4F28-B8DF-8F54B7627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C77A-FBE8-4ABF-B978-E5C7B9586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1C81-B599-4E74-BA3A-FE9889865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790C-D4F8-4F86-894B-FBEF5AAD9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0B38-F008-4415-B739-3E46CEE6C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EC62-91AC-48DE-A75A-65896C45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fc772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EBC7A-E064-4044-ACD3-603D0AEE93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:\Users\Мама\Desktop\Untitled-1 copy.jpg"/>
          <p:cNvPicPr/>
          <p:nvPr/>
        </p:nvPicPr>
        <p:blipFill>
          <a:blip r:embed="rId1"/>
          <a:stretch/>
        </p:blipFill>
        <p:spPr>
          <a:xfrm>
            <a:off x="0" y="-19080"/>
            <a:ext cx="9163080" cy="6877080"/>
          </a:xfrm>
          <a:prstGeom prst="rect">
            <a:avLst/>
          </a:prstGeom>
          <a:ln w="0">
            <a:noFill/>
          </a:ln>
        </p:spPr>
      </p:pic>
      <p:sp>
        <p:nvSpPr>
          <p:cNvPr id="42" name="TextBox 5"/>
          <p:cNvSpPr/>
          <p:nvPr/>
        </p:nvSpPr>
        <p:spPr>
          <a:xfrm>
            <a:off x="684360" y="692280"/>
            <a:ext cx="65005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Monotype Corsiva"/>
              </a:rPr>
              <a:t>Формы МЕТОДИЧЕСКОЙ  РАБОТЫ   В  ДО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Monotype Corsiva"/>
              </a:rPr>
              <a:t>С ПЕДАГОГАМ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"/>
          <p:cNvSpPr/>
          <p:nvPr/>
        </p:nvSpPr>
        <p:spPr>
          <a:xfrm>
            <a:off x="395280" y="5084640"/>
            <a:ext cx="46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ила старший воспитатель МДОАУ д/с «Сказка» п.Магдага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.А. Заля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онкурсы педагогического мастер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3167280" cy="2232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5003640" y="4076640"/>
            <a:ext cx="3573720" cy="2376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"/>
          <p:cNvPicPr/>
          <p:nvPr/>
        </p:nvPicPr>
        <p:blipFill>
          <a:blip r:embed="rId3"/>
          <a:stretch/>
        </p:blipFill>
        <p:spPr>
          <a:xfrm>
            <a:off x="4932360" y="1628640"/>
            <a:ext cx="3622680" cy="2232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"/>
          <p:cNvPicPr/>
          <p:nvPr/>
        </p:nvPicPr>
        <p:blipFill>
          <a:blip r:embed="rId4"/>
          <a:stretch/>
        </p:blipFill>
        <p:spPr>
          <a:xfrm>
            <a:off x="826920" y="4197240"/>
            <a:ext cx="3240360" cy="2154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мотр конк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2"/>
          <p:cNvSpPr/>
          <p:nvPr/>
        </p:nvSpPr>
        <p:spPr>
          <a:xfrm>
            <a:off x="179280" y="1268280"/>
            <a:ext cx="89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способ проверки профессиональных знаний, умений, навыков, педагогической эрудиции, возможность оценивать результаты путём сравнения своих способностей с другими. В детском саду проходят разнообразные конкурс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http://ckazka1987.ucoz.com/KONKURS/DSC_0549.jpg"/>
          <p:cNvPicPr/>
          <p:nvPr/>
        </p:nvPicPr>
        <p:blipFill>
          <a:blip r:embed="rId1"/>
          <a:stretch/>
        </p:blipFill>
        <p:spPr>
          <a:xfrm>
            <a:off x="250920" y="2276640"/>
            <a:ext cx="2958840" cy="19684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2"/>
          <a:stretch/>
        </p:blipFill>
        <p:spPr>
          <a:xfrm>
            <a:off x="250920" y="4508640"/>
            <a:ext cx="2952720" cy="19634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"/>
          <p:cNvPicPr/>
          <p:nvPr/>
        </p:nvPicPr>
        <p:blipFill>
          <a:blip r:embed="rId3"/>
          <a:stretch/>
        </p:blipFill>
        <p:spPr>
          <a:xfrm>
            <a:off x="3419640" y="3213000"/>
            <a:ext cx="2923920" cy="1944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"/>
          <p:cNvPicPr/>
          <p:nvPr/>
        </p:nvPicPr>
        <p:blipFill>
          <a:blip r:embed="rId4"/>
          <a:stretch/>
        </p:blipFill>
        <p:spPr>
          <a:xfrm>
            <a:off x="6516720" y="2276640"/>
            <a:ext cx="2400120" cy="4267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ff"/>
                </a:solidFill>
                <a:latin typeface="Times New Roman"/>
              </a:rPr>
              <a:t>АУКЦИОН ПЕДАГОГИЧЕСКИХ ИД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ой из задач ДОУ является создание благоприятно морально-психологического климата, обстановки творческого взаимодействия и сотрудничества. Только творчески работающий коллектив педагогов способен обеспечить высокий уровень воспитательно-образовательной работы с детьми, формирование творческой лич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1692360" y="3068640"/>
            <a:ext cx="5256000" cy="2959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оюз единомышленн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2"/>
          <p:cNvSpPr/>
          <p:nvPr/>
        </p:nvSpPr>
        <p:spPr>
          <a:xfrm>
            <a:off x="684360" y="1341360"/>
            <a:ext cx="7559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корпорация, объединяющую педагогов общностью интересов. Это корпорация добрых, общительных, умных, душевных, организованных, удачливых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158760" y="3030480"/>
            <a:ext cx="2687760" cy="2016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2759040" y="4986360"/>
            <a:ext cx="2814840" cy="1871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"/>
          <p:cNvPicPr/>
          <p:nvPr/>
        </p:nvPicPr>
        <p:blipFill>
          <a:blip r:embed="rId3"/>
          <a:stretch/>
        </p:blipFill>
        <p:spPr>
          <a:xfrm>
            <a:off x="3132000" y="2708280"/>
            <a:ext cx="2448000" cy="1628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4"/>
          <a:stretch/>
        </p:blipFill>
        <p:spPr>
          <a:xfrm>
            <a:off x="5867280" y="4292640"/>
            <a:ext cx="2529000" cy="2241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оюз единомышленн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3965400" cy="2232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2"/>
          <a:stretch/>
        </p:blipFill>
        <p:spPr>
          <a:xfrm>
            <a:off x="5796000" y="3933720"/>
            <a:ext cx="1224000" cy="24447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3"/>
          <a:stretch/>
        </p:blipFill>
        <p:spPr>
          <a:xfrm>
            <a:off x="4932360" y="1413000"/>
            <a:ext cx="3965400" cy="2232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"/>
          <p:cNvPicPr/>
          <p:nvPr/>
        </p:nvPicPr>
        <p:blipFill>
          <a:blip r:embed="rId4"/>
          <a:stretch/>
        </p:blipFill>
        <p:spPr>
          <a:xfrm>
            <a:off x="7524720" y="3933720"/>
            <a:ext cx="1336680" cy="2374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"/>
          <p:cNvPicPr/>
          <p:nvPr/>
        </p:nvPicPr>
        <p:blipFill>
          <a:blip r:embed="rId5"/>
          <a:stretch/>
        </p:blipFill>
        <p:spPr>
          <a:xfrm>
            <a:off x="4113360" y="3933720"/>
            <a:ext cx="1377720" cy="2448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"/>
          <p:cNvPicPr/>
          <p:nvPr/>
        </p:nvPicPr>
        <p:blipFill>
          <a:blip r:embed="rId6"/>
          <a:stretch/>
        </p:blipFill>
        <p:spPr>
          <a:xfrm>
            <a:off x="250920" y="3933720"/>
            <a:ext cx="3790800" cy="2419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оюз единомышленн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3140280" cy="2089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"/>
          <p:cNvPicPr/>
          <p:nvPr/>
        </p:nvPicPr>
        <p:blipFill>
          <a:blip r:embed="rId2"/>
          <a:stretch/>
        </p:blipFill>
        <p:spPr>
          <a:xfrm>
            <a:off x="179280" y="3933720"/>
            <a:ext cx="3140280" cy="2087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3"/>
          <a:stretch/>
        </p:blipFill>
        <p:spPr>
          <a:xfrm>
            <a:off x="3924360" y="1341360"/>
            <a:ext cx="1800000" cy="2706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4"/>
          <a:stretch/>
        </p:blipFill>
        <p:spPr>
          <a:xfrm>
            <a:off x="3492360" y="4149720"/>
            <a:ext cx="3314880" cy="2203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"/>
          <p:cNvPicPr/>
          <p:nvPr/>
        </p:nvPicPr>
        <p:blipFill>
          <a:blip r:embed="rId5"/>
          <a:stretch/>
        </p:blipFill>
        <p:spPr>
          <a:xfrm>
            <a:off x="7020000" y="4724280"/>
            <a:ext cx="1873080" cy="1440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"/>
          <p:cNvPicPr/>
          <p:nvPr/>
        </p:nvPicPr>
        <p:blipFill>
          <a:blip r:embed="rId6"/>
          <a:stretch/>
        </p:blipFill>
        <p:spPr>
          <a:xfrm>
            <a:off x="6084720" y="1773360"/>
            <a:ext cx="28148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06640"/>
            <a:ext cx="8362800" cy="667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вик – настройка: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настрой педагога на успешную работу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ую квик -настройку можно проводить перед открытым просмотром или любым другим мероприятием.</a:t>
            </a:r>
            <a:br>
              <a:rPr sz="2400"/>
            </a:b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1. Если вы хотите нравиться людям - улыбайтесь! </a:t>
            </a:r>
            <a:br>
              <a:rPr sz="2800"/>
            </a:b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Улыбка, солнечный лучик для опечаленных, противоядие созданное природой от неприятностей.</a:t>
            </a:r>
            <a:br>
              <a:rPr sz="2800"/>
            </a:b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2. Вы самые лучшие и красивые, пусть все манекенщицы мира вам позавидуют.</a:t>
            </a:r>
            <a:br>
              <a:rPr sz="2800"/>
            </a:b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3. Есть люди подобно золотой монете: чем дольше работают, тем дороже ценятся.</a:t>
            </a:r>
            <a:br>
              <a:rPr sz="2800"/>
            </a:b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4. Нет лучше любимой подруги, чем любимая работа: не стареет, и стареть не дает.</a:t>
            </a:r>
            <a:br>
              <a:rPr sz="2800"/>
            </a:b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5. Трудности закаляют на пути к счаст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6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Кейс – метод: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игровой метод анализа и решения ситуаций, где педагоги участвуют в непосредственном обсуждении деловых ситуаций и задач, взятых из реальной практики. 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ть кейс–метод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ит в том, что усвоение знаний и формирование умений есть результат активной самостоятельной деятельности педагогов по разрешению противоречий, в результате чего и происходит творческое овладение профессиональными знаниями, навыками, умениями и развитие творческих способностей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1979640" y="3716280"/>
            <a:ext cx="4537080" cy="2873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94920" y="259920"/>
            <a:ext cx="84978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ff"/>
                </a:solidFill>
                <a:latin typeface="Times New Roman"/>
              </a:rPr>
              <a:t>Новые формы методической работы, связанные с использованием ИК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лектронные рассылки матери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н-лайн конференции, семина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ебина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кайп-консульт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зентации на собственных сайтах педагог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матические консультации в интерактивном режиме на сайтах ДО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3964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ИТАК,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Основными формами методической работы с педагогами должны стать мероприятия, реализующие деятельный подход, когда педагоги получают не готовые знания, а </a:t>
            </a:r>
            <a:r>
              <a:rPr b="0" i="1" lang="ru-RU" sz="2900" spc="-1" strike="noStrike">
                <a:solidFill>
                  <a:srgbClr val="000000"/>
                </a:solidFill>
                <a:latin typeface="Times New Roman"/>
              </a:rPr>
              <a:t>«добывают»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 их в процессе самостоятельно. Это обеспечивает более осознанный подход к материалу, способствует его лучшему усвоению и запоминанию, поддерживает интерес и стимулирует творческую активность педагогов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Методическая р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834408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900ff"/>
                </a:solidFill>
                <a:latin typeface="Arial"/>
              </a:rPr>
              <a:t>Цель методической работы в ДОУ в условиях ФГОС ДО  сформулирована следующим образом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34408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вышение 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профессиональной компетенции педагогических работников по реализации ФГОС ДО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через создание системы непрерывного 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профессионального развития каждого педагогического работника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34408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недрение эффективных технологий образования воспитанников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34408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рганизация обмена опытом 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профессиональной деятельности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834408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900ff"/>
                </a:solidFill>
                <a:latin typeface="Arial"/>
              </a:rPr>
              <a:t>Задачи методической работы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34408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Формирование банка педагогической информации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направленной на решении задач введения 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ФГОС ДО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34408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вышение 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профессионального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и культурного уровня педагога Анализ и обобщение опыта введения 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ФГОС ДО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 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информирование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о новых направлениях в развитии дошкольного образован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34408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аспространение 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 инновационного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педагогического опы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34408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знакомление и обеспечение 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педагогических работников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с новинками литературы по проблематике 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ФГОС ДО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29840" y="332640"/>
            <a:ext cx="8713800" cy="594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зультат, к которому мы стремимся, соответствует следующим 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параметра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) осознанная готовность педагогов ДОУ к реализации новых образовательных стандартов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) субъектная позиция педагога в отношении реализации ФГОС дошкольного образования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) повышение профессиональной компетентности педагогов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) активизация педагогической рефлексии собственной профессиональной деятельности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) самореализация педагога в профессиональной 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64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ff"/>
                </a:solidFill>
                <a:latin typeface="Bookman Old Style"/>
              </a:rPr>
              <a:t>ЖЕЛАЕМ ВАМ </a:t>
            </a:r>
            <a:br>
              <a:rPr sz="4000"/>
            </a:br>
            <a:r>
              <a:rPr b="1" lang="ru-RU" sz="4000" spc="-1" strike="noStrike">
                <a:solidFill>
                  <a:srgbClr val="9900ff"/>
                </a:solidFill>
                <a:latin typeface="Bookman Old Style"/>
              </a:rPr>
              <a:t>ТВОРЧЕСКИХ УСПЕХОВ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74872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 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актике ДОУ педагогические советы бываю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радиционные 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(классические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традиционные 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(основанные на высокой 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активности всех участников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орме проведе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дагогически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совет – Деловая иг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дагогически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совет – Круглый сто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дагогический совет – Дискусс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дагогический совет – Семина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1619280" y="3284640"/>
            <a:ext cx="4681440" cy="3112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ff"/>
                </a:solidFill>
                <a:latin typeface="Times New Roman"/>
              </a:rPr>
              <a:t>Семинары</a:t>
            </a:r>
            <a:br>
              <a:rPr sz="32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грают важную роль в повышении научно-теоретического уровня воспитателей, в совершенствовании их профессиональной компетенции. Готовить и проводить семинары можно по-разному в зависимости от содержания темы и цели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еминары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еминары – практикумы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еминары - брифинги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F:\Новая папка (2)\фото для семинара\DSCN8222.JPG"/>
          <p:cNvPicPr/>
          <p:nvPr/>
        </p:nvPicPr>
        <p:blipFill>
          <a:blip r:embed="rId1"/>
          <a:stretch/>
        </p:blipFill>
        <p:spPr>
          <a:xfrm>
            <a:off x="755640" y="3500280"/>
            <a:ext cx="3200400" cy="1800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4908600" y="1484280"/>
            <a:ext cx="3170160" cy="2376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32360" y="4038480"/>
            <a:ext cx="3168720" cy="2486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28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едагогический всеобуч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- чаще всего это практические занятия для начинающих педагогов на которых свои педагогические находки представляют опытные педагоги, старший воспитатель, специалисты.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етодические, творческие обмены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частие в методических объединениях.</a:t>
            </a:r>
            <a:br>
              <a:rPr sz="2400"/>
            </a:br>
            <a:r>
              <a:rPr b="1" lang="ru-RU" sz="2400" spc="-1" strike="noStrike">
                <a:solidFill>
                  <a:srgbClr val="9900ff"/>
                </a:solidFill>
                <a:latin typeface="Times New Roman"/>
              </a:rPr>
              <a:t>Тренинг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324000" y="3068640"/>
            <a:ext cx="4033800" cy="3024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"/>
          <p:cNvPicPr/>
          <p:nvPr/>
        </p:nvPicPr>
        <p:blipFill>
          <a:blip r:embed="rId2"/>
          <a:stretch/>
        </p:blipFill>
        <p:spPr>
          <a:xfrm>
            <a:off x="4859280" y="3068640"/>
            <a:ext cx="4035600" cy="3027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2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ff"/>
                </a:solidFill>
                <a:latin typeface="Times New Roman"/>
              </a:rPr>
              <a:t>Фестиваль педагогического мастерства</a:t>
            </a:r>
            <a:br>
              <a:rPr sz="32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Соревнование между педагогами, где начинается освещение проблемы, представляется лучший опыт работы педагога в любой форме.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Завершается фестиваль чествованием педагогов, показавшим высокие результаты методической работы за год, а также подведением итогов.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324000" y="3429000"/>
            <a:ext cx="3571560" cy="2376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4716360" y="3429000"/>
            <a:ext cx="3789360" cy="2521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ff"/>
                </a:solidFill>
                <a:latin typeface="Times New Roman"/>
              </a:rPr>
              <a:t>Тематические выставки</a:t>
            </a:r>
            <a:br>
              <a:rPr sz="32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дставление наглядных 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материалов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: рисунков, изделий, литературы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пособствуют обогащению знаний, являются содержательной формой обмена опытом педагогов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http://ckazka1987.ucoz.com/KONKURS/20180312_103509.jpg"/>
          <p:cNvPicPr/>
          <p:nvPr/>
        </p:nvPicPr>
        <p:blipFill>
          <a:blip r:embed="rId1"/>
          <a:stretch/>
        </p:blipFill>
        <p:spPr>
          <a:xfrm>
            <a:off x="179280" y="2492280"/>
            <a:ext cx="2981520" cy="2016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http://ckazka1987.ucoz.com/KONKURS/20171227_133701.jpg"/>
          <p:cNvPicPr/>
          <p:nvPr/>
        </p:nvPicPr>
        <p:blipFill>
          <a:blip r:embed="rId2"/>
          <a:stretch/>
        </p:blipFill>
        <p:spPr>
          <a:xfrm>
            <a:off x="2340000" y="4581360"/>
            <a:ext cx="3368520" cy="1944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"/>
          <p:cNvPicPr/>
          <p:nvPr/>
        </p:nvPicPr>
        <p:blipFill>
          <a:blip r:embed="rId3"/>
          <a:stretch/>
        </p:blipFill>
        <p:spPr>
          <a:xfrm>
            <a:off x="5116680" y="2565360"/>
            <a:ext cx="3200400" cy="1800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ff"/>
                </a:solidFill>
                <a:latin typeface="Times New Roman"/>
              </a:rPr>
              <a:t>Коллективный просмотр воспитательно-образовательного процесса 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(открытый показ педагогической деятельност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дача – показать наиболее эффективные условия, формы или методы и приёмы работы с детьми 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(и их родителями)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 этом коллективный показ касается не только проведения занятий, но и организацию свободных  видов детской деятельности, совместной со взрослым деятельности и режимных моменто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250920" y="3743280"/>
            <a:ext cx="4176720" cy="2349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2"/>
          <a:stretch/>
        </p:blipFill>
        <p:spPr>
          <a:xfrm>
            <a:off x="4816440" y="3789360"/>
            <a:ext cx="3571920" cy="2376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" dur="2000" fill="hold"/>
                                        <p:tgtEl>
                                          <p:spTgt spid="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ff"/>
                </a:solidFill>
                <a:latin typeface="Times New Roman"/>
              </a:rPr>
              <a:t>Педагогические мастерские. Мастер – класс</a:t>
            </a:r>
            <a:br>
              <a:rPr sz="28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ная цель – знакомство с педагогическим опытом, системой работы, авторскими находками и всем тем, что помогло педагогу достичь наилучших результа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79280" y="2060640"/>
            <a:ext cx="3967200" cy="2232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"/>
          <p:cNvPicPr/>
          <p:nvPr/>
        </p:nvPicPr>
        <p:blipFill>
          <a:blip r:embed="rId2"/>
          <a:stretch/>
        </p:blipFill>
        <p:spPr>
          <a:xfrm>
            <a:off x="5796000" y="4653000"/>
            <a:ext cx="3031920" cy="2016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http://ckazka1987.ucoz.com/KONKURS/DSCN5929.jpg"/>
          <p:cNvPicPr/>
          <p:nvPr/>
        </p:nvPicPr>
        <p:blipFill>
          <a:blip r:embed="rId3"/>
          <a:stretch/>
        </p:blipFill>
        <p:spPr>
          <a:xfrm>
            <a:off x="5508720" y="1773360"/>
            <a:ext cx="3017880" cy="2263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http://ckazka1987.ucoz.com/KONKURS/DSCN5963.jpg"/>
          <p:cNvPicPr/>
          <p:nvPr/>
        </p:nvPicPr>
        <p:blipFill>
          <a:blip r:embed="rId4"/>
          <a:stretch/>
        </p:blipFill>
        <p:spPr>
          <a:xfrm>
            <a:off x="2195640" y="4221000"/>
            <a:ext cx="2827080" cy="1968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1T16:11:21Z</dcterms:created>
  <dc:creator>Katya</dc:creator>
  <dc:description/>
  <dc:language>en-US</dc:language>
  <cp:lastModifiedBy>User</cp:lastModifiedBy>
  <dcterms:modified xsi:type="dcterms:W3CDTF">2019-11-25T16:03:16Z</dcterms:modified>
  <cp:revision>113</cp:revision>
  <dc:subject/>
  <dc:title>Формы МЕТОДИЧЕСКОЙ РАБОТЫ В ДОУ С ПЕДАГОГАМ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Документ</vt:lpwstr>
  </property>
</Properties>
</file>