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16.png" ContentType="image/png"/>
  <Override PartName="/ppt/media/image1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92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0"/>
            <a:ext cx="29192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09240"/>
            <a:ext cx="29192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09240"/>
            <a:ext cx="29192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0B36-17FB-4DB5-A724-1FEF82B8DC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14920" y="9309240"/>
            <a:ext cx="2919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3775-E600-49B2-A5A2-01BB271EE0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14920" y="9309240"/>
            <a:ext cx="2919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002E-8F70-432A-950B-10C1068442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14920" y="9309240"/>
            <a:ext cx="2919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C3A2-2DBB-49EB-8792-DF09D4916F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2120" cy="36766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73AF-5CAB-4F99-B40B-F44D48777D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14920" y="9309240"/>
            <a:ext cx="2919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8027-009F-4E0B-9C2F-79D47FF07B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14920" y="9309240"/>
            <a:ext cx="2919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7566-53E5-4C08-9B02-A40A5BC7B0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14920" y="9309240"/>
            <a:ext cx="2919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F39D-035D-40FD-8C91-3362AED249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BD08-6863-4EB2-A47C-AD953669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4FBD-A3AB-40AC-83C2-B5915AF6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3DE6-B0BA-4C62-96F2-46BE8C71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FD0A-C644-42D3-BF7D-8C9A49AC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15D4-3126-4682-9CA0-17E4C94B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B5D0-C888-4721-8073-76B6E82E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BA3-600A-431F-8977-6403AFF8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7E1E-4E28-41B5-8E4B-6DA1E38F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C860-2CBC-48C9-842A-8523CE18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47D7-C28B-4206-A653-382C60EB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6959-F98D-49E6-B249-6622639D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CD9E-029E-465E-9341-476CB7A6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0F2A-EAA0-490E-9EAE-737C9BD499C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94B2-4907-43A1-B052-7171A57518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3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E0F2-18CB-4368-9A9A-6596F6B58C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85.sochi-schools.ru/wp-content/uploads/2016/03/G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1187280" y="620640"/>
            <a:ext cx="70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0ae4"/>
                </a:solidFill>
                <a:latin typeface="Times New Roman"/>
                <a:ea typeface="Times New Roman"/>
              </a:rPr>
              <a:t>Проведение государственной итоговой аттест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0ae4"/>
                </a:solidFill>
                <a:latin typeface="Times New Roman"/>
                <a:ea typeface="Times New Roman"/>
              </a:rPr>
              <a:t>выпускников 9 классов в 2019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saroblnews.ru/files/pages/51267/1442822779general_pages_i51267_v_oblasti_startuet_osennii_etap_ege.jpg"/>
          <p:cNvPicPr/>
          <p:nvPr/>
        </p:nvPicPr>
        <p:blipFill>
          <a:blip r:embed="rId1"/>
          <a:stretch/>
        </p:blipFill>
        <p:spPr>
          <a:xfrm>
            <a:off x="6588000" y="4941720"/>
            <a:ext cx="2556000" cy="1916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353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ядок проведения государственной итоговой аттестации по образовательным программам основного общего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1484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ПЭ выпускник обязан предоставить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спор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обой иметь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рную гелевую ручк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полнительные устройства и материалы, используемые по отдельным предметам, в соответствии с перечнем, ежегодно утверждаемым приказом Министерства образования и науки Российской Федер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77708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ядок проведения государственной итоговой аттестации по образовательным программам основного общего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бучающийся по объективным причинам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мож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вершить выполнение экзаменационной работы, то он может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осрочн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кинуть аудитори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ком случае уполномоченный представитель экзаменационной комиссии составляет акт о досрочном завершении экзамена по объективным причина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http://86ds7-nyagan.edusite.ru/images/ausrufezeichen2.gif"/>
          <p:cNvPicPr/>
          <p:nvPr/>
        </p:nvPicPr>
        <p:blipFill>
          <a:blip r:embed="rId1"/>
          <a:stretch/>
        </p:blipFill>
        <p:spPr>
          <a:xfrm>
            <a:off x="7993080" y="1484280"/>
            <a:ext cx="812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50752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тверждение, изменение и (или) аннулирование результатов государственной итоговой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8920" y="1413000"/>
            <a:ext cx="8713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мся, не прошедшим ГИА или получившим на ГИА неудовлетворительные результаты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олее чем по двум учебны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ам, либо получившим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вторно неудовлетворительный результат  по одному из этих предметов на ГИА в дополнительны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, будет предоставлено право повторно сдать экзамены по соответствующим учебным предметам не ранее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 сентябр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его год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http://86ds7-nyagan.edusite.ru/images/ausrufezeichen2.gif"/>
          <p:cNvPicPr/>
          <p:nvPr/>
        </p:nvPicPr>
        <p:blipFill>
          <a:blip r:embed="rId1"/>
          <a:stretch/>
        </p:blipFill>
        <p:spPr>
          <a:xfrm>
            <a:off x="7956720" y="333360"/>
            <a:ext cx="3808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50752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 и рассмотрение апелля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8920" y="1413000"/>
            <a:ext cx="8713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елляция о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есоглас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выставленными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балла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т быть подана 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в течение двух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рабочих дне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дня объявления результатов государственной итоговой аттестации по соответствующему учебному предмет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http://www.sh-67.org.ru/wp-content/uploads/2012/12/10.jpg"/>
          <p:cNvPicPr/>
          <p:nvPr/>
        </p:nvPicPr>
        <p:blipFill>
          <a:blip r:embed="rId1"/>
          <a:stretch/>
        </p:blipFill>
        <p:spPr>
          <a:xfrm>
            <a:off x="5651640" y="4149720"/>
            <a:ext cx="208908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0ae4"/>
                </a:solidFill>
                <a:latin typeface="Times New Roman"/>
                <a:ea typeface="Times New Roman"/>
              </a:rPr>
              <a:t>Информацию по ГИА 2019</a:t>
            </a:r>
            <a:br>
              <a:rPr sz="3200"/>
            </a:br>
            <a:r>
              <a:rPr b="1" lang="ru-RU" sz="3200" spc="-1" strike="noStrike">
                <a:solidFill>
                  <a:srgbClr val="240ae4"/>
                </a:solidFill>
                <a:latin typeface="Times New Roman"/>
                <a:ea typeface="Times New Roman"/>
              </a:rPr>
              <a:t>можно най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Объект 5" descr="http://rcokio-chel.ru/pics/banners/4file.jpg"/>
          <p:cNvPicPr/>
          <p:nvPr/>
        </p:nvPicPr>
        <p:blipFill>
          <a:blip r:embed="rId1"/>
          <a:stretch/>
        </p:blipFill>
        <p:spPr>
          <a:xfrm>
            <a:off x="324000" y="2924280"/>
            <a:ext cx="2894040" cy="10969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2"/>
          <p:cNvSpPr/>
          <p:nvPr/>
        </p:nvSpPr>
        <p:spPr>
          <a:xfrm>
            <a:off x="3967200" y="5216400"/>
            <a:ext cx="37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gia.edu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0"/>
          <p:cNvSpPr/>
          <p:nvPr/>
        </p:nvSpPr>
        <p:spPr>
          <a:xfrm>
            <a:off x="3977640" y="3244680"/>
            <a:ext cx="247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ipi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1"/>
          <p:cNvSpPr/>
          <p:nvPr/>
        </p:nvSpPr>
        <p:spPr>
          <a:xfrm>
            <a:off x="3978360" y="1773360"/>
            <a:ext cx="444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обрнауки.р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3"/>
          <p:cNvSpPr/>
          <p:nvPr/>
        </p:nvSpPr>
        <p:spPr>
          <a:xfrm>
            <a:off x="3917520" y="4314960"/>
            <a:ext cx="39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rustest.r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3888000" cy="1224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"/>
          <p:cNvPicPr/>
          <p:nvPr/>
        </p:nvPicPr>
        <p:blipFill>
          <a:blip r:embed="rId3"/>
          <a:stretch/>
        </p:blipFill>
        <p:spPr>
          <a:xfrm>
            <a:off x="324000" y="5084640"/>
            <a:ext cx="2232000" cy="65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"/>
          <p:cNvPicPr/>
          <p:nvPr/>
        </p:nvPicPr>
        <p:blipFill>
          <a:blip r:embed="rId4"/>
          <a:stretch/>
        </p:blipFill>
        <p:spPr>
          <a:xfrm>
            <a:off x="468360" y="4005360"/>
            <a:ext cx="122400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203280" y="272520"/>
            <a:ext cx="594036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ните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ш ребенок единственный и неповторимый. Особенный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любой надежный рецепт, опробованный поколениями родителей, может оказаться бесполезны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щите то, что поможет именно вашему сыну, дочер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йте, размышляйте, обсуждайте с ребенком все пробл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95280" y="990720"/>
            <a:ext cx="302436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рмативная баз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560" y="112500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просвещения России и Рособрнадзора от 07.11.2018 № 189/1513 «Об утверждении Порядка проведения государственной итоговой аттестации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бразовательным программам основного общего образования» (зарегистрирован Минюстом 10.12.2018 регистрационный № 5295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Рособрнадзора от 11.04.2016 № 02-146 «О количестве сдаваемых предметов в IX класс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обрнауки России от 20 октября  2017 г. № 1025 «О проведении мониторинга качества образова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Объект 5" descr=""/>
          <p:cNvPicPr/>
          <p:nvPr/>
        </p:nvPicPr>
        <p:blipFill>
          <a:blip r:embed="rId1"/>
          <a:stretch/>
        </p:blipFill>
        <p:spPr>
          <a:xfrm>
            <a:off x="103320" y="298440"/>
            <a:ext cx="9047160" cy="5907240"/>
          </a:xfrm>
          <a:prstGeom prst="rect">
            <a:avLst/>
          </a:prstGeom>
          <a:ln w="0">
            <a:noFill/>
          </a:ln>
        </p:spPr>
      </p:pic>
      <p:sp>
        <p:nvSpPr>
          <p:cNvPr id="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363A-7D04-413B-9445-27E1F6BB97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8080" y="115560"/>
            <a:ext cx="8540640" cy="15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0ae4"/>
                </a:solidFill>
                <a:latin typeface="Times New Roman"/>
                <a:ea typeface="Times New Roman"/>
              </a:rPr>
              <a:t>Формы проведения государственной итоговой аттес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государственный экзамен –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Г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ся с использованием экзаменационных материалов, представляющих собой комплексы заданий стандартизированной формы (контрольных измерительных материалов -КИМ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B06D-460F-4EB6-820C-E13C97CBBF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ttp://mou-udsosh1.narod.ru/EGE/16-17/ogeh.png"/>
          <p:cNvPicPr/>
          <p:nvPr/>
        </p:nvPicPr>
        <p:blipFill>
          <a:blip r:embed="rId1"/>
          <a:stretch/>
        </p:blipFill>
        <p:spPr>
          <a:xfrm>
            <a:off x="3203640" y="4581360"/>
            <a:ext cx="285732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91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ядок проведения ГИА-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Группа 17"/>
          <p:cNvGrpSpPr/>
          <p:nvPr/>
        </p:nvGrpSpPr>
        <p:grpSpPr>
          <a:xfrm>
            <a:off x="395280" y="692280"/>
            <a:ext cx="8424720" cy="5905440"/>
            <a:chOff x="395280" y="692280"/>
            <a:chExt cx="8424720" cy="5905440"/>
          </a:xfrm>
        </p:grpSpPr>
        <p:sp>
          <p:nvSpPr>
            <p:cNvPr id="65" name="Прямоугольник 3"/>
            <p:cNvSpPr/>
            <p:nvPr/>
          </p:nvSpPr>
          <p:spPr>
            <a:xfrm>
              <a:off x="755640" y="692280"/>
              <a:ext cx="7704000" cy="49212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99"/>
                  </a:solidFill>
                  <a:latin typeface="Cambria"/>
                </a:rPr>
                <a:t>2018/20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Стрелка вниз 6"/>
            <p:cNvGrpSpPr/>
            <p:nvPr/>
          </p:nvGrpSpPr>
          <p:grpSpPr>
            <a:xfrm>
              <a:off x="2974680" y="1322640"/>
              <a:ext cx="2864880" cy="481320"/>
              <a:chOff x="2974680" y="1322640"/>
              <a:chExt cx="2864880" cy="481320"/>
            </a:xfrm>
          </p:grpSpPr>
          <p:pic>
            <p:nvPicPr>
              <p:cNvPr id="67" name="Стрелка вниз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974680" y="1322640"/>
                <a:ext cx="2864880" cy="48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3721680" y="1356480"/>
                <a:ext cx="13762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Прямоугольник 7"/>
            <p:cNvSpPr/>
            <p:nvPr/>
          </p:nvSpPr>
          <p:spPr>
            <a:xfrm>
              <a:off x="755640" y="1838160"/>
              <a:ext cx="7704000" cy="401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Cambria"/>
                </a:rPr>
                <a:t>Обязательные предметы: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Прямоугольник 8"/>
            <p:cNvSpPr/>
            <p:nvPr/>
          </p:nvSpPr>
          <p:spPr>
            <a:xfrm>
              <a:off x="1365120" y="3460680"/>
              <a:ext cx="6532560" cy="1912680"/>
            </a:xfrm>
            <a:prstGeom prst="rect">
              <a:avLst/>
            </a:prstGeom>
            <a:solidFill>
              <a:srgbClr val="b9cde5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00000"/>
                  </a:solidFill>
                  <a:latin typeface="Cambria"/>
                </a:rPr>
                <a:t>2 предмета по выбору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Cambria"/>
                </a:rPr>
                <a:t>(физика, химия, биология, история, география, информатика и ИКТ, иностранные языки, обществознание, литература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Прямоугольник 9"/>
            <p:cNvSpPr/>
            <p:nvPr/>
          </p:nvSpPr>
          <p:spPr>
            <a:xfrm>
              <a:off x="1365120" y="2382840"/>
              <a:ext cx="6532560" cy="417240"/>
            </a:xfrm>
            <a:prstGeom prst="rect">
              <a:avLst/>
            </a:prstGeom>
            <a:solidFill>
              <a:srgbClr val="b9cde5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99"/>
                  </a:solidFill>
                  <a:latin typeface="Cambria"/>
                </a:rPr>
                <a:t>русский язы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оугольник 10"/>
            <p:cNvSpPr/>
            <p:nvPr/>
          </p:nvSpPr>
          <p:spPr>
            <a:xfrm>
              <a:off x="1365120" y="2884680"/>
              <a:ext cx="6532560" cy="417240"/>
            </a:xfrm>
            <a:prstGeom prst="rect">
              <a:avLst/>
            </a:prstGeom>
            <a:solidFill>
              <a:srgbClr val="b9cde5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99"/>
                  </a:solidFill>
                  <a:latin typeface="Cambria"/>
                </a:rPr>
                <a:t>математик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Прямоугольник 16"/>
            <p:cNvSpPr/>
            <p:nvPr/>
          </p:nvSpPr>
          <p:spPr>
            <a:xfrm>
              <a:off x="395280" y="5517720"/>
              <a:ext cx="8424720" cy="1080000"/>
            </a:xfrm>
            <a:prstGeom prst="rect">
              <a:avLst/>
            </a:prstGeom>
            <a:solidFill>
              <a:srgbClr val="b9cde5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Cambria"/>
                </a:rPr>
                <a:t>Аттестат = успешные результаты ГИ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Cambria"/>
                </a:rPr>
                <a:t>по </a:t>
              </a:r>
              <a:r>
                <a:rPr b="1" lang="ru-RU" sz="3200" spc="-1" strike="noStrike" u="sng">
                  <a:solidFill>
                    <a:srgbClr val="c00000"/>
                  </a:solidFill>
                  <a:uFillTx/>
                  <a:latin typeface="Cambria"/>
                </a:rPr>
                <a:t>четырем</a:t>
              </a:r>
              <a:r>
                <a:rPr b="1" lang="ru-RU" sz="3200" spc="-1" strike="noStrike">
                  <a:solidFill>
                    <a:srgbClr val="c00000"/>
                  </a:solidFill>
                  <a:latin typeface="Cambria"/>
                </a:rPr>
                <a:t>  учебным предмета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Г И А в  2019 го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Экзамены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выбо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ускник определяет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амостоятель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Заявле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 выборе экзаменов и их количестве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одписанное родителя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законными представителями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аёт  выпускник самостоятель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о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1 марта 2019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года включительно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астники государственной итоговой аттес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3276720" y="3789360"/>
            <a:ext cx="2082600" cy="2546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46836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haron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 ГИА допускаются обучающиеся, не имеющие академической задолженности, в полном объеме выполнившие учебный план или индивидуальный учебный план (имеющие годовые отметки по всем учебным предметам учебного плана за IX класс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 ниже удовлетворительны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а такж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еющие результат «зачет» за итоговое собеседование по русскому язык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тоговое собеседование по русскому язы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79280" y="500040"/>
            <a:ext cx="87854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ой срок проведения этого испытания для всех девятиклассников -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3 феврал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 дополнительные дни - 13 марта и 6 ма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торно 13 марта 2019 года/6 мая 2019 года итоговое собеседование по русскому языку проводитс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для получивших неудовлетворительный результат («незачет»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не явившихся на итоговое собеседование по русскому языку по уважительным причинам, подтвержденным документальн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не завершивших итоговое собеседование по русскому языку по уважительным причинам, подтвержденным документально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собеседования включает следующие типы заданий: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чтение текста вслух;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ересказ текста с привлечением дополнительной информации;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монологическое высказывание по одной из выбранных тем;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диалог с экзаменатором-собеседником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ыполнение работы каждому участнику будет отводиться около 15 минут. В процессе проведения собеседования будет вестись аудиозапись.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выполнения заданий работы будет осуществляться экспертом непосредственно в процессе ответа по специально разработанным критериям с учетом соблюдения норм современного русского литературного язы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тся, что итоговое собеседование выпускники 9 классов будут проходить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оих школах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ться оно будет по системе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зачет»/«незачет» (минимальное кол-во баллов для «зачёта» – 10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018E-34AD-4C4C-B13F-A2CE8EADFF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240ae4"/>
                </a:solidFill>
                <a:latin typeface="Times New Roman"/>
                <a:ea typeface="Times New Roman"/>
              </a:rPr>
              <a:t>Время начала экзаменов в </a:t>
            </a:r>
            <a:r>
              <a:rPr b="1" lang="en-US" sz="3200" spc="-1" strike="noStrike">
                <a:solidFill>
                  <a:srgbClr val="240ae4"/>
                </a:solidFill>
                <a:latin typeface="Times New Roman"/>
                <a:ea typeface="Times New Roman"/>
              </a:rPr>
              <a:t>IX</a:t>
            </a:r>
            <a:r>
              <a:rPr b="1" lang="ru-RU" sz="3200" spc="-1" strike="noStrike">
                <a:solidFill>
                  <a:srgbClr val="240ae4"/>
                </a:solidFill>
                <a:latin typeface="Times New Roman"/>
                <a:ea typeface="Times New Roman"/>
              </a:rPr>
              <a:t> классах - 10.00 часов по местному времени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6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должительность экзаменов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, русский язык, литература – 3 часа 55 минут  (235 мин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ознание, физика – 3 часа (180 мин.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я, история - 3 часа (180 мин.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я, география - 2 часа (120 мин.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тика и ИКТ  – 2 часа 30 минут (150 мин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языки (письменная часть) – 2 час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20 мину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http://www.cdtnp.ru/images/front_page_2014/attest.jpg"/>
          <p:cNvPicPr/>
          <p:nvPr/>
        </p:nvPicPr>
        <p:blipFill>
          <a:blip r:embed="rId1"/>
          <a:stretch/>
        </p:blipFill>
        <p:spPr>
          <a:xfrm>
            <a:off x="7380360" y="2781360"/>
            <a:ext cx="16318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07:26:04Z</dcterms:created>
  <dc:creator>я</dc:creator>
  <dc:description/>
  <dc:language>en-US</dc:language>
  <cp:lastModifiedBy>Пользователь</cp:lastModifiedBy>
  <cp:lastPrinted>2013-12-02T06:33:48Z</cp:lastPrinted>
  <dcterms:modified xsi:type="dcterms:W3CDTF">2019-01-22T17:55:20Z</dcterms:modified>
  <cp:revision>406</cp:revision>
  <dc:subject/>
  <dc:title>Презентация PowerPoint</dc:title>
</cp:coreProperties>
</file>