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17BF-FB77-478B-9C38-903C78CE60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120-9190-4ABA-9AC5-AA3095012D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121C-15AE-46FE-879D-F43A98583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185-2299-476A-A7CB-9E184EBCE7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702-6E29-414A-98E9-7E8D9201C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9A70-CE9D-4AAB-8775-8E676AAF9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F50-2D21-4E6B-A929-BB15585E3B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14920" y="9309240"/>
            <a:ext cx="2919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80EF-631D-4009-BC44-F0F888A499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01C-F95A-48E2-97F2-57FCB79E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96C-FD2C-41F7-9046-AD2A718D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ED5-5329-4159-923E-172C2C1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557-9846-403F-B12F-43C1AA96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AC4-B185-4273-954C-ADF43FD6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7D8-A4B8-4F3C-854B-82AFD99E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967-AB73-4D24-B59A-4D0C6C44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0DC-D7B2-402F-9FF4-91D4E05A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98B-5E42-4BFF-B732-3CF67209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018-5BF9-4EDE-AC35-58872B1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2CB-BF16-499F-BA5F-A205C2D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624-069B-4EF1-BECF-26CA479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6D6-415E-48BC-8AD4-895A7510C8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E784-E5FD-49DA-83D9-E00C0A2EF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77C6-D14B-46FD-BE77-C6D2B2439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85.sochi-schools.ru/wp-content/uploads/2016/03/G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87280" y="62064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Проведение государственной итоговой аттес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ыпускников 9 классов в 2019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saroblnews.ru/files/pages/51267/1442822779general_pages_i51267_v_oblasti_startuet_osennii_etap_ege.jpg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выпускник обязан предостави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пор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бой иметь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ную гелевую руч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ые устройства и материалы, используемые по отдельным предметам, в соответствии с перечнем, ежегодно утверждаемым приказом Министерства образования и науки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77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государственной итоговой аттестации по образовательным программам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учающийся по объективным причина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мож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ершить выполнение экзаменационной работы, то он может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сроч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инуть аудитор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ом случае уполномоченный представитель экзаменационной комиссии составляет акт о досрочном завершении экзамена по объективным причин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93080" y="1484280"/>
            <a:ext cx="812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5075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верждение, изменение и (или) аннулирование результатов государственной итоговой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413000"/>
            <a:ext cx="8713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ее чем по двум учеб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, либо получившим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торно неудовлетворительный результат  по одному из этих предметов на ГИА в дополнитель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, будет предоставлено право повторно сдать экзамены по соответствующим учебным предметам не ранее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 сентябр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86ds7-nyagan.edusite.ru/images/ausrufezeichen2.gif"/>
          <p:cNvPicPr/>
          <p:nvPr/>
        </p:nvPicPr>
        <p:blipFill>
          <a:blip r:embed="rId1"/>
          <a:stretch/>
        </p:blipFill>
        <p:spPr>
          <a:xfrm>
            <a:off x="7956720" y="333360"/>
            <a:ext cx="380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5075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и рассмотрение апелля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892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согла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ыставленными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л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быть подана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 течение двух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рабочих дн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объявления результатов государственной итоговой аттестации по соответствующему учебному предме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h-67.org.ru/wp-content/uploads/2012/12/10.jpg"/>
          <p:cNvPicPr/>
          <p:nvPr/>
        </p:nvPicPr>
        <p:blipFill>
          <a:blip r:embed="rId1"/>
          <a:stretch/>
        </p:blipFill>
        <p:spPr>
          <a:xfrm>
            <a:off x="5651640" y="4149720"/>
            <a:ext cx="20890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Информацию по ГИА 2019</a:t>
            </a:r>
            <a:br>
              <a:rPr sz="3200"/>
            </a:b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можно най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Объект 5" descr="http://rcokio-chel.ru/pics/banners/4file.jpg"/>
          <p:cNvPicPr/>
          <p:nvPr/>
        </p:nvPicPr>
        <p:blipFill>
          <a:blip r:embed="rId1"/>
          <a:stretch/>
        </p:blipFill>
        <p:spPr>
          <a:xfrm>
            <a:off x="324000" y="2924280"/>
            <a:ext cx="2894040" cy="1096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2"/>
          <p:cNvSpPr/>
          <p:nvPr/>
        </p:nvSpPr>
        <p:spPr>
          <a:xfrm>
            <a:off x="3967200" y="5216400"/>
            <a:ext cx="37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ia.edu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3977640" y="324468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ipi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3978360" y="177336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обрнауки.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3917520" y="431496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ustest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88800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232000" cy="65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1224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03280" y="272520"/>
            <a:ext cx="59403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ш ребенок единственный и неповторимый. Особенный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любой надежный рецепт, опробованный поколениями родителей, может оказаться бесполез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ите то, что поможет именно вашему сыну, дочер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йте, размышляйте, обсуждайте с ребенком все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280" y="990720"/>
            <a:ext cx="3024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ая ба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просвещения России и Рособрнадзора от 07.11.2018 № 189/1513 «Об утверждении Порядка проведения государственной итоговой аттестации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» (зарегистрирован Минюстом 10.12.2018 регистрационный № 5295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Рособрнадзора от 11.04.2016 № 02-146 «О количестве сдаваемых предметов в IX класс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20 октября  2017 г. № 1025 «О проведении мониторинга качества образ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5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9047160" cy="590724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E5A4-6713-46CD-BFC3-39C7EE749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8080" y="115560"/>
            <a:ext cx="854064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Формы проведения государственной итоговой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государственный экзамен –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Г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с использованием экзаменационных материалов, представляющих собой комплексы заданий стандартизированной формы (контрольных измерительных материалов -КИ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6F4F-39B8-41B3-9118-63A708996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mou-udsosh1.narod.ru/EGE/16-17/ogeh.png"/>
          <p:cNvPicPr/>
          <p:nvPr/>
        </p:nvPicPr>
        <p:blipFill>
          <a:blip r:embed="rId1"/>
          <a:stretch/>
        </p:blipFill>
        <p:spPr>
          <a:xfrm>
            <a:off x="3203640" y="4581360"/>
            <a:ext cx="2857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ведения ГИА-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17"/>
          <p:cNvGrpSpPr/>
          <p:nvPr/>
        </p:nvGrpSpPr>
        <p:grpSpPr>
          <a:xfrm>
            <a:off x="395280" y="692280"/>
            <a:ext cx="8424720" cy="5905440"/>
            <a:chOff x="395280" y="692280"/>
            <a:chExt cx="8424720" cy="5905440"/>
          </a:xfrm>
        </p:grpSpPr>
        <p:sp>
          <p:nvSpPr>
            <p:cNvPr id="65" name="Прямоугольник 3"/>
            <p:cNvSpPr/>
            <p:nvPr/>
          </p:nvSpPr>
          <p:spPr>
            <a:xfrm>
              <a:off x="755640" y="692280"/>
              <a:ext cx="7704000" cy="4921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Cambria"/>
                </a:rPr>
                <a:t>2018/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Стрелка вниз 6"/>
            <p:cNvGrpSpPr/>
            <p:nvPr/>
          </p:nvGrpSpPr>
          <p:grpSpPr>
            <a:xfrm>
              <a:off x="2974680" y="1322640"/>
              <a:ext cx="2864880" cy="481320"/>
              <a:chOff x="2974680" y="1322640"/>
              <a:chExt cx="2864880" cy="481320"/>
            </a:xfrm>
          </p:grpSpPr>
          <p:pic>
            <p:nvPicPr>
              <p:cNvPr id="67" name="Стрелка вниз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4680" y="1322640"/>
                <a:ext cx="286488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21680" y="1356480"/>
                <a:ext cx="13762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Прямоугольник 7"/>
            <p:cNvSpPr/>
            <p:nvPr/>
          </p:nvSpPr>
          <p:spPr>
            <a:xfrm>
              <a:off x="755640" y="1838160"/>
              <a:ext cx="7704000" cy="40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Cambria"/>
                </a:rPr>
                <a:t>Обязательные предметы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оугольник 8"/>
            <p:cNvSpPr/>
            <p:nvPr/>
          </p:nvSpPr>
          <p:spPr>
            <a:xfrm>
              <a:off x="1365120" y="3460680"/>
              <a:ext cx="6532560" cy="191268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ambria"/>
                </a:rPr>
                <a:t>2 предмета по выбор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Cambria"/>
                </a:rPr>
                <a:t>(физика, химия, биология, история, география, информатика и ИКТ, иностранные языки, обществознание, литератур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ик 9"/>
            <p:cNvSpPr/>
            <p:nvPr/>
          </p:nvSpPr>
          <p:spPr>
            <a:xfrm>
              <a:off x="1365120" y="2382840"/>
              <a:ext cx="6532560" cy="41724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Cambria"/>
                </a:rPr>
                <a:t>русский язы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0"/>
            <p:cNvSpPr/>
            <p:nvPr/>
          </p:nvSpPr>
          <p:spPr>
            <a:xfrm>
              <a:off x="1365120" y="2884680"/>
              <a:ext cx="6532560" cy="41724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Cambria"/>
                </a:rPr>
                <a:t>математи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16"/>
            <p:cNvSpPr/>
            <p:nvPr/>
          </p:nvSpPr>
          <p:spPr>
            <a:xfrm>
              <a:off x="395280" y="5517720"/>
              <a:ext cx="8424720" cy="1080000"/>
            </a:xfrm>
            <a:prstGeom prst="rect">
              <a:avLst/>
            </a:prstGeom>
            <a:solidFill>
              <a:srgbClr val="b9cde5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ambria"/>
                </a:rPr>
                <a:t>Аттестат = успешные результаты ГИ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ambria"/>
                </a:rPr>
                <a:t>по </a:t>
              </a:r>
              <a:r>
                <a:rPr b="1" lang="ru-RU" sz="3200" spc="-1" strike="noStrike" u="sng">
                  <a:solidFill>
                    <a:srgbClr val="c00000"/>
                  </a:solidFill>
                  <a:uFillTx/>
                  <a:latin typeface="Cambria"/>
                </a:rPr>
                <a:t>четырем</a:t>
              </a:r>
              <a:r>
                <a:rPr b="1" lang="ru-RU" sz="3200" spc="-1" strike="noStrike">
                  <a:solidFill>
                    <a:srgbClr val="c00000"/>
                  </a:solidFill>
                  <a:latin typeface="Cambria"/>
                </a:rPr>
                <a:t>  учебным предмета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 И А в  2019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кзамены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выб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ник определя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яв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выборе экзаменов и их количестве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дписанное родител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конными представителями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ёт  выпускник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марта 2019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ода включительн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государственной итоговой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082600" cy="254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haron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 ГИА допускаются обучающиеся, не имеющие академической задолженности, в полном объеме выполнившие учебный план или индивидуальный учебный план (имеющие годовые отметки по всем учебным предметам учебного плана за IX клас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 ниже удовлетворительны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такж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щие результат «зачет» за итоговое собеседование по русскому язык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ое собеседование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500040"/>
            <a:ext cx="8785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й срок проведения этого испытания для всех девятиклассников -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3 февра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 дополнительные дни - 13 марта и 6 м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торно 13 марта 2019 года/6 мая 2019 года итоговое собеседование по русскому языку проводи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ля получивших неудовлетворительный результат («незачет»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е явившихся на итоговое собеседование по русскому языку по уважительным причинам, подтвержденным документальн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е завершивших итоговое собеседование по русскому языку по уважительным причинам, подтвержденным документаль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собеседования включает следующие типы заданий: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чтение текста вслух;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сказ текста с привлечением дополнительной информации;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нологическое высказывание по одной из выбранных тем;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диалог с экзаменатором-собеседником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работы каждому участнику будет отводиться около 15 минут. В процессе проведения собеседования будет вестись аудиозапись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ыполнения заданий работы будет осуществляться экспертом непосредственно в процессе ответа по специально разработанным критериям с учетом соблюдения норм современного русского литературного язы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, что итоговое собеседование выпускники 9 классов будут проходить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их школ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ся оно будет по систем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зачет»/«незачет» (минимальное кол-во баллов для «зачёта» – 10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E81-2F00-4EF7-9E80-135784246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Время начала экзаменов в </a:t>
            </a:r>
            <a:r>
              <a:rPr b="1" lang="en-US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IX</a:t>
            </a:r>
            <a:r>
              <a:rPr b="1" lang="ru-RU" sz="3200" spc="-1" strike="noStrike">
                <a:solidFill>
                  <a:srgbClr val="240ae4"/>
                </a:solidFill>
                <a:latin typeface="Times New Roman"/>
                <a:ea typeface="Times New Roman"/>
              </a:rPr>
              <a:t> классах - 10.00 часов по местному времен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должительность экзаменов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, русский язык, литература – 3 часа 55 минут  (235 мин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, физика – 3 часа (180 мин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, история - 3 часа (180 мин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, география - 2 часа (120 мин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и ИКТ  – 2 часа 30 минут (150 мин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языки (письменная часть) – 2 ча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cdtnp.ru/images/front_page_2014/attest.jpg"/>
          <p:cNvPicPr/>
          <p:nvPr/>
        </p:nvPicPr>
        <p:blipFill>
          <a:blip r:embed="rId1"/>
          <a:stretch/>
        </p:blipFill>
        <p:spPr>
          <a:xfrm>
            <a:off x="7380360" y="2781360"/>
            <a:ext cx="16318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7:26:04Z</dcterms:created>
  <dc:creator>я</dc:creator>
  <dc:description/>
  <dc:language>en-US</dc:language>
  <cp:lastModifiedBy>Пользователь</cp:lastModifiedBy>
  <cp:lastPrinted>2013-12-02T06:33:48Z</cp:lastPrinted>
  <dcterms:modified xsi:type="dcterms:W3CDTF">2019-01-22T17:55:20Z</dcterms:modified>
  <cp:revision>406</cp:revision>
  <dc:subject/>
  <dc:title>Презентация PowerPoint</dc:title>
</cp:coreProperties>
</file>