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23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19.gif" ContentType="image/gif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7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457-6F5C-4F46-BF55-EB0880CD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271-C7DF-4D99-A96A-F652C2E6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4E8-C8D8-442B-9F83-847D09A3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AE9-07A7-4F94-A7AD-E1A793D7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EFE6-B11E-47E6-AA18-E3F2E160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D17B-9524-4616-9817-BC5D6DB5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F575-0706-4C37-8432-D4986CCD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B367-52D6-4B7A-B567-F7196780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705B-8191-44B7-BC69-ED01F678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C500-8542-4004-B435-E7AC3F9F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9B8E-7CA3-4280-86D4-775ACB95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911-B155-44BB-BD6F-937F6B8A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C9D7-1570-4369-A570-E33414C3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0C8B-947B-4BD5-9015-0FB66A9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D989-27C4-4D7A-BC4A-B7EB1050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A813-9B65-470B-943C-3A056EC3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681C-FB04-4F3C-8F88-03DB3C8E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633-04E2-4E7F-9684-B1178271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576-62D7-4923-A8C6-2FDDF7F4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89A-44DE-4B9A-A711-DD3FDC04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E42-1F85-480E-8E1D-0FEC240F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BD7-D553-4A21-AF58-2AC5EB6B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70A-31F8-4E4C-991C-830EEFB7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41A-4DE3-4E38-A2E1-843263C4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CF9A-97CA-45E3-A978-0803F09986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245E-859E-4BA6-A53D-C6B77ED5E4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1699920"/>
            <a:ext cx="7543800" cy="136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резентация к уроку окружающего мира во 2 классе по теме </a:t>
            </a:r>
            <a:br>
              <a:rPr sz="3200"/>
            </a:br>
            <a:br>
              <a:rPr sz="3200"/>
            </a:br>
            <a:r>
              <a:rPr b="1" lang="ru-RU" sz="6600" spc="-1" strike="noStrike">
                <a:solidFill>
                  <a:srgbClr val="c00000"/>
                </a:solidFill>
                <a:latin typeface="Times New Roman"/>
              </a:rPr>
              <a:t>«В гости к осени»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63468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 – Алёшина Тамара Васильевна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то это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6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возь земл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шёл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сну шапочк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ё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Содержимое 4" descr="0eeafe1bfc7d.jpg"/>
          <p:cNvPicPr/>
          <p:nvPr/>
        </p:nvPicPr>
        <p:blipFill>
          <a:blip r:embed="rId1"/>
          <a:stretch/>
        </p:blipFill>
        <p:spPr>
          <a:xfrm>
            <a:off x="3643200" y="2270160"/>
            <a:ext cx="5329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Ядовитые гриб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Содержимое 4" descr="jr.jpg"/>
          <p:cNvPicPr/>
          <p:nvPr/>
        </p:nvPicPr>
        <p:blipFill>
          <a:blip r:embed="rId1"/>
          <a:stretch/>
        </p:blipFill>
        <p:spPr>
          <a:xfrm>
            <a:off x="1071720" y="1571760"/>
            <a:ext cx="7358040" cy="49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ъедобные гриб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Содержимое 4" descr="d4030083a6f59431ff990a4c10efb709.jpg"/>
          <p:cNvPicPr/>
          <p:nvPr/>
        </p:nvPicPr>
        <p:blipFill>
          <a:blip r:embed="rId1"/>
          <a:stretch/>
        </p:blipFill>
        <p:spPr>
          <a:xfrm>
            <a:off x="1071720" y="1285920"/>
            <a:ext cx="7072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8800" y="272880"/>
            <a:ext cx="657216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гра «Бывает ли осенью?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тит без крыльев и поёт, прохожих задира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ним проходу не даёт, других он подгоня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Рисунок 3" descr="0a0d527c042f13a616d9404d91eef32c.jpg"/>
          <p:cNvPicPr/>
          <p:nvPr/>
        </p:nvPicPr>
        <p:blipFill>
          <a:blip r:embed="rId1"/>
          <a:stretch/>
        </p:blipFill>
        <p:spPr>
          <a:xfrm>
            <a:off x="4186080" y="1357200"/>
            <a:ext cx="41198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56800"/>
            <a:ext cx="403848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 минуту в землю врос разноцветный чудо-мос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удо-мастер смастерил мост высокий, без пери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4764240" y="1413000"/>
            <a:ext cx="437976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одержимое 8" descr="f_9702551.jpg"/>
          <p:cNvPicPr/>
          <p:nvPr/>
        </p:nvPicPr>
        <p:blipFill>
          <a:blip r:embed="rId1"/>
          <a:stretch/>
        </p:blipFill>
        <p:spPr>
          <a:xfrm>
            <a:off x="4286160" y="142920"/>
            <a:ext cx="4429080" cy="3322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6840" y="356760"/>
            <a:ext cx="36147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белом бархате деревня - и заборы, и деревь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как ветер нападёт, этот бархат опадё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мотри в окошко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дёт тоненький Антош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image143"/>
          <p:cNvPicPr/>
          <p:nvPr/>
        </p:nvPicPr>
        <p:blipFill>
          <a:blip r:embed="rId2"/>
          <a:stretch/>
        </p:blipFill>
        <p:spPr>
          <a:xfrm>
            <a:off x="4429080" y="3714840"/>
            <a:ext cx="4475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олько жалобы и вздохи, только слёзы лью всегда.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, ребята, мне станцуйте, рассмешите вы меня"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Picture 4" descr="image143"/>
          <p:cNvPicPr/>
          <p:nvPr/>
        </p:nvPicPr>
        <p:blipFill>
          <a:blip r:embed="rId1"/>
          <a:stretch/>
        </p:blipFill>
        <p:spPr>
          <a:xfrm>
            <a:off x="1547640" y="3052800"/>
            <a:ext cx="59040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нкурс «Гроз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Picture 4" descr="image958"/>
          <p:cNvPicPr/>
          <p:nvPr/>
        </p:nvPicPr>
        <p:blipFill>
          <a:blip r:embed="rId1"/>
          <a:stretch/>
        </p:blipFill>
        <p:spPr>
          <a:xfrm>
            <a:off x="1332000" y="1268280"/>
            <a:ext cx="626436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ты осе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857840" y="1928880"/>
            <a:ext cx="1444680" cy="1225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7858080" y="4071960"/>
            <a:ext cx="1444680" cy="122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5572080" y="2571840"/>
            <a:ext cx="1444680" cy="1225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4"/>
          <a:stretch/>
        </p:blipFill>
        <p:spPr>
          <a:xfrm>
            <a:off x="6286680" y="2928960"/>
            <a:ext cx="1444320" cy="1225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7072200" y="3429000"/>
            <a:ext cx="1444680" cy="12254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250920" y="924480"/>
            <a:ext cx="4749840" cy="67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око птицы перелетные летят – будет много снегу, низко – ма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птицы летят низко – к холодной зиме, высоко – к тепл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уси летят высоко – будет много снега, низко - ма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286160" y="272520"/>
            <a:ext cx="4400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6840" y="214200"/>
            <a:ext cx="425772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ягушки квакают – к дожд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с дерева лист не чисто спадет, будет холодная зи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много рябины, то осень дождливая, а зима мороз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Рисунок 5" descr="09148f8f7a667d5ef1a3492a87deb200.jpg"/>
          <p:cNvPicPr/>
          <p:nvPr/>
        </p:nvPicPr>
        <p:blipFill>
          <a:blip r:embed="rId1"/>
          <a:stretch/>
        </p:blipFill>
        <p:spPr>
          <a:xfrm>
            <a:off x="4786200" y="3857760"/>
            <a:ext cx="4181760" cy="2786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2"/>
          <a:stretch/>
        </p:blipFill>
        <p:spPr>
          <a:xfrm>
            <a:off x="4786200" y="285840"/>
            <a:ext cx="4170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4200" y="2000160"/>
            <a:ext cx="385776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ружилась листва золот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розоватой воде на пруд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но бабочек лёгкая ст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замираньем летит на звез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.Есен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5" descr="0_ca92_50a881a7_XL.jpg"/>
          <p:cNvPicPr/>
          <p:nvPr/>
        </p:nvPicPr>
        <p:blipFill>
          <a:blip r:embed="rId1"/>
          <a:stretch/>
        </p:blipFill>
        <p:spPr>
          <a:xfrm>
            <a:off x="4032360" y="692280"/>
            <a:ext cx="4816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30081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явление комаров поздней осенью – к мягкой зи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ары в ноябре - быть лёгкой зи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Рисунок 6" descr="0_18061_49ec391b_XL.jpg"/>
          <p:cNvPicPr/>
          <p:nvPr/>
        </p:nvPicPr>
        <p:blipFill>
          <a:blip r:embed="rId1"/>
          <a:stretch/>
        </p:blipFill>
        <p:spPr>
          <a:xfrm>
            <a:off x="3575160" y="1228680"/>
            <a:ext cx="51116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Содержимое 5" descr="0_1b79_24a714fb_XL.jpg"/>
          <p:cNvPicPr/>
          <p:nvPr/>
        </p:nvPicPr>
        <p:blipFill>
          <a:blip r:embed="rId1"/>
          <a:stretch/>
        </p:blipFill>
        <p:spPr>
          <a:xfrm>
            <a:off x="4014720" y="1282680"/>
            <a:ext cx="4672080" cy="35035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85480"/>
            <a:ext cx="36432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бье лето ненастно  – осень сух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д  ненастьем муравьи уползают в муравейник и закрывают в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285840" y="5214960"/>
            <a:ext cx="42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плая осень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долгой зи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285480"/>
            <a:ext cx="44956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"Прощайте, милые друзь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ра и мне спешить в поход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 заверяю смело 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быстро год опять пройдё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Содержимое 4" descr="1251476244_659395.jpg"/>
          <p:cNvPicPr/>
          <p:nvPr/>
        </p:nvPicPr>
        <p:blipFill>
          <a:blip r:embed="rId1"/>
          <a:stretch/>
        </p:blipFill>
        <p:spPr>
          <a:xfrm>
            <a:off x="4500720" y="642960"/>
            <a:ext cx="44002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71760" y="272520"/>
            <a:ext cx="521496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ентябрь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Содержимое 7" descr="e0928a2826d0.gif"/>
          <p:cNvPicPr/>
          <p:nvPr/>
        </p:nvPicPr>
        <p:blipFill>
          <a:blip r:embed="rId1"/>
          <a:stretch/>
        </p:blipFill>
        <p:spPr>
          <a:xfrm>
            <a:off x="3387600" y="1643040"/>
            <a:ext cx="5583240" cy="39290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ентябре одна ягодка горькая – да и та ряб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604368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ктябрь - грязни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Содержимое 7" descr="08b407ff06e6.jpg"/>
          <p:cNvPicPr/>
          <p:nvPr/>
        </p:nvPicPr>
        <p:blipFill>
          <a:blip r:embed="rId1"/>
          <a:stretch/>
        </p:blipFill>
        <p:spPr>
          <a:xfrm>
            <a:off x="3500280" y="1214280"/>
            <a:ext cx="5214960" cy="5276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тябрь ни колеса ни полоза не люби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4280" y="272520"/>
            <a:ext cx="585792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оябрь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Содержимое 7" descr="0_45e6_4c84c28e_XL.jpg"/>
          <p:cNvPicPr/>
          <p:nvPr/>
        </p:nvPicPr>
        <p:blipFill>
          <a:blip r:embed="rId1"/>
          <a:stretch/>
        </p:blipFill>
        <p:spPr>
          <a:xfrm>
            <a:off x="3643200" y="1643040"/>
            <a:ext cx="5112000" cy="384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6760" y="1356840"/>
            <a:ext cx="3008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ноябре зима с осенью встреча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ябрь капризен: то плачет, то сме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гадай загад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</a:rPr>
              <a:t>Пришла без красок и без ки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</a:rPr>
              <a:t>И перекрасила все лист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дит-зеленеет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дает-желтеет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жит-чернеет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Рисунок 5" descr="1251476244_659395.jpg"/>
          <p:cNvPicPr/>
          <p:nvPr/>
        </p:nvPicPr>
        <p:blipFill>
          <a:blip r:embed="rId1"/>
          <a:stretch/>
        </p:blipFill>
        <p:spPr>
          <a:xfrm>
            <a:off x="6048360" y="1714680"/>
            <a:ext cx="309564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0_19b6e_98b24398_XL.jpg"/>
          <p:cNvPicPr/>
          <p:nvPr/>
        </p:nvPicPr>
        <p:blipFill>
          <a:blip r:embed="rId2"/>
          <a:stretch/>
        </p:blipFill>
        <p:spPr>
          <a:xfrm>
            <a:off x="3500280" y="3714840"/>
            <a:ext cx="3143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785520"/>
            <a:ext cx="822960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а под осень умирает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новь весною оживает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овам без неё - бед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а их главная ед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то собирает яблоки спиной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Рисунок 5" descr="1245523506_vplants12_014-50.jpg"/>
          <p:cNvPicPr/>
          <p:nvPr/>
        </p:nvPicPr>
        <p:blipFill>
          <a:blip r:embed="rId1"/>
          <a:stretch/>
        </p:blipFill>
        <p:spPr>
          <a:xfrm>
            <a:off x="5500800" y="857160"/>
            <a:ext cx="3481200" cy="26114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0_25a92_461d1778_L.jpg"/>
          <p:cNvPicPr/>
          <p:nvPr/>
        </p:nvPicPr>
        <p:blipFill>
          <a:blip r:embed="rId2"/>
          <a:stretch/>
        </p:blipFill>
        <p:spPr>
          <a:xfrm>
            <a:off x="5786280" y="4429080"/>
            <a:ext cx="33577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60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й лесной жител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шит грибы на деревьях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стья каких деревье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енью краснеют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 какого зверя ос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листопад появляю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теныш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Рисунок 3" descr="56013137_Belka1.jpg"/>
          <p:cNvPicPr/>
          <p:nvPr/>
        </p:nvPicPr>
        <p:blipFill>
          <a:blip r:embed="rId1"/>
          <a:stretch/>
        </p:blipFill>
        <p:spPr>
          <a:xfrm>
            <a:off x="5643720" y="446040"/>
            <a:ext cx="3000240" cy="20401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resize_image.jpg"/>
          <p:cNvPicPr/>
          <p:nvPr/>
        </p:nvPicPr>
        <p:blipFill>
          <a:blip r:embed="rId2"/>
          <a:stretch/>
        </p:blipFill>
        <p:spPr>
          <a:xfrm>
            <a:off x="4786200" y="2571840"/>
            <a:ext cx="3143520" cy="2097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listopadnichki.jpg"/>
          <p:cNvPicPr/>
          <p:nvPr/>
        </p:nvPicPr>
        <p:blipFill>
          <a:blip r:embed="rId3"/>
          <a:stretch/>
        </p:blipFill>
        <p:spPr>
          <a:xfrm>
            <a:off x="5857920" y="4714920"/>
            <a:ext cx="2849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стории осеннего леса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Содержимое 4" descr="85e7d80c7ce6fbd515826a5380998fbc.jpg"/>
          <p:cNvPicPr/>
          <p:nvPr/>
        </p:nvPicPr>
        <p:blipFill>
          <a:blip r:embed="rId1"/>
          <a:stretch/>
        </p:blipFill>
        <p:spPr>
          <a:xfrm>
            <a:off x="1071720" y="1285920"/>
            <a:ext cx="7143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4:54:03Z</dcterms:created>
  <dc:creator>Мандракова Т.М.</dc:creator>
  <dc:description/>
  <dc:language>en-US</dc:language>
  <cp:lastModifiedBy>Teacher</cp:lastModifiedBy>
  <dcterms:modified xsi:type="dcterms:W3CDTF">2019-11-26T17:24:34Z</dcterms:modified>
  <cp:revision>20</cp:revision>
  <dc:subject/>
  <dc:title>В гости к осени</dc:title>
</cp:coreProperties>
</file>