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0.gif" ContentType="image/gif"/>
  <Override PartName="/ppt/media/image23.png" ContentType="image/pn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png" ContentType="image/png"/>
  <Override PartName="/ppt/media/image19.gif" ContentType="image/gif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7.jpeg" ContentType="image/jpeg"/>
  <Override PartName="/ppt/media/image1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6D7B-D712-4284-80E3-90D8D9B61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0F08-3DD1-42F7-99F8-E567C457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EAD0-3989-4D5A-94F1-B78C99AD9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DACF-AF92-4CD6-A982-8978E17E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A77D-6E12-4A70-BAAD-5F7622AAA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37BA-197D-4CD8-B944-43B8FE30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FA3F-0502-483E-84EC-DD24C869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02D1-7304-4698-B8F2-9C6C135F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A891-DE76-46B2-BAA7-A2EF520B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BCEB-8A01-47FD-9317-DD815058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356B-BA6D-4148-9537-FC8B4693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476A-16AE-4EEF-AFC3-F662FE71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497A-E9AB-4015-AFBC-83022246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59BC-7E33-4582-BB6B-9C293ECD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7C39-24DC-4BBB-A6CE-7673AF2F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12F7-8834-4862-AB90-08CEA1C16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7985-1FC7-4A18-AE87-433A3A4F0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8193-8938-4F95-9EB4-687B02A2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F778-4273-406E-BD41-6CD49943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0F02-6001-4FA0-94B3-DE8DDFA0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3755-1C3C-47E9-AF27-02209F6C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94A2-52DE-4F25-8FB5-45051D91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24AA-9806-4582-9EE6-190BD638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E57C-9404-4F08-9C37-4A576AB2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81E5-E1C0-4B8C-8E65-BA9FECCC34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50CB-9D60-44EC-979E-D9F695E9B13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560" y="1699920"/>
            <a:ext cx="7543800" cy="136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Презентация к уроку окружающего мира во 2 классе по теме </a:t>
            </a:r>
            <a:br>
              <a:rPr sz="3200"/>
            </a:br>
            <a:br>
              <a:rPr sz="3200"/>
            </a:br>
            <a:r>
              <a:rPr b="1" lang="ru-RU" sz="6600" spc="-1" strike="noStrike">
                <a:solidFill>
                  <a:srgbClr val="c00000"/>
                </a:solidFill>
                <a:latin typeface="Times New Roman"/>
              </a:rPr>
              <a:t>«В гости к осени»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6346800" cy="21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втор – Алёшина Тамара Васильевна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итель начальных класс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Кто это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86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квозь земл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шёл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асну шапочку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шё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Содержимое 4" descr="0eeafe1bfc7d.jpg"/>
          <p:cNvPicPr/>
          <p:nvPr/>
        </p:nvPicPr>
        <p:blipFill>
          <a:blip r:embed="rId1"/>
          <a:stretch/>
        </p:blipFill>
        <p:spPr>
          <a:xfrm>
            <a:off x="3643200" y="2270160"/>
            <a:ext cx="532944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Ядовитые гриб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0" name="Содержимое 4" descr="jr.jpg"/>
          <p:cNvPicPr/>
          <p:nvPr/>
        </p:nvPicPr>
        <p:blipFill>
          <a:blip r:embed="rId1"/>
          <a:stretch/>
        </p:blipFill>
        <p:spPr>
          <a:xfrm>
            <a:off x="1071720" y="1571760"/>
            <a:ext cx="7358040" cy="49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ъедобные гриб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2" name="Содержимое 4" descr="d4030083a6f59431ff990a4c10efb709.jpg"/>
          <p:cNvPicPr/>
          <p:nvPr/>
        </p:nvPicPr>
        <p:blipFill>
          <a:blip r:embed="rId1"/>
          <a:stretch/>
        </p:blipFill>
        <p:spPr>
          <a:xfrm>
            <a:off x="1071720" y="1285920"/>
            <a:ext cx="70722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28800" y="272880"/>
            <a:ext cx="6572160" cy="101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Игра «Бывает ли осенью?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етит без крыльев и поёт, прохожих задирае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дним проходу не даёт, других он подгоняе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Рисунок 3" descr="0a0d527c042f13a616d9404d91eef32c.jpg"/>
          <p:cNvPicPr/>
          <p:nvPr/>
        </p:nvPicPr>
        <p:blipFill>
          <a:blip r:embed="rId1"/>
          <a:stretch/>
        </p:blipFill>
        <p:spPr>
          <a:xfrm>
            <a:off x="4186080" y="1357200"/>
            <a:ext cx="4119840" cy="51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56800"/>
            <a:ext cx="4038480" cy="52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а минуту в землю врос разноцветный чудо-мос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Чудо-мастер смастерил мост высокий, без пери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10" descr=""/>
          <p:cNvPicPr/>
          <p:nvPr/>
        </p:nvPicPr>
        <p:blipFill>
          <a:blip r:embed="rId1"/>
          <a:stretch/>
        </p:blipFill>
        <p:spPr>
          <a:xfrm>
            <a:off x="4764240" y="1413000"/>
            <a:ext cx="4379760" cy="49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Содержимое 8" descr="f_9702551.jpg"/>
          <p:cNvPicPr/>
          <p:nvPr/>
        </p:nvPicPr>
        <p:blipFill>
          <a:blip r:embed="rId1"/>
          <a:stretch/>
        </p:blipFill>
        <p:spPr>
          <a:xfrm>
            <a:off x="4286160" y="142920"/>
            <a:ext cx="4429080" cy="33224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6840" y="356760"/>
            <a:ext cx="361476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белом бархате деревня - и заборы, и деревья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 как ветер нападёт, этот бархат опадёт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смотри в окошко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дёт тоненький Антошк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4" descr="image143"/>
          <p:cNvPicPr/>
          <p:nvPr/>
        </p:nvPicPr>
        <p:blipFill>
          <a:blip r:embed="rId2"/>
          <a:stretch/>
        </p:blipFill>
        <p:spPr>
          <a:xfrm>
            <a:off x="4429080" y="3714840"/>
            <a:ext cx="4475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Только жалобы и вздохи, только слёзы лью всегда. 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ы, ребята, мне станцуйте, рассмешите вы меня".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2" name="Picture 4" descr="image143"/>
          <p:cNvPicPr/>
          <p:nvPr/>
        </p:nvPicPr>
        <p:blipFill>
          <a:blip r:embed="rId1"/>
          <a:stretch/>
        </p:blipFill>
        <p:spPr>
          <a:xfrm>
            <a:off x="1547640" y="3052800"/>
            <a:ext cx="59040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Конкурс «Гроза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4" name="Picture 4" descr="image958"/>
          <p:cNvPicPr/>
          <p:nvPr/>
        </p:nvPicPr>
        <p:blipFill>
          <a:blip r:embed="rId1"/>
          <a:stretch/>
        </p:blipFill>
        <p:spPr>
          <a:xfrm>
            <a:off x="1332000" y="1268280"/>
            <a:ext cx="6264360" cy="53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иметы осен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4857840" y="1928880"/>
            <a:ext cx="1444680" cy="1225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2"/>
          <a:stretch/>
        </p:blipFill>
        <p:spPr>
          <a:xfrm>
            <a:off x="7858080" y="4071960"/>
            <a:ext cx="1444680" cy="1225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"/>
          <p:cNvPicPr/>
          <p:nvPr/>
        </p:nvPicPr>
        <p:blipFill>
          <a:blip r:embed="rId3"/>
          <a:stretch/>
        </p:blipFill>
        <p:spPr>
          <a:xfrm>
            <a:off x="5572080" y="2571840"/>
            <a:ext cx="1444680" cy="1225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"/>
          <p:cNvPicPr/>
          <p:nvPr/>
        </p:nvPicPr>
        <p:blipFill>
          <a:blip r:embed="rId4"/>
          <a:stretch/>
        </p:blipFill>
        <p:spPr>
          <a:xfrm>
            <a:off x="6286680" y="2928960"/>
            <a:ext cx="1444320" cy="1225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"/>
          <p:cNvPicPr/>
          <p:nvPr/>
        </p:nvPicPr>
        <p:blipFill>
          <a:blip r:embed="rId5"/>
          <a:stretch/>
        </p:blipFill>
        <p:spPr>
          <a:xfrm>
            <a:off x="7072200" y="3429000"/>
            <a:ext cx="1444680" cy="12254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0"/>
          <p:cNvSpPr/>
          <p:nvPr/>
        </p:nvSpPr>
        <p:spPr>
          <a:xfrm>
            <a:off x="250920" y="924480"/>
            <a:ext cx="4749840" cy="67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соко птицы перелетные летят – будет много снегу, низко – мал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ли птицы летят низко – к холодной зиме, высоко – к тепло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уси летят высоко – будет много снега, низко - мал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286160" y="272520"/>
            <a:ext cx="4400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6840" y="214200"/>
            <a:ext cx="425772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ягушки квакают – к дождю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ли с дерева лист не чисто спадет, будет холодная зим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ли много рябины, то осень дождливая, а зима морозн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Рисунок 5" descr="09148f8f7a667d5ef1a3492a87deb200.jpg"/>
          <p:cNvPicPr/>
          <p:nvPr/>
        </p:nvPicPr>
        <p:blipFill>
          <a:blip r:embed="rId1"/>
          <a:stretch/>
        </p:blipFill>
        <p:spPr>
          <a:xfrm>
            <a:off x="4786200" y="3857760"/>
            <a:ext cx="4181760" cy="27860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"/>
          <p:cNvPicPr/>
          <p:nvPr/>
        </p:nvPicPr>
        <p:blipFill>
          <a:blip r:embed="rId2"/>
          <a:stretch/>
        </p:blipFill>
        <p:spPr>
          <a:xfrm>
            <a:off x="4786200" y="285840"/>
            <a:ext cx="41706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14200" y="2000160"/>
            <a:ext cx="385776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кружилась листва золот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розоватой воде на пруду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овно бабочек лёгкая ст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 замираньем летит на звезд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.Есени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Содержимое 5" descr="0_ca92_50a881a7_XL.jpg"/>
          <p:cNvPicPr/>
          <p:nvPr/>
        </p:nvPicPr>
        <p:blipFill>
          <a:blip r:embed="rId1"/>
          <a:stretch/>
        </p:blipFill>
        <p:spPr>
          <a:xfrm>
            <a:off x="4032360" y="692280"/>
            <a:ext cx="48164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285480"/>
            <a:ext cx="300816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явление комаров поздней осенью – к мягкой зим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мары в ноябре - быть лёгкой зим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Рисунок 6" descr="0_18061_49ec391b_XL.jpg"/>
          <p:cNvPicPr/>
          <p:nvPr/>
        </p:nvPicPr>
        <p:blipFill>
          <a:blip r:embed="rId1"/>
          <a:stretch/>
        </p:blipFill>
        <p:spPr>
          <a:xfrm>
            <a:off x="3575160" y="1228680"/>
            <a:ext cx="511164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Содержимое 5" descr="0_1b79_24a714fb_XL.jpg"/>
          <p:cNvPicPr/>
          <p:nvPr/>
        </p:nvPicPr>
        <p:blipFill>
          <a:blip r:embed="rId1"/>
          <a:stretch/>
        </p:blipFill>
        <p:spPr>
          <a:xfrm>
            <a:off x="4014720" y="1282680"/>
            <a:ext cx="4672080" cy="35035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00040" y="285480"/>
            <a:ext cx="36432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бье лето ненастно  – осень сух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еред  ненастьем муравьи уползают в муравейник и закрывают вход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Прямоугольник 4"/>
          <p:cNvSpPr/>
          <p:nvPr/>
        </p:nvSpPr>
        <p:spPr>
          <a:xfrm>
            <a:off x="285840" y="5214960"/>
            <a:ext cx="421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плая осень –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 долгой зим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0" y="285480"/>
            <a:ext cx="449568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"Прощайте, милые друзья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ра и мне спешить в поход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о заверяю смело я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то быстро год опять пройдё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Содержимое 4" descr="1251476244_659395.jpg"/>
          <p:cNvPicPr/>
          <p:nvPr/>
        </p:nvPicPr>
        <p:blipFill>
          <a:blip r:embed="rId1"/>
          <a:stretch/>
        </p:blipFill>
        <p:spPr>
          <a:xfrm>
            <a:off x="4500720" y="642960"/>
            <a:ext cx="440028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71760" y="272520"/>
            <a:ext cx="5214960" cy="79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ентябрь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5" name="Содержимое 7" descr="e0928a2826d0.gif"/>
          <p:cNvPicPr/>
          <p:nvPr/>
        </p:nvPicPr>
        <p:blipFill>
          <a:blip r:embed="rId1"/>
          <a:stretch/>
        </p:blipFill>
        <p:spPr>
          <a:xfrm>
            <a:off x="3387600" y="1643040"/>
            <a:ext cx="5583240" cy="39290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сентябре одна ягодка горькая – да и та рябин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6043680" cy="5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ктябрь - грязник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8" name="Содержимое 7" descr="08b407ff06e6.jpg"/>
          <p:cNvPicPr/>
          <p:nvPr/>
        </p:nvPicPr>
        <p:blipFill>
          <a:blip r:embed="rId1"/>
          <a:stretch/>
        </p:blipFill>
        <p:spPr>
          <a:xfrm>
            <a:off x="3500280" y="1214280"/>
            <a:ext cx="5214960" cy="52768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ктябрь ни колеса ни полоза не люби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4280" y="272520"/>
            <a:ext cx="585792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Ноябрь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Содержимое 7" descr="0_45e6_4c84c28e_XL.jpg"/>
          <p:cNvPicPr/>
          <p:nvPr/>
        </p:nvPicPr>
        <p:blipFill>
          <a:blip r:embed="rId1"/>
          <a:stretch/>
        </p:blipFill>
        <p:spPr>
          <a:xfrm>
            <a:off x="3643200" y="1643040"/>
            <a:ext cx="5112000" cy="38466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56760" y="1356840"/>
            <a:ext cx="30085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ноябре зима с осенью встречает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оябрь капризен: то плачет, то смеет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гадай загадк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Times New Roman"/>
              </a:rPr>
              <a:t>Пришла без красок и без ки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Times New Roman"/>
              </a:rPr>
              <a:t>И перекрасила все листь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идит-зеленеет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адает-желтеет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ежит-чернеет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Рисунок 5" descr="1251476244_659395.jpg"/>
          <p:cNvPicPr/>
          <p:nvPr/>
        </p:nvPicPr>
        <p:blipFill>
          <a:blip r:embed="rId1"/>
          <a:stretch/>
        </p:blipFill>
        <p:spPr>
          <a:xfrm>
            <a:off x="6048360" y="1714680"/>
            <a:ext cx="3095640" cy="278604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6" descr="0_19b6e_98b24398_XL.jpg"/>
          <p:cNvPicPr/>
          <p:nvPr/>
        </p:nvPicPr>
        <p:blipFill>
          <a:blip r:embed="rId2"/>
          <a:stretch/>
        </p:blipFill>
        <p:spPr>
          <a:xfrm>
            <a:off x="3500280" y="3714840"/>
            <a:ext cx="31435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785520"/>
            <a:ext cx="8229600" cy="53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на под осень умирает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вновь весною оживает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ровам без неё - беда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на их главная ед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то собирает яблоки спиной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Рисунок 5" descr="1245523506_vplants12_014-50.jpg"/>
          <p:cNvPicPr/>
          <p:nvPr/>
        </p:nvPicPr>
        <p:blipFill>
          <a:blip r:embed="rId1"/>
          <a:stretch/>
        </p:blipFill>
        <p:spPr>
          <a:xfrm>
            <a:off x="5500800" y="857160"/>
            <a:ext cx="3481200" cy="26114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6" descr="0_25a92_461d1778_L.jpg"/>
          <p:cNvPicPr/>
          <p:nvPr/>
        </p:nvPicPr>
        <p:blipFill>
          <a:blip r:embed="rId2"/>
          <a:stretch/>
        </p:blipFill>
        <p:spPr>
          <a:xfrm>
            <a:off x="5786280" y="4429080"/>
            <a:ext cx="335772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285840"/>
            <a:ext cx="8229600" cy="58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ой лесной житель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ушит грибы на деревьях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истья каких деревьев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сенью краснеют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 какого зверя осен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листопад появляютс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теныши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Рисунок 3" descr="56013137_Belka1.jpg"/>
          <p:cNvPicPr/>
          <p:nvPr/>
        </p:nvPicPr>
        <p:blipFill>
          <a:blip r:embed="rId1"/>
          <a:stretch/>
        </p:blipFill>
        <p:spPr>
          <a:xfrm>
            <a:off x="5643720" y="446040"/>
            <a:ext cx="3000240" cy="204012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4" descr="resize_image.jpg"/>
          <p:cNvPicPr/>
          <p:nvPr/>
        </p:nvPicPr>
        <p:blipFill>
          <a:blip r:embed="rId2"/>
          <a:stretch/>
        </p:blipFill>
        <p:spPr>
          <a:xfrm>
            <a:off x="4786200" y="2571840"/>
            <a:ext cx="3143520" cy="20970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5" descr="listopadnichki.jpg"/>
          <p:cNvPicPr/>
          <p:nvPr/>
        </p:nvPicPr>
        <p:blipFill>
          <a:blip r:embed="rId3"/>
          <a:stretch/>
        </p:blipFill>
        <p:spPr>
          <a:xfrm>
            <a:off x="5857920" y="4714920"/>
            <a:ext cx="28494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стории осеннего леса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Содержимое 4" descr="85e7d80c7ce6fbd515826a5380998fbc.jpg"/>
          <p:cNvPicPr/>
          <p:nvPr/>
        </p:nvPicPr>
        <p:blipFill>
          <a:blip r:embed="rId1"/>
          <a:stretch/>
        </p:blipFill>
        <p:spPr>
          <a:xfrm>
            <a:off x="1071720" y="1285920"/>
            <a:ext cx="71434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04:54:03Z</dcterms:created>
  <dc:creator>Мандракова Т.М.</dc:creator>
  <dc:description/>
  <dc:language>en-US</dc:language>
  <cp:lastModifiedBy>Teacher</cp:lastModifiedBy>
  <dcterms:modified xsi:type="dcterms:W3CDTF">2019-11-26T17:24:34Z</dcterms:modified>
  <cp:revision>20</cp:revision>
  <dc:subject/>
  <dc:title>В гости к осени</dc:title>
</cp:coreProperties>
</file>