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EF2D-D791-4AC9-9585-504286BD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8B8-EC3B-46E1-B5DA-B97A1315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991-F374-439B-8C62-5A7083A2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C2E-3230-4067-A7B5-5ED8292A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C803C-7E9A-43CE-85AF-E23E3D88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F6EB2-521D-4B5E-ACA6-A72B5A87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B94B2-4B19-4900-A93C-2E1EC6C1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56D62-06C1-4727-B811-92AAFB00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F2B1C-047A-40B6-969C-A6D532DC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62B5F-1F03-4580-8E04-028438B6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DA722-8779-49F6-AEB3-B76F5444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DB0F-8A24-474A-9F65-164D93D3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A0A85-8FDE-4D7A-8962-5DE8DBC1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88EBC-B0F6-4616-9A4F-15145B9A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86392-D72A-41C5-B13D-6182C200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AAF2B-BD4B-4B36-825D-B72CDD5A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23F0E-F535-404B-82EB-3C49AF67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328-E97A-4DB6-9324-B02B2840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A38-3787-4E27-B80C-90D203F4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A52-B290-41F3-8462-66886B95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CAE-11AB-4DFE-BBD2-02172E68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237-E987-4D44-9200-58F41F9E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164-104D-4CE5-8B98-D9CE9C3D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520C-B885-4808-B826-A2AB556D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845D-2413-448B-B5A0-59FA492013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C8C7-8834-4AD4-BBA9-66B733564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Data/Local/Temp/&#1044;&#1080;&#1072;&#1075;&#1085;&#1086;&#1089;&#1090;&#1080;&#1082;&#1072;.xls" TargetMode="External"/><Relationship Id="rId3" Type="http://schemas.openxmlformats.org/officeDocument/2006/relationships/hyperlink" Target="file:///../AppData/Local/Temp/&#1048;&#1085;&#1076;&#1080;&#1074;&#1080;&#1076;&#1091;&#1072;&#1083;&#1100;&#1085;&#1099;&#1081;%20&#1091;&#1088;&#1086;&#1074;&#1077;&#1085;&#1100;%20&#1088;&#1077;&#1095;&#1077;&#1074;&#1086;&#1075;&#1086;%20&#1088;&#1072;&#1079;&#1074;&#1080;&#1090;&#1080;&#1103;..xls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Data/Local/Temp/M2U00375.MPG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Data/Local/Temp/M2U00374.MPG" TargetMode="External"/><Relationship Id="rId3" Type="http://schemas.openxmlformats.org/officeDocument/2006/relationships/hyperlink" Target="file:///../AppData/Local/Temp/&#1042;&#1080;&#1076;&#1077;&#1086;&#1091;&#1088;&#1086;&#1082;&#1080;/&#1074;&#1080;&#1076;&#1077;&#1086;%20&#1040;.&#1070;/&#1071;&#1075;&#1091;&#1087;&#1086;&#1074;.%20&#1052;&#1072;&#1075;&#1072;&#1079;&#1080;&#1085;..MPG" TargetMode="External"/><Relationship Id="rId4" Type="http://schemas.openxmlformats.org/officeDocument/2006/relationships/hyperlink" Target="file:///../AppData/Local/Temp/&#1042;&#1080;&#1076;&#1077;&#1086;&#1091;&#1088;&#1086;&#1082;&#1080;/&#1074;&#1080;&#1076;&#1077;&#1086;%20&#1040;.&#1070;/&#1041;&#1088;&#1086;&#1074;&#1082;&#1080;&#1085;.%20&#1052;&#1080;&#1096;&#1082;&#1072;..MPG" TargetMode="External"/><Relationship Id="rId5" Type="http://schemas.openxmlformats.org/officeDocument/2006/relationships/hyperlink" Target="file:///../AppData/Local/Temp/&#1042;&#1080;&#1076;&#1077;&#1086;&#1091;&#1088;&#1086;&#1082;&#1080;/&#1074;&#1080;&#1076;&#1077;&#1086;%20&#1040;.&#1070;/&#1041;&#1088;&#1086;&#1074;&#1082;&#1080;&#1085;.%20&#1063;&#1072;&#1081;..MPG" TargetMode="Externa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2000" y="1484280"/>
            <a:ext cx="69134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обенности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огопедической работы с неговорящими деть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635280" y="5373720"/>
            <a:ext cx="511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Задач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Формирование социально значимых коммуникативных умений межличностного общ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Развитие устной речи: стимулирование речевой активности детей во всех видах деятельности; формирование как экспрессивной, так и импрессивной стороны речи; обогащение словаря; совершенствование грамматического строя речи; закрепление уже сформировавшихся функций и форм речи (в частности, диалогической речи); обучение детей действию планирования в рассказывании (работать над фразой с использованием внешних опор: вопросы учителя, схемы, серии сюжетных картинок и т. п.); развитие мелкой моторики; развитие слухового внимания, памяти, фонематического слуха; формирование интонационной выразительности речи (в возможных пределах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Tahoma"/>
              </a:rPr>
              <a:t>Работа с детьми данной категории  начинается с диагностик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блюдение в учебной и внеклассной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седа с ученик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седа с учителем и воспитателе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логопедическая диагностика: выполнение речевых проб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полнение речевой карты на учен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остроение индивидуального графика уровня актуального речевого развития учен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Основные направления коррекционной логопедической работ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6480" y="1557000"/>
            <a:ext cx="8507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витие умения концентрировать внимание и реагировать на обращение окружающ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ние у детей умения слушать, прислушиваться, различать звуки окружающей действи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91960"/>
            <a:ext cx="8362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звитие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ртикуляционной мотори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звитие речевого дых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звитие мелкой мотор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понимания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элементарных произносительных навы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Развитие активной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Каждое логопедическое занятие включает в себя следующие этапы: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е умения концентрировать внимание и реагировать на обращение окружающ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бота по формированию умения слушать, прислушиваться, различать звуки окружающей действи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е ручной мотор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е речевой моторики; длительного выдоха без участия ре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е элементарных произносительных навы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е понимания обращённой ре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нятие психоэмоционального напряжения через организацию динамической пауз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е активной ре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ведение итога занятия с целью получения обратной связи от обучающихся, которая предполагает эмоциональную и познавательную оценку приобретённых знаний, умений и навы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В ходе коррекционных логопедических занятий решаются следующие задач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50752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буждать ребёнка смотреть в лицо говорящему, реагировать на обращение к нем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ить детей понимать обращённую речь педагога, которая отражает повседневный быт и уклад жизни дет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вать пальцевую моторику, подготавливая почву для последующего формирования реч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вать подвижность артикуляционного аппарат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вать и закреплять элементарные произносительные навыки, добиваться отчётливого произнесения слоговых комплексов и слов с различной интонацией и темпом (на основе подражания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учать адекватным реакциям и действиям на обращение знакомых людей (подойти, улыбнуться, помахать рукой и др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ить использовать доступные знаковые системы (собственная речь, жесты) для реализации в играх, в быту, для сообщения информации о своём состоянии, выражении просьб и д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креплять элементарные социальные умения в общении: приветствие, прощание, благодарност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ить повторять и выполнять простые поручения по словесной инструкц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ь называть своё имя и фамилию, имя и отчество родителей, педагог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ь ребёнка называть окружающие самые необходимые для его жизни предмет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ь осуществлять классификацию предметов по наглядному образцу, знать простые обобщающие сло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зывать простейшие действия с предмет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ь действовать на основе подражания двигательному и речевому образцу педагог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провождать разные виды деятельности доступными видами речевой продукции: звукокомплексами, словами, простой фраз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ь внятно выражать свои просьбы и жел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ь ребёнка участвовать в беседе, специально организованной педагог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ь рассказывать наизусть стишки, потешки, участвовать в коротких инсценировк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ражнять в построении простейших фраз по демонстрируемым действиям, по сюжетным картинкам с опорой на вопросы педагог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ходе обучения данной категории учащихся школ VIII вида решаются следующие задач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иск путей их возможной социализации через привитие норм социально-адекватного поведе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витие навыков самообслуживания, приучение к элементарным формам труд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вышение уровня их коммуникативной компетент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ррекционная логопедическая работа строится с учетом актуального развития ребенка и возможностей зоны ближайшего развит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835164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ая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иде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коррекционной логопедической работы  – слияние двух видов деятельности – игровой и учебной, и на ее основе целенаправленная организация взаимодействия детей между собой и учителем в рамках логопедического занят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33cccc"/>
                </a:solidFill>
                <a:latin typeface="Tahoma"/>
              </a:rPr>
              <a:t>Интерактивное обучение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обучение, построенное на взаимодействии учащегося с учебным окружением, учебной средой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имерами игр могут стать следующи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«Прием у врача»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«Магазин»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«Расскажи сказку»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«Напои куклу чаем»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и т.д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ной особенностью сюжетно-ролевой игры является возможность моделирования на ее основе той или иной ситуации общения, предполагающей простой диал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ащиеся в играх используют вербальные и невербальные способы общ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9152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Задачи  учебно-игровой деятель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ние информационно-коммуникативного компонента деятельности, которое  заключается в знакомстве детей с основными приемами по обмену информацией, в обучении умению ее обрабатывать, находить жизненно важное в ней для решения каких либо пробл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ние интерактивного компонента коммуникативной деятельности – налаживание взаимодействия, сотрудничества между членами детского коллекти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ние перцептивного компонента коммуникативной деятельности – формирование у детей с умеренной и тяжелой умственной отсталостью образа другого челове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915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условно-импровизированных ситуациях общения, создаваемых на логопедических занятиях, благодаря игровому моделированию уроков, мы имеем  возможность тренировать все компоненты коммуникативных умений (информационно-коммуникативный, интерактивный и перцептивный) и одновременно развивать реч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пасибо за внимание!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35880" cy="58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рушения в сфере общения сказываются на развитии личности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маловажной составляющей рассматриваемой проблемы является грубое системное недоразвитие речи в структуре дефекта при умеренной и тяжелой формах умственной отстал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изкий уровень владения вербальной формой общения обусловлен не только особенностями психофизического развития детей с умеренной и тяжелой формами умственной отсталости – грубым органическим поражением центральной нервной системы, общим системным недоразвитием речи, но и низким уровнем их коммуникативной компетентности в цел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50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детей с умеренной и тяжелой умственной отсталостью проявляется несформированность всей речевой системы, а не отдельных ее сторон и функций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абость мотиваци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рушение программирова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удности реализации речевой программы и контрол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раженные и стойкие нарушения звукопроизношения (Р.И.Лалаева, В.И. Липаков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843588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33cccc"/>
                </a:solidFill>
                <a:uFillTx/>
                <a:latin typeface="Tahoma"/>
              </a:rPr>
              <a:t>Уровни сенсорного недоразви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К первому уровню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могут быть отнесены дети, которые не понимают речь посторонних, но слышат и воспринимают речь ближайших родственников, постоянно ухаживающих за ни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Ко второму уровню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относят детей, воспринимающих речь окружающих в виде отдельных коротких фраз и инструкций. Более длинную фразу или читаемый текст они не воспринимают и не реагируют адекват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К третьему уровню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отнесены дети, которые воспринимают бытовую речь, выполняют инструкции, прослушивают короткие тексты, поддерживают диалог. Но у них также отмечаются недостаточное восприятие сложных речевых конструкций и текста. Они быстро устают и отвлекаются, недослушав интересный расска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cccc"/>
                </a:solidFill>
                <a:uFillTx/>
                <a:latin typeface="Tahoma"/>
              </a:rPr>
              <a:t>Уровни моторного</a:t>
            </a:r>
            <a:r>
              <a:rPr b="1" lang="en-US" sz="4400" spc="-1" strike="noStrike" u="sng">
                <a:solidFill>
                  <a:srgbClr val="33cccc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cccc"/>
                </a:solidFill>
                <a:uFillTx/>
                <a:latin typeface="Tahoma"/>
              </a:rPr>
              <a:t>недоразвития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578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К первому уровню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тносятся «Безречевые» дети. Одни безучастны к окружающей среде, речью не пользуются. Другие дети произносят постоянно один монотонный звук, не являющийся средством общения. Некоторые пользуются неречевыми средствами. Эта группа является наиболее сложной в речевом отношении независимо от возра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Ко второму уровню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тносят детей, у которых отмечаются отдельные лепетные слова или словосочетания, произнесённые с различными фонетическими искажениями. Фонетические нарушения носят дизартрический характер,  что значительно усложняет формирование произносительной стороны реч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К третьему уровню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ечевого развития относят детей, у которых имеется бытовой словарь и фразовая речь. Одни дети многоречивы, пользуются развернутой фразовой речью с элементами нарушенного звукопроизношения. Другие дети пользуются короткой фразой, отмечаются аграмматизмы. Последовательность изложения затрудне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Основная цель логопедического воздействия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вышение уровня коммуникативной компетентности и максимально возможная подготовка к социуму учащихся с умеренной и тяжелей умственной отстал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08:04:19Z</dcterms:created>
  <dc:creator>Admin</dc:creator>
  <dc:description/>
  <dc:language>en-US</dc:language>
  <cp:lastModifiedBy>ДеНиСС</cp:lastModifiedBy>
  <dcterms:modified xsi:type="dcterms:W3CDTF">2014-12-29T21:50:27Z</dcterms:modified>
  <cp:revision>6</cp:revision>
  <dc:subject/>
  <dc:title>Слайд 1</dc:title>
</cp:coreProperties>
</file>