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69E1-6487-4D77-9DCC-AE3BE239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3F56-D0E3-4EAD-8507-3B32AFAF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974E-9FA8-463E-911D-D956B6CF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BAF8-BA04-451F-8936-CA44B203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497B7-E304-4E31-BC5D-7B3192F6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7B0D9-C2B5-4EA9-9BA5-6A331F08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19A8C-5814-4C27-BF69-E759CB41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661D7-7C6D-4DBC-B24E-58BCDE82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BF94A-4AF6-4F10-AD4A-F7414F05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DC3D2-B2B7-4DEE-BA97-DE83B7EA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1BFF6-341C-47C8-9DF0-2CB550F8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2CB-42C2-4AA0-A04A-61F5025B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32EC4-8FE0-4DA3-9719-C9FCBA9B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0FFD6-EA99-48CF-B1FD-AB7DF25B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AC4DE-47A5-4922-A4E8-251BA8DE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8A4F5-7950-4A25-BDE4-888AD543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01E18-125D-4655-A861-F5F3CA11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3DF0-2AC3-4D4D-B6EF-3AB59929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B31D-2766-47F4-A3D7-7149765A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B740-4964-4410-929A-26E9E35C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0E3E-1912-4517-954C-8F182AF5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87D-ABCB-4618-AD8C-89807814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73C-F1DB-4533-8E8C-87E79C76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7CA5-F23B-44A2-9CDC-36D2C4E6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D08D-D766-492B-9495-78560EEDB2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D6B0-5C47-4731-891C-1C7440CAB8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Data/Local/Temp/&#1044;&#1080;&#1072;&#1075;&#1085;&#1086;&#1089;&#1090;&#1080;&#1082;&#1072;.xls" TargetMode="External"/><Relationship Id="rId3" Type="http://schemas.openxmlformats.org/officeDocument/2006/relationships/hyperlink" Target="file:///../AppData/Local/Temp/&#1048;&#1085;&#1076;&#1080;&#1074;&#1080;&#1076;&#1091;&#1072;&#1083;&#1100;&#1085;&#1099;&#1081;%20&#1091;&#1088;&#1086;&#1074;&#1077;&#1085;&#1100;%20&#1088;&#1077;&#1095;&#1077;&#1074;&#1086;&#1075;&#1086;%20&#1088;&#1072;&#1079;&#1074;&#1080;&#1090;&#1080;&#1103;..xls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Data/Local/Temp/M2U00375.MPG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Data/Local/Temp/M2U00374.MPG" TargetMode="External"/><Relationship Id="rId3" Type="http://schemas.openxmlformats.org/officeDocument/2006/relationships/hyperlink" Target="file:///../AppData/Local/Temp/&#1042;&#1080;&#1076;&#1077;&#1086;&#1091;&#1088;&#1086;&#1082;&#1080;/&#1074;&#1080;&#1076;&#1077;&#1086;%20&#1040;.&#1070;/&#1071;&#1075;&#1091;&#1087;&#1086;&#1074;.%20&#1052;&#1072;&#1075;&#1072;&#1079;&#1080;&#1085;..MPG" TargetMode="External"/><Relationship Id="rId4" Type="http://schemas.openxmlformats.org/officeDocument/2006/relationships/hyperlink" Target="file:///../AppData/Local/Temp/&#1042;&#1080;&#1076;&#1077;&#1086;&#1091;&#1088;&#1086;&#1082;&#1080;/&#1074;&#1080;&#1076;&#1077;&#1086;%20&#1040;.&#1070;/&#1041;&#1088;&#1086;&#1074;&#1082;&#1080;&#1085;.%20&#1052;&#1080;&#1096;&#1082;&#1072;..MPG" TargetMode="External"/><Relationship Id="rId5" Type="http://schemas.openxmlformats.org/officeDocument/2006/relationships/hyperlink" Target="file:///../AppData/Local/Temp/&#1042;&#1080;&#1076;&#1077;&#1086;&#1091;&#1088;&#1086;&#1082;&#1080;/&#1074;&#1080;&#1076;&#1077;&#1086;%20&#1040;.&#1070;/&#1041;&#1088;&#1086;&#1074;&#1082;&#1080;&#1085;.%20&#1063;&#1072;&#1081;..MPG" TargetMode="External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2000" y="1484280"/>
            <a:ext cx="69134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собенности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огопедической работы с неговорящими деть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635280" y="5373720"/>
            <a:ext cx="511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Задачи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Формирование социально значимых коммуникативных умений межличностного общ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Развитие устной речи: стимулирование речевой активности детей во всех видах деятельности; формирование как экспрессивной, так и импрессивной стороны речи; обогащение словаря; совершенствование грамматического строя речи; закрепление уже сформировавшихся функций и форм речи (в частности, диалогической речи); обучение детей действию планирования в рассказывании (работать над фразой с использованием внешних опор: вопросы учителя, схемы, серии сюжетных картинок и т. п.); развитие мелкой моторики; развитие слухового внимания, памяти, фонематического слуха; формирование интонационной выразительности речи (в возможных пределах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Tahoma"/>
              </a:rPr>
              <a:t>Работа с детьми данной категории  начинается с диагностик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блюдение в учебной и внеклассной деяте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еседа с ученик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еседа с учителем и воспитателе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логопедическая диагностика: выполнение речевых проб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полнение речевой карты на учени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построение индивидуального графика уровня актуального речевого развития учен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Основные направления коррекционной логопедической работ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6480" y="1557000"/>
            <a:ext cx="85075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витие умения концентрировать внимание и реагировать на обращение окружающи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ормирование у детей умения слушать, прислушиваться, различать звуки окружающей действи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91960"/>
            <a:ext cx="8362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азвитие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артикуляционной мотори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азвитие речевого дых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азвитие мелкой мотор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понимания реч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элементарных произносительных навы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Развитие активной реч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Каждое логопедическое занятие включает в себя следующие этапы: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3588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звитие умения концентрировать внимание и реагировать на обращение окружающи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бота по формированию умения слушать, прислушиваться, различать звуки окружающей действи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звитие ручной мотори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звитие речевой моторики; длительного выдоха без участия реч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звитие элементарных произносительных навы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звитие понимания обращённой реч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нятие психоэмоционального напряжения через организацию динамической пауз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звитие активной реч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ведение итога занятия с целью получения обратной связи от обучающихся, которая предполагает эмоциональную и познавательную оценку приобретённых знаний, умений и навы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В ходе коррекционных логопедических занятий решаются следующие задач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50752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буждать ребёнка смотреть в лицо говорящему, реагировать на обращение к нем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чить детей понимать обращённую речь педагога, которая отражает повседневный быт и уклад жизни дет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вивать пальцевую моторику, подготавливая почву для последующего формирования реч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вивать подвижность артикуляционного аппарат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вивать и закреплять элементарные произносительные навыки, добиваться отчётливого произнесения слоговых комплексов и слов с различной интонацией и темпом (на основе подражания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учать адекватным реакциям и действиям на обращение знакомых людей (подойти, улыбнуться, помахать рукой и др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чить использовать доступные знаковые системы (собственная речь, жесты) для реализации в играх, в быту, для сообщения информации о своём состоянии, выражении просьб и д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креплять элементарные социальные умения в общении: приветствие, прощание, благодарност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чить повторять и выполнять простые поручения по словесной инструкц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ить называть своё имя и фамилию, имя и отчество родителей, педагог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ить ребёнка называть окружающие самые необходимые для его жизни предмет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ить осуществлять классификацию предметов по наглядному образцу, знать простые обобщающие слов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зывать простейшие действия с предмета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ить действовать на основе подражания двигательному и речевому образцу педагог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провождать разные виды деятельности доступными видами речевой продукции: звукокомплексами, словами, простой фразо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ить внятно выражать свои просьбы и жел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ить ребёнка участвовать в беседе, специально организованной педагого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ить рассказывать наизусть стишки, потешки, участвовать в коротких инсценировка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пражнять в построении простейших фраз по демонстрируемым действиям, по сюжетным картинкам с опорой на вопросы педагог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ходе обучения данной категории учащихся школ VIII вида решаются следующие задач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иск путей их возможной социализации через привитие норм социально-адекватного поведен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витие навыков самообслуживания, приучение к элементарным формам труд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вышение уровня их коммуникативной компетент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ррекционная логопедическая работа строится с учетом актуального развития ребенка и возможностей зоны ближайшего развит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764640"/>
            <a:ext cx="835164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новная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иде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коррекционной логопедической работы  – слияние двух видов деятельности – игровой и учебной, и на ее основе целенаправленная организация взаимодействия детей между собой и учителем в рамках логопедического занят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4000" spc="-1" strike="noStrike">
                <a:solidFill>
                  <a:srgbClr val="33cccc"/>
                </a:solidFill>
                <a:latin typeface="Tahoma"/>
              </a:rPr>
              <a:t>Интерактивное обучение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– обучение, построенное на взаимодействии учащегося с учебным окружением, учебной средой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имерами игр могут стать следующи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«Прием у врача»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«Магазин»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«Расскажи сказку»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«Напои куклу чаем»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и т.д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жной особенностью сюжетно-ролевой игры является возможность моделирования на ее основе той или иной ситуации общения, предполагающей простой диало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ащиеся в играх используют вербальные и невербальные способы общ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9152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Задачи  учебно-игровой деятель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ормирование информационно-коммуникативного компонента деятельности, которое  заключается в знакомстве детей с основными приемами по обмену информацией, в обучении умению ее обрабатывать, находить жизненно важное в ней для решения каких либо пробле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ормирование интерактивного компонента коммуникативной деятельности – налаживание взаимодействия, сотрудничества между членами детского коллекти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ормирование перцептивного компонента коммуникативной деятельности – формирование у детей с умеренной и тяжелой умственной отсталостью образа другого челове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915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условно-импровизированных ситуациях общения, создаваемых на логопедических занятиях, благодаря игровому моделированию уроков, мы имеем  возможность тренировать все компоненты коммуникативных умений (информационно-коммуникативный, интерактивный и перцептивный) и одновременно развивать реч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пасибо за внимание!!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35880" cy="58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рушения в сфере общения сказываются на развитии личности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маловажной составляющей рассматриваемой проблемы является грубое системное недоразвитие речи в структуре дефекта при умеренной и тяжелой формах умственной отстал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изкий уровень владения вербальной формой общения обусловлен не только особенностями психофизического развития детей с умеренной и тяжелой формами умственной отсталости – грубым органическим поражением центральной нервной системы, общим системным недоразвитием речи, но и низким уровнем их коммуникативной компетентности в цел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50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 детей с умеренной и тяжелой умственной отсталостью проявляется несформированность всей речевой системы, а не отдельных ее сторон и функций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лабость мотиваци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рушение программирован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удности реализации речевой программы и контрол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раженные и стойкие нарушения звукопроизношения (Р.И.Лалаева, В.И. Липаков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404640"/>
            <a:ext cx="843588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           </a:t>
            </a:r>
            <a:r>
              <a:rPr b="1" lang="en-US" sz="2800" spc="-1" strike="noStrike" u="sng">
                <a:solidFill>
                  <a:srgbClr val="33cccc"/>
                </a:solidFill>
                <a:uFillTx/>
                <a:latin typeface="Tahoma"/>
              </a:rPr>
              <a:t>Уровни сенсорного недоразвит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К первому уровню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могут быть отнесены дети, которые не понимают речь посторонних, но слышат и воспринимают речь ближайших родственников, постоянно ухаживающих за ни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Ко второму уровню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относят детей, воспринимающих речь окружающих в виде отдельных коротких фраз и инструкций. Более длинную фразу или читаемый текст они не воспринимают и не реагируют адекват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К третьему уровню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отнесены дети, которые воспринимают бытовую речь, выполняют инструкции, прослушивают короткие тексты, поддерживают диалог. Но у них также отмечаются недостаточное восприятие сложных речевых конструкций и текста. Они быстро устают и отвлекаются, недослушав интересный рассказ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cccc"/>
                </a:solidFill>
                <a:uFillTx/>
                <a:latin typeface="Tahoma"/>
              </a:rPr>
              <a:t>Уровни моторного</a:t>
            </a:r>
            <a:r>
              <a:rPr b="1" lang="en-US" sz="4400" spc="-1" strike="noStrike" u="sng">
                <a:solidFill>
                  <a:srgbClr val="33cccc"/>
                </a:solidFill>
                <a:uFillTx/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33cccc"/>
                </a:solidFill>
                <a:uFillTx/>
                <a:latin typeface="Tahoma"/>
              </a:rPr>
              <a:t>недоразвития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578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К первому уровню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тносятся «Безречевые» дети. Одни безучастны к окружающей среде, речью не пользуются. Другие дети произносят постоянно один монотонный звук, не являющийся средством общения. Некоторые пользуются неречевыми средствами. Эта группа является наиболее сложной в речевом отношении независимо от возрас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Ко второму уровню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тносят детей, у которых отмечаются отдельные лепетные слова или словосочетания, произнесённые с различными фонетическими искажениями. Фонетические нарушения носят дизартрический характер,  что значительно усложняет формирование произносительной стороны реч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К третьему уровню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речевого развития относят детей, у которых имеется бытовой словарь и фразовая речь. Одни дети многоречивы, пользуются развернутой фразовой речью с элементами нарушенного звукопроизношения. Другие дети пользуются короткой фразой, отмечаются аграмматизмы. Последовательность изложения затруднен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Основная цель логопедического воздействия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вышение уровня коммуникативной компетентности и максимально возможная подготовка к социуму учащихся с умеренной и тяжелей умственной отсталос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08:04:19Z</dcterms:created>
  <dc:creator>Admin</dc:creator>
  <dc:description/>
  <dc:language>en-US</dc:language>
  <cp:lastModifiedBy>ДеНиСС</cp:lastModifiedBy>
  <dcterms:modified xsi:type="dcterms:W3CDTF">2014-12-29T21:50:27Z</dcterms:modified>
  <cp:revision>6</cp:revision>
  <dc:subject/>
  <dc:title>Слайд 1</dc:title>
</cp:coreProperties>
</file>