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37D7B-9BE0-427B-8639-DF8D6EAA30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46C71-F110-4344-96DE-CA23FF437C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618-4585-47E5-84AF-A28293F1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043-3AEC-42E2-95E0-18E2F03A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7C9-0333-4B20-9C17-1EBD985E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0E3-AB21-48AA-A604-69E56DBD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DB7-944C-4A28-AADE-13B558C7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3FB-6BEE-4DF1-91BC-28F3A120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AD6-195C-4200-9DC8-4D4D31E4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4E4-F01E-46D8-B42F-2A4D7E90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990-1A63-4249-AAB6-B8217ECE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879-8E09-4054-9EAE-C0AE00ED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D90-CA93-4D74-949A-84CFD23B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0C2-8674-4F54-93CE-0E2EC140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FF2AAE-3D2F-4343-8BBA-247F069BE3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111320" y="5851440"/>
            <a:ext cx="70009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entury Schoolbook"/>
              </a:rPr>
              <a:t>Первый урок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Century Schoolbook"/>
              </a:rPr>
              <a:t>в 6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754200" y="136440"/>
            <a:ext cx="63579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8112240" y="4565520"/>
            <a:ext cx="1571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entury Schoolbook"/>
              </a:rPr>
              <a:t>Начинается новый учебны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5" descr="http://im6-tub.yandex.net/i?id=25865968-30-72"/>
          <p:cNvPicPr/>
          <p:nvPr/>
        </p:nvPicPr>
        <p:blipFill>
          <a:blip r:embed="rId1"/>
          <a:stretch/>
        </p:blipFill>
        <p:spPr>
          <a:xfrm>
            <a:off x="325440" y="1565280"/>
            <a:ext cx="2325600" cy="221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http://im8-tub.yandex.net/i?id=276975083-01-72"/>
          <p:cNvPicPr/>
          <p:nvPr/>
        </p:nvPicPr>
        <p:blipFill>
          <a:blip r:embed="rId2"/>
          <a:stretch/>
        </p:blipFill>
        <p:spPr>
          <a:xfrm>
            <a:off x="7897680" y="5780160"/>
            <a:ext cx="1987560" cy="1643040"/>
          </a:xfrm>
          <a:prstGeom prst="rect">
            <a:avLst/>
          </a:prstGeom>
          <a:ln w="0">
            <a:noFill/>
          </a:ln>
        </p:spPr>
      </p:pic>
      <p:sp>
        <p:nvSpPr>
          <p:cNvPr id="141" name="Выноска-облако 10"/>
          <p:cNvSpPr/>
          <p:nvPr/>
        </p:nvSpPr>
        <p:spPr>
          <a:xfrm>
            <a:off x="2754360" y="922320"/>
            <a:ext cx="6858000" cy="1143000"/>
          </a:xfrm>
          <a:prstGeom prst="cloudCallout">
            <a:avLst>
              <a:gd name="adj1" fmla="val -61134"/>
              <a:gd name="adj2" fmla="val 97592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Решить зада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54160" y="279360"/>
            <a:ext cx="88581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Весёлый Кар –Карыч предлагает 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968560" y="2637000"/>
            <a:ext cx="6715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опатыч съел 2,4 килограмма мёда , что составляет 30% всего мёда в его бочонке. Сколько мёда в бочонке у Копатыч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ьная выноска 7"/>
          <p:cNvSpPr/>
          <p:nvPr/>
        </p:nvSpPr>
        <p:spPr>
          <a:xfrm>
            <a:off x="4183200" y="5923080"/>
            <a:ext cx="3143160" cy="785520"/>
          </a:xfrm>
          <a:prstGeom prst="wedgeEllipseCallout">
            <a:avLst>
              <a:gd name="adj1" fmla="val 89870"/>
              <a:gd name="adj2" fmla="val 5680"/>
            </a:avLst>
          </a:pr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468360" y="5065560"/>
            <a:ext cx="8929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2,4:30*100=8(кг) – мёда в бочон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7" descr="http://im0-tub.yandex.net/i?id=431555192-05-72"/>
          <p:cNvPicPr/>
          <p:nvPr/>
        </p:nvPicPr>
        <p:blipFill>
          <a:blip r:embed="rId1"/>
          <a:srcRect l="11111" t="7407" r="9272" b="7407"/>
          <a:stretch/>
        </p:blipFill>
        <p:spPr>
          <a:xfrm>
            <a:off x="396720" y="3851280"/>
            <a:ext cx="3071880" cy="3286080"/>
          </a:xfrm>
          <a:prstGeom prst="rect">
            <a:avLst/>
          </a:prstGeom>
          <a:ln w="0">
            <a:noFill/>
          </a:ln>
        </p:spPr>
      </p:pic>
      <p:sp>
        <p:nvSpPr>
          <p:cNvPr id="147" name="Выноска-облако 3"/>
          <p:cNvSpPr/>
          <p:nvPr/>
        </p:nvSpPr>
        <p:spPr>
          <a:xfrm>
            <a:off x="3254400" y="351000"/>
            <a:ext cx="6500880" cy="3857400"/>
          </a:xfrm>
          <a:prstGeom prst="cloudCallout">
            <a:avLst>
              <a:gd name="adj1" fmla="val -70412"/>
              <a:gd name="adj2" fmla="val 106138"/>
            </a:avLst>
          </a:prstGeom>
          <a:solidFill>
            <a:srgbClr val="ff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Я, новый «смешарик» - Мышарик, желаю Вам, ребята, успехов в новом учебном г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92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192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1" dur="192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3" dur="192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38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9" dur="385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1" dur="38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3" dur="38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s46.radikal.ru/i113/0904/fb/7b69f6d1d1a3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39720" y="1636560"/>
            <a:ext cx="6572520" cy="4381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96720" y="351000"/>
            <a:ext cx="8501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Гости на наше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право 3"/>
          <p:cNvSpPr/>
          <p:nvPr/>
        </p:nvSpPr>
        <p:spPr>
          <a:xfrm rot="18430800">
            <a:off x="2014200" y="5492520"/>
            <a:ext cx="185724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Ёж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4"/>
          <p:cNvSpPr/>
          <p:nvPr/>
        </p:nvSpPr>
        <p:spPr>
          <a:xfrm rot="2131200">
            <a:off x="2830680" y="1311120"/>
            <a:ext cx="1857240" cy="8575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у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право 5"/>
          <p:cNvSpPr/>
          <p:nvPr/>
        </p:nvSpPr>
        <p:spPr>
          <a:xfrm>
            <a:off x="406440" y="4575240"/>
            <a:ext cx="185724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р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6"/>
          <p:cNvSpPr/>
          <p:nvPr/>
        </p:nvSpPr>
        <p:spPr>
          <a:xfrm rot="17261400">
            <a:off x="3348000" y="5659200"/>
            <a:ext cx="185724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ар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7"/>
          <p:cNvSpPr/>
          <p:nvPr/>
        </p:nvSpPr>
        <p:spPr>
          <a:xfrm rot="14721600">
            <a:off x="5887800" y="5445000"/>
            <a:ext cx="1857600" cy="85716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паты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право 8"/>
          <p:cNvSpPr/>
          <p:nvPr/>
        </p:nvSpPr>
        <p:spPr>
          <a:xfrm flipH="1">
            <a:off x="7612200" y="4351320"/>
            <a:ext cx="17143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ю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http://im5-tub.yandex.net/i?id=111973213-22-72"/>
          <p:cNvPicPr/>
          <p:nvPr/>
        </p:nvPicPr>
        <p:blipFill>
          <a:blip r:embed="rId3"/>
          <a:stretch/>
        </p:blipFill>
        <p:spPr>
          <a:xfrm>
            <a:off x="6469200" y="2136600"/>
            <a:ext cx="1071360" cy="1044720"/>
          </a:xfrm>
          <a:prstGeom prst="rect">
            <a:avLst/>
          </a:prstGeom>
          <a:ln w="0">
            <a:noFill/>
          </a:ln>
        </p:spPr>
      </p:pic>
      <p:sp>
        <p:nvSpPr>
          <p:cNvPr id="60" name="Стрелка вправо 10"/>
          <p:cNvSpPr/>
          <p:nvPr/>
        </p:nvSpPr>
        <p:spPr>
          <a:xfrm flipH="1">
            <a:off x="7539840" y="2136600"/>
            <a:ext cx="1714680" cy="8575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ося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7" descr="http://im4-tub.yandex.net/i?id=39725442-16-72"/>
          <p:cNvPicPr/>
          <p:nvPr/>
        </p:nvPicPr>
        <p:blipFill>
          <a:blip r:embed="rId1"/>
          <a:stretch/>
        </p:blipFill>
        <p:spPr>
          <a:xfrm>
            <a:off x="8871120" y="6066000"/>
            <a:ext cx="1209600" cy="119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http://im6-tub.yandex.net/i?id=141342393-48-72"/>
          <p:cNvPicPr/>
          <p:nvPr/>
        </p:nvPicPr>
        <p:blipFill>
          <a:blip r:embed="rId2"/>
          <a:stretch/>
        </p:blipFill>
        <p:spPr>
          <a:xfrm>
            <a:off x="254160" y="993600"/>
            <a:ext cx="2035080" cy="2643480"/>
          </a:xfrm>
          <a:prstGeom prst="rect">
            <a:avLst/>
          </a:prstGeom>
          <a:ln w="0">
            <a:noFill/>
          </a:ln>
        </p:spPr>
      </p:pic>
      <p:sp>
        <p:nvSpPr>
          <p:cNvPr id="63" name="Выноска-облако 4"/>
          <p:cNvSpPr/>
          <p:nvPr/>
        </p:nvSpPr>
        <p:spPr>
          <a:xfrm>
            <a:off x="2611440" y="851040"/>
            <a:ext cx="6286320" cy="1143000"/>
          </a:xfrm>
          <a:prstGeom prst="cloudCallout">
            <a:avLst>
              <a:gd name="adj1" fmla="val -66268"/>
              <a:gd name="adj2" fmla="val 108939"/>
            </a:avLst>
          </a:prstGeom>
          <a:solidFill>
            <a:srgbClr val="ff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Вычислите уст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2540160" y="2351160"/>
            <a:ext cx="242856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7+0,3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,05+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-0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,2*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4*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,24*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2,6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3,7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5,3: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540400" y="2494080"/>
            <a:ext cx="328608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,27+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,7-0,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,5*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6: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224*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8: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2,9*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2,01+1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0,6-0,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ьная выноска 10"/>
          <p:cNvSpPr/>
          <p:nvPr/>
        </p:nvSpPr>
        <p:spPr>
          <a:xfrm>
            <a:off x="5397480" y="6280200"/>
            <a:ext cx="3071880" cy="714240"/>
          </a:xfrm>
          <a:prstGeom prst="wedgeEllipseCallout">
            <a:avLst>
              <a:gd name="adj1" fmla="val 74453"/>
              <a:gd name="adj2" fmla="val 27574"/>
            </a:avLst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68360" y="351000"/>
            <a:ext cx="4500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Задание от Крош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-конечная звезда 9"/>
          <p:cNvSpPr/>
          <p:nvPr/>
        </p:nvSpPr>
        <p:spPr>
          <a:xfrm>
            <a:off x="4325760" y="420840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6-конечная звезда 11"/>
          <p:cNvSpPr/>
          <p:nvPr/>
        </p:nvSpPr>
        <p:spPr>
          <a:xfrm>
            <a:off x="4111560" y="2637000"/>
            <a:ext cx="1285920" cy="64260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25,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6-конечная звезда 12"/>
          <p:cNvSpPr/>
          <p:nvPr/>
        </p:nvSpPr>
        <p:spPr>
          <a:xfrm>
            <a:off x="3825720" y="299412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6-конечная звезда 13"/>
          <p:cNvSpPr/>
          <p:nvPr/>
        </p:nvSpPr>
        <p:spPr>
          <a:xfrm>
            <a:off x="4183200" y="3422520"/>
            <a:ext cx="785520" cy="57168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-конечная звезда 14"/>
          <p:cNvSpPr/>
          <p:nvPr/>
        </p:nvSpPr>
        <p:spPr>
          <a:xfrm>
            <a:off x="3897360" y="3780000"/>
            <a:ext cx="1285920" cy="64260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6-конечная звезда 15"/>
          <p:cNvSpPr/>
          <p:nvPr/>
        </p:nvSpPr>
        <p:spPr>
          <a:xfrm>
            <a:off x="4192560" y="236052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17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6-конечная звезда 16"/>
          <p:cNvSpPr/>
          <p:nvPr/>
        </p:nvSpPr>
        <p:spPr>
          <a:xfrm>
            <a:off x="3825720" y="463716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6-конечная звезда 17"/>
          <p:cNvSpPr/>
          <p:nvPr/>
        </p:nvSpPr>
        <p:spPr>
          <a:xfrm>
            <a:off x="4040280" y="506556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0,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6-конечная звезда 18"/>
          <p:cNvSpPr/>
          <p:nvPr/>
        </p:nvSpPr>
        <p:spPr>
          <a:xfrm>
            <a:off x="3968640" y="542304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6-конечная звезда 19"/>
          <p:cNvSpPr/>
          <p:nvPr/>
        </p:nvSpPr>
        <p:spPr>
          <a:xfrm>
            <a:off x="7326360" y="235116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3,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-конечная звезда 20"/>
          <p:cNvSpPr/>
          <p:nvPr/>
        </p:nvSpPr>
        <p:spPr>
          <a:xfrm>
            <a:off x="7183440" y="277956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0,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-конечная звезда 21"/>
          <p:cNvSpPr/>
          <p:nvPr/>
        </p:nvSpPr>
        <p:spPr>
          <a:xfrm>
            <a:off x="7112160" y="3208320"/>
            <a:ext cx="128556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6-конечная звезда 22"/>
          <p:cNvSpPr/>
          <p:nvPr/>
        </p:nvSpPr>
        <p:spPr>
          <a:xfrm>
            <a:off x="6969240" y="356544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6-конечная звезда 23"/>
          <p:cNvSpPr/>
          <p:nvPr/>
        </p:nvSpPr>
        <p:spPr>
          <a:xfrm>
            <a:off x="7397640" y="392256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2,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6-конечная звезда 24"/>
          <p:cNvSpPr/>
          <p:nvPr/>
        </p:nvSpPr>
        <p:spPr>
          <a:xfrm>
            <a:off x="6897600" y="435132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6-конечная звезда 25"/>
          <p:cNvSpPr/>
          <p:nvPr/>
        </p:nvSpPr>
        <p:spPr>
          <a:xfrm>
            <a:off x="7254720" y="470844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2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6-конечная звезда 26"/>
          <p:cNvSpPr/>
          <p:nvPr/>
        </p:nvSpPr>
        <p:spPr>
          <a:xfrm>
            <a:off x="7469280" y="520848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3,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6-конечная звезда 27"/>
          <p:cNvSpPr/>
          <p:nvPr/>
        </p:nvSpPr>
        <p:spPr>
          <a:xfrm>
            <a:off x="7183440" y="556560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0,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1" descr="http://im5-tub.yandex.net/i?id=170790949-26-72"/>
          <p:cNvPicPr/>
          <p:nvPr/>
        </p:nvPicPr>
        <p:blipFill>
          <a:blip r:embed="rId1"/>
          <a:stretch/>
        </p:blipFill>
        <p:spPr>
          <a:xfrm>
            <a:off x="182520" y="1565280"/>
            <a:ext cx="2768760" cy="25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http://im5-tub.yandex.net/i?id=111973213-22-72"/>
          <p:cNvPicPr/>
          <p:nvPr/>
        </p:nvPicPr>
        <p:blipFill>
          <a:blip r:embed="rId2"/>
          <a:stretch/>
        </p:blipFill>
        <p:spPr>
          <a:xfrm>
            <a:off x="7754760" y="5442120"/>
            <a:ext cx="1928880" cy="1881000"/>
          </a:xfrm>
          <a:prstGeom prst="rect">
            <a:avLst/>
          </a:prstGeom>
          <a:ln w="0">
            <a:noFill/>
          </a:ln>
        </p:spPr>
      </p:pic>
      <p:sp>
        <p:nvSpPr>
          <p:cNvPr id="88" name="Выноска-облако 5"/>
          <p:cNvSpPr/>
          <p:nvPr/>
        </p:nvSpPr>
        <p:spPr>
          <a:xfrm>
            <a:off x="3040200" y="1065240"/>
            <a:ext cx="6357960" cy="1214280"/>
          </a:xfrm>
          <a:prstGeom prst="cloudCallout">
            <a:avLst>
              <a:gd name="adj1" fmla="val -69277"/>
              <a:gd name="adj2" fmla="val 125009"/>
            </a:avLst>
          </a:prstGeom>
          <a:solidFill>
            <a:srgbClr val="ff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Найти значен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"/>
              <p:cNvSpPr txBox="1"/>
              <p:nvPr/>
            </p:nvSpPr>
            <p:spPr>
              <a:xfrm>
                <a:off x="254160" y="4065480"/>
                <a:ext cx="95025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65</m:t>
                        </m:r>
                      </m:e>
                    </m:d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Овальная выноска 8"/>
          <p:cNvSpPr/>
          <p:nvPr/>
        </p:nvSpPr>
        <p:spPr>
          <a:xfrm>
            <a:off x="2540160" y="5923080"/>
            <a:ext cx="5429160" cy="857160"/>
          </a:xfrm>
          <a:prstGeom prst="wedgeEllipseCallout">
            <a:avLst>
              <a:gd name="adj1" fmla="val 62310"/>
              <a:gd name="adj2" fmla="val 56208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У вас получилось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0,1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? 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54160" y="2793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Умный Лосяш предлагает 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im7-tub.yandex.net/i?id=31651929-70-72"/>
          <p:cNvPicPr/>
          <p:nvPr/>
        </p:nvPicPr>
        <p:blipFill>
          <a:blip r:embed="rId1"/>
          <a:stretch/>
        </p:blipFill>
        <p:spPr>
          <a:xfrm>
            <a:off x="325440" y="1851120"/>
            <a:ext cx="2254320" cy="214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http://im4-tub.yandex.net/i?id=163568858-48-72"/>
          <p:cNvPicPr/>
          <p:nvPr/>
        </p:nvPicPr>
        <p:blipFill>
          <a:blip r:embed="rId2"/>
          <a:stretch/>
        </p:blipFill>
        <p:spPr>
          <a:xfrm>
            <a:off x="8469360" y="5637240"/>
            <a:ext cx="1268280" cy="1638360"/>
          </a:xfrm>
          <a:prstGeom prst="rect">
            <a:avLst/>
          </a:prstGeom>
          <a:ln w="0">
            <a:noFill/>
          </a:ln>
        </p:spPr>
      </p:pic>
      <p:sp>
        <p:nvSpPr>
          <p:cNvPr id="94" name="Выноска-облако 5"/>
          <p:cNvSpPr/>
          <p:nvPr/>
        </p:nvSpPr>
        <p:spPr>
          <a:xfrm>
            <a:off x="2325600" y="993600"/>
            <a:ext cx="7429680" cy="1143000"/>
          </a:xfrm>
          <a:prstGeom prst="cloudCallout">
            <a:avLst>
              <a:gd name="adj1" fmla="val -61134"/>
              <a:gd name="adj2" fmla="val 120925"/>
            </a:avLst>
          </a:prstGeom>
          <a:solidFill>
            <a:srgbClr val="ffff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entury Schoolbook"/>
              </a:rPr>
              <a:t>Решить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539720" y="3494160"/>
            <a:ext cx="807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13 + 3,2х + 0,4х = 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506400" y="2422440"/>
            <a:ext cx="59900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4,2х + 8,4 = 14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ьная выноска 9"/>
          <p:cNvSpPr/>
          <p:nvPr/>
        </p:nvSpPr>
        <p:spPr>
          <a:xfrm>
            <a:off x="4897440" y="5780160"/>
            <a:ext cx="3143160" cy="714240"/>
          </a:xfrm>
          <a:prstGeom prst="wedgeEllipseCallout">
            <a:avLst>
              <a:gd name="adj1" fmla="val 62310"/>
              <a:gd name="adj2" fmla="val 56208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entury Schoolbook"/>
              </a:rPr>
              <a:t>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254160" y="279360"/>
            <a:ext cx="9144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Совунья предлагает 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82560" y="4708440"/>
            <a:ext cx="464364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роверьте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4,2х=14,7-8,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4,2х=6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х=6,3:4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х=1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182520" y="4376880"/>
            <a:ext cx="471492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роверьте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3,6х+13=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3,6х=40-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3,6х=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х=27:3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х=7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1" descr="http://im7-tub.yandex.net/i?id=363528719-63-72"/>
          <p:cNvPicPr/>
          <p:nvPr/>
        </p:nvPicPr>
        <p:blipFill>
          <a:blip r:embed="rId1"/>
          <a:stretch/>
        </p:blipFill>
        <p:spPr>
          <a:xfrm>
            <a:off x="8255160" y="570852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http://im6-tub.yandex.net/i?id=331702123-52-72"/>
          <p:cNvPicPr/>
          <p:nvPr/>
        </p:nvPicPr>
        <p:blipFill>
          <a:blip r:embed="rId2"/>
          <a:srcRect l="13883" t="3545" r="13883" b="1237"/>
          <a:stretch/>
        </p:blipFill>
        <p:spPr>
          <a:xfrm>
            <a:off x="325440" y="1565280"/>
            <a:ext cx="2143080" cy="2225520"/>
          </a:xfrm>
          <a:prstGeom prst="rect">
            <a:avLst/>
          </a:prstGeom>
          <a:ln w="0">
            <a:noFill/>
          </a:ln>
        </p:spPr>
      </p:pic>
      <p:sp>
        <p:nvSpPr>
          <p:cNvPr id="103" name="Выноска-облако 6"/>
          <p:cNvSpPr/>
          <p:nvPr/>
        </p:nvSpPr>
        <p:spPr>
          <a:xfrm>
            <a:off x="2325600" y="1136520"/>
            <a:ext cx="7215120" cy="928800"/>
          </a:xfrm>
          <a:prstGeom prst="cloudCallout">
            <a:avLst>
              <a:gd name="adj1" fmla="val -52731"/>
              <a:gd name="adj2" fmla="val 1204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Century Schoolbook"/>
              </a:rPr>
              <a:t>Решить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2611440" y="2208240"/>
            <a:ext cx="707220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Из одного и того же пункта в противоположных направлениях вышли Бараш и Копатыч. Через 3 часа расстояние между ними стало 21 км. Найдите скорость Копатыча, если скорость Бараша 4 км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ьная выноска 9"/>
          <p:cNvSpPr/>
          <p:nvPr/>
        </p:nvSpPr>
        <p:spPr>
          <a:xfrm>
            <a:off x="4826160" y="5923080"/>
            <a:ext cx="3143160" cy="785520"/>
          </a:xfrm>
          <a:prstGeom prst="wedgeEllipseCallout">
            <a:avLst>
              <a:gd name="adj1" fmla="val 62310"/>
              <a:gd name="adj2" fmla="val 56208"/>
            </a:avLst>
          </a:prstGeom>
          <a:solidFill>
            <a:srgbClr val="ffff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325440" y="351000"/>
            <a:ext cx="88581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Скромная Нюша предлагает 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611280" y="4851360"/>
            <a:ext cx="5715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4*3=12(км) – прошёл Бар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11280" y="5423040"/>
            <a:ext cx="7286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1-12=9 (км) – прошёл Копаты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754200" y="5994360"/>
            <a:ext cx="6572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:3=3(км/ч) – скорость  Бар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http://s41.radikal.ru/i093/0904/e6/f11c2a1cf62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69320" y="549432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Смешарики. Картинка 20"/>
          <p:cNvPicPr/>
          <p:nvPr/>
        </p:nvPicPr>
        <p:blipFill>
          <a:blip r:embed="rId3"/>
          <a:stretch/>
        </p:blipFill>
        <p:spPr>
          <a:xfrm>
            <a:off x="325440" y="1779480"/>
            <a:ext cx="2643120" cy="2691000"/>
          </a:xfrm>
          <a:prstGeom prst="rect">
            <a:avLst/>
          </a:prstGeom>
          <a:ln w="0">
            <a:noFill/>
          </a:ln>
        </p:spPr>
      </p:pic>
      <p:sp>
        <p:nvSpPr>
          <p:cNvPr id="112" name="Выноска-облако 6"/>
          <p:cNvSpPr/>
          <p:nvPr/>
        </p:nvSpPr>
        <p:spPr>
          <a:xfrm>
            <a:off x="2897280" y="1422360"/>
            <a:ext cx="6500880" cy="857160"/>
          </a:xfrm>
          <a:prstGeom prst="cloudCallout">
            <a:avLst>
              <a:gd name="adj1" fmla="val -64064"/>
              <a:gd name="adj2" fmla="val 176833"/>
            </a:avLst>
          </a:prstGeom>
          <a:solidFill>
            <a:srgbClr val="fffff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entury Schoolbook"/>
              </a:rPr>
              <a:t>Решите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897280" y="2351160"/>
            <a:ext cx="68580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бственная скорость моего катера 15 км/ч, а скорость течения  реки 3,5 км/ч.  Какой путь я проплыву за 2 часа по течению реки и за 3 часа против те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25440" y="351000"/>
            <a:ext cx="88581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Доброжелательный  Ёжик предлагает Вам решить задачу про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ьная выноска 8"/>
          <p:cNvSpPr/>
          <p:nvPr/>
        </p:nvSpPr>
        <p:spPr>
          <a:xfrm>
            <a:off x="4683240" y="5565600"/>
            <a:ext cx="3143160" cy="785880"/>
          </a:xfrm>
          <a:prstGeom prst="wedgeEllipseCallout">
            <a:avLst>
              <a:gd name="adj1" fmla="val 62310"/>
              <a:gd name="adj2" fmla="val 56208"/>
            </a:avLst>
          </a:prstGeom>
          <a:solidFill>
            <a:srgbClr val="ffff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325440" y="4494240"/>
            <a:ext cx="8429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15-3,5=11,5(км/ч) – скорость против т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25440" y="4923000"/>
            <a:ext cx="8429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15+3,5=18,5(км/ч) – скорость по те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182520" y="5351400"/>
            <a:ext cx="84297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11,5*3=34,5(км/ч) – расстояние, которое прошёл катер против т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254160" y="6137280"/>
            <a:ext cx="8429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18,5*2=37(км/ч) – расстояние, которое прошёл катер по те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254160" y="6865920"/>
            <a:ext cx="84294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34,5+37=71,5(км) – проплыл Ёж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http://im4-tub.yandex.net/i?id=230377498-32-72"/>
          <p:cNvPicPr/>
          <p:nvPr/>
        </p:nvPicPr>
        <p:blipFill>
          <a:blip r:embed="rId1"/>
          <a:stretch/>
        </p:blipFill>
        <p:spPr>
          <a:xfrm>
            <a:off x="539640" y="5351400"/>
            <a:ext cx="1847880" cy="1576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Бараш 19.png"/>
          <p:cNvPicPr/>
          <p:nvPr/>
        </p:nvPicPr>
        <p:blipFill>
          <a:blip r:embed="rId2"/>
          <a:stretch/>
        </p:blipFill>
        <p:spPr>
          <a:xfrm>
            <a:off x="0" y="1279440"/>
            <a:ext cx="2786040" cy="3427560"/>
          </a:xfrm>
          <a:prstGeom prst="rect">
            <a:avLst/>
          </a:prstGeom>
          <a:ln w="0">
            <a:noFill/>
          </a:ln>
        </p:spPr>
      </p:pic>
      <p:sp>
        <p:nvSpPr>
          <p:cNvPr id="123" name="Выноска-облако 6"/>
          <p:cNvSpPr/>
          <p:nvPr/>
        </p:nvSpPr>
        <p:spPr>
          <a:xfrm>
            <a:off x="3111480" y="1351080"/>
            <a:ext cx="6143760" cy="785520"/>
          </a:xfrm>
          <a:prstGeom prst="cloudCallout">
            <a:avLst>
              <a:gd name="adj1" fmla="val -65777"/>
              <a:gd name="adj2" fmla="val 249013"/>
            </a:avLst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И найдите (устно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754360" y="2279520"/>
            <a:ext cx="7072200" cy="33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Century Schoolbook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5% от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Century Schoolbook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2) 12% от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3) число, 7% которого равны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4) число, 25% которого равны 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25440" y="351000"/>
            <a:ext cx="88581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Застенчивый Бараш предлагает Вам вспомнить понятие «процент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ьная выноска 8"/>
          <p:cNvSpPr/>
          <p:nvPr/>
        </p:nvSpPr>
        <p:spPr>
          <a:xfrm flipH="1">
            <a:off x="2611440" y="5423040"/>
            <a:ext cx="3214800" cy="785520"/>
          </a:xfrm>
          <a:prstGeom prst="wedgeEllipseCallout">
            <a:avLst>
              <a:gd name="adj1" fmla="val 77240"/>
              <a:gd name="adj2" fmla="val 27115"/>
            </a:avLst>
          </a:pr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Молодцы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блако 9"/>
          <p:cNvSpPr/>
          <p:nvPr/>
        </p:nvSpPr>
        <p:spPr>
          <a:xfrm>
            <a:off x="6111720" y="2208240"/>
            <a:ext cx="1357560" cy="571320"/>
          </a:xfrm>
          <a:prstGeom prst="pie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блако 10"/>
          <p:cNvSpPr/>
          <p:nvPr/>
        </p:nvSpPr>
        <p:spPr>
          <a:xfrm>
            <a:off x="6111720" y="2922480"/>
            <a:ext cx="1357560" cy="571680"/>
          </a:xfrm>
          <a:prstGeom prst="pie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блако 11"/>
          <p:cNvSpPr/>
          <p:nvPr/>
        </p:nvSpPr>
        <p:spPr>
          <a:xfrm>
            <a:off x="8508960" y="4208400"/>
            <a:ext cx="157176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блако 12"/>
          <p:cNvSpPr/>
          <p:nvPr/>
        </p:nvSpPr>
        <p:spPr>
          <a:xfrm>
            <a:off x="7826400" y="5065560"/>
            <a:ext cx="1785960" cy="571680"/>
          </a:xfrm>
          <a:prstGeom prst="pie">
            <a:avLst/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1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http://im3-tub.yandex.net/i?id=171070015-21-72"/>
          <p:cNvPicPr/>
          <p:nvPr/>
        </p:nvPicPr>
        <p:blipFill>
          <a:blip r:embed="rId1"/>
          <a:stretch/>
        </p:blipFill>
        <p:spPr>
          <a:xfrm>
            <a:off x="396720" y="1851120"/>
            <a:ext cx="2500560" cy="25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9" descr="http://im7-tub.yandex.net/i?id=15029399-36-72"/>
          <p:cNvPicPr/>
          <p:nvPr/>
        </p:nvPicPr>
        <p:blipFill>
          <a:blip r:embed="rId2"/>
          <a:stretch/>
        </p:blipFill>
        <p:spPr>
          <a:xfrm>
            <a:off x="8397720" y="5994360"/>
            <a:ext cx="1333800" cy="1333440"/>
          </a:xfrm>
          <a:prstGeom prst="rect">
            <a:avLst/>
          </a:prstGeom>
          <a:ln w="0">
            <a:noFill/>
          </a:ln>
        </p:spPr>
      </p:pic>
      <p:sp>
        <p:nvSpPr>
          <p:cNvPr id="133" name="Выноска-облако 6"/>
          <p:cNvSpPr/>
          <p:nvPr/>
        </p:nvSpPr>
        <p:spPr>
          <a:xfrm>
            <a:off x="3182760" y="922320"/>
            <a:ext cx="6500880" cy="1143000"/>
          </a:xfrm>
          <a:prstGeom prst="cloudCallout">
            <a:avLst>
              <a:gd name="adj1" fmla="val -64935"/>
              <a:gd name="adj2" fmla="val 173555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4617360" y="1208160"/>
            <a:ext cx="35456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Решить зада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254160" y="279360"/>
            <a:ext cx="88581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Добрый Копатыч предлагает 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3254400" y="2565360"/>
            <a:ext cx="635796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рош  пришёл к Нюше на день рождения с коробкой  конфет «Ассорти».  Конфеты со сливочной начинкой составляли 20% всех конфет. Сколько конфет со сливочной начинкой принёс Крош, если всего в коробке  40 конф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ьная выноска 10"/>
          <p:cNvSpPr/>
          <p:nvPr/>
        </p:nvSpPr>
        <p:spPr>
          <a:xfrm>
            <a:off x="5326200" y="5780160"/>
            <a:ext cx="2500200" cy="785880"/>
          </a:xfrm>
          <a:prstGeom prst="wedgeEllipseCallout">
            <a:avLst>
              <a:gd name="adj1" fmla="val 86810"/>
              <a:gd name="adj2" fmla="val 83768"/>
            </a:avLst>
          </a:pr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Молодцы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254160" y="5994360"/>
            <a:ext cx="58575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40:100*20=8(кон.) – со сливочной начин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7:38:06Z</dcterms:created>
  <dc:creator/>
  <dc:description/>
  <dc:language>en-US</dc:language>
  <cp:lastModifiedBy>Admin</cp:lastModifiedBy>
  <dcterms:modified xsi:type="dcterms:W3CDTF">2019-08-27T16:30:23Z</dcterms:modified>
  <cp:revision>27</cp:revision>
  <dc:subject/>
  <dc:title>Слайд 1</dc:title>
</cp:coreProperties>
</file>