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41E2-5480-4F30-A32B-739259493C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C415-0516-454A-8253-A001965D9D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92B-F32E-484D-93C4-DDAF1691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948A-A6A4-4D8A-8075-1E16C7C8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020-E5E7-42C0-9D34-1CB4D2A5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5B9-35FA-4AAF-9C3D-68D98F8B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A9C-3F74-486F-95B7-C9ECFCAB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942-45D0-4B59-B2D8-03615EFA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28B-1415-41A4-BA0C-DF3F8313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6EF-C8F0-426D-A850-589C52E8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478-B7EF-40FC-A0D9-51B0EEF0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668-62D1-470A-AADE-4BAD893D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C253-A56C-4D32-88F5-2E0DD7B8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E7F-1D84-417E-968A-B65930C3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A19F-7746-421F-B698-938C370B88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ed"/>
          <p:cNvPicPr/>
          <p:nvPr/>
        </p:nvPicPr>
        <p:blipFill>
          <a:blip r:embed="rId1"/>
          <a:stretch/>
        </p:blipFill>
        <p:spPr>
          <a:xfrm>
            <a:off x="-200160" y="11160"/>
            <a:ext cx="934416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physik.ucoz.ru/kach_vopr/60.jpg"/>
          <p:cNvPicPr/>
          <p:nvPr/>
        </p:nvPicPr>
        <p:blipFill>
          <a:blip r:embed="rId1"/>
          <a:srcRect l="0" t="0" r="-11479" b="0"/>
          <a:stretch/>
        </p:blipFill>
        <p:spPr>
          <a:xfrm>
            <a:off x="1979640" y="341280"/>
            <a:ext cx="4884840" cy="4129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фик процесса отвердевания свин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1"/>
          <p:cNvSpPr/>
          <p:nvPr/>
        </p:nvSpPr>
        <p:spPr>
          <a:xfrm>
            <a:off x="1763640" y="3429000"/>
            <a:ext cx="720720" cy="104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3851280" y="4365720"/>
            <a:ext cx="1441440" cy="21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ttp://nika-fizika.narod.ru/10_3.h7.jpg"/>
          <p:cNvPicPr/>
          <p:nvPr/>
        </p:nvPicPr>
        <p:blipFill>
          <a:blip r:embed="rId1"/>
          <a:stretch/>
        </p:blipFill>
        <p:spPr>
          <a:xfrm>
            <a:off x="198360" y="806400"/>
            <a:ext cx="852012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формулируйте определение для новых понят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Times New Roman"/>
              </a:rPr>
              <a:t>Плавлени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900000" y="3500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Times New Roman"/>
              </a:rPr>
              <a:t>Кристаллизаци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82240" cy="106668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Плавление</a:t>
            </a: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 -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ход вещества из твердого состояния в жидк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80880" y="41148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80880" y="37339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80880" y="53341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Изменяются ли молекулы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0880" y="5715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Как изменяется температура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жидкость"/>
          <p:cNvPicPr/>
          <p:nvPr/>
        </p:nvPicPr>
        <p:blipFill>
          <a:blip r:embed="rId1"/>
          <a:stretch/>
        </p:blipFill>
        <p:spPr>
          <a:xfrm>
            <a:off x="6156360" y="1752480"/>
            <a:ext cx="2149560" cy="14083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380880" y="495288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В какой момент  тело начнет плавитьс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 rot="16200000">
            <a:off x="3106800" y="1639440"/>
            <a:ext cx="1009800" cy="1235160"/>
          </a:xfrm>
          <a:prstGeom prst="downArrow">
            <a:avLst>
              <a:gd name="adj1" fmla="val 50000"/>
              <a:gd name="adj2" fmla="val 30579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9" descr="твердое тело1"/>
          <p:cNvPicPr/>
          <p:nvPr/>
        </p:nvPicPr>
        <p:blipFill>
          <a:blip r:embed="rId2"/>
          <a:stretch/>
        </p:blipFill>
        <p:spPr>
          <a:xfrm>
            <a:off x="1066680" y="1630440"/>
            <a:ext cx="1838520" cy="1201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380880" y="45720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7"/>
          <p:cNvSpPr/>
          <p:nvPr/>
        </p:nvSpPr>
        <p:spPr>
          <a:xfrm>
            <a:off x="4229280" y="2924280"/>
            <a:ext cx="3727440" cy="9169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енняя энергия жидк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, че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твёрдого те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0880" y="60958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Сравните внутреннюю энергию твердого тела и жидк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0" descr="28l"/>
          <p:cNvPicPr/>
          <p:nvPr/>
        </p:nvPicPr>
        <p:blipFill>
          <a:blip r:embed="rId3"/>
          <a:stretch/>
        </p:blipFill>
        <p:spPr>
          <a:xfrm>
            <a:off x="2124000" y="2287440"/>
            <a:ext cx="1152720" cy="14860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3"/>
          <p:cNvSpPr/>
          <p:nvPr/>
        </p:nvSpPr>
        <p:spPr>
          <a:xfrm>
            <a:off x="539640" y="2832120"/>
            <a:ext cx="1728720" cy="10087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л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нимает энерг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1"/>
          <p:cNvSpPr/>
          <p:nvPr/>
        </p:nvSpPr>
        <p:spPr>
          <a:xfrm rot="16200000">
            <a:off x="3285360" y="1797480"/>
            <a:ext cx="1081080" cy="1447560"/>
          </a:xfrm>
          <a:prstGeom prst="downArrow">
            <a:avLst>
              <a:gd name="adj1" fmla="val 50000"/>
              <a:gd name="adj2" fmla="val 33475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04920" y="4038480"/>
            <a:ext cx="838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3657600"/>
            <a:ext cx="845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04920" y="5181480"/>
            <a:ext cx="883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Изменяются ли молекулы вещества при кристаллизац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04920" y="5562720"/>
            <a:ext cx="883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Как изменяется температура вещества при отвердеван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8" descr="жидкость"/>
          <p:cNvPicPr/>
          <p:nvPr/>
        </p:nvPicPr>
        <p:blipFill>
          <a:blip r:embed="rId1"/>
          <a:stretch/>
        </p:blipFill>
        <p:spPr>
          <a:xfrm>
            <a:off x="838080" y="1752480"/>
            <a:ext cx="2149560" cy="1435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твердое тело1"/>
          <p:cNvPicPr/>
          <p:nvPr/>
        </p:nvPicPr>
        <p:blipFill>
          <a:blip r:embed="rId2"/>
          <a:stretch/>
        </p:blipFill>
        <p:spPr>
          <a:xfrm>
            <a:off x="6172200" y="1752480"/>
            <a:ext cx="2209680" cy="1435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0"/>
          <p:cNvSpPr/>
          <p:nvPr/>
        </p:nvSpPr>
        <p:spPr>
          <a:xfrm>
            <a:off x="304920" y="480060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Когда тело начнет кристаллизоватьс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457200" y="152280"/>
            <a:ext cx="8185320" cy="140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Кристаллизация -</a:t>
            </a:r>
            <a:r>
              <a:rPr b="1" lang="ru-RU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ход вещества из жидкого состояния в тверд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04920" y="44197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04920" y="59436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Сравните внутреннюю энергию жидкости и твёрдого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066680" y="3171960"/>
            <a:ext cx="2233800" cy="5443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идкос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дает  энерг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7"/>
          <p:cNvSpPr/>
          <p:nvPr/>
        </p:nvSpPr>
        <p:spPr>
          <a:xfrm>
            <a:off x="4495680" y="2565360"/>
            <a:ext cx="237996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енняя энергия кристал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ьше, че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дк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uslide.ru/images/10/16654/736/img5.jpg"/>
          <p:cNvPicPr/>
          <p:nvPr/>
        </p:nvPicPr>
        <p:blipFill>
          <a:blip r:embed="rId1"/>
          <a:stretch/>
        </p:blipFill>
        <p:spPr>
          <a:xfrm>
            <a:off x="900000" y="105264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ttp://kaz.docdat.com/pars_docs/refs/96/95406/95406_html_m6f99be5e.png"/>
          <p:cNvPicPr/>
          <p:nvPr/>
        </p:nvPicPr>
        <p:blipFill>
          <a:blip r:embed="rId1"/>
          <a:stretch/>
        </p:blipFill>
        <p:spPr>
          <a:xfrm>
            <a:off x="395280" y="3068640"/>
            <a:ext cx="4714920" cy="358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http://fullref.ru/files/7/53d57f1169c2d193aa6f22c036d4b191.html_files/rId6.png"/>
          <p:cNvPicPr/>
          <p:nvPr/>
        </p:nvPicPr>
        <p:blipFill>
          <a:blip r:embed="rId2"/>
          <a:stretch/>
        </p:blipFill>
        <p:spPr>
          <a:xfrm>
            <a:off x="122400" y="404640"/>
            <a:ext cx="4599000" cy="288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http://fullref.ru/files/62/2819ed15f6db72ebd95565b2ab7654c8.html_files/1.jpg"/>
          <p:cNvPicPr/>
          <p:nvPr/>
        </p:nvPicPr>
        <p:blipFill>
          <a:blip r:embed="rId3"/>
          <a:stretch/>
        </p:blipFill>
        <p:spPr>
          <a:xfrm>
            <a:off x="4932360" y="404640"/>
            <a:ext cx="3736800" cy="2838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http://physik.ucoz.ru/images/101b.JPG"/>
          <p:cNvPicPr/>
          <p:nvPr/>
        </p:nvPicPr>
        <p:blipFill>
          <a:blip r:embed="rId4"/>
          <a:stretch/>
        </p:blipFill>
        <p:spPr>
          <a:xfrm>
            <a:off x="5448240" y="3573360"/>
            <a:ext cx="2705040" cy="28098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РАФИКИ ПРОЦЕС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468360" y="396252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В какой момент времени начался процесс плавления веществ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457200" y="5257800"/>
            <a:ext cx="640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Сколько длилось: а) нагревание твердого тел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плавление веществ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) остывание жидк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638680" y="64911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57200" y="4267080"/>
            <a:ext cx="74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В какой момент времени вещество кристаллизовалос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57200" y="464832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Чему равна температура плавления вещества?  Температура кристаллизаци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9" descr="pic 5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2895480"/>
          </a:xfrm>
          <a:prstGeom prst="rect">
            <a:avLst/>
          </a:prstGeom>
          <a:ln w="3816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165" name="Text Box 12"/>
          <p:cNvSpPr/>
          <p:nvPr/>
        </p:nvSpPr>
        <p:spPr>
          <a:xfrm>
            <a:off x="375840" y="152280"/>
            <a:ext cx="83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график и ответьте на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900000" y="1557360"/>
            <a:ext cx="7417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стиг ли ты сегодня цели уро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ли достиг, то что показалось наиболее интересным? Почему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ли не достиг, то что помеша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бы ты изменил в уро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мог бы посоветовать однокласснику, который не удовлетворён сегодняшним урок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Public\Pictures\Конкурс\кадр.jpg"/>
          <p:cNvPicPr/>
          <p:nvPr/>
        </p:nvPicPr>
        <p:blipFill>
          <a:blip r:embed="rId1"/>
          <a:srcRect l="0" t="-5342" r="0" b="0"/>
          <a:stretch/>
        </p:blipFill>
        <p:spPr>
          <a:xfrm>
            <a:off x="1714680" y="1940040"/>
            <a:ext cx="56433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8487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юди научились обрабатывать бронзу раньше, чем железо. Чем это можно объяснить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635280" y="1125000"/>
            <a:ext cx="5051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ЕЛЕЗ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РОН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http://toysoldiers.spb.ru/toysoldiers/TSFAA/tsfaa-vikingsiron.jpg"/>
          <p:cNvPicPr/>
          <p:nvPr/>
        </p:nvPicPr>
        <p:blipFill>
          <a:blip r:embed="rId1"/>
          <a:stretch/>
        </p:blipFill>
        <p:spPr>
          <a:xfrm>
            <a:off x="3780000" y="1700280"/>
            <a:ext cx="4968720" cy="244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&amp;icy;&amp;zcy;&amp;vcy;&amp;lcy;&amp;iecy;&amp;chcy;&amp;iecy;&amp;ncy;&amp;icy;&amp;iecy; &amp;ocy;&amp;tcy;&amp;lcy;&amp;icy;&amp;vcy;&amp;kcy;&amp;icy;"/>
          <p:cNvPicPr/>
          <p:nvPr/>
        </p:nvPicPr>
        <p:blipFill>
          <a:blip r:embed="rId2"/>
          <a:stretch/>
        </p:blipFill>
        <p:spPr>
          <a:xfrm>
            <a:off x="4572000" y="4438800"/>
            <a:ext cx="3243240" cy="1833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&amp;Fcy;&amp;icy;&amp;gcy;&amp;ucy;&amp;rcy;&amp;kcy;&amp;acy; &amp;Kcy;&amp;ocy;&amp;ncy;&amp;softcy; &amp;ncy;&amp;acy; &amp;bcy;&amp;rcy;&amp;ocy;&amp;ncy;&amp;zcy;&amp;ocy;&amp;vcy;&amp;ocy;&amp;jcy; &amp;pcy;&amp;ocy;&amp;dcy;&amp;scy;&amp;tcy;&amp;acy;&amp;vcy;&amp;kcy;&amp;iecy;"/>
          <p:cNvPicPr/>
          <p:nvPr/>
        </p:nvPicPr>
        <p:blipFill>
          <a:blip r:embed="rId3"/>
          <a:stretch/>
        </p:blipFill>
        <p:spPr>
          <a:xfrm>
            <a:off x="336600" y="2060640"/>
            <a:ext cx="323064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master.festival.1september.ru/articles/650341/presentation/12.JPG"/>
          <p:cNvPicPr/>
          <p:nvPr/>
        </p:nvPicPr>
        <p:blipFill>
          <a:blip r:embed="rId1"/>
          <a:stretch/>
        </p:blipFill>
        <p:spPr>
          <a:xfrm>
            <a:off x="1019160" y="1484280"/>
            <a:ext cx="7072200" cy="4397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варцевая посуда прочна и никогда не лопается. Кварца на земле много. Почему же мало делают посуды из кварца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'Плавление и кристаллизация олова'.mp4" descr=""/>
          <p:cNvPicPr/>
          <p:nvPr/>
        </p:nvPicPr>
        <p:blipFill>
          <a:blip r:embed="rId1"/>
          <a:stretch/>
        </p:blipFill>
        <p:spPr>
          <a:xfrm>
            <a:off x="1704960" y="549360"/>
            <a:ext cx="6337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festival.1september.ru/articles/611881/presentation/2.JPG"/>
          <p:cNvPicPr/>
          <p:nvPr/>
        </p:nvPicPr>
        <p:blipFill>
          <a:blip r:embed="rId1"/>
          <a:stretch/>
        </p:blipFill>
        <p:spPr>
          <a:xfrm>
            <a:off x="2050920" y="1989000"/>
            <a:ext cx="5473800" cy="4104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каких агрегатных состояниях может находиться веществ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22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В чем причина различия свойств веществ в разных агрегатных состояния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533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верд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533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3429000" y="2971800"/>
            <a:ext cx="236232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6248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429000" y="1828800"/>
            <a:ext cx="236232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Жидк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6248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Газообраз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281952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0"/>
          <p:cNvSpPr/>
          <p:nvPr/>
        </p:nvSpPr>
        <p:spPr>
          <a:xfrm>
            <a:off x="548640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4" descr="img2"/>
          <p:cNvPicPr/>
          <p:nvPr/>
        </p:nvPicPr>
        <p:blipFill>
          <a:blip r:embed="rId2"/>
          <a:srcRect l="0" t="68035" r="30243" b="5292"/>
          <a:stretch/>
        </p:blipFill>
        <p:spPr>
          <a:xfrm>
            <a:off x="6705720" y="3124080"/>
            <a:ext cx="1660320" cy="1270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img2"/>
          <p:cNvPicPr/>
          <p:nvPr/>
        </p:nvPicPr>
        <p:blipFill>
          <a:blip r:embed="rId3"/>
          <a:srcRect l="30243" t="30241" r="0" b="34021"/>
          <a:stretch/>
        </p:blipFill>
        <p:spPr>
          <a:xfrm>
            <a:off x="3886200" y="312408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" descr="img2"/>
          <p:cNvPicPr/>
          <p:nvPr/>
        </p:nvPicPr>
        <p:blipFill>
          <a:blip r:embed="rId4"/>
          <a:srcRect l="3024" t="0" r="21170" b="65011"/>
          <a:stretch/>
        </p:blipFill>
        <p:spPr>
          <a:xfrm>
            <a:off x="990720" y="3200400"/>
            <a:ext cx="1376280" cy="127008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30"/>
          <p:cNvSpPr/>
          <p:nvPr/>
        </p:nvSpPr>
        <p:spPr>
          <a:xfrm>
            <a:off x="434340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31"/>
          <p:cNvSpPr/>
          <p:nvPr/>
        </p:nvSpPr>
        <p:spPr>
          <a:xfrm>
            <a:off x="1523880" y="2362320"/>
            <a:ext cx="486000" cy="761760"/>
          </a:xfrm>
          <a:prstGeom prst="downArrow">
            <a:avLst>
              <a:gd name="adj1" fmla="val 50000"/>
              <a:gd name="adj2" fmla="val 3918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32"/>
          <p:cNvSpPr/>
          <p:nvPr/>
        </p:nvSpPr>
        <p:spPr>
          <a:xfrm>
            <a:off x="716292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2857680" y="142920"/>
            <a:ext cx="3668400" cy="11523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6072120" y="3929040"/>
            <a:ext cx="2808360" cy="1224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85840" y="3929040"/>
            <a:ext cx="2950920" cy="1222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214800" y="35712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Жидк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14200" y="4214880"/>
            <a:ext cx="30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Твердое те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429240" y="42148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Г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11"/>
          <p:cNvSpPr/>
          <p:nvPr/>
        </p:nvSpPr>
        <p:spPr>
          <a:xfrm flipV="1">
            <a:off x="1214280" y="1285560"/>
            <a:ext cx="2286000" cy="266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12"/>
          <p:cNvSpPr/>
          <p:nvPr/>
        </p:nvSpPr>
        <p:spPr>
          <a:xfrm flipH="1">
            <a:off x="1999800" y="1285920"/>
            <a:ext cx="2156040" cy="264312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13"/>
          <p:cNvSpPr/>
          <p:nvPr/>
        </p:nvSpPr>
        <p:spPr>
          <a:xfrm flipV="1">
            <a:off x="3286080" y="4429080"/>
            <a:ext cx="2786040" cy="4608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14"/>
          <p:cNvSpPr/>
          <p:nvPr/>
        </p:nvSpPr>
        <p:spPr>
          <a:xfrm flipH="1">
            <a:off x="3214440" y="4857840"/>
            <a:ext cx="2857320" cy="46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15"/>
          <p:cNvSpPr/>
          <p:nvPr/>
        </p:nvSpPr>
        <p:spPr>
          <a:xfrm flipH="1" flipV="1">
            <a:off x="5866920" y="1341000"/>
            <a:ext cx="2233800" cy="259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5148360" y="1341360"/>
            <a:ext cx="2232000" cy="259092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7"/>
          <p:cNvSpPr/>
          <p:nvPr/>
        </p:nvSpPr>
        <p:spPr>
          <a:xfrm rot="18517800">
            <a:off x="2129040" y="2382120"/>
            <a:ext cx="265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кристаллиза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9"/>
          <p:cNvSpPr/>
          <p:nvPr/>
        </p:nvSpPr>
        <p:spPr>
          <a:xfrm rot="18607800">
            <a:off x="1174320" y="21261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пл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20"/>
          <p:cNvSpPr/>
          <p:nvPr/>
        </p:nvSpPr>
        <p:spPr>
          <a:xfrm rot="2986800">
            <a:off x="4251960" y="2478960"/>
            <a:ext cx="313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2200" spc="-1" strike="noStrike">
                <a:solidFill>
                  <a:srgbClr val="0000ff"/>
                </a:solidFill>
                <a:latin typeface="Calibri"/>
              </a:rPr>
              <a:t>парообразова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1"/>
          <p:cNvSpPr/>
          <p:nvPr/>
        </p:nvSpPr>
        <p:spPr>
          <a:xfrm rot="2913600">
            <a:off x="6031080" y="2285280"/>
            <a:ext cx="227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Calibri"/>
              </a:rPr>
              <a:t>конденса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3571920" y="3929040"/>
            <a:ext cx="2367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ублима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3357720" y="4857840"/>
            <a:ext cx="292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Calibri"/>
              </a:rPr>
              <a:t>десублима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4"/>
          <p:cNvSpPr/>
          <p:nvPr/>
        </p:nvSpPr>
        <p:spPr>
          <a:xfrm flipV="1" rot="10800000">
            <a:off x="179280" y="5374440"/>
            <a:ext cx="896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Как называют процессы перехода вещества из одного агрегатного состояния в друго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Как вы думаете, каковы условия перехода вещества из жидкого состояния в твердое и наоборо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Book Antiqua"/>
              </a:rPr>
              <a:t>Плавление и отвердевание кристаллических те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Documents and Settings\Таня\Рабочий стол\Контрольная работа 2\Пример кристаллической решетки.gif"/>
          <p:cNvPicPr/>
          <p:nvPr/>
        </p:nvPicPr>
        <p:blipFill>
          <a:blip r:embed="rId2"/>
          <a:stretch/>
        </p:blipFill>
        <p:spPr>
          <a:xfrm>
            <a:off x="5546880" y="1700280"/>
            <a:ext cx="2317680" cy="1860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:\Documents and Settings\1\Рабочий стол\опубликовать\плавление график\план-конспект Гайдай\1395063662general_pages_17_March_2014_i9515_na_balakovo_severstal_poluchena_pervaya_plavka_stali.jpg"/>
          <p:cNvPicPr/>
          <p:nvPr/>
        </p:nvPicPr>
        <p:blipFill>
          <a:blip r:embed="rId3"/>
          <a:stretch/>
        </p:blipFill>
        <p:spPr>
          <a:xfrm>
            <a:off x="542880" y="2236680"/>
            <a:ext cx="4778280" cy="6907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C:\Documents and Settings\1\Рабочий стол\опубликовать\плавление график\план-конспект Гайдай\55v93t-w1j.jpg"/>
          <p:cNvPicPr/>
          <p:nvPr/>
        </p:nvPicPr>
        <p:blipFill>
          <a:blip r:embed="rId4"/>
          <a:stretch/>
        </p:blipFill>
        <p:spPr>
          <a:xfrm>
            <a:off x="5200560" y="3249720"/>
            <a:ext cx="34070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10"/>
          <p:cNvSpPr/>
          <p:nvPr/>
        </p:nvSpPr>
        <p:spPr>
          <a:xfrm flipH="1">
            <a:off x="1447560" y="297180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4"/>
          <p:cNvSpPr/>
          <p:nvPr/>
        </p:nvSpPr>
        <p:spPr>
          <a:xfrm flipV="1">
            <a:off x="1447920" y="2057040"/>
            <a:ext cx="0" cy="3429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1066680" y="4038480"/>
            <a:ext cx="6858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6"/>
          <p:cNvSpPr/>
          <p:nvPr/>
        </p:nvSpPr>
        <p:spPr>
          <a:xfrm flipV="1">
            <a:off x="1511280" y="2949120"/>
            <a:ext cx="1116000" cy="801720"/>
          </a:xfrm>
          <a:prstGeom prst="line">
            <a:avLst/>
          </a:prstGeom>
          <a:ln w="50760">
            <a:solidFill>
              <a:srgbClr val="ff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2617920" y="2973240"/>
            <a:ext cx="990360" cy="0"/>
          </a:xfrm>
          <a:prstGeom prst="line">
            <a:avLst/>
          </a:prstGeom>
          <a:ln w="50760">
            <a:solidFill>
              <a:srgbClr val="ff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3668760" y="2339640"/>
            <a:ext cx="685800" cy="609480"/>
          </a:xfrm>
          <a:prstGeom prst="line">
            <a:avLst/>
          </a:prstGeom>
          <a:ln w="50760">
            <a:solidFill>
              <a:srgbClr val="ff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3808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,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4494240" y="2178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7620120" y="4038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,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м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609480" y="2666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32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108000" y="55440"/>
            <a:ext cx="895824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афик процесса плавления о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2"/>
          <p:cNvSpPr/>
          <p:nvPr/>
        </p:nvSpPr>
        <p:spPr>
          <a:xfrm flipH="1">
            <a:off x="1637640" y="35766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2366280" y="2481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3330000" y="2481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5T13:18:50Z</dcterms:created>
  <dc:creator>1</dc:creator>
  <dc:description/>
  <dc:language>en-US</dc:language>
  <cp:lastModifiedBy>1</cp:lastModifiedBy>
  <dcterms:modified xsi:type="dcterms:W3CDTF">2019-11-26T19:47:18Z</dcterms:modified>
  <cp:revision>46</cp:revision>
  <dc:subject/>
  <dc:title>Презентация PowerPoint</dc:title>
</cp:coreProperties>
</file>