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BD6D-BE9A-4E1A-A5F4-273BD5749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EC1-0C79-459C-9F8B-B2FCCA92D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E71-5DA0-4902-ABC8-325AF344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F2-D2BA-4EF4-9907-6BDF484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A98-6AB6-4281-9137-14F4C874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74E-CD20-4C53-BECC-1683B92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693-F08C-42BC-A7DC-D5873CF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AFA-61F2-4352-9617-64A09FA8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3F2-7F81-4F61-A4D0-B0924B83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4DE-4114-4F81-A289-8360C40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6AC-8931-4C74-A070-E3EAB090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37B-E400-4406-A833-4C7355E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BF1-1F7C-4FFE-90B0-BD6C8BD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7B8-E2D4-4337-8D84-5C0559F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919D-047A-49D3-834E-85FEE9108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ed"/>
          <p:cNvPicPr/>
          <p:nvPr/>
        </p:nvPicPr>
        <p:blipFill>
          <a:blip r:embed="rId1"/>
          <a:stretch/>
        </p:blipFill>
        <p:spPr>
          <a:xfrm>
            <a:off x="-200160" y="11160"/>
            <a:ext cx="934416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physik.ucoz.ru/kach_vopr/60.jpg"/>
          <p:cNvPicPr/>
          <p:nvPr/>
        </p:nvPicPr>
        <p:blipFill>
          <a:blip r:embed="rId1"/>
          <a:srcRect l="0" t="0" r="-11479" b="0"/>
          <a:stretch/>
        </p:blipFill>
        <p:spPr>
          <a:xfrm>
            <a:off x="1979640" y="341280"/>
            <a:ext cx="4884840" cy="4129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фик процесса отвердевания сви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1763640" y="3429000"/>
            <a:ext cx="7207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851280" y="4365720"/>
            <a:ext cx="144144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nika-fizika.narod.ru/10_3.h7.jpg"/>
          <p:cNvPicPr/>
          <p:nvPr/>
        </p:nvPicPr>
        <p:blipFill>
          <a:blip r:embed="rId1"/>
          <a:stretch/>
        </p:blipFill>
        <p:spPr>
          <a:xfrm>
            <a:off x="198360" y="806400"/>
            <a:ext cx="85201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формулируйте определение для новых понят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900000" y="35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Times New Roman"/>
              </a:rPr>
              <a:t>Кристаллизац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жидкость"/>
          <p:cNvPicPr/>
          <p:nvPr/>
        </p:nvPicPr>
        <p:blipFill>
          <a:blip r:embed="rId1"/>
          <a:stretch/>
        </p:blipFill>
        <p:spPr>
          <a:xfrm>
            <a:off x="6156360" y="1752480"/>
            <a:ext cx="2149560" cy="1408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 rot="16200000">
            <a:off x="3106800" y="1639440"/>
            <a:ext cx="1009800" cy="1235160"/>
          </a:xfrm>
          <a:prstGeom prst="downArrow">
            <a:avLst>
              <a:gd name="adj1" fmla="val 50000"/>
              <a:gd name="adj2" fmla="val 30579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9" descr="твердое тело1"/>
          <p:cNvPicPr/>
          <p:nvPr/>
        </p:nvPicPr>
        <p:blipFill>
          <a:blip r:embed="rId2"/>
          <a:stretch/>
        </p:blipFill>
        <p:spPr>
          <a:xfrm>
            <a:off x="1066680" y="1630440"/>
            <a:ext cx="1838520" cy="120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4229280" y="2924280"/>
            <a:ext cx="3727440" cy="9169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0" descr="28l"/>
          <p:cNvPicPr/>
          <p:nvPr/>
        </p:nvPicPr>
        <p:blipFill>
          <a:blip r:embed="rId3"/>
          <a:stretch/>
        </p:blipFill>
        <p:spPr>
          <a:xfrm>
            <a:off x="2124000" y="2287440"/>
            <a:ext cx="1152720" cy="1486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3"/>
          <p:cNvSpPr/>
          <p:nvPr/>
        </p:nvSpPr>
        <p:spPr>
          <a:xfrm>
            <a:off x="539640" y="2832120"/>
            <a:ext cx="1728720" cy="1008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1"/>
          <p:cNvSpPr/>
          <p:nvPr/>
        </p:nvSpPr>
        <p:spPr>
          <a:xfrm rot="16200000">
            <a:off x="3285360" y="1797480"/>
            <a:ext cx="1081080" cy="1447560"/>
          </a:xfrm>
          <a:prstGeom prst="downArrow">
            <a:avLst>
              <a:gd name="adj1" fmla="val 50000"/>
              <a:gd name="adj2" fmla="val 33475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149560" cy="1435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твердое тело1"/>
          <p:cNvPicPr/>
          <p:nvPr/>
        </p:nvPicPr>
        <p:blipFill>
          <a:blip r:embed="rId2"/>
          <a:stretch/>
        </p:blipFill>
        <p:spPr>
          <a:xfrm>
            <a:off x="6172200" y="1752480"/>
            <a:ext cx="2209680" cy="1435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3171960"/>
            <a:ext cx="2233800" cy="5443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4495680" y="2565360"/>
            <a:ext cx="237996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uslide.ru/images/10/16654/736/img5.jpg"/>
          <p:cNvPicPr/>
          <p:nvPr/>
        </p:nvPicPr>
        <p:blipFill>
          <a:blip r:embed="rId1"/>
          <a:stretch/>
        </p:blipFill>
        <p:spPr>
          <a:xfrm>
            <a:off x="900000" y="105264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kaz.docdat.com/pars_docs/refs/96/95406/95406_html_m6f99be5e.png"/>
          <p:cNvPicPr/>
          <p:nvPr/>
        </p:nvPicPr>
        <p:blipFill>
          <a:blip r:embed="rId1"/>
          <a:stretch/>
        </p:blipFill>
        <p:spPr>
          <a:xfrm>
            <a:off x="395280" y="3068640"/>
            <a:ext cx="471492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fullref.ru/files/7/53d57f1169c2d193aa6f22c036d4b191.html_files/rId6.png"/>
          <p:cNvPicPr/>
          <p:nvPr/>
        </p:nvPicPr>
        <p:blipFill>
          <a:blip r:embed="rId2"/>
          <a:stretch/>
        </p:blipFill>
        <p:spPr>
          <a:xfrm>
            <a:off x="122400" y="404640"/>
            <a:ext cx="4599000" cy="288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fullref.ru/files/62/2819ed15f6db72ebd95565b2ab7654c8.html_files/1.jpg"/>
          <p:cNvPicPr/>
          <p:nvPr/>
        </p:nvPicPr>
        <p:blipFill>
          <a:blip r:embed="rId3"/>
          <a:stretch/>
        </p:blipFill>
        <p:spPr>
          <a:xfrm>
            <a:off x="4932360" y="404640"/>
            <a:ext cx="3736800" cy="283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physik.ucoz.ru/images/101b.JPG"/>
          <p:cNvPicPr/>
          <p:nvPr/>
        </p:nvPicPr>
        <p:blipFill>
          <a:blip r:embed="rId4"/>
          <a:stretch/>
        </p:blipFill>
        <p:spPr>
          <a:xfrm>
            <a:off x="5448240" y="3573360"/>
            <a:ext cx="270504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И ПРОЦЕС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65" name="Text Box 12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900000" y="1557360"/>
            <a:ext cx="741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иг ли ты сегодня цел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достиг, то что показалось наиболее интересным? Почем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е достиг, то что помеш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бы ты изменил в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мог бы посоветовать однокласснику, который не удовлетворён сегодняшним урок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Public\Pictures\Конкурс\кадр.jpg"/>
          <p:cNvPicPr/>
          <p:nvPr/>
        </p:nvPicPr>
        <p:blipFill>
          <a:blip r:embed="rId1"/>
          <a:srcRect l="0" t="-5342" r="0" b="0"/>
          <a:stretch/>
        </p:blipFill>
        <p:spPr>
          <a:xfrm>
            <a:off x="1714680" y="1940040"/>
            <a:ext cx="5643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848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ди научились обрабатывать бронзу раньше, чем железо. Чем это можно объяснит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35280" y="1125000"/>
            <a:ext cx="505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РОН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toysoldiers.spb.ru/toysoldiers/TSFAA/tsfaa-vikingsiron.jpg"/>
          <p:cNvPicPr/>
          <p:nvPr/>
        </p:nvPicPr>
        <p:blipFill>
          <a:blip r:embed="rId1"/>
          <a:stretch/>
        </p:blipFill>
        <p:spPr>
          <a:xfrm>
            <a:off x="3780000" y="1700280"/>
            <a:ext cx="4968720" cy="244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&amp;icy;&amp;zcy;&amp;vcy;&amp;lcy;&amp;iecy;&amp;chcy;&amp;iecy;&amp;ncy;&amp;icy;&amp;iecy; &amp;ocy;&amp;tcy;&amp;lcy;&amp;icy;&amp;vcy;&amp;kcy;&amp;icy;"/>
          <p:cNvPicPr/>
          <p:nvPr/>
        </p:nvPicPr>
        <p:blipFill>
          <a:blip r:embed="rId2"/>
          <a:stretch/>
        </p:blipFill>
        <p:spPr>
          <a:xfrm>
            <a:off x="4572000" y="4438800"/>
            <a:ext cx="3243240" cy="18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&amp;Fcy;&amp;icy;&amp;gcy;&amp;ucy;&amp;rcy;&amp;kcy;&amp;acy; &amp;Kcy;&amp;ocy;&amp;ncy;&amp;softcy; &amp;ncy;&amp;acy; &amp;bcy;&amp;rcy;&amp;ocy;&amp;ncy;&amp;zcy;&amp;ocy;&amp;vcy;&amp;ocy;&amp;jcy; &amp;pcy;&amp;ocy;&amp;dcy;&amp;scy;&amp;tcy;&amp;acy;&amp;vcy;&amp;kcy;&amp;iecy;"/>
          <p:cNvPicPr/>
          <p:nvPr/>
        </p:nvPicPr>
        <p:blipFill>
          <a:blip r:embed="rId3"/>
          <a:stretch/>
        </p:blipFill>
        <p:spPr>
          <a:xfrm>
            <a:off x="336600" y="2060640"/>
            <a:ext cx="32306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aster.festival.1september.ru/articles/650341/presentation/12.JPG"/>
          <p:cNvPicPr/>
          <p:nvPr/>
        </p:nvPicPr>
        <p:blipFill>
          <a:blip r:embed="rId1"/>
          <a:stretch/>
        </p:blipFill>
        <p:spPr>
          <a:xfrm>
            <a:off x="1019160" y="1484280"/>
            <a:ext cx="7072200" cy="439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рцевая посуда прочна и никогда не лопается. Кварца на земле много. Почему же мало делают посуды из кварц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'Плавление и кристаллизация олова'.mp4" descr=""/>
          <p:cNvPicPr/>
          <p:nvPr/>
        </p:nvPicPr>
        <p:blipFill>
          <a:blip r:embed="rId1"/>
          <a:stretch/>
        </p:blipFill>
        <p:spPr>
          <a:xfrm>
            <a:off x="1704960" y="549360"/>
            <a:ext cx="6337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festival.1september.ru/articles/611881/presentation/2.JPG"/>
          <p:cNvPicPr/>
          <p:nvPr/>
        </p:nvPicPr>
        <p:blipFill>
          <a:blip r:embed="rId1"/>
          <a:stretch/>
        </p:blipFill>
        <p:spPr>
          <a:xfrm>
            <a:off x="2050920" y="1989000"/>
            <a:ext cx="5473800" cy="410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аких агрегатных состояниях может находиться веще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 чем причина различия свойств веществ в разных агрегатных состояния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4" descr="img2"/>
          <p:cNvPicPr/>
          <p:nvPr/>
        </p:nvPicPr>
        <p:blipFill>
          <a:blip r:embed="rId2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img2"/>
          <p:cNvPicPr/>
          <p:nvPr/>
        </p:nvPicPr>
        <p:blipFill>
          <a:blip r:embed="rId3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img2"/>
          <p:cNvPicPr/>
          <p:nvPr/>
        </p:nvPicPr>
        <p:blipFill>
          <a:blip r:embed="rId4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0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31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32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857680" y="142920"/>
            <a:ext cx="3668400" cy="1152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072120" y="3929040"/>
            <a:ext cx="280836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85840" y="3929040"/>
            <a:ext cx="2950920" cy="1222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214800" y="357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Жид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4200" y="421488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Твердое 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29240" y="42148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1"/>
          <p:cNvSpPr/>
          <p:nvPr/>
        </p:nvSpPr>
        <p:spPr>
          <a:xfrm flipV="1">
            <a:off x="1214280" y="1285560"/>
            <a:ext cx="2286000" cy="26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2"/>
          <p:cNvSpPr/>
          <p:nvPr/>
        </p:nvSpPr>
        <p:spPr>
          <a:xfrm flipH="1">
            <a:off x="1999800" y="1285920"/>
            <a:ext cx="2156040" cy="26431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3286080" y="4429080"/>
            <a:ext cx="2786040" cy="46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3214440" y="4857840"/>
            <a:ext cx="2857320" cy="46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5"/>
          <p:cNvSpPr/>
          <p:nvPr/>
        </p:nvSpPr>
        <p:spPr>
          <a:xfrm flipH="1" flipV="1">
            <a:off x="5866920" y="1341000"/>
            <a:ext cx="2233800" cy="259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5148360" y="1341360"/>
            <a:ext cx="2232000" cy="25909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7"/>
          <p:cNvSpPr/>
          <p:nvPr/>
        </p:nvSpPr>
        <p:spPr>
          <a:xfrm rot="18517800">
            <a:off x="2129040" y="2382120"/>
            <a:ext cx="265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кристаллиз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9"/>
          <p:cNvSpPr/>
          <p:nvPr/>
        </p:nvSpPr>
        <p:spPr>
          <a:xfrm rot="18607800">
            <a:off x="1174320" y="212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л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0"/>
          <p:cNvSpPr/>
          <p:nvPr/>
        </p:nvSpPr>
        <p:spPr>
          <a:xfrm rot="2986800">
            <a:off x="4251960" y="2478960"/>
            <a:ext cx="313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парообраз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1"/>
          <p:cNvSpPr/>
          <p:nvPr/>
        </p:nvSpPr>
        <p:spPr>
          <a:xfrm rot="2913600">
            <a:off x="6031080" y="2285280"/>
            <a:ext cx="227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Calibri"/>
              </a:rPr>
              <a:t>конденс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571920" y="3929040"/>
            <a:ext cx="236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ублим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3357720" y="485784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Calibri"/>
              </a:rPr>
              <a:t>десублим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4"/>
          <p:cNvSpPr/>
          <p:nvPr/>
        </p:nvSpPr>
        <p:spPr>
          <a:xfrm flipV="1" rot="10800000">
            <a:off x="179280" y="5374440"/>
            <a:ext cx="89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Как называют процессы перехода вещества из одного агрегатного состояния в друг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Как вы думаете, каковы условия перехода вещества из жидкого состояния в твердое и наоборо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Book Antiqua"/>
              </a:rPr>
              <a:t>Плавление и отвердевание кристаллических т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Таня\Рабочий стол\Контрольная работа 2\Пример кристаллической решетки.gif"/>
          <p:cNvPicPr/>
          <p:nvPr/>
        </p:nvPicPr>
        <p:blipFill>
          <a:blip r:embed="rId2"/>
          <a:stretch/>
        </p:blipFill>
        <p:spPr>
          <a:xfrm>
            <a:off x="5546880" y="1700280"/>
            <a:ext cx="2317680" cy="186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Documents and Settings\1\Рабочий стол\опубликовать\плавление график\план-конспект Гайдай\1395063662general_pages_17_March_2014_i9515_na_balakovo_severstal_poluchena_pervaya_plavka_stali.jpg"/>
          <p:cNvPicPr/>
          <p:nvPr/>
        </p:nvPicPr>
        <p:blipFill>
          <a:blip r:embed="rId3"/>
          <a:stretch/>
        </p:blipFill>
        <p:spPr>
          <a:xfrm>
            <a:off x="542880" y="2236680"/>
            <a:ext cx="4778280" cy="690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Documents and Settings\1\Рабочий стол\опубликовать\плавление график\план-конспект Гайдай\55v93t-w1j.jpg"/>
          <p:cNvPicPr/>
          <p:nvPr/>
        </p:nvPicPr>
        <p:blipFill>
          <a:blip r:embed="rId4"/>
          <a:stretch/>
        </p:blipFill>
        <p:spPr>
          <a:xfrm>
            <a:off x="5200560" y="3249720"/>
            <a:ext cx="34070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0"/>
          <p:cNvSpPr/>
          <p:nvPr/>
        </p:nvSpPr>
        <p:spPr>
          <a:xfrm flipH="1">
            <a:off x="1447560" y="29718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1447920" y="2057040"/>
            <a:ext cx="0" cy="3429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066680" y="4038480"/>
            <a:ext cx="6858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6"/>
          <p:cNvSpPr/>
          <p:nvPr/>
        </p:nvSpPr>
        <p:spPr>
          <a:xfrm flipV="1">
            <a:off x="1511280" y="2949120"/>
            <a:ext cx="1116000" cy="80172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2617920" y="2973240"/>
            <a:ext cx="990360" cy="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3668760" y="2339640"/>
            <a:ext cx="685800" cy="609480"/>
          </a:xfrm>
          <a:prstGeom prst="line">
            <a:avLst/>
          </a:prstGeom>
          <a:ln w="5076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380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,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494240" y="2178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762012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, 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609480" y="2666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32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08000" y="55440"/>
            <a:ext cx="895824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к процесса плавления о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 flipH="1">
            <a:off x="1637640" y="3576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2366280" y="2481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3330000" y="2481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18:50Z</dcterms:created>
  <dc:creator>1</dc:creator>
  <dc:description/>
  <dc:language>en-US</dc:language>
  <cp:lastModifiedBy>1</cp:lastModifiedBy>
  <dcterms:modified xsi:type="dcterms:W3CDTF">2019-11-26T19:47:18Z</dcterms:modified>
  <cp:revision>46</cp:revision>
  <dc:subject/>
  <dc:title>Презентация PowerPoint</dc:title>
</cp:coreProperties>
</file>