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C84-D0C3-46B2-9F98-10F48910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800-F63D-4002-A974-228797D4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7C8-7679-4B9C-AD6C-CBB146A4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6A1-E221-4DA9-A2D0-265C78F8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BCE7-648E-4DF0-B28C-A98E0AD4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8EB-9CA9-4C37-ACFF-4F8ED72E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ED7A-A56F-40F5-BC71-42B2E62B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4C04-834F-4C9E-9B75-9E1FD41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1361-6261-42D0-BF90-BC84861C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BE1-1101-47A7-AB27-5B6DF8CE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8F4C-4B95-48A8-9BEC-59EBC57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3B4-393F-4CCD-B7CE-13DDB753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6854-A60B-424B-9F5D-7AD78755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6BF3-8C3E-4970-ABA6-556A568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9F4E-CCBC-4BF6-B962-4B172558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9980-B910-448B-9D01-C9406084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624-8A67-414E-906E-91C6CD6D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6BE-901C-4BDA-B02E-C58FF07E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621-2439-4769-8411-0CC47BFE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D32-0D88-4757-B1D5-BB10F17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E2E-F89F-43D1-9F45-3EE432B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B9A-BA89-44DF-935C-18557643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132-F30A-4DA4-B7FA-BDC9FE3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259-98D5-4886-AD91-A8EBECF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80B-A3B0-4515-BC5F-25287BB12F0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2CF4-6EFE-4067-AA82-A997880F456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450720" y="182520"/>
            <a:ext cx="1035684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720px-Russian_Royal_Family,_1911.JPG"/>
          <p:cNvPicPr/>
          <p:nvPr/>
        </p:nvPicPr>
        <p:blipFill>
          <a:blip r:embed="rId2"/>
          <a:stretch/>
        </p:blipFill>
        <p:spPr>
          <a:xfrm>
            <a:off x="1979640" y="2664000"/>
            <a:ext cx="50403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17 году, после Февральской революции, отречения от престола и домашнего ареста, бывший российский император Николай II и его семья по решению Временного правительства были высланы в Тоболь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ле прихода к власти большевиков и начала гражданской войны, в апреле 1918 года, получено разрешение Президиума (ВЦИК) четвёртого созыва о переводе Романовых в Москву с целью проведения суда над ни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иду наступления Чехословацкого корпуса и белой Сибирской армии на Восточном фронте, большевиками было решено спешно осуществить убийство в Екатеринбурге, куда на тот момент была переправлена царская 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честве одной из причин расстрела советские власти называли заговор с целью освобождения Николая Алексеевича. Однако, по воспоминаниям самих участников операции по ликвидации Романовых (напр., членов коллегии Уральской ОблЧК И. И. Родзинского и М. А. Медведева (Кудрина)), этот заговор на самом деле являлся провокацией, состряпанной большевиками с целью получить основания для убий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40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сланный из Москвы в Тобольск комиссар Василий Яковлев (Мячин) возглавил секретную миссию по вывозу царской семьи в Москву. В силу сложившихся обстоятельств, связанных в первую очередь с болезнью сына, Николай II с императрицей решили оставить всех детей, кроме Марии, в Тобольске в надежде воссоединиться с ними позд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Рисунок 3" descr="Константин_Мячин.jpg"/>
          <p:cNvPicPr/>
          <p:nvPr/>
        </p:nvPicPr>
        <p:blipFill>
          <a:blip r:embed="rId2"/>
          <a:stretch/>
        </p:blipFill>
        <p:spPr>
          <a:xfrm>
            <a:off x="4859280" y="2781360"/>
            <a:ext cx="25923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620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2 апреля 1918 года колонна из 150 человек с пулемётами, сопровождавшая бывшего царя, выступила из Тобольска в Тюмень. 30 апреля поезд из Тюмени прибыл в Екатеринбург, где Яковлев передал императорскую чету и дочь Марию руководителям Уралсовета А. Г. Белобородову, Ф. И. Голощёкину и Б. В. Дидковскому. 23 мая в Екатеринбург переправили остальных детей Николая II и свит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Рисунок 6" descr="a24_01.jpg"/>
          <p:cNvPicPr/>
          <p:nvPr/>
        </p:nvPicPr>
        <p:blipFill>
          <a:blip r:embed="rId1"/>
          <a:stretch/>
        </p:blipFill>
        <p:spPr>
          <a:xfrm>
            <a:off x="5796000" y="3141720"/>
            <a:ext cx="1989000" cy="2903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Goloschekin.jpg"/>
          <p:cNvPicPr/>
          <p:nvPr/>
        </p:nvPicPr>
        <p:blipFill>
          <a:blip r:embed="rId2"/>
          <a:stretch/>
        </p:blipFill>
        <p:spPr>
          <a:xfrm>
            <a:off x="3276720" y="3141720"/>
            <a:ext cx="2087280" cy="2782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Александр_Георгиевич_Белобородов.jpg"/>
          <p:cNvPicPr/>
          <p:nvPr/>
        </p:nvPicPr>
        <p:blipFill>
          <a:blip r:embed="rId3"/>
          <a:stretch/>
        </p:blipFill>
        <p:spPr>
          <a:xfrm>
            <a:off x="971640" y="3141720"/>
            <a:ext cx="2000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ю Романовых разместили в «Доме особого назначения» — реквизированном особняке горного и военного инженера-строителя Н. И. Ипатьева. Здесь с семьёй Романовых проживали пять человек обслуживающего персонала: доктор Е. С. Боткин, камер-лакей А. Е. Трупп, комнатная девушка и горничная императрицы А. С. Демидова, повар И. М. Харитонов и поварёнок Л. Седнё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арская семья провела в последнем своём доме 78 д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Рисунок 3" descr="BotkinES.jpg"/>
          <p:cNvPicPr/>
          <p:nvPr/>
        </p:nvPicPr>
        <p:blipFill>
          <a:blip r:embed="rId2"/>
          <a:stretch/>
        </p:blipFill>
        <p:spPr>
          <a:xfrm>
            <a:off x="0" y="4005360"/>
            <a:ext cx="1665360" cy="217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0011gh91.jpeg"/>
          <p:cNvPicPr/>
          <p:nvPr/>
        </p:nvPicPr>
        <p:blipFill>
          <a:blip r:embed="rId3"/>
          <a:stretch/>
        </p:blipFill>
        <p:spPr>
          <a:xfrm>
            <a:off x="1619280" y="4292640"/>
            <a:ext cx="1676520" cy="1839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Anna_Demidova.jpg"/>
          <p:cNvPicPr/>
          <p:nvPr/>
        </p:nvPicPr>
        <p:blipFill>
          <a:blip r:embed="rId4"/>
          <a:stretch/>
        </p:blipFill>
        <p:spPr>
          <a:xfrm>
            <a:off x="3132000" y="4149720"/>
            <a:ext cx="1630440" cy="2533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800px-Ipatjew-Haus1.jpg"/>
          <p:cNvPicPr/>
          <p:nvPr/>
        </p:nvPicPr>
        <p:blipFill>
          <a:blip r:embed="rId5"/>
          <a:stretch/>
        </p:blipFill>
        <p:spPr>
          <a:xfrm>
            <a:off x="4764240" y="3967200"/>
            <a:ext cx="43797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17520" y="-30240"/>
            <a:ext cx="8240760" cy="99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гласно официальной советской версии, решение о расстреле было принято только Уралсовет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очь с 16 на 17 июля Романовы и обслуга легли спать, как обычно, в 22 часа 30 минут. В 23 часа 30 минут в особняк явились два особоуполномоченных от Уралсовета. Они вручили решение исполкома командиру отряда охраны П. З. Ермакову и новому коменданту дома комиссару Чрезвычайной следственной комиссии Якову Юровскому, сменившему на этой должности Авдеева 4 июля, и предложили немедленно приступить к исполнению пригов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уженным членам семьи и персоналу объявили, что в связи с наступлением белых войск особняк может оказаться под обстрелом, и поэтому в целях безопасности нужно перейти в подвальное помещ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еро членов семьи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Александрови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ександра Фёдоро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льг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атья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р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стас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ексе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 такж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Боткин, лейб-меди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ван Харитонов, пова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лексей Трупп, камердине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на Демидова, горничн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, кроме поварёнка Седнёва, удалённого накануне из дома, спустились со второго этажа дома и перешли в угловую полуподвальную комнату. Когда все разместились в комнате, Юровский огласил приговор. Сразу же после этого царскую семью расстрелял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. В государя стрелял Михаил Александрович Медведе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Член Уральской коллегии ЧК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. В государыню стрелял Юровский Яккел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Комендант Ипатьевского Дома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3. В Цесаревича стрелял Григорий Петрович Никулин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Начальник внутренней охраны, Зам. Коменданта Ипатьевского Дома)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4. В царевну Ольгу стрелял Петр Ермак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(Член исполкома Уральского Совета)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5. В царевну Татьяну стрелял Войков Петр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6. В царевну Марию стрелял Стрекошин Александр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У него Петр Ермаков забрал винтовку со штыком и "добил" всех, кто остался живым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7. В царевну Анастасию стрелял И.Мейер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8. Дублировал выстрел в государя Петр Ермаков, и в случае неисполнения должен был "добить" Царя, а в случае измены - М.А.Медведева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9. В случае непредвиденных обстоятельств убить наследника должен был Юровский, а на всякий случай, некто Мебиус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Руководители расстрела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Белоборо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Дедковский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афар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Голощекин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оме семьи бывшего императора, были уничтожены все члены Дома Романовых, по различным причинам оставшиеся в России после революции (за исключением великого князя Николая Константиновича, умершего в 1918 году в Ташкенте от воспаления лёгких, и двух детей его сына Александра Искандера — Натальи Андросовой (1917—1999) и Кирилла Андросова (1915—1992), живших в Моск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7928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81 году царская семья была прославлена (канонизирована) Русской православной церковью за рубежом, a в 2000 — Русской православной церковь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 сентября 1990 года Горсовет Екатеринбурга принял решение об отводе участка, на котором стоял снесённый дом Ипатьева, Екатеринбургской и Верхотурской Епархии. Здесь в 2000-х годах был сооружен храм «в память о невинно убиенных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3" descr="450px-343xrumek_oblsverdl.JPG"/>
          <p:cNvPicPr/>
          <p:nvPr/>
        </p:nvPicPr>
        <p:blipFill>
          <a:blip r:embed="rId2"/>
          <a:stretch/>
        </p:blipFill>
        <p:spPr>
          <a:xfrm>
            <a:off x="4572000" y="1628640"/>
            <a:ext cx="24480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1:18:48Z</dcterms:created>
  <dc:creator>User</dc:creator>
  <dc:description/>
  <dc:language>en-US</dc:language>
  <cp:lastModifiedBy>User</cp:lastModifiedBy>
  <dcterms:modified xsi:type="dcterms:W3CDTF">2010-12-20T21:55:16Z</dcterms:modified>
  <cp:revision>1</cp:revision>
  <dc:subject/>
  <dc:title>Расстрел царской семьи </dc:title>
</cp:coreProperties>
</file>