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969-7195-4B97-8711-46426EFE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258-9145-47F7-A0FE-FFB8BCC5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B1B-0AC7-457A-A7DC-9FA04739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C18-F76A-47D8-AE21-940C9C96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5416-7A28-4D95-9604-FCBB8235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9AAA-A065-45E2-9105-2A63B9BB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D78A-60D2-4121-BE5E-90650F01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EB43-CDCA-46C9-BFB3-F48CAB9E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C852-20AC-4725-A622-4E431D1F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6DDC-9B30-4A77-A247-F9CF0A75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060D-307F-4D8C-870F-407705CC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53D-B870-402B-82C5-CD2CE89F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F189-A3EC-4B21-8769-33D90462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5FBA-CC49-4C8B-A114-4692BF7F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526F-4EF8-450D-88B5-3C82A66A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D3DF-6FC9-42D8-86C9-C82C592C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AF71-16EA-4A74-8FF6-A8D606E4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402-177A-4BDB-B47D-FC2AC10C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3E9-4EB7-49E2-B88D-D46C2C9F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724-7863-4CBD-A380-56ABF42E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511-743C-48B4-8B8D-0DF2B50C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AA5C-09FE-4A24-89AC-41DE6A97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866-73C2-4D06-AE3C-1CDD7015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7366-6AA0-400E-B399-13B1BDAC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D66D-82D3-4B1E-9F51-AB90F86E7F3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8A70-C72C-42CB-87E0-FAC37467507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-450720" y="182520"/>
            <a:ext cx="10356840" cy="33526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720px-Russian_Royal_Family,_1911.JPG"/>
          <p:cNvPicPr/>
          <p:nvPr/>
        </p:nvPicPr>
        <p:blipFill>
          <a:blip r:embed="rId2"/>
          <a:stretch/>
        </p:blipFill>
        <p:spPr>
          <a:xfrm>
            <a:off x="1979640" y="2664000"/>
            <a:ext cx="504036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17 году, после Февральской революции, отречения от престола и домашнего ареста, бывший российский император Николай II и его семья по решению Временного правительства были высланы в Тоболь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ле прихода к власти большевиков и начала гражданской войны, в апреле 1918 года, получено разрешение Президиума (ВЦИК) четвёртого созыва о переводе Романовых в Москву с целью проведения суда над ни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иду наступления Чехословацкого корпуса и белой Сибирской армии на Восточном фронте, большевиками было решено спешно осуществить убийство в Екатеринбурге, куда на тот момент была переправлена царская семь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качестве одной из причин расстрела советские власти называли заговор с целью освобождения Николая Алексеевича. Однако, по воспоминаниям самих участников операции по ликвидации Романовых (напр., членов коллегии Уральской ОблЧК И. И. Родзинского и М. А. Медведева (Кудрина)), этот заговор на самом деле являлся провокацией, состряпанной большевиками с целью получить основания для убий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24000" y="112500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сланный из Москвы в Тобольск комиссар Василий Яковлев (Мячин) возглавил секретную миссию по вывозу царской семьи в Москву. В силу сложившихся обстоятельств, связанных в первую очередь с болезнью сына, Николай II с императрицей решили оставить всех детей, кроме Марии, в Тобольске в надежде воссоединиться с ними позд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Рисунок 3" descr="Константин_Мячин.jpg"/>
          <p:cNvPicPr/>
          <p:nvPr/>
        </p:nvPicPr>
        <p:blipFill>
          <a:blip r:embed="rId2"/>
          <a:stretch/>
        </p:blipFill>
        <p:spPr>
          <a:xfrm>
            <a:off x="4859280" y="2781360"/>
            <a:ext cx="25923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68360" y="620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2 апреля 1918 года колонна из 150 человек с пулемётами, сопровождавшая бывшего царя, выступила из Тобольска в Тюмень. 30 апреля поезд из Тюмени прибыл в Екатеринбург, где Яковлев передал императорскую чету и дочь Марию руководителям Уралсовета А. Г. Белобородову, Ф. И. Голощёкину и Б. В. Дидковскому. 23 мая в Екатеринбург переправили остальных детей Николая II и свит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Рисунок 6" descr="a24_01.jpg"/>
          <p:cNvPicPr/>
          <p:nvPr/>
        </p:nvPicPr>
        <p:blipFill>
          <a:blip r:embed="rId1"/>
          <a:stretch/>
        </p:blipFill>
        <p:spPr>
          <a:xfrm>
            <a:off x="5796000" y="3141720"/>
            <a:ext cx="1989000" cy="29034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Goloschekin.jpg"/>
          <p:cNvPicPr/>
          <p:nvPr/>
        </p:nvPicPr>
        <p:blipFill>
          <a:blip r:embed="rId2"/>
          <a:stretch/>
        </p:blipFill>
        <p:spPr>
          <a:xfrm>
            <a:off x="3276720" y="3141720"/>
            <a:ext cx="2087280" cy="2782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Александр_Георгиевич_Белобородов.jpg"/>
          <p:cNvPicPr/>
          <p:nvPr/>
        </p:nvPicPr>
        <p:blipFill>
          <a:blip r:embed="rId3"/>
          <a:stretch/>
        </p:blipFill>
        <p:spPr>
          <a:xfrm>
            <a:off x="971640" y="3141720"/>
            <a:ext cx="2000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ью Романовых разместили в «Доме особого назначения» — реквизированном особняке горного и военного инженера-строителя Н. И. Ипатьева. Здесь с семьёй Романовых проживали пять человек обслуживающего персонала: доктор Е. С. Боткин, камер-лакей А. Е. Трупп, комнатная девушка и горничная императрицы А. С. Демидова, повар И. М. Харитонов и поварёнок Л. Седнё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арская семья провела в последнем своём доме 78 дн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Рисунок 3" descr="BotkinES.jpg"/>
          <p:cNvPicPr/>
          <p:nvPr/>
        </p:nvPicPr>
        <p:blipFill>
          <a:blip r:embed="rId2"/>
          <a:stretch/>
        </p:blipFill>
        <p:spPr>
          <a:xfrm>
            <a:off x="0" y="4005360"/>
            <a:ext cx="1665360" cy="217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0011gh91.jpeg"/>
          <p:cNvPicPr/>
          <p:nvPr/>
        </p:nvPicPr>
        <p:blipFill>
          <a:blip r:embed="rId3"/>
          <a:stretch/>
        </p:blipFill>
        <p:spPr>
          <a:xfrm>
            <a:off x="1619280" y="4292640"/>
            <a:ext cx="1676520" cy="1839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Anna_Demidova.jpg"/>
          <p:cNvPicPr/>
          <p:nvPr/>
        </p:nvPicPr>
        <p:blipFill>
          <a:blip r:embed="rId4"/>
          <a:stretch/>
        </p:blipFill>
        <p:spPr>
          <a:xfrm>
            <a:off x="3132000" y="4149720"/>
            <a:ext cx="1630440" cy="25336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800px-Ipatjew-Haus1.jpg"/>
          <p:cNvPicPr/>
          <p:nvPr/>
        </p:nvPicPr>
        <p:blipFill>
          <a:blip r:embed="rId5"/>
          <a:stretch/>
        </p:blipFill>
        <p:spPr>
          <a:xfrm>
            <a:off x="4764240" y="3967200"/>
            <a:ext cx="437976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317520" y="-30240"/>
            <a:ext cx="8240760" cy="99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гласно официальной советской версии, решение о расстреле было принято только Уралсовето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ночь с 16 на 17 июля Романовы и обслуга легли спать, как обычно, в 22 часа 30 минут. В 23 часа 30 минут в особняк явились два особоуполномоченных от Уралсовета. Они вручили решение исполкома командиру отряда охраны П. З. Ермакову и новому коменданту дома комиссару Чрезвычайной следственной комиссии Якову Юровскому, сменившему на этой должности Авдеева 4 июля, и предложили немедленно приступить к исполнению пригово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буженным членам семьи и персоналу объявили, что в связи с наступлением белых войск особняк может оказаться под обстрелом, и поэтому в целях безопасности нужно перейти в подвальное помеще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меро членов семьи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й Александрович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лександра Фёдоровн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льг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атьян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ар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настас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лексей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 также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вгений Боткин, лейб-меди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ван Харитонов, пова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лексей Трупп, камердине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нна Демидова, горничн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, кроме поварёнка Седнёва, удалённого накануне из дома, спустились со второго этажа дома и перешли в угловую полуподвальную комнату. Когда все разместились в комнате, Юровский огласил приговор. Сразу же после этого царскую семью расстрелял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. В государя стрелял Михаил Александрович Медведев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(Член Уральской коллегии ЧК)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. В государыню стрелял Юровский Яккель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(Комендант Ипатьевского Дома)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3. В Цесаревича стрелял Григорий Петрович Никулин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(Начальник внутренней охраны, Зам. Коменданта Ипатьевского Дома)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4. В царевну Ольгу стрелял Петр Ермаков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(Член исполкома Уральского Совета).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5. В царевну Татьяну стрелял Войков Петр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6. В царевну Марию стрелял Стрекошин Александр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У него Петр Ермаков забрал винтовку со штыком и "добил" всех, кто остался живым.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7. В царевну Анастасию стрелял И.Мейер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8. Дублировал выстрел в государя Петр Ермаков, и в случае неисполнения должен был "добить" Царя, а в случае измены - М.А.Медведева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9. В случае непредвиденных обстоятельств убить наследника должен был Юровский, а на всякий случай, некто Мебиус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Руководители расстрела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Белобородов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Дедковский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афаров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Голощекин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оме семьи бывшего императора, были уничтожены все члены Дома Романовых, по различным причинам оставшиеся в России после революции (за исключением великого князя Николая Константиновича, умершего в 1918 году в Ташкенте от воспаления лёгких, и двух детей его сына Александра Искандера — Натальи Андросовой (1917—1999) и Кирилла Андросова (1915—1992), живших в Москв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7928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1981 году царская семья была прославлена (канонизирована) Русской православной церковью за рубежом, a в 2000 — Русской православной церковь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 сентября 1990 года Горсовет Екатеринбурга принял решение об отводе участка, на котором стоял снесённый дом Ипатьева, Екатеринбургской и Верхотурской Епархии. Здесь в 2000-х годах был сооружен храм «в память о невинно убиенных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Рисунок 3" descr="450px-343xrumek_oblsverdl.JPG"/>
          <p:cNvPicPr/>
          <p:nvPr/>
        </p:nvPicPr>
        <p:blipFill>
          <a:blip r:embed="rId2"/>
          <a:stretch/>
        </p:blipFill>
        <p:spPr>
          <a:xfrm>
            <a:off x="4572000" y="1628640"/>
            <a:ext cx="244800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21:18:48Z</dcterms:created>
  <dc:creator>User</dc:creator>
  <dc:description/>
  <dc:language>en-US</dc:language>
  <cp:lastModifiedBy>User</cp:lastModifiedBy>
  <dcterms:modified xsi:type="dcterms:W3CDTF">2010-12-20T21:55:16Z</dcterms:modified>
  <cp:revision>1</cp:revision>
  <dc:subject/>
  <dc:title>Расстрел царской семьи </dc:title>
</cp:coreProperties>
</file>