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3076-32BB-4219-93E5-1B7509E83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3013-A6A8-45A6-95A5-FA3DE7F0A5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0363-3756-4E0C-A93F-8D5FA2809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D65-7E4D-416E-9509-47EE7681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DA3-A71F-49A9-A2F9-C43E144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AC3-CD0F-496C-A8CA-1EB58313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08D-DAF2-4ED2-8485-E5438C83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1080-08C2-4B8E-8273-71B043B3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1F78-20A8-4E63-8EF5-3E7850AF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3D30-F7B0-4DFA-BA70-01C2CA47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C753-C18F-47B6-B49C-EECC1649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FFD2-2416-4AA4-8DCC-B474BC62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FA8A-4574-497C-8925-80B9D9F7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E18A-CC21-4B83-9CDD-118EDD6C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092-1175-4CCD-84CD-F2BE8518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E8F3-7C81-43C2-A306-273899AF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6BC1-A698-4FAC-BEF7-5F072CE9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782F-E842-487D-B8C5-52613C35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84EF-C5B7-4338-992E-33F62F9B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A776-C848-4959-8DBB-95442D74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497-AAA2-4477-B0E3-D4F2D775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D1B-66F3-419E-9897-6B643E5F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976-B4C6-4871-9321-E11EBE8E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E40-3E9C-48B7-BDA4-A136B02D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8B2-0F5A-48DC-A504-EF06E34C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376-4387-4C96-A00F-76B7EC37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147-6C54-4DF5-8477-D3A0298B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EE70-147F-4ABD-9DE4-E11DD9008CF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ABF4-1AEB-4F61-A5B1-FC5352B5CB4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23640" y="3068280"/>
            <a:ext cx="85690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2060"/>
                </a:solidFill>
                <a:latin typeface="Aharoni"/>
                <a:ea typeface="Aharoni"/>
              </a:rPr>
              <a:t>Les contes merveilleux de </a:t>
            </a:r>
            <a:r>
              <a:rPr b="0" lang="fr-CA" sz="3100" spc="-1" strike="noStrike">
                <a:solidFill>
                  <a:srgbClr val="002060"/>
                </a:solidFill>
                <a:latin typeface="Aharoni"/>
                <a:ea typeface="Aharoni"/>
              </a:rPr>
              <a:t>Charles Perrault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L</a:t>
            </a:r>
            <a:r>
              <a:rPr b="0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a pr</a:t>
            </a:r>
            <a:r>
              <a:rPr b="1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é</a:t>
            </a:r>
            <a:r>
              <a:rPr b="0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sentation est faite par les </a:t>
            </a:r>
            <a:r>
              <a:rPr b="1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é</a:t>
            </a:r>
            <a:r>
              <a:rPr b="0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l</a:t>
            </a:r>
            <a:r>
              <a:rPr b="1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è</a:t>
            </a:r>
            <a:r>
              <a:rPr b="0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ves de la 6-</a:t>
            </a:r>
            <a:r>
              <a:rPr b="1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è</a:t>
            </a:r>
            <a:r>
              <a:rPr b="0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me  classe</a:t>
            </a:r>
            <a:r>
              <a:rPr b="0" lang="ru-RU" sz="2400" spc="-1" strike="noStrike">
                <a:solidFill>
                  <a:srgbClr val="000066"/>
                </a:solidFill>
                <a:latin typeface="Arial Black"/>
                <a:ea typeface="Aharon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Kirilova Vik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Lapine Dim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Serkova Vik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Akhonina Nasti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Le professeur</a:t>
            </a:r>
            <a:r>
              <a:rPr b="0" lang="ru-RU" sz="2400" spc="-1" strike="noStrike">
                <a:solidFill>
                  <a:srgbClr val="000066"/>
                </a:solidFill>
                <a:latin typeface="Arial Black"/>
                <a:ea typeface="Aharoni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 Ukrainets Elena Stanislavov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811080" y="3500280"/>
            <a:ext cx="8064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1771560" y="141120"/>
            <a:ext cx="6143760" cy="295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Admin\Рабочий стол\Мама\картинки\feya_4.gif"/>
          <p:cNvPicPr/>
          <p:nvPr/>
        </p:nvPicPr>
        <p:blipFill>
          <a:blip r:embed="rId2"/>
          <a:stretch/>
        </p:blipFill>
        <p:spPr>
          <a:xfrm>
            <a:off x="811080" y="4076640"/>
            <a:ext cx="2040120" cy="175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Documents and Settings\Admin\Рабочий стол\Мама\картинки\feya_5.gif"/>
          <p:cNvPicPr/>
          <p:nvPr/>
        </p:nvPicPr>
        <p:blipFill>
          <a:blip r:embed="rId3"/>
          <a:stretch/>
        </p:blipFill>
        <p:spPr>
          <a:xfrm>
            <a:off x="4140360" y="4168800"/>
            <a:ext cx="174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43000" y="907560"/>
            <a:ext cx="3789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99"/>
                </a:solidFill>
                <a:latin typeface="Aharoni"/>
                <a:ea typeface="Aharoni"/>
              </a:rPr>
              <a:t>	</a:t>
            </a:r>
            <a:r>
              <a:rPr b="1" lang="fr-CA" sz="2400" spc="-1" strike="noStrike">
                <a:solidFill>
                  <a:srgbClr val="000066"/>
                </a:solidFill>
                <a:latin typeface="Aharoni"/>
                <a:ea typeface="Aharoni"/>
              </a:rPr>
              <a:t>Nous sommes dans le royaume des contes. Dans ce pays il y a un roi. Il s’appelle Charles Perrault. C’est le roi des conteurs, n’est-ce pas? Nous avons  lu beaucoup de contes de Charles Perrault. Aujourd’hui nous allons parler de Charles Perrault et de ses cont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38840" indent="-374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Содержимое 15" descr="64182851_22533.jpg"/>
          <p:cNvPicPr/>
          <p:nvPr/>
        </p:nvPicPr>
        <p:blipFill>
          <a:blip r:embed="rId1"/>
          <a:stretch/>
        </p:blipFill>
        <p:spPr>
          <a:xfrm>
            <a:off x="5292720" y="836640"/>
            <a:ext cx="3338640" cy="494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Admin\Рабочий стол\Мама\картинки\feya_4.gif"/>
          <p:cNvPicPr/>
          <p:nvPr/>
        </p:nvPicPr>
        <p:blipFill>
          <a:blip r:embed="rId2"/>
          <a:stretch/>
        </p:blipFill>
        <p:spPr>
          <a:xfrm>
            <a:off x="-27000" y="5102280"/>
            <a:ext cx="20401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2060"/>
                </a:solidFill>
                <a:latin typeface="Aharoni"/>
                <a:ea typeface="Aharoni"/>
              </a:rPr>
              <a:t>Charles Perrault</a:t>
            </a:r>
            <a:br>
              <a:rPr sz="4000"/>
            </a:br>
            <a:r>
              <a:rPr b="0" lang="fr-CA" sz="4000" spc="-1" strike="noStrike">
                <a:solidFill>
                  <a:srgbClr val="002060"/>
                </a:solidFill>
                <a:latin typeface="Aharoni"/>
                <a:ea typeface="Aharoni"/>
              </a:rPr>
              <a:t>(1628-1703)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419640" y="2133720"/>
            <a:ext cx="5565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66"/>
                </a:solidFill>
                <a:latin typeface="Aharoni"/>
                <a:ea typeface="Aharoni"/>
              </a:rPr>
              <a:t>Charles</a:t>
            </a:r>
            <a:r>
              <a:rPr b="1" lang="ru-RU" sz="3000" spc="-1" strike="noStrike">
                <a:solidFill>
                  <a:srgbClr val="000066"/>
                </a:solidFill>
                <a:latin typeface="Calibri"/>
                <a:ea typeface="Aharoni"/>
              </a:rPr>
              <a:t> </a:t>
            </a:r>
            <a:r>
              <a:rPr b="1" lang="fr-CA" sz="3000" spc="-1" strike="noStrike">
                <a:solidFill>
                  <a:srgbClr val="000066"/>
                </a:solidFill>
                <a:latin typeface="Aharoni"/>
                <a:ea typeface="Aharoni"/>
              </a:rPr>
              <a:t>Perrault</a:t>
            </a:r>
            <a:r>
              <a:rPr b="1" lang="ru-RU" sz="3000" spc="-1" strike="noStrike">
                <a:solidFill>
                  <a:srgbClr val="000066"/>
                </a:solidFill>
                <a:latin typeface="Calibri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66"/>
                </a:solidFill>
                <a:latin typeface="Aharoni"/>
                <a:ea typeface="Aharoni"/>
              </a:rPr>
              <a:t>est né à Paris le 12 janvier 1628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haroni"/>
                <a:ea typeface="Aharoni"/>
              </a:rPr>
              <a:t>Il aimait lire et lisait beaucoup.</a:t>
            </a:r>
            <a:br>
              <a:rPr sz="3000"/>
            </a:br>
            <a:r>
              <a:rPr b="1" lang="fr-CA" sz="3000" spc="-1" strike="noStrike">
                <a:solidFill>
                  <a:srgbClr val="000066"/>
                </a:solidFill>
                <a:latin typeface="Aharoni"/>
                <a:ea typeface="Aharoni"/>
              </a:rPr>
              <a:t>Il  </a:t>
            </a:r>
            <a:r>
              <a:rPr b="1" lang="en-US" sz="3000" spc="-1" strike="noStrike">
                <a:solidFill>
                  <a:srgbClr val="000066"/>
                </a:solidFill>
                <a:latin typeface="Aharoni"/>
                <a:ea typeface="Aharoni"/>
              </a:rPr>
              <a:t>était encore él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ève au </a:t>
            </a:r>
            <a:r>
              <a:rPr b="1" lang="en-US" sz="3000" spc="-1" strike="noStrike">
                <a:solidFill>
                  <a:srgbClr val="000066"/>
                </a:solidFill>
                <a:latin typeface="Aharoni"/>
                <a:ea typeface="Aharoni"/>
              </a:rPr>
              <a:t>collège quand il a composé son premier livre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haroni"/>
                <a:ea typeface="Aharoni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2" name="Picture 5" descr="513944642_tonnel"/>
          <p:cNvPicPr/>
          <p:nvPr/>
        </p:nvPicPr>
        <p:blipFill>
          <a:blip r:embed="rId1"/>
          <a:stretch/>
        </p:blipFill>
        <p:spPr>
          <a:xfrm>
            <a:off x="233280" y="1484280"/>
            <a:ext cx="3114720" cy="460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Admin\Рабочий стол\Мама\картинки\feya_4.gif"/>
          <p:cNvPicPr/>
          <p:nvPr/>
        </p:nvPicPr>
        <p:blipFill>
          <a:blip r:embed="rId2"/>
          <a:stretch/>
        </p:blipFill>
        <p:spPr>
          <a:xfrm>
            <a:off x="7104240" y="5102280"/>
            <a:ext cx="2039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50920" y="907560"/>
            <a:ext cx="5041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720" y="852120"/>
            <a:ext cx="4109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66"/>
                </a:solidFill>
                <a:latin typeface="Aharoni"/>
                <a:ea typeface="Aharoni"/>
              </a:rPr>
              <a:t>Charles</a:t>
            </a:r>
            <a:r>
              <a:rPr b="1" lang="ru-RU" sz="2800" spc="-1" strike="noStrike">
                <a:solidFill>
                  <a:srgbClr val="000066"/>
                </a:solidFill>
                <a:latin typeface="Constantia"/>
                <a:ea typeface="Aharoni"/>
              </a:rPr>
              <a:t> </a:t>
            </a:r>
            <a:r>
              <a:rPr b="1" lang="fr-CA" sz="2800" spc="-1" strike="noStrike">
                <a:solidFill>
                  <a:srgbClr val="000066"/>
                </a:solidFill>
                <a:latin typeface="Aharoni"/>
                <a:ea typeface="Aharoni"/>
              </a:rPr>
              <a:t>Perrault avait pr</a:t>
            </a:r>
            <a:r>
              <a:rPr b="1" lang="en-US" sz="2800" spc="-1" strike="noStrike">
                <a:solidFill>
                  <a:srgbClr val="000066"/>
                </a:solidFill>
                <a:latin typeface="Aharoni"/>
                <a:ea typeface="Aharoni"/>
              </a:rPr>
              <a:t>ès de 70 ans quand il a publié un recueil d‘</a:t>
            </a:r>
            <a:r>
              <a:rPr b="1" lang="ru-RU" sz="2800" spc="-1" strike="noStrike">
                <a:solidFill>
                  <a:srgbClr val="000066"/>
                </a:solidFill>
                <a:latin typeface="Aharoni"/>
                <a:ea typeface="Aharoni"/>
              </a:rPr>
              <a:t> «</a:t>
            </a:r>
            <a:r>
              <a:rPr b="1" lang="en-US" sz="2800" spc="-1" strike="noStrike">
                <a:solidFill>
                  <a:srgbClr val="000066"/>
                </a:solidFill>
                <a:latin typeface="Aharoni"/>
                <a:ea typeface="Aharoni"/>
              </a:rPr>
              <a:t>Histoires et contes du temps passé ou contes de ma mère l ‘Oye</a:t>
            </a:r>
            <a:r>
              <a:rPr b="1" lang="ru-RU" sz="2800" spc="-1" strike="noStrike">
                <a:solidFill>
                  <a:srgbClr val="000066"/>
                </a:solidFill>
                <a:latin typeface="Aharoni"/>
                <a:ea typeface="Aharoni"/>
              </a:rPr>
              <a:t>»</a:t>
            </a:r>
            <a:r>
              <a:rPr b="1" lang="en-US" sz="2800" spc="-1" strike="noStrike">
                <a:solidFill>
                  <a:srgbClr val="000066"/>
                </a:solidFill>
                <a:latin typeface="Aharoni"/>
                <a:ea typeface="Aharon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haroni"/>
                <a:ea typeface="Aharoni"/>
              </a:rPr>
              <a:t>Dans ce recueil il y avait plusieurs contes</a:t>
            </a:r>
            <a:r>
              <a:rPr b="1" lang="ru-RU" sz="2400" spc="-1" strike="noStrike">
                <a:solidFill>
                  <a:srgbClr val="000066"/>
                </a:solidFill>
                <a:latin typeface="Aharoni"/>
                <a:ea typeface="Aharon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Picture 2" descr="http://detectivebookshop.ru/image/books_covers/1003181066.jpg"/>
          <p:cNvPicPr/>
          <p:nvPr/>
        </p:nvPicPr>
        <p:blipFill>
          <a:blip r:embed="rId1"/>
          <a:stretch/>
        </p:blipFill>
        <p:spPr>
          <a:xfrm>
            <a:off x="250920" y="620640"/>
            <a:ext cx="4105080" cy="568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Documents and Settings\Admin\Рабочий стол\Мама\картинки\feya_4.gif"/>
          <p:cNvPicPr/>
          <p:nvPr/>
        </p:nvPicPr>
        <p:blipFill>
          <a:blip r:embed="rId2"/>
          <a:stretch/>
        </p:blipFill>
        <p:spPr>
          <a:xfrm>
            <a:off x="6372360" y="4797360"/>
            <a:ext cx="2039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219280" y="404280"/>
            <a:ext cx="354636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Ces contes – ce sont de courtes histoires qui racontent des aventures extraordinair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On a traduit ces contes en plusieurs langu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Les enfants du monde entier  les connaissent  avant d</a:t>
            </a:r>
            <a:r>
              <a:rPr b="1" lang="fr-CA" sz="2400" spc="-1" strike="noStrike">
                <a:solidFill>
                  <a:srgbClr val="000066"/>
                </a:solidFill>
                <a:latin typeface="Aharoni"/>
                <a:ea typeface="Aharoni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entrer à l</a:t>
            </a:r>
            <a:r>
              <a:rPr b="1" lang="fr-CA" sz="2400" spc="-1" strike="noStrike">
                <a:solidFill>
                  <a:srgbClr val="000066"/>
                </a:solidFill>
                <a:latin typeface="Aharoni"/>
                <a:ea typeface="Aharoni"/>
              </a:rPr>
              <a:t>’écol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Picture 5" descr="C:\Users\Admin\Desktop\011521116301_8d3aca1f8a8b1e2c554ca090194ecaf2.jpg.pagespeed.ce.8pTHU_WD7C.jpg"/>
          <p:cNvPicPr/>
          <p:nvPr/>
        </p:nvPicPr>
        <p:blipFill>
          <a:blip r:embed="rId1"/>
          <a:stretch/>
        </p:blipFill>
        <p:spPr>
          <a:xfrm>
            <a:off x="611280" y="620640"/>
            <a:ext cx="4248000" cy="583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Admin\Рабочий стол\Мама\картинки\feya_4.gif"/>
          <p:cNvPicPr/>
          <p:nvPr/>
        </p:nvPicPr>
        <p:blipFill>
          <a:blip r:embed="rId2"/>
          <a:stretch/>
        </p:blipFill>
        <p:spPr>
          <a:xfrm>
            <a:off x="7164360" y="5229360"/>
            <a:ext cx="15843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4:41:36Z</dcterms:created>
  <dc:creator>Nastja</dc:creator>
  <dc:description/>
  <dc:language>en-US</dc:language>
  <cp:lastModifiedBy>Admin</cp:lastModifiedBy>
  <dcterms:modified xsi:type="dcterms:W3CDTF">2019-11-26T12:24:57Z</dcterms:modified>
  <cp:revision>48</cp:revision>
  <dc:subject/>
  <dc:title>Шарль Перро</dc:title>
</cp:coreProperties>
</file>