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D3E-3C18-4B1B-BCD5-0D6274F0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390-6B11-4F33-994D-172EAB5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B9C-910B-4EA0-AB84-1392C67D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711-1BA2-4C7E-A0AE-D7A78228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511-6B73-4FE6-ACF4-0D858D0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B11-F277-48BE-9547-6204423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242-C0B4-4F00-BF43-C668785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513-2EC2-490D-B394-683734EB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109-65CA-4482-81D5-DE746509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712-7FB2-4094-B611-0FC40A5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787-8F06-437C-8D3D-244557E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8FD-91FF-4CAD-B669-12536A9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BF28-9512-4F89-9490-7E809CA98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ор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Выполнила воспитатель Гуляе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12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ворцы живут везде, кроме Центральной и Южной Америки. В нашей стране они возвращаются к  своим гнездовьям в феврале-марте, на севере – в начале мая, причем самочки прилетают позже скворцов. Скворец готовит дом для своей семьи. Зимой они живут стаями, а весной и летом небольшими группами по несколько пар. Чаще всего они живут в сельской местности-там им легче найти себе пропита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1211400" y="1967040"/>
            <a:ext cx="66736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м питаются скворцы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нней весной рацион скворцов составляет животная пища. После схода снега птицы охотно поедают дождевых червей и зимовавших личинок насекомых. С наступлением тепла скворцы охотятся на бабочек, кузнечиков, многоножек и паук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тительный рацион составляют семена зерновых культур, ягоды и различные фрукты: яблоки, груши, вишня, слива. Острым и изогнутым клювом скворцы с легкостью расщепляют скорлупу орехов или прокалывают кожуру жестких плод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2"/>
          <a:stretch/>
        </p:blipFill>
        <p:spPr>
          <a:xfrm>
            <a:off x="1835280" y="2220840"/>
            <a:ext cx="5825880" cy="4370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263680" y="59896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ворец на пепелище ищет жаренных жу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ворец добыл личинку ж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571680" y="1197000"/>
            <a:ext cx="79610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орец строит гнез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840120" y="2492280"/>
            <a:ext cx="5281560" cy="396108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кворцы полигамны и ищут пару только на период размножения, при чем самец нередко ухаживает за несколькими самками одновременно. Обустройством гнезда пара занимается совместно, используя прутики, сухую листву, траву, шерсть и перья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ладка содержит от 4 до 6, иногда 7 яиц бледно-голубого цвета, весом около 7 г. Насиживание длится 11-13 дней, иногда самец подменяет самку. Вылупившиеся птенцы ведут себя очень тихо, а родители по нескольку десятков раз в сутки парой вылетают из гнезда, чтобы прокормить потомство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2"/>
          <a:stretch/>
        </p:blipFill>
        <p:spPr>
          <a:xfrm>
            <a:off x="1258920" y="1384200"/>
            <a:ext cx="67690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4" descr=""/>
          <p:cNvPicPr/>
          <p:nvPr/>
        </p:nvPicPr>
        <p:blipFill>
          <a:blip r:embed="rId2"/>
          <a:stretch/>
        </p:blipFill>
        <p:spPr>
          <a:xfrm>
            <a:off x="-108000" y="260280"/>
            <a:ext cx="5327640" cy="532944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5" descr=""/>
          <p:cNvPicPr/>
          <p:nvPr/>
        </p:nvPicPr>
        <p:blipFill>
          <a:blip r:embed="rId3"/>
          <a:stretch/>
        </p:blipFill>
        <p:spPr>
          <a:xfrm>
            <a:off x="3776760" y="260280"/>
            <a:ext cx="5367240" cy="5367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250920" y="59500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ы думаете, зачем птенчики высунули свои клювики? (обычно детки отвечают – подышать</a:t>
            </a: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осмотрите следующий сл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0" y="260280"/>
            <a:ext cx="518652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5" descr=""/>
          <p:cNvPicPr/>
          <p:nvPr/>
        </p:nvPicPr>
        <p:blipFill>
          <a:blip r:embed="rId2"/>
          <a:stretch/>
        </p:blipFill>
        <p:spPr>
          <a:xfrm>
            <a:off x="5172120" y="2492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539640" y="46530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они кормят своих «желторотиков» птенц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более подросших то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482760" y="1600200"/>
            <a:ext cx="8121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началу дети употребляют только маленьких гусениц и червяков, затем родители приносят более жесткую пищу: жуков, улиток и кузнечиков. Через 3 недели пара начинает выманивать пугливое потомство из гнезда, вертясь неподалеку с кормом в клюв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благоприятных условиях скворец может прожить до 12 ле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0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765000"/>
            <a:ext cx="6400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равствуйте ребята.  Как ваше настроение? Как я рада вас всех видеть! Я для вас приготовила загадку: На шесте дворец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дворце-певец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цы ребята!!!Это….давайте посмотрим на картин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нравился вам мой рассказ? Ну а теперь давайте  немножко разомнемся, и сделаем вот  весеннюю  подел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4738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понадобится листок для фона поделки, листок белой бумаги(для березы) и две птички . Сверните белый лист в трубочку, это будет наша береза. Нарисуйте на ней черным фломастером продольные линии как на березке и веточки березки, на которых будут сидеть птички.Затем приклейте на ствол дерева домик для птичек, и самих птичек. Наша поделка гото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40000" cy="5113440"/>
          </a:xfrm>
          <a:prstGeom prst="rect">
            <a:avLst/>
          </a:prstGeom>
          <a:ln w="0">
            <a:noFill/>
          </a:ln>
        </p:spPr>
      </p:pic>
      <p:pic>
        <p:nvPicPr>
          <p:cNvPr id="85" name="Объект 5" descr=""/>
          <p:cNvPicPr/>
          <p:nvPr/>
        </p:nvPicPr>
        <p:blipFill>
          <a:blip r:embed="rId2"/>
          <a:stretch/>
        </p:blipFill>
        <p:spPr>
          <a:xfrm>
            <a:off x="5076720" y="1600200"/>
            <a:ext cx="2862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6392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0" y="476280"/>
            <a:ext cx="44276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мотрите, это скворец! Вот он какой, на шесте, да во «Дворце». Ах какой у него дворец! Нравится он ва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Красивый скворушка? Послушайте пословицы про него 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ырявом скворечнике скворец не гнезди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шь скворца – знать весна у крыльц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ёт скворец возле дома — к добр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т хочу спросить у вас , инетресно вам узнать как живет скворец? Что кушает? Как деток выводит? Тогда давайте посмотрим об этом дальше….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5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ворец это певчая птица, к тому же перелетная-на зиму скворцы улетают в теплые страны, а весной возвращаются и поселяются в скворечниках которые приготовили для них люди  или в пустых дуплах на деревьях. Строением и оперением скворцы напоминают черных дроздов, но отличаются меньшими размерами и манерой передвижения по земле: скворцы ходят, а дрозды прыгаю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8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имой, до начала линьки, перья покрываются белыми или бежевыми крапинками, особенно заметными на крыльях и груди. Сразу после весенней линьки оперение приобретает однотонный, бурый цве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1978200" y="1268280"/>
            <a:ext cx="5186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кворец  так же как и , вспомним стихотворение Корнея Ивановича Чуковского: «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но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утром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ссвете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Умываются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ышата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котята, и утята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жучки, и паучки»… и скворцы, вы только посмотрите как чистят свои перышки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5" descr=""/>
          <p:cNvPicPr/>
          <p:nvPr/>
        </p:nvPicPr>
        <p:blipFill>
          <a:blip r:embed="rId2"/>
          <a:stretch/>
        </p:blipFill>
        <p:spPr>
          <a:xfrm>
            <a:off x="1154160" y="1600200"/>
            <a:ext cx="683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как они купаю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2"/>
          <a:stretch/>
        </p:blipFill>
        <p:spPr>
          <a:xfrm>
            <a:off x="801720" y="1341360"/>
            <a:ext cx="7586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91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какой же красивый становится их окрас когда они чистые. Одно заглядень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4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0:26:53Z</dcterms:created>
  <dc:creator>1018</dc:creator>
  <dc:description/>
  <dc:language>en-US</dc:language>
  <cp:lastModifiedBy>Гость</cp:lastModifiedBy>
  <dcterms:modified xsi:type="dcterms:W3CDTF">2019-11-26T11:49:18Z</dcterms:modified>
  <cp:revision>28</cp:revision>
  <dc:subject/>
  <dc:title>Презентация PowerPoint</dc:title>
</cp:coreProperties>
</file>