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5A4-3580-45DE-A2F8-7FB75680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428-CECF-40BD-AD15-8B812A3D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5B7-8C4E-41BE-8985-A82C7D94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32A-C184-4B3C-A077-F1BA7E96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B49-B531-42D7-93AA-64D049BB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087-8A1A-4E3F-8BE7-1E50B44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38E-982B-49F0-87AD-73FAEB63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E0B-E962-4B39-B598-3EE738FB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EC6-F125-49C1-AD96-91640E71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AC4-366B-4107-BE5C-D97686B1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2C5-2F16-4CAC-8B0C-C163BA89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937-88EA-4FBF-8B8C-0B5D547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DEDA-CE77-4811-958B-212B05E91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вор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Выполнила воспитатель Гуляева Татьян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212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ворцы живут везде, кроме Центральной и Южной Америки. В нашей стране они возвращаются к  своим гнездовьям в феврале-марте, на севере – в начале мая, причем самочки прилетают позже скворцов. Скворец готовит дом для своей семьи. Зимой они живут стаями, а весной и летом небольшими группами по несколько пар. Чаще всего они живут в сельской местности-там им легче найти себе пропита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2"/>
          <a:stretch/>
        </p:blipFill>
        <p:spPr>
          <a:xfrm>
            <a:off x="1211400" y="1967040"/>
            <a:ext cx="66736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м питаются скворцы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нней весной рацион скворцов составляет животная пища. После схода снега птицы охотно поедают дождевых червей и зимовавших личинок насекомых. С наступлением тепла скворцы охотятся на бабочек, кузнечиков, многоножек и паук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тительный рацион составляют семена зерновых культур, ягоды и различные фрукты: яблоки, груши, вишня, слива. Острым и изогнутым клювом скворцы с легкостью расщепляют скорлупу орехов или прокалывают кожуру жестких плодо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2"/>
          <a:stretch/>
        </p:blipFill>
        <p:spPr>
          <a:xfrm>
            <a:off x="1835280" y="2220840"/>
            <a:ext cx="5825880" cy="4370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263680" y="59896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кворец на пепелище ищет жаренных жу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кворец добыл личинку жу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2"/>
          <a:stretch/>
        </p:blipFill>
        <p:spPr>
          <a:xfrm>
            <a:off x="571680" y="1197000"/>
            <a:ext cx="79610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ворец строит гнез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3840120" y="2492280"/>
            <a:ext cx="5281560" cy="396108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5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кворцы полигамны и ищут пару только на период размножения, при чем самец нередко ухаживает за несколькими самками одновременно. Обустройством гнезда пара занимается совместно, используя прутики, сухую листву, траву, шерсть и перья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ладка содержит от 4 до 6, иногда 7 яиц бледно-голубого цвета, весом около 7 г. Насиживание длится 11-13 дней, иногда самец подменяет самку. Вылупившиеся птенцы ведут себя очень тихо, а родители по нескольку десятков раз в сутки парой вылетают из гнезда, чтобы прокормить потомство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2"/>
          <a:stretch/>
        </p:blipFill>
        <p:spPr>
          <a:xfrm>
            <a:off x="1258920" y="1384200"/>
            <a:ext cx="67690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4" descr=""/>
          <p:cNvPicPr/>
          <p:nvPr/>
        </p:nvPicPr>
        <p:blipFill>
          <a:blip r:embed="rId2"/>
          <a:stretch/>
        </p:blipFill>
        <p:spPr>
          <a:xfrm>
            <a:off x="-108000" y="260280"/>
            <a:ext cx="5327640" cy="532944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5" descr=""/>
          <p:cNvPicPr/>
          <p:nvPr/>
        </p:nvPicPr>
        <p:blipFill>
          <a:blip r:embed="rId3"/>
          <a:stretch/>
        </p:blipFill>
        <p:spPr>
          <a:xfrm>
            <a:off x="3776760" y="260280"/>
            <a:ext cx="5367240" cy="5367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250920" y="59500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вы думаете, зачем птенчики высунули свои клювики? (обычно детки отвечают – подышать</a:t>
            </a: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Посмотрите следующий слай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Объект 4" descr=""/>
          <p:cNvPicPr/>
          <p:nvPr/>
        </p:nvPicPr>
        <p:blipFill>
          <a:blip r:embed="rId1"/>
          <a:stretch/>
        </p:blipFill>
        <p:spPr>
          <a:xfrm>
            <a:off x="0" y="260280"/>
            <a:ext cx="518652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Объект 5" descr=""/>
          <p:cNvPicPr/>
          <p:nvPr/>
        </p:nvPicPr>
        <p:blipFill>
          <a:blip r:embed="rId2"/>
          <a:stretch/>
        </p:blipFill>
        <p:spPr>
          <a:xfrm>
            <a:off x="5172120" y="2492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539640" y="465300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они кормят своих «желторотиков» птенц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более подросших то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2"/>
          <a:stretch/>
        </p:blipFill>
        <p:spPr>
          <a:xfrm>
            <a:off x="482760" y="1600200"/>
            <a:ext cx="8121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началу дети употребляют только маленьких гусениц и червяков, затем родители приносят более жесткую пищу: жуков, улиток и кузнечиков. Через 3 недели пара начинает выманивать пугливое потомство из гнезда, вертясь неподалеку с кормом в клюв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благоприятных условиях скворец может прожить до 12 лет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70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765000"/>
            <a:ext cx="6400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равствуйте ребята.  Как ваше настроение? Как я рада вас всех видеть! Я для вас приготовила загадку: На шесте дворец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дворце-певец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дцы ребята!!!Это….давайте посмотрим на картинку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нравился вам мой рассказ? Ну а теперь давайте  немножко разомнемся, и сделаем вот  весеннюю  подел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47388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понадобится листок для фона поделки, листок белой бумаги(для березы) и две птички . Сверните белый лист в трубочку, это будет наша береза. Нарисуйте на ней черным фломастером продольные линии как на березке и веточки березки, на которых будут сидеть птички.Затем приклейте на ствол дерева домик для птичек, и самих птичек. Наша поделка готов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Объект 4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240000" cy="5113440"/>
          </a:xfrm>
          <a:prstGeom prst="rect">
            <a:avLst/>
          </a:prstGeom>
          <a:ln w="0">
            <a:noFill/>
          </a:ln>
        </p:spPr>
      </p:pic>
      <p:pic>
        <p:nvPicPr>
          <p:cNvPr id="85" name="Объект 5" descr=""/>
          <p:cNvPicPr/>
          <p:nvPr/>
        </p:nvPicPr>
        <p:blipFill>
          <a:blip r:embed="rId2"/>
          <a:stretch/>
        </p:blipFill>
        <p:spPr>
          <a:xfrm>
            <a:off x="5076720" y="1600200"/>
            <a:ext cx="28623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6392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0" y="476280"/>
            <a:ext cx="442764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мотрите, это скворец! Вот он какой, на шесте, да во «Дворце». Ах какой у него дворец! Нравится он ва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 Красивый скворушка? Послушайте пословицы про него 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ырявом скворечнике скворец не гнездит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ишь скворца – знать весна у крыльц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оёт скворец возле дома — к добр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от хочу спросить у вас , инетресно вам узнать как живет скворец? Что кушает? Как деток выводит? Тогда давайте посмотрим об этом дальше….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5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ворец это певчая птица, к тому же перелетная-на зиму скворцы улетают в теплые страны, а весной возвращаются и поселяются в скворечниках которые приготовили для них люди  или в пустых дуплах на деревьях. Строением и оперением скворцы напоминают черных дроздов, но отличаются меньшими размерами и манерой передвижения по земле: скворцы ходят, а дрозды прыгаю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8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имой, до начала линьки, перья покрываются белыми или бежевыми крапинками, особенно заметными на крыльях и груди. Сразу после весенней линьки оперение приобретает однотонный, бурый цвет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2"/>
          <a:stretch/>
        </p:blipFill>
        <p:spPr>
          <a:xfrm>
            <a:off x="1978200" y="1268280"/>
            <a:ext cx="51861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кворец  так же как и , вспомним стихотворение Корнея Ивановича Чуковского: «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Рано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утром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рассвете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Умываются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мышата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 котята, и утята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 жучки, и паучки»… и скворцы, вы только посмотрите как чистят свои перышки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5" descr=""/>
          <p:cNvPicPr/>
          <p:nvPr/>
        </p:nvPicPr>
        <p:blipFill>
          <a:blip r:embed="rId2"/>
          <a:stretch/>
        </p:blipFill>
        <p:spPr>
          <a:xfrm>
            <a:off x="1154160" y="1600200"/>
            <a:ext cx="683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как они купаю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2"/>
          <a:stretch/>
        </p:blipFill>
        <p:spPr>
          <a:xfrm>
            <a:off x="801720" y="1341360"/>
            <a:ext cx="7586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91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какой же красивый становится их окрас когда они чистые. Одно заглядень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4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0:26:53Z</dcterms:created>
  <dc:creator>1018</dc:creator>
  <dc:description/>
  <dc:language>en-US</dc:language>
  <cp:lastModifiedBy>Гость</cp:lastModifiedBy>
  <dcterms:modified xsi:type="dcterms:W3CDTF">2019-11-26T11:49:18Z</dcterms:modified>
  <cp:revision>28</cp:revision>
  <dc:subject/>
  <dc:title>Презентация PowerPoint</dc:title>
</cp:coreProperties>
</file>