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7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261-2621-4E72-AB3E-2984EDB4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FCE-A1D5-4571-AE58-5CC824EA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DDB-C183-4C4B-A831-7AEEE522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4A7-904A-4353-A64A-66D34C80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6DC-9D13-4820-A4F8-17C47D7A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FE9D-9814-4BE3-8300-59B86972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0D8F-3D88-4482-8700-AF97B41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C1F-C4DB-4B3F-A1EE-7DB1D4D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BE52-EF48-4CBA-B6A2-A433D77C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F295-8036-4535-906A-774DE17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1CA5-36DB-46FB-9F89-C7A3959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D19-3B9D-4EEC-84DD-A68EADDD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A421-0C1C-4125-9CA6-E0D0C3B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0204-DFCE-44D0-A59F-7594B16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3261-27DE-4E87-99BA-ED69BD2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47DA-94C6-4B0B-8FD7-0ADAC403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4EA3-7D5E-4E21-B52E-AD6C29D2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E630-ED83-4515-99A7-A05A5569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A9DB-887E-444C-AE21-B84924F7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1F1B-5F78-4A7E-B502-94BAB75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9908-427C-44E4-9ED3-12EFFCA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79B7-C0CB-4F88-8F57-4C811E0C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514-311B-483F-B89C-A64AECE5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B4FB-5B80-4154-A78B-5739CC86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C715-885C-4970-9CCF-E8F004B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E0A9-7A6E-4C9F-8631-0F2CFD0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7F1F-8B01-4A4C-9A0A-36B0345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15A9-D5B8-4BCC-A8C9-C075F18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519C-E7A7-4FF3-94DC-60E88F79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4001-C409-4694-A41B-6B2091B8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EE33-AB6C-438A-ABF8-91AE0510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D0CC-68F2-4E43-9E2C-98DCA22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6683-13FE-4042-ADA6-A0A497F0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A9C-9F9B-423E-AC34-FBB2305B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42BA-BA79-4B1D-89A5-C2EAF9A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4B8A-26E3-4999-AE02-77EE4F5A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7CCC-ABFD-4398-BC8A-5FC73893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4161-5F64-43A5-BE69-490B46D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C7E4-405F-425F-B0BF-F820228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B611-7058-4B23-A77D-BFC1B85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CA40-623F-4AE8-8E27-3DD313C9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97F1-A8F3-4442-B543-DD0CAD3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7F120-83C8-4767-9FE5-251DA8E8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04A-AD5C-4256-A7F0-22BFFFFA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6A4-7578-4C8A-98F2-C791862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A08-DCE9-4C8A-BB3C-DC261E8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009-9F8B-4E49-BA4D-1A610E4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839-446D-49AD-9218-6EBC1ED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35D-541A-4165-8746-5F1BE3BBD479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2DC5-245D-4881-A121-CBE90B911FA0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93F0-9E05-494E-9481-6968386977E7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F829-B69D-421A-A3AE-86980C057DEC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rukazan.ru/wiki/&#1060;&#1072;&#1081;&#1083;:&#1055;&#1072;&#1084;&#1103;&#1090;&#1085;&#1080;&#1082;_&#1090;&#1091;&#1082;&#1072;&#1102;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rukazan.ru/wiki/&#1060;&#1072;&#1081;&#1083;:&#1064;&#1091;&#1088;&#1072;&#1083;&#1077;.png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781200" y="414360"/>
            <a:ext cx="8229600" cy="31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57200" y="3571920"/>
            <a:ext cx="6400800" cy="2324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кайның Казан чоры иҗаты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5" descr="http://www.tatar.museum.ru/Tukay/pic/Tuk2.jpg"/>
          <p:cNvPicPr/>
          <p:nvPr/>
        </p:nvPicPr>
        <p:blipFill>
          <a:blip r:embed="rId2"/>
          <a:stretch/>
        </p:blipFill>
        <p:spPr>
          <a:xfrm>
            <a:off x="3357720" y="714240"/>
            <a:ext cx="2071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55600" y="695160"/>
            <a:ext cx="8491680" cy="13287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http://www.rukazan.ru/wiki/images/thumb/3/32/%D0%9F%D0%B0%D0%BC%D1%8F%D1%82%D0%BD%D0%B8%D0%BA_%D1%82%D1%83%D0%BA%D0%B0%D1%8E.JPG/250px-%D0%9F%D0%B0%D0%BC%D1%8F%D1%82%D0%BD%D0%B8%D0%BA_%D1%82%D1%83%D0%BA%D0%B0%D1%8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214280"/>
            <a:ext cx="33573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5" name="Picture 2" descr="C:\Users\User\Desktop\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3845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http://kitaphane.tatar.ru/file/tuk_31.jpg"/>
          <p:cNvPicPr/>
          <p:nvPr/>
        </p:nvPicPr>
        <p:blipFill>
          <a:blip r:embed="rId2"/>
          <a:stretch/>
        </p:blipFill>
        <p:spPr>
          <a:xfrm>
            <a:off x="1714680" y="1785960"/>
            <a:ext cx="5429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8800" cy="1884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http://kitaphane.tatar.ru/file/tuk_26.jpg"/>
          <p:cNvPicPr/>
          <p:nvPr/>
        </p:nvPicPr>
        <p:blipFill>
          <a:blip r:embed="rId2"/>
          <a:stretch/>
        </p:blipFill>
        <p:spPr>
          <a:xfrm>
            <a:off x="1995480" y="2286000"/>
            <a:ext cx="5434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15920" y="639720"/>
            <a:ext cx="8650080" cy="12081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http://www.rukazan.ru/wiki/images/c/cd/%D0%A8%D1%83%D1%80%D0%B0%D0%BB%D0%B5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933560"/>
            <a:ext cx="3857760" cy="4353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Documents and Settings\Admin\Рабочий стол\маша\1267286326_1347715.jpg"/>
          <p:cNvPicPr/>
          <p:nvPr/>
        </p:nvPicPr>
        <p:blipFill>
          <a:blip r:embed="rId4"/>
          <a:stretch/>
        </p:blipFill>
        <p:spPr>
          <a:xfrm>
            <a:off x="4214880" y="1643040"/>
            <a:ext cx="4714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Admin\Рабочий стол\тукай\649b1d109182.jpg"/>
          <p:cNvPicPr/>
          <p:nvPr/>
        </p:nvPicPr>
        <p:blipFill>
          <a:blip r:embed="rId2"/>
          <a:stretch/>
        </p:blipFill>
        <p:spPr>
          <a:xfrm>
            <a:off x="571680" y="2000160"/>
            <a:ext cx="3571560" cy="42148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http://kitaphane.tatar.ru/file/tuk_38.jpg"/>
          <p:cNvPicPr/>
          <p:nvPr/>
        </p:nvPicPr>
        <p:blipFill>
          <a:blip r:embed="rId3"/>
          <a:stretch/>
        </p:blipFill>
        <p:spPr>
          <a:xfrm>
            <a:off x="4857840" y="1285920"/>
            <a:ext cx="3500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8800" cy="188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Admin\Рабочий стол\тукай\tukay-gabdulla.jpg"/>
          <p:cNvPicPr/>
          <p:nvPr/>
        </p:nvPicPr>
        <p:blipFill>
          <a:blip r:embed="rId2"/>
          <a:stretch/>
        </p:blipFill>
        <p:spPr>
          <a:xfrm>
            <a:off x="2071800" y="2428920"/>
            <a:ext cx="4000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344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Picture 4" descr="C:\Users\User\Desktop\032.jpg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3" name="Picture 4" descr="C:\Users\Ляля\Desktop\img_user_file_5478acf206be1_27.jpg"/>
          <p:cNvPicPr/>
          <p:nvPr/>
        </p:nvPicPr>
        <p:blipFill>
          <a:blip r:embed="rId1"/>
          <a:stretch/>
        </p:blipFill>
        <p:spPr>
          <a:xfrm>
            <a:off x="449280" y="692280"/>
            <a:ext cx="815508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5" name="Picture 2" descr="C:\Users\User\Desktop\039.jpg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7" name="Picture 2" descr="C:\Users\User\Desktop\img32.jpg"/>
          <p:cNvPicPr/>
          <p:nvPr/>
        </p:nvPicPr>
        <p:blipFill>
          <a:blip r:embed="rId1"/>
          <a:stretch/>
        </p:blipFill>
        <p:spPr>
          <a:xfrm>
            <a:off x="468360" y="692280"/>
            <a:ext cx="820728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9" name="Picture 2" descr="C:\Users\User\Desktop\Slajd13.JPG"/>
          <p:cNvPicPr/>
          <p:nvPr/>
        </p:nvPicPr>
        <p:blipFill>
          <a:blip r:embed="rId1"/>
          <a:stretch/>
        </p:blipFill>
        <p:spPr>
          <a:xfrm>
            <a:off x="468360" y="720720"/>
            <a:ext cx="82072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2"/>
          <p:cNvSpPr/>
          <p:nvPr/>
        </p:nvSpPr>
        <p:spPr>
          <a:xfrm>
            <a:off x="357120" y="92880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урлыкны күрә һәм нечкә итеп бәяли белүче, күңеле кешеләргә карата җылы хисләр белән тулы шагыйрь безнең күңелләрдә мәңге сакланыр,гасырлардан-гасырларга күч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ың исеме мәңгеләштерелгән һәм тарихта АЛТЫН хәрефләр белән язылган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айның бай, кабатланмас мирасын киләчәк буынга түкми-чәчми без җиткерергә тие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өнки без – ТУКАЙ ОНЫКЛАР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User\Desktop\19.jpg"/>
          <p:cNvPicPr/>
          <p:nvPr/>
        </p:nvPicPr>
        <p:blipFill>
          <a:blip r:embed="rId1"/>
          <a:stretch/>
        </p:blipFill>
        <p:spPr>
          <a:xfrm>
            <a:off x="1000080" y="357120"/>
            <a:ext cx="7358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0:33:26Z</dcterms:created>
  <dc:creator>гулия</dc:creator>
  <dc:description/>
  <dc:language>en-US</dc:language>
  <cp:lastModifiedBy>Ляля</cp:lastModifiedBy>
  <dcterms:modified xsi:type="dcterms:W3CDTF">2018-04-09T09:24:35Z</dcterms:modified>
  <cp:revision>38</cp:revision>
  <dc:subject/>
  <dc:title>Тукай</dc:title>
</cp:coreProperties>
</file>