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7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C13-DFEE-43FE-BB06-BC7A57F2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6ED-052E-4E5C-9FD0-3724A3E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6A1-657E-49DF-98FA-8427409B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46C-55CA-4BFD-836C-93AF5595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854C-856F-4098-A783-8E957E5F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6509-9F7B-452A-98C9-6052FA84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8CF-C8E2-4F8E-BB95-EF85AB2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8BB0-D501-4A4A-A977-CF9743F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5C33-D2B8-4915-BE97-9A4E20A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7155-EBC8-4713-A748-C4D3716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76A9-1AFD-488C-A18C-CA588B5D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807-01B9-40C7-A4EB-C7C6BB6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049D-3714-4D83-A583-FB72498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0B4B-E447-4955-8D57-D9CE58D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30C9-6827-41FD-A89F-0F2F3F33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7400-BD35-4641-9B19-8589ED33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C2C9-8649-4621-B371-9EE0A1E5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C11E-B9DA-43B0-A68D-44FDCC23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007B-0F3C-4D83-A057-C0FE6CF8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C606-CC5C-4926-BB61-AF91E01E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10F4-A6AF-4797-A92C-A5425EE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5C51-FA4C-4A06-BEE2-766B2DD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464-AA3F-41E6-BCE9-9318E628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3740-5D2D-44EA-BC38-60CC99B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2AD8-1801-401F-9AA6-2ADF9412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DEC1-AFE8-4B9B-82F6-6BCBABE9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CD0A-E579-4755-B0FE-E8A6F86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1089B-BD97-4262-8F26-1BF9271D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D517-A8C5-49BC-9FA7-43613036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2628-AF9E-4FCF-99D9-51A730DC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4019-0AB1-4F3A-A813-8DA4AC73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76F6-5815-480E-8F79-0A99F50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58F5-1A48-4BCB-9AA8-FAB2C037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97A-747A-4686-B785-4A96647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0B0D-FF93-4465-A553-70D7E205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0640-C3F5-4630-A615-4FB9C4DE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BA714-AE1D-481F-81CF-93AA570F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8483-E771-4642-B70C-1A6F3AED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E5A0-9DE2-4545-8021-8B90A65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E07D-F662-4FC8-8DCC-BFF8086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A79A-4A0B-47FC-B724-04790EE6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99219-BA74-41C6-B8C3-10252D20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DBF8-7644-4348-BC15-ADDEDD93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E41-608F-4415-B8C7-15DCB03C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B7E-3F3E-413D-888C-8F1A3E21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092-65E2-4781-ACAE-DB53A65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C64-DDDE-4D95-9A56-8837BBF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7EA-5C43-4C88-A3C6-E4025373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636-08FD-4CAC-B745-93998CB20AA5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686-AE41-4772-8BBD-22BACD03E2AE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AE38-EB0B-427A-88BA-D8AB16235F05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744-08B7-4D03-9E36-B94777F0F2DF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ukazan.ru/wiki/&#1060;&#1072;&#1081;&#1083;:&#1055;&#1072;&#1084;&#1103;&#1090;&#1085;&#1080;&#1082;_&#1090;&#1091;&#1082;&#1072;&#1102;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rukazan.ru/wiki/&#1060;&#1072;&#1081;&#1083;:&#1064;&#1091;&#1088;&#1072;&#1083;&#1077;.png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781200" y="414360"/>
            <a:ext cx="8229600" cy="31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324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кайның Казан чоры иҗаты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5" descr="http://www.tatar.museum.ru/Tukay/pic/Tuk2.jpg"/>
          <p:cNvPicPr/>
          <p:nvPr/>
        </p:nvPicPr>
        <p:blipFill>
          <a:blip r:embed="rId2"/>
          <a:stretch/>
        </p:blipFill>
        <p:spPr>
          <a:xfrm>
            <a:off x="3357720" y="714240"/>
            <a:ext cx="2071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55600" y="695160"/>
            <a:ext cx="8491680" cy="13287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www.rukazan.ru/wiki/images/thumb/3/32/%D0%9F%D0%B0%D0%BC%D1%8F%D1%82%D0%BD%D0%B8%D0%BA_%D1%82%D1%83%D0%BA%D0%B0%D1%8E.JPG/250px-%D0%9F%D0%B0%D0%BC%D1%8F%D1%82%D0%BD%D0%B8%D0%BA_%D1%82%D1%83%D0%BA%D0%B0%D1%8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214280"/>
            <a:ext cx="3357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5" name="Picture 2" descr="C:\Users\User\Desktop\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3845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http://kitaphane.tatar.ru/file/tuk_31.jpg"/>
          <p:cNvPicPr/>
          <p:nvPr/>
        </p:nvPicPr>
        <p:blipFill>
          <a:blip r:embed="rId2"/>
          <a:stretch/>
        </p:blipFill>
        <p:spPr>
          <a:xfrm>
            <a:off x="1714680" y="1785960"/>
            <a:ext cx="5429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8800" cy="1884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http://kitaphane.tatar.ru/file/tuk_26.jpg"/>
          <p:cNvPicPr/>
          <p:nvPr/>
        </p:nvPicPr>
        <p:blipFill>
          <a:blip r:embed="rId2"/>
          <a:stretch/>
        </p:blipFill>
        <p:spPr>
          <a:xfrm>
            <a:off x="1995480" y="2286000"/>
            <a:ext cx="5434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15920" y="639720"/>
            <a:ext cx="8650080" cy="12081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http://www.rukazan.ru/wiki/images/c/cd/%D0%A8%D1%83%D1%80%D0%B0%D0%BB%D0%B5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933560"/>
            <a:ext cx="3857760" cy="4353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Documents and Settings\Admin\Рабочий стол\маша\1267286326_1347715.jpg"/>
          <p:cNvPicPr/>
          <p:nvPr/>
        </p:nvPicPr>
        <p:blipFill>
          <a:blip r:embed="rId4"/>
          <a:stretch/>
        </p:blipFill>
        <p:spPr>
          <a:xfrm>
            <a:off x="4214880" y="1643040"/>
            <a:ext cx="4714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Admin\Рабочий стол\тукай\649b1d109182.jpg"/>
          <p:cNvPicPr/>
          <p:nvPr/>
        </p:nvPicPr>
        <p:blipFill>
          <a:blip r:embed="rId2"/>
          <a:stretch/>
        </p:blipFill>
        <p:spPr>
          <a:xfrm>
            <a:off x="571680" y="2000160"/>
            <a:ext cx="3571560" cy="42148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http://kitaphane.tatar.ru/file/tuk_38.jpg"/>
          <p:cNvPicPr/>
          <p:nvPr/>
        </p:nvPicPr>
        <p:blipFill>
          <a:blip r:embed="rId3"/>
          <a:stretch/>
        </p:blipFill>
        <p:spPr>
          <a:xfrm>
            <a:off x="4857840" y="1285920"/>
            <a:ext cx="3500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8800" cy="188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Admin\Рабочий стол\тукай\tukay-gabdulla.jpg"/>
          <p:cNvPicPr/>
          <p:nvPr/>
        </p:nvPicPr>
        <p:blipFill>
          <a:blip r:embed="rId2"/>
          <a:stretch/>
        </p:blipFill>
        <p:spPr>
          <a:xfrm>
            <a:off x="2071800" y="2428920"/>
            <a:ext cx="4000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344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Picture 4" descr="C:\Users\User\Desktop\032.jpg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3" name="Picture 4" descr="C:\Users\Ляля\Desktop\img_user_file_5478acf206be1_27.jpg"/>
          <p:cNvPicPr/>
          <p:nvPr/>
        </p:nvPicPr>
        <p:blipFill>
          <a:blip r:embed="rId1"/>
          <a:stretch/>
        </p:blipFill>
        <p:spPr>
          <a:xfrm>
            <a:off x="449280" y="692280"/>
            <a:ext cx="815508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5" name="Picture 2" descr="C:\Users\User\Desktop\039.jpg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7" name="Picture 2" descr="C:\Users\User\Desktop\img32.jpg"/>
          <p:cNvPicPr/>
          <p:nvPr/>
        </p:nvPicPr>
        <p:blipFill>
          <a:blip r:embed="rId1"/>
          <a:stretch/>
        </p:blipFill>
        <p:spPr>
          <a:xfrm>
            <a:off x="468360" y="692280"/>
            <a:ext cx="820728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9" name="Picture 2" descr="C:\Users\User\Desktop\Slajd13.JPG"/>
          <p:cNvPicPr/>
          <p:nvPr/>
        </p:nvPicPr>
        <p:blipFill>
          <a:blip r:embed="rId1"/>
          <a:stretch/>
        </p:blipFill>
        <p:spPr>
          <a:xfrm>
            <a:off x="468360" y="720720"/>
            <a:ext cx="82072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2"/>
          <p:cNvSpPr/>
          <p:nvPr/>
        </p:nvSpPr>
        <p:spPr>
          <a:xfrm>
            <a:off x="357120" y="92880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урлыкны күрә һәм нечкә итеп бәяли белүче, күңеле кешеләргә карата җылы хисләр белән тулы шагыйрь безнең күңелләрдә мәңге сакланыр,гасырлардан-гасырларга күч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ың исеме мәңгеләштерелгән һәм тарихта АЛТЫН хәрефләр белән язылган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айның бай, кабатланмас мирасын киләчәк буынга түкми-чәчми без җиткерергә тие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өнки без – ТУКАЙ ОНЫКЛАР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User\Desktop\19.jpg"/>
          <p:cNvPicPr/>
          <p:nvPr/>
        </p:nvPicPr>
        <p:blipFill>
          <a:blip r:embed="rId1"/>
          <a:stretch/>
        </p:blipFill>
        <p:spPr>
          <a:xfrm>
            <a:off x="1000080" y="357120"/>
            <a:ext cx="7358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0:33:26Z</dcterms:created>
  <dc:creator>гулия</dc:creator>
  <dc:description/>
  <dc:language>en-US</dc:language>
  <cp:lastModifiedBy>Ляля</cp:lastModifiedBy>
  <dcterms:modified xsi:type="dcterms:W3CDTF">2018-04-09T09:24:35Z</dcterms:modified>
  <cp:revision>38</cp:revision>
  <dc:subject/>
  <dc:title>Тукай</dc:title>
</cp:coreProperties>
</file>