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234-6F55-4292-BC08-8F67D36D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B13-663A-438D-86B7-10AF19E1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4DF-00D8-4FA0-A796-93FDEA14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EA9-073F-4E3B-B41D-6FB7957B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AB0-2CCD-4CE3-81C7-ABEB5D03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027-90A2-421E-A1A4-6994FC04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87A-777A-469E-81AF-4D62F2E6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4F5-D2C7-45C4-9E66-259CA4DF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DE3-4333-4A63-B2AA-E8A90422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4FF-70F0-4498-854B-FEB8AEBB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1EA-00E7-4AC0-A5F3-B79A6866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F86-F49D-4E45-B1F8-E4A9909F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C0E6-26DF-4192-94BC-129352ECF4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io.1september.ru/" TargetMode="External"/><Relationship Id="rId2" Type="http://schemas.openxmlformats.org/officeDocument/2006/relationships/hyperlink" Target="http://www.bio.1september.ru/" TargetMode="External"/><Relationship Id="rId3" Type="http://schemas.openxmlformats.org/officeDocument/2006/relationships/hyperlink" Target="http://www.bio.1september.ru/" TargetMode="External"/><Relationship Id="rId4" Type="http://schemas.openxmlformats.org/officeDocument/2006/relationships/hyperlink" Target="http://www.bio.1september.ru/" TargetMode="External"/><Relationship Id="rId5" Type="http://schemas.openxmlformats.org/officeDocument/2006/relationships/hyperlink" Target="http://www.bio.1september.ru/" TargetMode="External"/><Relationship Id="rId6" Type="http://schemas.openxmlformats.org/officeDocument/2006/relationships/hyperlink" Target="http://www.bio.1september.ru/" TargetMode="External"/><Relationship Id="rId7" Type="http://schemas.openxmlformats.org/officeDocument/2006/relationships/hyperlink" Target="http://www.bio.1september.ru/" TargetMode="External"/><Relationship Id="rId8" Type="http://schemas.openxmlformats.org/officeDocument/2006/relationships/hyperlink" Target="http://www.bio.nature.ru/" TargetMode="External"/><Relationship Id="rId9" Type="http://schemas.openxmlformats.org/officeDocument/2006/relationships/hyperlink" Target="http://www.bio.nature.ru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ДЛЯ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266560" y="2205000"/>
            <a:ext cx="51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тройство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ых приборо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ob_vid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okular1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obektiv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ob_vid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95280" y="1125360"/>
          <a:ext cx="8280360" cy="539928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27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13" descr="glaz_muhi-60"/>
          <p:cNvPicPr/>
          <p:nvPr/>
        </p:nvPicPr>
        <p:blipFill>
          <a:blip r:embed="rId1"/>
          <a:stretch/>
        </p:blipFill>
        <p:spPr>
          <a:xfrm>
            <a:off x="539640" y="162864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slonik-10"/>
          <p:cNvPicPr/>
          <p:nvPr/>
        </p:nvPicPr>
        <p:blipFill>
          <a:blip r:embed="rId2"/>
          <a:stretch/>
        </p:blipFill>
        <p:spPr>
          <a:xfrm>
            <a:off x="4716360" y="1557360"/>
            <a:ext cx="2857680" cy="185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pero_popugaja-60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pero-puhoed-60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250920" y="189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 можно увидеть с помощью микроскоп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13" descr="zweroboj-chvetok-10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pic004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pic000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47640" y="0"/>
            <a:ext cx="759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95280" y="620640"/>
            <a:ext cx="835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24000" y="6206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учите правила работы с микроскопом, используя материал учебника п.4 (с.2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" descr="ЭЛЕКТРОН"/>
          <p:cNvPicPr/>
          <p:nvPr/>
        </p:nvPicPr>
        <p:blipFill>
          <a:blip r:embed="rId1"/>
          <a:stretch/>
        </p:blipFill>
        <p:spPr>
          <a:xfrm>
            <a:off x="1332000" y="1989000"/>
            <a:ext cx="568800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Рефлекси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Что было для вас новым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Что было интересным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 чем испытывали затруднение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portfel"/>
          <p:cNvPicPr/>
          <p:nvPr/>
        </p:nvPicPr>
        <p:blipFill>
          <a:blip r:embed="rId1"/>
          <a:stretch/>
        </p:blipFill>
        <p:spPr>
          <a:xfrm>
            <a:off x="395280" y="404640"/>
            <a:ext cx="1981080" cy="1667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042920" y="54936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«Мой багаж знаний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80880" y="141588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годня на уроке мы узнали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используют для исследования в биологи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Научились определять увеличение микроскоп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" descr="Микроскоп"/>
          <p:cNvPicPr/>
          <p:nvPr/>
        </p:nvPicPr>
        <p:blipFill>
          <a:blip r:embed="rId1"/>
          <a:stretch/>
        </p:blipFill>
        <p:spPr>
          <a:xfrm>
            <a:off x="7667640" y="0"/>
            <a:ext cx="1219320" cy="212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Лупа"/>
          <p:cNvPicPr/>
          <p:nvPr/>
        </p:nvPicPr>
        <p:blipFill>
          <a:blip r:embed="rId2"/>
          <a:stretch/>
        </p:blipFill>
        <p:spPr>
          <a:xfrm>
            <a:off x="7380360" y="3933720"/>
            <a:ext cx="1400040" cy="1051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готовить сообщение (презентацию) об истории открытия и использования микроскоп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2b3e2461e522"/>
          <p:cNvPicPr/>
          <p:nvPr/>
        </p:nvPicPr>
        <p:blipFill>
          <a:blip r:embed="rId1"/>
          <a:stretch/>
        </p:blipFill>
        <p:spPr>
          <a:xfrm>
            <a:off x="6372360" y="4797360"/>
            <a:ext cx="1892160" cy="2060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Интернет -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bio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1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eptember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bi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infoschool.narod.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images.yandex.ru/yandsearch?text=%D0%A3%D0%B2%D0%B5%D0%BB%D0%B8%D1%87%D0%B8%D1%82%D0%B5%D0%BB%D1%8C%D0%BD%D1%8B%D0%B5+%D0%BF%D1%80%D0%B8%D0%B1%D0%BE%D1%80%D1%8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ДЛЯ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1908000" y="1341360"/>
            <a:ext cx="56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Как вы думаете,  что было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изобретено мальчиками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Чему будет посвящена наша тема урока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635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Тема урока: «Устройство увеличительных приборов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mixcope"/>
          <p:cNvPicPr/>
          <p:nvPr/>
        </p:nvPicPr>
        <p:blipFill>
          <a:blip r:embed="rId1"/>
          <a:stretch/>
        </p:blipFill>
        <p:spPr>
          <a:xfrm>
            <a:off x="250920" y="2781360"/>
            <a:ext cx="1368360" cy="2162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908000" y="2990880"/>
            <a:ext cx="6985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 урока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учить материал об истории открытия и  устройстве увеличительных приборов; правилах работы с микроскопом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02_02_02"/>
          <p:cNvPicPr/>
          <p:nvPr/>
        </p:nvPicPr>
        <p:blipFill>
          <a:blip r:embed="rId1"/>
          <a:stretch/>
        </p:blipFill>
        <p:spPr>
          <a:xfrm>
            <a:off x="611280" y="1773360"/>
            <a:ext cx="3097080" cy="3816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" name="Rectangle 8"/>
          <p:cNvSpPr/>
          <p:nvPr/>
        </p:nvSpPr>
        <p:spPr>
          <a:xfrm>
            <a:off x="395280" y="5734080"/>
            <a:ext cx="3960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берт Гук (16 век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3" descr="ris5_100"/>
          <p:cNvPicPr/>
          <p:nvPr/>
        </p:nvPicPr>
        <p:blipFill>
          <a:blip r:embed="rId2"/>
          <a:stretch/>
        </p:blipFill>
        <p:spPr>
          <a:xfrm>
            <a:off x="4932360" y="1773360"/>
            <a:ext cx="3816360" cy="446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Times New Roman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5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овершенствов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скоп и откры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оклеточ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02_02_03"/>
          <p:cNvPicPr/>
          <p:nvPr/>
        </p:nvPicPr>
        <p:blipFill>
          <a:blip r:embed="rId1"/>
          <a:stretch/>
        </p:blipFill>
        <p:spPr>
          <a:xfrm>
            <a:off x="4788000" y="1628640"/>
            <a:ext cx="3311280" cy="4032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Rectangle 8"/>
          <p:cNvSpPr/>
          <p:nvPr/>
        </p:nvSpPr>
        <p:spPr>
          <a:xfrm>
            <a:off x="3780000" y="5805360"/>
            <a:ext cx="518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они ван Левенгук (17 век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микро11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Увеличительные прибор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4" descr="Рисунок15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Рисунок17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6" descr="lupa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7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2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5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3" descr="Рисунок151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0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1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8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2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ob_vid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2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1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8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9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2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46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52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106" name="Line 37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50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1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 </dc:creator>
  <dc:description/>
  <dc:language>en-US</dc:language>
  <cp:lastModifiedBy>Наташа</cp:lastModifiedBy>
  <dcterms:modified xsi:type="dcterms:W3CDTF">2019-09-23T16:21:20Z</dcterms:modified>
  <cp:revision>81</cp:revision>
  <dc:subject/>
  <dc:title>Устройство увеличительных приборов и  правила работы с ними.</dc:title>
</cp:coreProperties>
</file>