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AE3-47CC-4240-809A-1FB805B0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2F7-5C93-496C-971F-43CD5BA8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E6D-D7A9-4C1D-AF3D-203072E8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463-05F3-401B-9268-BAC717E9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E973-0D3A-4939-8A10-EB407C88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53D0-D72A-400A-9ACD-3CAAAFAD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9664-0D2B-4650-B04A-FD544EF6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EADD-E068-46B1-9A53-D5840F12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B000-CC7B-4400-8312-2CB0A648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2D84-FBC7-4CC1-BBFE-B2B5368C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FE15-F491-41A2-B3BD-C8F7E2AD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82B-52F4-4E03-A706-ED5BE8E0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94A1-A9D6-4A2A-A588-B90F01D5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62DB-9A9E-4299-8924-D4C4419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88D5-4B91-4565-85F9-73B34184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21DC-CA0C-413C-B396-08C09801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1C0A-2B43-4BEF-BDE4-2F26487F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6EB-1E2C-43BC-A905-7503FCB9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C40-7DDA-427D-868A-F8B92723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34C-C69C-4FC1-B294-847F1A39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EF8-47DC-4125-8C89-FD24AB1B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1D7-778D-464C-9E33-C441EBA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764-2030-477B-A4CA-F414064C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8D5-167D-4FAE-A526-12BFD6B6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F893-88F9-4C37-AD8C-7E3102639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5944-FBC0-4C81-8C5E-69E7BB3BDD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8458200" cy="29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Физическое 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воспитание</a:t>
            </a: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 на основе личностно-ориентированного подход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55280" y="5516280"/>
            <a:ext cx="838836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знецов Валерий Валер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физической культу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БОУ СО «Санаторная школа-интернат г.Калининск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19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ая це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иск и апробация новых подходов к организации физического воспитания школьников на основе личностно-ориентированного обу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C:\Users\Компуктер\Desktop\фото  с телефона\5.JPG"/>
          <p:cNvPicPr/>
          <p:nvPr/>
        </p:nvPicPr>
        <p:blipFill>
          <a:blip r:embed="rId1"/>
          <a:stretch/>
        </p:blipFill>
        <p:spPr>
          <a:xfrm>
            <a:off x="2571840" y="3789360"/>
            <a:ext cx="37861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4248000" cy="47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Приоритет индивидуальности</a:t>
            </a:r>
            <a:br>
              <a:rPr sz="2800"/>
            </a:b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ребенка, </a:t>
            </a:r>
            <a:br>
              <a:rPr sz="2800"/>
            </a:b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активного носителя субъективного опыта. </a:t>
            </a:r>
            <a:br>
              <a:rPr sz="2800"/>
            </a:b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C:\Users\Компуктер\Desktop\фото  с телефона\6.JPG"/>
          <p:cNvPicPr/>
          <p:nvPr/>
        </p:nvPicPr>
        <p:blipFill>
          <a:blip r:embed="rId1"/>
          <a:stretch/>
        </p:blipFill>
        <p:spPr>
          <a:xfrm>
            <a:off x="4697280" y="260280"/>
            <a:ext cx="4032360" cy="300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Компуктер\Desktop\фото  с телефона\2.JPG"/>
          <p:cNvPicPr/>
          <p:nvPr/>
        </p:nvPicPr>
        <p:blipFill>
          <a:blip r:embed="rId2"/>
          <a:stretch/>
        </p:blipFill>
        <p:spPr>
          <a:xfrm>
            <a:off x="5062680" y="3478320"/>
            <a:ext cx="287172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Формы и методы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788000" y="1844640"/>
            <a:ext cx="4356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C:\Users\Компуктер\Desktop\фото  с телефона\12.jpg"/>
          <p:cNvPicPr/>
          <p:nvPr/>
        </p:nvPicPr>
        <p:blipFill>
          <a:blip r:embed="rId1"/>
          <a:stretch/>
        </p:blipFill>
        <p:spPr>
          <a:xfrm>
            <a:off x="250920" y="1557360"/>
            <a:ext cx="4308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Методы обучения двигательным действи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7058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ссказ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ка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25092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7493"/>
                </a:moveTo>
                <a:lnTo>
                  <a:pt x="9970" y="7493"/>
                </a:lnTo>
                <a:lnTo>
                  <a:pt x="9970" y="12828"/>
                </a:lnTo>
                <a:cubicBezTo>
                  <a:pt x="9970" y="13751"/>
                  <a:pt x="10771" y="14482"/>
                  <a:pt x="11806" y="14482"/>
                </a:cubicBezTo>
                <a:lnTo>
                  <a:pt x="13469" y="14482"/>
                </a:lnTo>
                <a:cubicBezTo>
                  <a:pt x="14505" y="14482"/>
                  <a:pt x="15305" y="13751"/>
                  <a:pt x="15305" y="12828"/>
                </a:cubicBezTo>
                <a:lnTo>
                  <a:pt x="15305" y="7493"/>
                </a:lnTo>
                <a:lnTo>
                  <a:pt x="13469" y="7493"/>
                </a:lnTo>
                <a:lnTo>
                  <a:pt x="16976" y="3985"/>
                </a:lnTo>
                <a:lnTo>
                  <a:pt x="20649" y="7493"/>
                </a:lnTo>
                <a:lnTo>
                  <a:pt x="18813" y="7493"/>
                </a:lnTo>
                <a:lnTo>
                  <a:pt x="18813" y="12828"/>
                </a:lnTo>
                <a:cubicBezTo>
                  <a:pt x="18813" y="15596"/>
                  <a:pt x="16237" y="18155"/>
                  <a:pt x="13469" y="18155"/>
                </a:cubicBezTo>
                <a:lnTo>
                  <a:pt x="11806" y="18155"/>
                </a:lnTo>
                <a:cubicBezTo>
                  <a:pt x="9039" y="18155"/>
                  <a:pt x="6462" y="15596"/>
                  <a:pt x="6462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C:\Users\Компуктер\Desktop\Новая папка (2)\DSCF3197.JPG"/>
          <p:cNvPicPr/>
          <p:nvPr/>
        </p:nvPicPr>
        <p:blipFill>
          <a:blip r:embed="rId1"/>
          <a:stretch/>
        </p:blipFill>
        <p:spPr>
          <a:xfrm>
            <a:off x="250920" y="3933720"/>
            <a:ext cx="3006720" cy="215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3348000" y="3335400"/>
            <a:ext cx="54752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уговой мет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68360" y="6165720"/>
            <a:ext cx="504720" cy="40500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14" h="21600">
                <a:moveTo>
                  <a:pt x="0" y="0"/>
                </a:moveTo>
                <a:lnTo>
                  <a:pt x="26914" y="0"/>
                </a:lnTo>
                <a:lnTo>
                  <a:pt x="26914" y="21600"/>
                </a:lnTo>
                <a:lnTo>
                  <a:pt x="0" y="21600"/>
                </a:lnTo>
                <a:close/>
              </a:path>
              <a:path fill="lightenLess" w="26914" h="21600">
                <a:moveTo>
                  <a:pt x="0" y="0"/>
                </a:moveTo>
                <a:lnTo>
                  <a:pt x="26914" y="0"/>
                </a:lnTo>
                <a:lnTo>
                  <a:pt x="25514" y="1400"/>
                </a:lnTo>
                <a:lnTo>
                  <a:pt x="1400" y="1400"/>
                </a:lnTo>
                <a:close/>
              </a:path>
              <a:path fill="darken" w="26914" h="21600">
                <a:moveTo>
                  <a:pt x="26914" y="0"/>
                </a:moveTo>
                <a:lnTo>
                  <a:pt x="26914" y="21600"/>
                </a:lnTo>
                <a:lnTo>
                  <a:pt x="25514" y="20200"/>
                </a:lnTo>
                <a:lnTo>
                  <a:pt x="25514" y="1400"/>
                </a:lnTo>
                <a:close/>
              </a:path>
              <a:path fill="darkenLess" w="26914" h="21600">
                <a:moveTo>
                  <a:pt x="26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4" y="20200"/>
                </a:lnTo>
                <a:close/>
              </a:path>
              <a:path fill="lighten" w="26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4" h="21600">
                <a:moveTo>
                  <a:pt x="6450" y="7493"/>
                </a:moveTo>
                <a:lnTo>
                  <a:pt x="9958" y="7493"/>
                </a:lnTo>
                <a:lnTo>
                  <a:pt x="9958" y="12828"/>
                </a:lnTo>
                <a:cubicBezTo>
                  <a:pt x="9958" y="13751"/>
                  <a:pt x="10759" y="14482"/>
                  <a:pt x="11794" y="14482"/>
                </a:cubicBezTo>
                <a:lnTo>
                  <a:pt x="13457" y="14482"/>
                </a:lnTo>
                <a:cubicBezTo>
                  <a:pt x="14493" y="14482"/>
                  <a:pt x="15293" y="13751"/>
                  <a:pt x="15293" y="12828"/>
                </a:cubicBezTo>
                <a:lnTo>
                  <a:pt x="15293" y="7493"/>
                </a:lnTo>
                <a:lnTo>
                  <a:pt x="13457" y="7493"/>
                </a:lnTo>
                <a:lnTo>
                  <a:pt x="16964" y="3985"/>
                </a:lnTo>
                <a:lnTo>
                  <a:pt x="20637" y="7493"/>
                </a:lnTo>
                <a:lnTo>
                  <a:pt x="18801" y="7493"/>
                </a:lnTo>
                <a:lnTo>
                  <a:pt x="18801" y="12828"/>
                </a:lnTo>
                <a:cubicBezTo>
                  <a:pt x="18801" y="15596"/>
                  <a:pt x="16225" y="18155"/>
                  <a:pt x="13457" y="18155"/>
                </a:cubicBezTo>
                <a:lnTo>
                  <a:pt x="11794" y="18155"/>
                </a:lnTo>
                <a:cubicBezTo>
                  <a:pt x="9027" y="18155"/>
                  <a:pt x="6450" y="15596"/>
                  <a:pt x="6450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C:\Users\Компуктер\Desktop\фото  с телефона\8.JPG"/>
          <p:cNvPicPr/>
          <p:nvPr/>
        </p:nvPicPr>
        <p:blipFill>
          <a:blip r:embed="rId1"/>
          <a:stretch/>
        </p:blipFill>
        <p:spPr>
          <a:xfrm>
            <a:off x="1835280" y="1917720"/>
            <a:ext cx="62658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рупповой мет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3927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324000" y="6237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7493"/>
                </a:moveTo>
                <a:lnTo>
                  <a:pt x="9970" y="7493"/>
                </a:lnTo>
                <a:lnTo>
                  <a:pt x="9970" y="12828"/>
                </a:lnTo>
                <a:cubicBezTo>
                  <a:pt x="9970" y="13751"/>
                  <a:pt x="10771" y="14482"/>
                  <a:pt x="11806" y="14482"/>
                </a:cubicBezTo>
                <a:lnTo>
                  <a:pt x="13469" y="14482"/>
                </a:lnTo>
                <a:cubicBezTo>
                  <a:pt x="14505" y="14482"/>
                  <a:pt x="15305" y="13751"/>
                  <a:pt x="15305" y="12828"/>
                </a:cubicBezTo>
                <a:lnTo>
                  <a:pt x="15305" y="7493"/>
                </a:lnTo>
                <a:lnTo>
                  <a:pt x="13469" y="7493"/>
                </a:lnTo>
                <a:lnTo>
                  <a:pt x="16976" y="3985"/>
                </a:lnTo>
                <a:lnTo>
                  <a:pt x="20649" y="7493"/>
                </a:lnTo>
                <a:lnTo>
                  <a:pt x="18813" y="7493"/>
                </a:lnTo>
                <a:lnTo>
                  <a:pt x="18813" y="12828"/>
                </a:lnTo>
                <a:cubicBezTo>
                  <a:pt x="18813" y="15596"/>
                  <a:pt x="16237" y="18155"/>
                  <a:pt x="13469" y="18155"/>
                </a:cubicBezTo>
                <a:lnTo>
                  <a:pt x="11806" y="18155"/>
                </a:lnTo>
                <a:cubicBezTo>
                  <a:pt x="9039" y="18155"/>
                  <a:pt x="6462" y="15596"/>
                  <a:pt x="6462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C:\Users\Компуктер\Desktop\Новая папка (2)\DSCF3228.JPG"/>
          <p:cNvPicPr/>
          <p:nvPr/>
        </p:nvPicPr>
        <p:blipFill>
          <a:blip r:embed="rId1"/>
          <a:stretch/>
        </p:blipFill>
        <p:spPr>
          <a:xfrm>
            <a:off x="1547640" y="3143160"/>
            <a:ext cx="581040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гровой мет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852640"/>
            <a:ext cx="4021200" cy="42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468360" y="6165720"/>
            <a:ext cx="504720" cy="40500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14" h="21600">
                <a:moveTo>
                  <a:pt x="0" y="0"/>
                </a:moveTo>
                <a:lnTo>
                  <a:pt x="26914" y="0"/>
                </a:lnTo>
                <a:lnTo>
                  <a:pt x="26914" y="21600"/>
                </a:lnTo>
                <a:lnTo>
                  <a:pt x="0" y="21600"/>
                </a:lnTo>
                <a:close/>
              </a:path>
              <a:path fill="lightenLess" w="26914" h="21600">
                <a:moveTo>
                  <a:pt x="0" y="0"/>
                </a:moveTo>
                <a:lnTo>
                  <a:pt x="26914" y="0"/>
                </a:lnTo>
                <a:lnTo>
                  <a:pt x="25514" y="1400"/>
                </a:lnTo>
                <a:lnTo>
                  <a:pt x="1400" y="1400"/>
                </a:lnTo>
                <a:close/>
              </a:path>
              <a:path fill="darken" w="26914" h="21600">
                <a:moveTo>
                  <a:pt x="26914" y="0"/>
                </a:moveTo>
                <a:lnTo>
                  <a:pt x="26914" y="21600"/>
                </a:lnTo>
                <a:lnTo>
                  <a:pt x="25514" y="20200"/>
                </a:lnTo>
                <a:lnTo>
                  <a:pt x="25514" y="1400"/>
                </a:lnTo>
                <a:close/>
              </a:path>
              <a:path fill="darkenLess" w="26914" h="21600">
                <a:moveTo>
                  <a:pt x="26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4" y="20200"/>
                </a:lnTo>
                <a:close/>
              </a:path>
              <a:path fill="lighten" w="26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4" h="21600">
                <a:moveTo>
                  <a:pt x="6450" y="7493"/>
                </a:moveTo>
                <a:lnTo>
                  <a:pt x="9958" y="7493"/>
                </a:lnTo>
                <a:lnTo>
                  <a:pt x="9958" y="12828"/>
                </a:lnTo>
                <a:cubicBezTo>
                  <a:pt x="9958" y="13751"/>
                  <a:pt x="10759" y="14482"/>
                  <a:pt x="11794" y="14482"/>
                </a:cubicBezTo>
                <a:lnTo>
                  <a:pt x="13457" y="14482"/>
                </a:lnTo>
                <a:cubicBezTo>
                  <a:pt x="14493" y="14482"/>
                  <a:pt x="15293" y="13751"/>
                  <a:pt x="15293" y="12828"/>
                </a:cubicBezTo>
                <a:lnTo>
                  <a:pt x="15293" y="7493"/>
                </a:lnTo>
                <a:lnTo>
                  <a:pt x="13457" y="7493"/>
                </a:lnTo>
                <a:lnTo>
                  <a:pt x="16964" y="3985"/>
                </a:lnTo>
                <a:lnTo>
                  <a:pt x="20637" y="7493"/>
                </a:lnTo>
                <a:lnTo>
                  <a:pt x="18801" y="7493"/>
                </a:lnTo>
                <a:lnTo>
                  <a:pt x="18801" y="12828"/>
                </a:lnTo>
                <a:cubicBezTo>
                  <a:pt x="18801" y="15596"/>
                  <a:pt x="16225" y="18155"/>
                  <a:pt x="13457" y="18155"/>
                </a:cubicBezTo>
                <a:lnTo>
                  <a:pt x="11794" y="18155"/>
                </a:lnTo>
                <a:cubicBezTo>
                  <a:pt x="9027" y="18155"/>
                  <a:pt x="6450" y="15596"/>
                  <a:pt x="6450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C:\Users\Компуктер\Desktop\фото  с телефона\10.JPG"/>
          <p:cNvPicPr/>
          <p:nvPr/>
        </p:nvPicPr>
        <p:blipFill>
          <a:blip r:embed="rId1"/>
          <a:stretch/>
        </p:blipFill>
        <p:spPr>
          <a:xfrm>
            <a:off x="1979640" y="2857680"/>
            <a:ext cx="473544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4:11:30Z</dcterms:created>
  <dc:creator>xxx</dc:creator>
  <dc:description/>
  <dc:language>en-US</dc:language>
  <cp:lastModifiedBy>user</cp:lastModifiedBy>
  <dcterms:modified xsi:type="dcterms:W3CDTF">2019-11-26T15:24:44Z</dcterms:modified>
  <cp:revision>38</cp:revision>
  <dc:subject/>
  <dc:title>Физическое воспитание на основе личностно-ориентированного подхода</dc:title>
</cp:coreProperties>
</file>