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ACB-A56C-4E3F-BFC6-532C4111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AC1-5776-4939-BC2B-E04655CB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638-F4C8-40BC-8FC2-FDCEDF2A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936-3D51-4EC2-B3E2-7364EA86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339-717E-4770-A63E-64A29465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5026-6F09-44EB-9B0B-35CC4203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0646-A4E7-4E73-B59C-6379B280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E8A-852E-476F-9A8E-566C37E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D41E-CB75-443C-92A8-29EF5E87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D7C-28F8-4A39-AEF7-89D75693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28B8-C83F-4B7E-B215-C1CB74F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59B-C332-4F69-9BE9-09D8FA1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2421-CCD9-4F3E-944B-5ED19CE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2F90-9F0B-4918-9289-40CDD3F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7450-6944-4128-A3EF-46BEBE33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B933-EE36-423C-8BAE-89D23185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03FF-630F-41B5-B0FC-5ED7DDB4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40B-DF00-415A-BCCC-9F2FADD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F69-F62C-4C79-839A-294E1573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FD7-551B-4D55-9AEE-846D242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C8F-F210-4AE1-982C-0D5EE57B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BC2-D156-4B99-A7D1-6BE6403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673-BEC0-41B0-AE98-FE12E50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12E-11B2-4CB1-AFCF-D3BBC512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66AD-9907-49DB-A26B-43BA61FB0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DCB2-7A5B-42D3-95F5-0E0BC4B944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8458200" cy="29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Физическое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оспитание</a:t>
            </a: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 на основе личностно-ориентированного подход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5280" y="5516280"/>
            <a:ext cx="838836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знецов Валерий Валер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БОУ СО «Санаторная школа-интернат г.Калининс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ая ц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 апробация новых подходов к организации физического воспитания школьников на основе личностно-ориентированного обу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C:\Users\Компуктер\Desktop\фото  с телефона\5.JPG"/>
          <p:cNvPicPr/>
          <p:nvPr/>
        </p:nvPicPr>
        <p:blipFill>
          <a:blip r:embed="rId1"/>
          <a:stretch/>
        </p:blipFill>
        <p:spPr>
          <a:xfrm>
            <a:off x="2571840" y="3789360"/>
            <a:ext cx="3786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248000" cy="47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Приоритет индивидуальности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ребенка, 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активного носителя субъективного опыта. 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C:\Users\Компуктер\Desktop\фото  с телефона\6.JPG"/>
          <p:cNvPicPr/>
          <p:nvPr/>
        </p:nvPicPr>
        <p:blipFill>
          <a:blip r:embed="rId1"/>
          <a:stretch/>
        </p:blipFill>
        <p:spPr>
          <a:xfrm>
            <a:off x="4697280" y="260280"/>
            <a:ext cx="4032360" cy="30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Компуктер\Desktop\фото  с телефона\2.JPG"/>
          <p:cNvPicPr/>
          <p:nvPr/>
        </p:nvPicPr>
        <p:blipFill>
          <a:blip r:embed="rId2"/>
          <a:stretch/>
        </p:blipFill>
        <p:spPr>
          <a:xfrm>
            <a:off x="5062680" y="3478320"/>
            <a:ext cx="2871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Формы и методы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88000" y="1844640"/>
            <a:ext cx="435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C:\Users\Компуктер\Desktop\фото  с телефона\12.jpg"/>
          <p:cNvPicPr/>
          <p:nvPr/>
        </p:nvPicPr>
        <p:blipFill>
          <a:blip r:embed="rId1"/>
          <a:stretch/>
        </p:blipFill>
        <p:spPr>
          <a:xfrm>
            <a:off x="250920" y="1557360"/>
            <a:ext cx="4308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Методы обучения двигательным действи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705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каз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ка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25092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7493"/>
                </a:moveTo>
                <a:lnTo>
                  <a:pt x="9970" y="7493"/>
                </a:lnTo>
                <a:lnTo>
                  <a:pt x="9970" y="12828"/>
                </a:lnTo>
                <a:cubicBezTo>
                  <a:pt x="9970" y="13751"/>
                  <a:pt x="10771" y="14482"/>
                  <a:pt x="11806" y="14482"/>
                </a:cubicBezTo>
                <a:lnTo>
                  <a:pt x="13469" y="14482"/>
                </a:lnTo>
                <a:cubicBezTo>
                  <a:pt x="14505" y="14482"/>
                  <a:pt x="15305" y="13751"/>
                  <a:pt x="15305" y="12828"/>
                </a:cubicBezTo>
                <a:lnTo>
                  <a:pt x="15305" y="7493"/>
                </a:lnTo>
                <a:lnTo>
                  <a:pt x="13469" y="7493"/>
                </a:lnTo>
                <a:lnTo>
                  <a:pt x="16976" y="3985"/>
                </a:lnTo>
                <a:lnTo>
                  <a:pt x="20649" y="7493"/>
                </a:lnTo>
                <a:lnTo>
                  <a:pt x="18813" y="7493"/>
                </a:lnTo>
                <a:lnTo>
                  <a:pt x="18813" y="12828"/>
                </a:lnTo>
                <a:cubicBezTo>
                  <a:pt x="18813" y="15596"/>
                  <a:pt x="16237" y="18155"/>
                  <a:pt x="13469" y="18155"/>
                </a:cubicBezTo>
                <a:lnTo>
                  <a:pt x="11806" y="18155"/>
                </a:lnTo>
                <a:cubicBezTo>
                  <a:pt x="9039" y="18155"/>
                  <a:pt x="6462" y="15596"/>
                  <a:pt x="646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C:\Users\Компуктер\Desktop\Новая папка (2)\DSCF3197.JPG"/>
          <p:cNvPicPr/>
          <p:nvPr/>
        </p:nvPicPr>
        <p:blipFill>
          <a:blip r:embed="rId1"/>
          <a:stretch/>
        </p:blipFill>
        <p:spPr>
          <a:xfrm>
            <a:off x="250920" y="3933720"/>
            <a:ext cx="3006720" cy="21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3348000" y="3335400"/>
            <a:ext cx="54752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уговой мет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68360" y="616572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6450" y="7493"/>
                </a:moveTo>
                <a:lnTo>
                  <a:pt x="9958" y="7493"/>
                </a:lnTo>
                <a:lnTo>
                  <a:pt x="9958" y="12828"/>
                </a:lnTo>
                <a:cubicBezTo>
                  <a:pt x="9958" y="13751"/>
                  <a:pt x="10759" y="14482"/>
                  <a:pt x="11794" y="14482"/>
                </a:cubicBezTo>
                <a:lnTo>
                  <a:pt x="13457" y="14482"/>
                </a:lnTo>
                <a:cubicBezTo>
                  <a:pt x="14493" y="14482"/>
                  <a:pt x="15293" y="13751"/>
                  <a:pt x="15293" y="12828"/>
                </a:cubicBezTo>
                <a:lnTo>
                  <a:pt x="15293" y="7493"/>
                </a:lnTo>
                <a:lnTo>
                  <a:pt x="13457" y="7493"/>
                </a:lnTo>
                <a:lnTo>
                  <a:pt x="16964" y="3985"/>
                </a:lnTo>
                <a:lnTo>
                  <a:pt x="20637" y="7493"/>
                </a:lnTo>
                <a:lnTo>
                  <a:pt x="18801" y="7493"/>
                </a:lnTo>
                <a:lnTo>
                  <a:pt x="18801" y="12828"/>
                </a:lnTo>
                <a:cubicBezTo>
                  <a:pt x="18801" y="15596"/>
                  <a:pt x="16225" y="18155"/>
                  <a:pt x="13457" y="18155"/>
                </a:cubicBezTo>
                <a:lnTo>
                  <a:pt x="11794" y="18155"/>
                </a:lnTo>
                <a:cubicBezTo>
                  <a:pt x="9027" y="18155"/>
                  <a:pt x="6450" y="15596"/>
                  <a:pt x="645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C:\Users\Компуктер\Desktop\фото  с телефона\8.JPG"/>
          <p:cNvPicPr/>
          <p:nvPr/>
        </p:nvPicPr>
        <p:blipFill>
          <a:blip r:embed="rId1"/>
          <a:stretch/>
        </p:blipFill>
        <p:spPr>
          <a:xfrm>
            <a:off x="1835280" y="1917720"/>
            <a:ext cx="62658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рупповой мет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3927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32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7493"/>
                </a:moveTo>
                <a:lnTo>
                  <a:pt x="9970" y="7493"/>
                </a:lnTo>
                <a:lnTo>
                  <a:pt x="9970" y="12828"/>
                </a:lnTo>
                <a:cubicBezTo>
                  <a:pt x="9970" y="13751"/>
                  <a:pt x="10771" y="14482"/>
                  <a:pt x="11806" y="14482"/>
                </a:cubicBezTo>
                <a:lnTo>
                  <a:pt x="13469" y="14482"/>
                </a:lnTo>
                <a:cubicBezTo>
                  <a:pt x="14505" y="14482"/>
                  <a:pt x="15305" y="13751"/>
                  <a:pt x="15305" y="12828"/>
                </a:cubicBezTo>
                <a:lnTo>
                  <a:pt x="15305" y="7493"/>
                </a:lnTo>
                <a:lnTo>
                  <a:pt x="13469" y="7493"/>
                </a:lnTo>
                <a:lnTo>
                  <a:pt x="16976" y="3985"/>
                </a:lnTo>
                <a:lnTo>
                  <a:pt x="20649" y="7493"/>
                </a:lnTo>
                <a:lnTo>
                  <a:pt x="18813" y="7493"/>
                </a:lnTo>
                <a:lnTo>
                  <a:pt x="18813" y="12828"/>
                </a:lnTo>
                <a:cubicBezTo>
                  <a:pt x="18813" y="15596"/>
                  <a:pt x="16237" y="18155"/>
                  <a:pt x="13469" y="18155"/>
                </a:cubicBezTo>
                <a:lnTo>
                  <a:pt x="11806" y="18155"/>
                </a:lnTo>
                <a:cubicBezTo>
                  <a:pt x="9039" y="18155"/>
                  <a:pt x="6462" y="15596"/>
                  <a:pt x="646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C:\Users\Компуктер\Desktop\Новая папка (2)\DSCF3228.JPG"/>
          <p:cNvPicPr/>
          <p:nvPr/>
        </p:nvPicPr>
        <p:blipFill>
          <a:blip r:embed="rId1"/>
          <a:stretch/>
        </p:blipFill>
        <p:spPr>
          <a:xfrm>
            <a:off x="1547640" y="3143160"/>
            <a:ext cx="58104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овой мет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852640"/>
            <a:ext cx="402120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468360" y="616572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6450" y="7493"/>
                </a:moveTo>
                <a:lnTo>
                  <a:pt x="9958" y="7493"/>
                </a:lnTo>
                <a:lnTo>
                  <a:pt x="9958" y="12828"/>
                </a:lnTo>
                <a:cubicBezTo>
                  <a:pt x="9958" y="13751"/>
                  <a:pt x="10759" y="14482"/>
                  <a:pt x="11794" y="14482"/>
                </a:cubicBezTo>
                <a:lnTo>
                  <a:pt x="13457" y="14482"/>
                </a:lnTo>
                <a:cubicBezTo>
                  <a:pt x="14493" y="14482"/>
                  <a:pt x="15293" y="13751"/>
                  <a:pt x="15293" y="12828"/>
                </a:cubicBezTo>
                <a:lnTo>
                  <a:pt x="15293" y="7493"/>
                </a:lnTo>
                <a:lnTo>
                  <a:pt x="13457" y="7493"/>
                </a:lnTo>
                <a:lnTo>
                  <a:pt x="16964" y="3985"/>
                </a:lnTo>
                <a:lnTo>
                  <a:pt x="20637" y="7493"/>
                </a:lnTo>
                <a:lnTo>
                  <a:pt x="18801" y="7493"/>
                </a:lnTo>
                <a:lnTo>
                  <a:pt x="18801" y="12828"/>
                </a:lnTo>
                <a:cubicBezTo>
                  <a:pt x="18801" y="15596"/>
                  <a:pt x="16225" y="18155"/>
                  <a:pt x="13457" y="18155"/>
                </a:cubicBezTo>
                <a:lnTo>
                  <a:pt x="11794" y="18155"/>
                </a:lnTo>
                <a:cubicBezTo>
                  <a:pt x="9027" y="18155"/>
                  <a:pt x="6450" y="15596"/>
                  <a:pt x="645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C:\Users\Компуктер\Desktop\фото  с телефона\10.JPG"/>
          <p:cNvPicPr/>
          <p:nvPr/>
        </p:nvPicPr>
        <p:blipFill>
          <a:blip r:embed="rId1"/>
          <a:stretch/>
        </p:blipFill>
        <p:spPr>
          <a:xfrm>
            <a:off x="1979640" y="2857680"/>
            <a:ext cx="473544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4:11:30Z</dcterms:created>
  <dc:creator>xxx</dc:creator>
  <dc:description/>
  <dc:language>en-US</dc:language>
  <cp:lastModifiedBy>user</cp:lastModifiedBy>
  <dcterms:modified xsi:type="dcterms:W3CDTF">2019-11-26T15:24:44Z</dcterms:modified>
  <cp:revision>38</cp:revision>
  <dc:subject/>
  <dc:title>Физическое воспитание на основе личностно-ориентированного подхода</dc:title>
</cp:coreProperties>
</file>