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4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31.jpeg" ContentType="image/jpeg"/>
  <Override PartName="/ppt/media/image41.png" ContentType="image/pn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B6AD-536B-4CA5-8829-C2D09CD72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A6C0-B7A6-4387-A2F5-221649978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985-E94D-4634-8001-2AE7242B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ECC-F9C7-40D2-9AAC-8348D89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5A2-9102-4432-87A3-2EF39393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6A2-E266-4E08-858C-7B73A4C8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084-76C1-40BF-923C-D1017D56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508-FAE3-41F4-9717-3A9882BC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1C0-DA85-455F-B30B-7E27C04D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890-0A93-4796-A86D-AFB91F79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D01-B7FE-4191-8C7E-28F49910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E4D-3196-498F-A919-0DAD0F5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3E8-77CA-4E5E-9426-95C130C8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396-E2E7-441D-B545-84F476B2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258C-0A3D-4FC3-B075-9C7AAF2DB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9;&#1083;&#1072;&#1085;-&#1059;&#1076;&#1101;" TargetMode="External"/><Relationship Id="rId2" Type="http://schemas.openxmlformats.org/officeDocument/2006/relationships/hyperlink" Target="https://ru.wikipedia.org/wiki/&#1057;&#1080;&#1073;&#1080;&#1088;&#1089;&#1082;&#1086;&#1077;_&#1073;&#1072;&#1088;&#1086;&#1082;&#1082;&#1086;" TargetMode="External"/><Relationship Id="rId3" Type="http://schemas.openxmlformats.org/officeDocument/2006/relationships/hyperlink" Target="https://ru.wikipedia.org/wiki/&#1059;&#1076;&#1072;_(&#1087;&#1088;&#1080;&#1090;&#1086;&#1082;_&#1057;&#1077;&#1083;&#1077;&#1085;&#1075;&#1080;)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22150" t="20527" r="24970" b="2647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716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ГБПОУ «Бурятский аграрный колледж им. М. Н. Ербан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708360" y="5589720"/>
            <a:ext cx="151308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598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лан-Удэ 2019г</a:t>
            </a:r>
            <a:endParaRPr b="0" lang="en-US" sz="5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71640" y="2205000"/>
            <a:ext cx="741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Учимся понимать других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5545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Когда справля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вый Год в Росс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826920" y="3933720"/>
            <a:ext cx="15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 январ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3276720" y="2133720"/>
            <a:ext cx="28764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Первое новолуние 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года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13" name="WordArt 11"/>
          <p:cNvSpPr txBox="1"/>
          <p:nvPr/>
        </p:nvSpPr>
        <p:spPr>
          <a:xfrm>
            <a:off x="6948360" y="3860640"/>
            <a:ext cx="16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21 марта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14" name="WordArt 12"/>
          <p:cNvSpPr txBox="1"/>
          <p:nvPr/>
        </p:nvSpPr>
        <p:spPr>
          <a:xfrm>
            <a:off x="3924360" y="587700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15" name="Picture 13" descr="1"/>
          <p:cNvPicPr/>
          <p:nvPr/>
        </p:nvPicPr>
        <p:blipFill>
          <a:blip r:embed="rId1"/>
          <a:stretch/>
        </p:blipFill>
        <p:spPr>
          <a:xfrm>
            <a:off x="3924360" y="3500280"/>
            <a:ext cx="1565280" cy="17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елка"/>
          <p:cNvPicPr/>
          <p:nvPr/>
        </p:nvPicPr>
        <p:blipFill>
          <a:blip r:embed="rId1"/>
          <a:stretch/>
        </p:blipFill>
        <p:spPr>
          <a:xfrm>
            <a:off x="2771640" y="1700280"/>
            <a:ext cx="3456000" cy="460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снегурка копия"/>
          <p:cNvPicPr/>
          <p:nvPr/>
        </p:nvPicPr>
        <p:blipFill>
          <a:blip r:embed="rId2"/>
          <a:stretch/>
        </p:blipFill>
        <p:spPr>
          <a:xfrm>
            <a:off x="6804000" y="3573360"/>
            <a:ext cx="1655640" cy="273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дед мороз2 копия"/>
          <p:cNvPicPr/>
          <p:nvPr/>
        </p:nvPicPr>
        <p:blipFill>
          <a:blip r:embed="rId3"/>
          <a:stretch/>
        </p:blipFill>
        <p:spPr>
          <a:xfrm>
            <a:off x="179280" y="3282840"/>
            <a:ext cx="2108160" cy="30258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9"/>
          <p:cNvSpPr txBox="1"/>
          <p:nvPr/>
        </p:nvSpPr>
        <p:spPr>
          <a:xfrm>
            <a:off x="250920" y="260280"/>
            <a:ext cx="374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1116000" y="1052640"/>
            <a:ext cx="5688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Новый Год в России  - 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21" name="WordArt 13"/>
          <p:cNvSpPr txBox="1"/>
          <p:nvPr/>
        </p:nvSpPr>
        <p:spPr>
          <a:xfrm>
            <a:off x="6300720" y="2133720"/>
            <a:ext cx="25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 ЯНВАРЯ</a:t>
            </a:r>
            <a:endParaRPr b="1" lang="en-US" sz="1800" spc="1" strike="noStrike">
              <a:ln w="2844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22" name="AutoShape 14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619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Когда справля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Новый Год в Кита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1116000" y="4005360"/>
            <a:ext cx="1655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 январ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26" name="WordArt 10"/>
          <p:cNvSpPr txBox="1"/>
          <p:nvPr/>
        </p:nvSpPr>
        <p:spPr>
          <a:xfrm>
            <a:off x="3276720" y="2276640"/>
            <a:ext cx="295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Первое новолуние 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года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6300720" y="407664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21 марта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28" name="WordArt 12"/>
          <p:cNvSpPr txBox="1"/>
          <p:nvPr/>
        </p:nvSpPr>
        <p:spPr>
          <a:xfrm>
            <a:off x="3995640" y="573408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29" name="Picture 13" descr="chinese-newyear"/>
          <p:cNvPicPr/>
          <p:nvPr/>
        </p:nvPicPr>
        <p:blipFill>
          <a:blip r:embed="rId1"/>
          <a:stretch/>
        </p:blipFill>
        <p:spPr>
          <a:xfrm>
            <a:off x="3708360" y="3500280"/>
            <a:ext cx="2003400" cy="20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067280" y="475920"/>
            <a:ext cx="4752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овый год по Китайскому календарю называе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00720" y="1557360"/>
            <a:ext cx="40320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Чуньцзе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40000" y="4581000"/>
            <a:ext cx="5003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н справляе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Первое Новолуние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ежду 12 январ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9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НГ в Китае1"/>
          <p:cNvPicPr/>
          <p:nvPr/>
        </p:nvPicPr>
        <p:blipFill>
          <a:blip r:embed="rId1"/>
          <a:stretch/>
        </p:blipFill>
        <p:spPr>
          <a:xfrm>
            <a:off x="5003640" y="2490840"/>
            <a:ext cx="3351240" cy="2233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КНГеда"/>
          <p:cNvPicPr/>
          <p:nvPr/>
        </p:nvPicPr>
        <p:blipFill>
          <a:blip r:embed="rId2"/>
          <a:stretch/>
        </p:blipFill>
        <p:spPr>
          <a:xfrm>
            <a:off x="826920" y="4295880"/>
            <a:ext cx="3235320" cy="222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КНГ"/>
          <p:cNvPicPr/>
          <p:nvPr/>
        </p:nvPicPr>
        <p:blipFill>
          <a:blip r:embed="rId3"/>
          <a:stretch/>
        </p:blipFill>
        <p:spPr>
          <a:xfrm>
            <a:off x="684360" y="1074600"/>
            <a:ext cx="3317760" cy="22100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"/>
          <p:cNvSpPr txBox="1"/>
          <p:nvPr/>
        </p:nvSpPr>
        <p:spPr>
          <a:xfrm>
            <a:off x="611280" y="26028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611280" y="328464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о значит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Праздник весны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769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Когда справля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вый Год в Бурят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1116000" y="4005360"/>
            <a:ext cx="187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 январ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3276720" y="2133720"/>
            <a:ext cx="28764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Первое новолуние 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года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6300720" y="407664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21 марта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3995640" y="5373720"/>
            <a:ext cx="1506600" cy="6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45" name="Picture 10" descr="https://im0-tub-ru.yandex.net/i?id=64dd076ae34afe57786f2f62153040d0&amp;n=33&amp;h=190&amp;w=285"/>
          <p:cNvPicPr/>
          <p:nvPr/>
        </p:nvPicPr>
        <p:blipFill>
          <a:blip r:embed="rId1"/>
          <a:stretch/>
        </p:blipFill>
        <p:spPr>
          <a:xfrm>
            <a:off x="3500280" y="3429000"/>
            <a:ext cx="25005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10"/>
          <p:cNvSpPr txBox="1"/>
          <p:nvPr/>
        </p:nvSpPr>
        <p:spPr>
          <a:xfrm>
            <a:off x="539640" y="18900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8720" y="980640"/>
            <a:ext cx="84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вый Год в Бурят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3640" y="1699920"/>
            <a:ext cx="46796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«Сагаалган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Белый меся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43240" y="4437000"/>
            <a:ext cx="52149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н спра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 лунному календарю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приходится большей частью на разные числа февраля месяца по солнечному календ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8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В Бурятии отмечают Новый год дважды"/>
          <p:cNvPicPr/>
          <p:nvPr/>
        </p:nvPicPr>
        <p:blipFill>
          <a:blip r:embed="rId1"/>
          <a:stretch/>
        </p:blipFill>
        <p:spPr>
          <a:xfrm>
            <a:off x="4357800" y="1785960"/>
            <a:ext cx="3571920" cy="2676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7" descr="C:\Users\Студент\Desktop\afdd59a33bae2c297a9e3f4ec2836055.jpg"/>
          <p:cNvPicPr/>
          <p:nvPr/>
        </p:nvPicPr>
        <p:blipFill>
          <a:blip r:embed="rId2"/>
          <a:stretch/>
        </p:blipFill>
        <p:spPr>
          <a:xfrm>
            <a:off x="500040" y="4732200"/>
            <a:ext cx="3143160" cy="180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http://mogsohonsosh.ru/images/gallery/sagaalgan-2014/privetstvie2_20140311_1506164262.jpg"/>
          <p:cNvPicPr/>
          <p:nvPr/>
        </p:nvPicPr>
        <p:blipFill>
          <a:blip r:embed="rId3"/>
          <a:stretch/>
        </p:blipFill>
        <p:spPr>
          <a:xfrm>
            <a:off x="1000080" y="2286000"/>
            <a:ext cx="2395440" cy="17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5092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стюм какой национ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едставлен на фотограф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9"/>
          <p:cNvSpPr txBox="1"/>
          <p:nvPr/>
        </p:nvSpPr>
        <p:spPr>
          <a:xfrm>
            <a:off x="6588000" y="2276640"/>
            <a:ext cx="14288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Рус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57" name="WordArt 10"/>
          <p:cNvSpPr txBox="1"/>
          <p:nvPr/>
        </p:nvSpPr>
        <p:spPr>
          <a:xfrm>
            <a:off x="6443640" y="3141720"/>
            <a:ext cx="21812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олдав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58" name="WordArt 11"/>
          <p:cNvSpPr txBox="1"/>
          <p:nvPr/>
        </p:nvSpPr>
        <p:spPr>
          <a:xfrm>
            <a:off x="6516720" y="4149720"/>
            <a:ext cx="2055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урят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6948360" y="5013360"/>
            <a:ext cx="1219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60" name="Picture 14" descr="az_odegda"/>
          <p:cNvPicPr/>
          <p:nvPr/>
        </p:nvPicPr>
        <p:blipFill>
          <a:blip r:embed="rId1"/>
          <a:stretch/>
        </p:blipFill>
        <p:spPr>
          <a:xfrm>
            <a:off x="1187280" y="1557360"/>
            <a:ext cx="3854520" cy="50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59280" y="4365360"/>
            <a:ext cx="6481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пременной деталью Д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мског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уалет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были штаны либо шальв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шаровары),стянутые на талии плетеным поясом с разноцветными кистям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онцах. А сверху – множество ю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59280" y="1989000"/>
            <a:ext cx="6084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 мужчин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главная деталь – гол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бор. Костюм состоял из нижней рубах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льсон, верхней рубашки, шар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зже – брюк, и неизм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рхалыга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как кафта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8487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Азербайджанский костю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539640" y="33336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65" name="Picture 11" descr="az_odegda"/>
          <p:cNvPicPr/>
          <p:nvPr/>
        </p:nvPicPr>
        <p:blipFill>
          <a:blip r:embed="rId1"/>
          <a:stretch/>
        </p:blipFill>
        <p:spPr>
          <a:xfrm>
            <a:off x="73080" y="1916280"/>
            <a:ext cx="2925720" cy="3859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2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50920" y="0"/>
            <a:ext cx="90741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стюм какой национ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едставлен на фотограф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украинский"/>
          <p:cNvPicPr/>
          <p:nvPr/>
        </p:nvPicPr>
        <p:blipFill>
          <a:blip r:embed="rId1"/>
          <a:stretch/>
        </p:blipFill>
        <p:spPr>
          <a:xfrm>
            <a:off x="971640" y="1628640"/>
            <a:ext cx="3498840" cy="4972320"/>
          </a:xfrm>
          <a:prstGeom prst="rect">
            <a:avLst/>
          </a:prstGeom>
          <a:ln w="0">
            <a:noFill/>
          </a:ln>
        </p:spPr>
      </p:pic>
      <p:sp>
        <p:nvSpPr>
          <p:cNvPr id="169" name="WordArt 9"/>
          <p:cNvSpPr txBox="1"/>
          <p:nvPr/>
        </p:nvSpPr>
        <p:spPr>
          <a:xfrm>
            <a:off x="6084720" y="2060640"/>
            <a:ext cx="14288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Рус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5867280" y="3068640"/>
            <a:ext cx="21812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олдав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5929200" y="4071960"/>
            <a:ext cx="22860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урят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6227640" y="5229360"/>
            <a:ext cx="1219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995640" y="260280"/>
            <a:ext cx="425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Укра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украина"/>
          <p:cNvPicPr/>
          <p:nvPr/>
        </p:nvPicPr>
        <p:blipFill>
          <a:blip r:embed="rId1"/>
          <a:stretch/>
        </p:blipFill>
        <p:spPr>
          <a:xfrm>
            <a:off x="179280" y="1081080"/>
            <a:ext cx="3668760" cy="5227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924000" y="1483920"/>
            <a:ext cx="5219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 мужчин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 пазушка (рубаха)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умачка (сорочка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шаровары (штаны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чкур  (рем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01920" y="3769920"/>
            <a:ext cx="476244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женщин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 кошуля (рубашк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дараки (шерстяная юб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юбка-пах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рсетка или ж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нист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нагрудные украш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8"/>
          <p:cNvSpPr txBox="1"/>
          <p:nvPr/>
        </p:nvSpPr>
        <p:spPr>
          <a:xfrm>
            <a:off x="611280" y="260280"/>
            <a:ext cx="33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8" name="AutoShape 9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9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22150" t="20527" r="24970" b="2647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Arial"/>
              </a:rPr>
              <a:t>ТОЛЕРАНТНОСТЬ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6200" y="1844640"/>
            <a:ext cx="4753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ерпимость к чуж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разу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ведени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ыча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нениям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  вер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497560" y="1557360"/>
            <a:ext cx="3035160" cy="446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3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6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65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6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45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25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50920" y="0"/>
            <a:ext cx="90741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стюм какой национ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едставлен на фотограф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6084720" y="2060640"/>
            <a:ext cx="14288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Рус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81" name="WordArt 10"/>
          <p:cNvSpPr txBox="1"/>
          <p:nvPr/>
        </p:nvSpPr>
        <p:spPr>
          <a:xfrm>
            <a:off x="5867280" y="3068640"/>
            <a:ext cx="21812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олдав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82" name="WordArt 11"/>
          <p:cNvSpPr txBox="1"/>
          <p:nvPr/>
        </p:nvSpPr>
        <p:spPr>
          <a:xfrm>
            <a:off x="5929200" y="4071960"/>
            <a:ext cx="22860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урят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83" name="WordArt 12"/>
          <p:cNvSpPr txBox="1"/>
          <p:nvPr/>
        </p:nvSpPr>
        <p:spPr>
          <a:xfrm>
            <a:off x="6227640" y="5229360"/>
            <a:ext cx="1219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84" name="Picture 2" descr="C:\Users\Студент\Desktop\57364b64ee804554b5905027285c5180_lightbox.jpg"/>
          <p:cNvPicPr/>
          <p:nvPr/>
        </p:nvPicPr>
        <p:blipFill>
          <a:blip r:embed="rId1"/>
          <a:stretch/>
        </p:blipFill>
        <p:spPr>
          <a:xfrm>
            <a:off x="1071720" y="1785960"/>
            <a:ext cx="314316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9076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Бурят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43240" y="1214280"/>
            <a:ext cx="51436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мужчин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дежда состоит из нательной (самса) и верхней одежды (дэгэл), головного убора (малгай), штанов (умдэн), обуви (гутал). Дополняют костюм пояс, нож, огниво и другие предме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29040" y="3857760"/>
            <a:ext cx="5214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женщин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дежда состоит из нательной (самса) и верхней одежды (дэгэл), головного убора (малгай), штанов (умдэн), обуви (гутал) и  безрукавки (уужа) Дополняют его разнообразные украше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648320" y="170028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9"/>
          <p:cNvSpPr txBox="1"/>
          <p:nvPr/>
        </p:nvSpPr>
        <p:spPr>
          <a:xfrm>
            <a:off x="395280" y="26028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0" name="AutoShape 10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in-strument.by/shop/images/natsionalnyy-kostyum-buryatov-foto-20770-large.jpg"/>
          <p:cNvPicPr/>
          <p:nvPr/>
        </p:nvPicPr>
        <p:blipFill>
          <a:blip r:embed="rId1"/>
          <a:stretch/>
        </p:blipFill>
        <p:spPr>
          <a:xfrm>
            <a:off x="285840" y="1285920"/>
            <a:ext cx="3929040" cy="51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стюм какой национ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едставлен на фотограф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rusfolk"/>
          <p:cNvPicPr/>
          <p:nvPr/>
        </p:nvPicPr>
        <p:blipFill>
          <a:blip r:embed="rId1"/>
          <a:stretch/>
        </p:blipFill>
        <p:spPr>
          <a:xfrm>
            <a:off x="395280" y="1844640"/>
            <a:ext cx="5616720" cy="4067280"/>
          </a:xfrm>
          <a:prstGeom prst="rect">
            <a:avLst/>
          </a:prstGeom>
          <a:ln w="0">
            <a:noFill/>
          </a:ln>
        </p:spPr>
      </p:pic>
      <p:sp>
        <p:nvSpPr>
          <p:cNvPr id="194" name="WordArt 13"/>
          <p:cNvSpPr txBox="1"/>
          <p:nvPr/>
        </p:nvSpPr>
        <p:spPr>
          <a:xfrm>
            <a:off x="6948360" y="2133720"/>
            <a:ext cx="14288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Рус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95" name="WordArt 14"/>
          <p:cNvSpPr txBox="1"/>
          <p:nvPr/>
        </p:nvSpPr>
        <p:spPr>
          <a:xfrm>
            <a:off x="6659640" y="3141720"/>
            <a:ext cx="21812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олдав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96" name="WordArt 15"/>
          <p:cNvSpPr txBox="1"/>
          <p:nvPr/>
        </p:nvSpPr>
        <p:spPr>
          <a:xfrm>
            <a:off x="6730920" y="4149720"/>
            <a:ext cx="2055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урят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97" name="WordArt 16"/>
          <p:cNvSpPr txBox="1"/>
          <p:nvPr/>
        </p:nvSpPr>
        <p:spPr>
          <a:xfrm>
            <a:off x="7164360" y="5084640"/>
            <a:ext cx="12193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907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Рус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38240" y="184428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мужчин: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рубаха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фтан, порты (штаны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апти и он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3280" y="3715920"/>
            <a:ext cx="4321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женщин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сараф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убаха, пон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вид поясной одежды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кош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головной уб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русский"/>
          <p:cNvPicPr/>
          <p:nvPr/>
        </p:nvPicPr>
        <p:blipFill>
          <a:blip r:embed="rId1"/>
          <a:stretch/>
        </p:blipFill>
        <p:spPr>
          <a:xfrm>
            <a:off x="826920" y="1123920"/>
            <a:ext cx="3530880" cy="51721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4648320" y="170028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9"/>
          <p:cNvSpPr txBox="1"/>
          <p:nvPr/>
        </p:nvSpPr>
        <p:spPr>
          <a:xfrm>
            <a:off x="395280" y="26028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4" name="AutoShape 10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5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7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9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89308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зовите русск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циональное блюд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меющее отношение к солн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187280" y="4221000"/>
            <a:ext cx="1368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лин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3564000" y="299736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амалыг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6443640" y="422100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аник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09" name="WordArt 7"/>
          <p:cNvSpPr txBox="1"/>
          <p:nvPr/>
        </p:nvSpPr>
        <p:spPr>
          <a:xfrm>
            <a:off x="3924360" y="5950080"/>
            <a:ext cx="136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10" name="Picture 11" descr="uv"/>
          <p:cNvPicPr/>
          <p:nvPr/>
        </p:nvPicPr>
        <p:blipFill>
          <a:blip r:embed="rId1"/>
          <a:stretch/>
        </p:blipFill>
        <p:spPr>
          <a:xfrm>
            <a:off x="3708360" y="3789360"/>
            <a:ext cx="1690560" cy="180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Б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блины руск"/>
          <p:cNvPicPr/>
          <p:nvPr/>
        </p:nvPicPr>
        <p:blipFill>
          <a:blip r:embed="rId1"/>
          <a:stretch/>
        </p:blipFill>
        <p:spPr>
          <a:xfrm>
            <a:off x="1692360" y="206064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6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зовите  белорусское национальное блю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8"/>
          <p:cNvSpPr txBox="1"/>
          <p:nvPr/>
        </p:nvSpPr>
        <p:spPr>
          <a:xfrm>
            <a:off x="1187280" y="4005360"/>
            <a:ext cx="1384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лин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16" name="WordArt 9"/>
          <p:cNvSpPr txBox="1"/>
          <p:nvPr/>
        </p:nvSpPr>
        <p:spPr>
          <a:xfrm>
            <a:off x="3419640" y="2565360"/>
            <a:ext cx="21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амалыг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17" name="WordArt 10"/>
          <p:cNvSpPr txBox="1"/>
          <p:nvPr/>
        </p:nvSpPr>
        <p:spPr>
          <a:xfrm>
            <a:off x="6300720" y="3933720"/>
            <a:ext cx="1854360" cy="4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аник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18" name="WordArt 11"/>
          <p:cNvSpPr txBox="1"/>
          <p:nvPr/>
        </p:nvSpPr>
        <p:spPr>
          <a:xfrm>
            <a:off x="4027320" y="5265720"/>
            <a:ext cx="119232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19" name="Picture 13" descr="еда"/>
          <p:cNvPicPr/>
          <p:nvPr/>
        </p:nvPicPr>
        <p:blipFill>
          <a:blip r:embed="rId1"/>
          <a:stretch/>
        </p:blipFill>
        <p:spPr>
          <a:xfrm>
            <a:off x="3708360" y="3429000"/>
            <a:ext cx="1503360" cy="13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ДРАНИКИ</a:t>
            </a:r>
            <a:br>
              <a:rPr sz="54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картофельные оладь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драники украинские"/>
          <p:cNvPicPr/>
          <p:nvPr/>
        </p:nvPicPr>
        <p:blipFill>
          <a:blip r:embed="rId1"/>
          <a:stretch/>
        </p:blipFill>
        <p:spPr>
          <a:xfrm>
            <a:off x="1979640" y="1768320"/>
            <a:ext cx="5267160" cy="43452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зовите молдавское национальное блю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8"/>
          <p:cNvSpPr txBox="1"/>
          <p:nvPr/>
        </p:nvSpPr>
        <p:spPr>
          <a:xfrm>
            <a:off x="1187280" y="4076640"/>
            <a:ext cx="1382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лин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25" name="WordArt 9"/>
          <p:cNvSpPr txBox="1"/>
          <p:nvPr/>
        </p:nvSpPr>
        <p:spPr>
          <a:xfrm>
            <a:off x="3635280" y="2565360"/>
            <a:ext cx="21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амалыг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26" name="WordArt 10"/>
          <p:cNvSpPr txBox="1"/>
          <p:nvPr/>
        </p:nvSpPr>
        <p:spPr>
          <a:xfrm>
            <a:off x="6659640" y="3860640"/>
            <a:ext cx="1841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аник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27" name="WordArt 11"/>
          <p:cNvSpPr txBox="1"/>
          <p:nvPr/>
        </p:nvSpPr>
        <p:spPr>
          <a:xfrm>
            <a:off x="4067280" y="5516640"/>
            <a:ext cx="12859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28" name="Picture 12" descr="еда1"/>
          <p:cNvPicPr/>
          <p:nvPr/>
        </p:nvPicPr>
        <p:blipFill>
          <a:blip r:embed="rId1"/>
          <a:stretch/>
        </p:blipFill>
        <p:spPr>
          <a:xfrm>
            <a:off x="3780000" y="3429000"/>
            <a:ext cx="17398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МАМАЛЫГА</a:t>
            </a:r>
            <a:br>
              <a:rPr sz="54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КУКУРУЗНАЯ КАШ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48316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7">
            <a:hlinkClick r:id="" action="ppaction://hlinkshowjump?jump=nextslide"/>
          </p:cNvPr>
          <p:cNvSpPr/>
          <p:nvPr/>
        </p:nvSpPr>
        <p:spPr>
          <a:xfrm>
            <a:off x="853452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cprob2"/>
          <p:cNvPicPr/>
          <p:nvPr/>
        </p:nvPicPr>
        <p:blipFill>
          <a:blip r:embed="rId1"/>
          <a:stretch/>
        </p:blipFill>
        <p:spPr>
          <a:xfrm>
            <a:off x="2268360" y="1557360"/>
            <a:ext cx="4824720" cy="334944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1143000" y="5429160"/>
            <a:ext cx="72151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"Мы разные, но мы вместе!"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58" name="WordArt 7"/>
          <p:cNvSpPr txBox="1"/>
          <p:nvPr/>
        </p:nvSpPr>
        <p:spPr>
          <a:xfrm>
            <a:off x="2268360" y="476280"/>
            <a:ext cx="51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Викторина 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зовите бурятское национальное блю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1187280" y="4076640"/>
            <a:ext cx="1382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лин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34" name="WordArt 9"/>
          <p:cNvSpPr txBox="1"/>
          <p:nvPr/>
        </p:nvSpPr>
        <p:spPr>
          <a:xfrm>
            <a:off x="3635280" y="2565360"/>
            <a:ext cx="21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амалыг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6659640" y="3860640"/>
            <a:ext cx="1841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аник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36" name="WordArt 11"/>
          <p:cNvSpPr txBox="1"/>
          <p:nvPr/>
        </p:nvSpPr>
        <p:spPr>
          <a:xfrm>
            <a:off x="4067280" y="5516640"/>
            <a:ext cx="12859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37" name="Picture 12" descr="еда1"/>
          <p:cNvPicPr/>
          <p:nvPr/>
        </p:nvPicPr>
        <p:blipFill>
          <a:blip r:embed="rId1"/>
          <a:stretch/>
        </p:blipFill>
        <p:spPr>
          <a:xfrm>
            <a:off x="3780000" y="3429000"/>
            <a:ext cx="17398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ОЗЫ</a:t>
            </a:r>
            <a:br>
              <a:rPr sz="44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(на бурятском буу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:\Users\Студент\Desktop\2bc1203955355a9d57636fd2f9a2d895.jpg"/>
          <p:cNvPicPr/>
          <p:nvPr/>
        </p:nvPicPr>
        <p:blipFill>
          <a:blip r:embed="rId1"/>
          <a:stretch/>
        </p:blipFill>
        <p:spPr>
          <a:xfrm>
            <a:off x="2000160" y="1785960"/>
            <a:ext cx="5214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акое здание изображено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 сним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5003640" y="3213000"/>
            <a:ext cx="360072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Свято-Одигитриевский 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кафедральный собор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42" name="WordArt 6"/>
          <p:cNvSpPr txBox="1"/>
          <p:nvPr/>
        </p:nvSpPr>
        <p:spPr>
          <a:xfrm>
            <a:off x="5076720" y="2060640"/>
            <a:ext cx="334656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Иволги́нский даца́н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«Хамбы́н Сумэ́»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43" name="WordArt 7"/>
          <p:cNvSpPr txBox="1"/>
          <p:nvPr/>
        </p:nvSpPr>
        <p:spPr>
          <a:xfrm>
            <a:off x="5003640" y="4724280"/>
            <a:ext cx="335448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Улан-Удэнская 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Соборная Мечеть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44" name="WordArt 8"/>
          <p:cNvSpPr txBox="1"/>
          <p:nvPr/>
        </p:nvSpPr>
        <p:spPr>
          <a:xfrm>
            <a:off x="6372360" y="5950080"/>
            <a:ext cx="1218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45" name="Picture 11" descr="Odigitrievsky Cathedral, Ulan Ude 03.jpg"/>
          <p:cNvPicPr/>
          <p:nvPr/>
        </p:nvPicPr>
        <p:blipFill>
          <a:blip r:embed="rId1"/>
          <a:stretch/>
        </p:blipFill>
        <p:spPr>
          <a:xfrm>
            <a:off x="571680" y="1928880"/>
            <a:ext cx="405108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98100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вято-Одигитриевский кафедральный собор 1741-17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2714760"/>
            <a:ext cx="492912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ервое каменное здание в городе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лан-Удэ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памятник архитектуры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ибирского барокко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. Расположен в историческом центре города, на правобережье реки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Уды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 близ её впадения в Селен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8"/>
          <p:cNvSpPr txBox="1"/>
          <p:nvPr/>
        </p:nvSpPr>
        <p:spPr>
          <a:xfrm>
            <a:off x="250920" y="189000"/>
            <a:ext cx="3313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Ы ПРАВ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249" name="AutoShape 9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0" descr="Odigitrievsky Cathedral, Ulan Ude 03.jpg"/>
          <p:cNvPicPr/>
          <p:nvPr/>
        </p:nvPicPr>
        <p:blipFill>
          <a:blip r:embed="rId4"/>
          <a:stretch/>
        </p:blipFill>
        <p:spPr>
          <a:xfrm>
            <a:off x="4929120" y="2500200"/>
            <a:ext cx="381024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акое здание изображено на сним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9"/>
          <p:cNvSpPr txBox="1"/>
          <p:nvPr/>
        </p:nvSpPr>
        <p:spPr>
          <a:xfrm>
            <a:off x="5219640" y="1916280"/>
            <a:ext cx="3600360" cy="10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Иволги́нский даца́н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«Хамбы́н Сумэ́»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53" name="WordArt 10"/>
          <p:cNvSpPr txBox="1"/>
          <p:nvPr/>
        </p:nvSpPr>
        <p:spPr>
          <a:xfrm>
            <a:off x="5437080" y="3357720"/>
            <a:ext cx="334656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Свято-Одигитриевский 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кафедральный собор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54" name="WordArt 11"/>
          <p:cNvSpPr txBox="1"/>
          <p:nvPr/>
        </p:nvSpPr>
        <p:spPr>
          <a:xfrm>
            <a:off x="5219640" y="4508640"/>
            <a:ext cx="375300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Улан-Удэнская </a:t>
            </a:r>
            <a:endParaRPr b="0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Соборная Мечеть</a:t>
            </a:r>
            <a:endParaRPr b="0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55" name="WordArt 12"/>
          <p:cNvSpPr txBox="1"/>
          <p:nvPr/>
        </p:nvSpPr>
        <p:spPr>
          <a:xfrm>
            <a:off x="6516720" y="5950080"/>
            <a:ext cx="1219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Другое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pic>
        <p:nvPicPr>
          <p:cNvPr id="256" name="Picture 9" descr="Ivolga.jpg"/>
          <p:cNvPicPr/>
          <p:nvPr/>
        </p:nvPicPr>
        <p:blipFill>
          <a:blip r:embed="rId1"/>
          <a:stretch/>
        </p:blipFill>
        <p:spPr>
          <a:xfrm>
            <a:off x="428760" y="1857240"/>
            <a:ext cx="4340160" cy="41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536400" y="865080"/>
            <a:ext cx="7979040" cy="13845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-214200" y="2428560"/>
            <a:ext cx="492912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Дворец Хамбо-ламы Итигэ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амятник истории и архитектуры. Расположен в Республике Бурятия в селе Верхняя Иволга в 36 км западнее центра </a:t>
            </a:r>
            <a:r>
              <a:rPr b="0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Улан-Удэ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7"/>
          <p:cNvSpPr txBox="1"/>
          <p:nvPr/>
        </p:nvSpPr>
        <p:spPr>
          <a:xfrm>
            <a:off x="395280" y="189000"/>
            <a:ext cx="273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Ы ПРАВЫ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260" name="AutoShape 8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Ivolga.jpg"/>
          <p:cNvPicPr/>
          <p:nvPr/>
        </p:nvPicPr>
        <p:blipFill>
          <a:blip r:embed="rId2"/>
          <a:stretch/>
        </p:blipFill>
        <p:spPr>
          <a:xfrm>
            <a:off x="4714920" y="2416320"/>
            <a:ext cx="4054320" cy="38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акое здание изображено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 сним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9"/>
          <p:cNvSpPr txBox="1"/>
          <p:nvPr/>
        </p:nvSpPr>
        <p:spPr>
          <a:xfrm>
            <a:off x="5292720" y="1916280"/>
            <a:ext cx="3525840" cy="10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Иволги́нский даца́н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«Хамбы́н Сумэ́»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pic>
        <p:nvPicPr>
          <p:cNvPr id="264" name="WordArt 10" descr=""/>
          <p:cNvPicPr/>
          <p:nvPr/>
        </p:nvPicPr>
        <p:blipFill>
          <a:blip r:embed="rId1"/>
          <a:stretch/>
        </p:blipFill>
        <p:spPr>
          <a:xfrm>
            <a:off x="5278320" y="3067200"/>
            <a:ext cx="3573720" cy="12189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11"/>
          <p:cNvSpPr txBox="1"/>
          <p:nvPr/>
        </p:nvSpPr>
        <p:spPr>
          <a:xfrm>
            <a:off x="5219640" y="4581360"/>
            <a:ext cx="375300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Улан-Удэнская </a:t>
            </a:r>
            <a:endParaRPr b="0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Соборная Мечеть</a:t>
            </a:r>
            <a:endParaRPr b="0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66" name="WordArt 12"/>
          <p:cNvSpPr txBox="1"/>
          <p:nvPr/>
        </p:nvSpPr>
        <p:spPr>
          <a:xfrm>
            <a:off x="6515280" y="5950080"/>
            <a:ext cx="1218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67" name="Picture 9" descr="Улан-удэнская Соборная Мечеть"/>
          <p:cNvPicPr/>
          <p:nvPr/>
        </p:nvPicPr>
        <p:blipFill>
          <a:blip r:embed="rId2"/>
          <a:stretch/>
        </p:blipFill>
        <p:spPr>
          <a:xfrm>
            <a:off x="428760" y="1857240"/>
            <a:ext cx="453528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1428480"/>
            <a:ext cx="8172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Улан-Удэнская </a:t>
            </a: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Соборная Мечеть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2920" y="2707920"/>
            <a:ext cx="4286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Это 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ечеть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находится на ул. Бабушкина в городе 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лан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д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395280" y="18900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3399"/>
                </a:solidFill>
                <a:latin typeface="Times New Roman"/>
              </a:rPr>
              <a:t>ВЫ ПРАВЫ !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271" name="AutoShape 8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9" descr="Улан-удэнская Соборная Мечеть"/>
          <p:cNvPicPr/>
          <p:nvPr/>
        </p:nvPicPr>
        <p:blipFill>
          <a:blip r:embed="rId1"/>
          <a:stretch/>
        </p:blipFill>
        <p:spPr>
          <a:xfrm>
            <a:off x="4429080" y="2286000"/>
            <a:ext cx="44910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473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468360" y="371520"/>
            <a:ext cx="867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У нас у всех обща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Национальность:</a:t>
            </a:r>
            <a:br>
              <a:rPr sz="5400"/>
            </a:b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мы – Улан-Удэнцы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и это нас объединя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C:\Users\Студент\Desktop\slide_42.jpg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539640" y="1188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Помимо бурят и русских в Улан-Удэ     проживают    представители     бол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60   национальнос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s://1.avatars.mds.yandex.net/get-entity_search/30003/40555046/S122x122"/>
          <p:cNvPicPr/>
          <p:nvPr/>
        </p:nvPicPr>
        <p:blipFill>
          <a:blip r:embed="rId1"/>
          <a:stretch/>
        </p:blipFill>
        <p:spPr>
          <a:xfrm>
            <a:off x="2500200" y="2571840"/>
            <a:ext cx="3857760" cy="378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Студент\Desktop\img19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1332000" y="1197000"/>
            <a:ext cx="626436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280" name="Picture 4" descr="Т2"/>
          <p:cNvPicPr/>
          <p:nvPr/>
        </p:nvPicPr>
        <p:blipFill>
          <a:blip r:embed="rId1"/>
          <a:stretch/>
        </p:blipFill>
        <p:spPr>
          <a:xfrm>
            <a:off x="2627280" y="3500280"/>
            <a:ext cx="3529080" cy="264816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5"/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42920" y="476280"/>
          <a:ext cx="7597800" cy="5586480"/>
        </p:xfrm>
        <a:graphic>
          <a:graphicData uri="http://schemas.openxmlformats.org/drawingml/2006/table">
            <a:tbl>
              <a:tblPr/>
              <a:tblGrid>
                <a:gridCol w="3265560"/>
                <a:gridCol w="866880"/>
                <a:gridCol w="866520"/>
                <a:gridCol w="865440"/>
                <a:gridCol w="933480"/>
                <a:gridCol w="799920"/>
              </a:tblGrid>
              <a:tr h="799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емы                  Балл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Line 116"/>
          <p:cNvSpPr/>
          <p:nvPr/>
        </p:nvSpPr>
        <p:spPr>
          <a:xfrm>
            <a:off x="4859280" y="476280"/>
            <a:ext cx="0" cy="590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19"/>
          <p:cNvGrpSpPr/>
          <p:nvPr/>
        </p:nvGrpSpPr>
        <p:grpSpPr>
          <a:xfrm>
            <a:off x="395280" y="549360"/>
            <a:ext cx="8353440" cy="4824360"/>
            <a:chOff x="395280" y="549360"/>
            <a:chExt cx="8353440" cy="4824360"/>
          </a:xfrm>
        </p:grpSpPr>
        <p:sp>
          <p:nvSpPr>
            <p:cNvPr id="64" name="Rectangle 115"/>
            <p:cNvSpPr/>
            <p:nvPr/>
          </p:nvSpPr>
          <p:spPr>
            <a:xfrm>
              <a:off x="395280" y="549360"/>
              <a:ext cx="8353440" cy="4824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WordArt 68"/>
            <p:cNvSpPr txBox="1"/>
            <p:nvPr/>
          </p:nvSpPr>
          <p:spPr>
            <a:xfrm>
              <a:off x="5429520" y="1557360"/>
              <a:ext cx="30636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66" name="WordArt 69"/>
            <p:cNvSpPr txBox="1"/>
            <p:nvPr/>
          </p:nvSpPr>
          <p:spPr>
            <a:xfrm>
              <a:off x="5429520" y="4417920"/>
              <a:ext cx="306360" cy="58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67" name="WordArt 70"/>
            <p:cNvSpPr txBox="1"/>
            <p:nvPr/>
          </p:nvSpPr>
          <p:spPr>
            <a:xfrm>
              <a:off x="5429520" y="3646440"/>
              <a:ext cx="306360" cy="56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68" name="WordArt 71"/>
            <p:cNvSpPr txBox="1"/>
            <p:nvPr/>
          </p:nvSpPr>
          <p:spPr>
            <a:xfrm>
              <a:off x="5429520" y="2925720"/>
              <a:ext cx="306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69" name="WordArt 72"/>
            <p:cNvSpPr txBox="1"/>
            <p:nvPr/>
          </p:nvSpPr>
          <p:spPr>
            <a:xfrm>
              <a:off x="5429520" y="2278080"/>
              <a:ext cx="306360" cy="50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0" name="WordArt 74"/>
            <p:cNvSpPr txBox="1"/>
            <p:nvPr/>
          </p:nvSpPr>
          <p:spPr>
            <a:xfrm>
              <a:off x="7596360" y="2278080"/>
              <a:ext cx="404640" cy="50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1" name="WordArt 75"/>
            <p:cNvSpPr txBox="1"/>
            <p:nvPr/>
          </p:nvSpPr>
          <p:spPr>
            <a:xfrm>
              <a:off x="7596360" y="1557360"/>
              <a:ext cx="404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2" name="WordArt 76"/>
            <p:cNvSpPr txBox="1"/>
            <p:nvPr/>
          </p:nvSpPr>
          <p:spPr>
            <a:xfrm>
              <a:off x="7572600" y="2997360"/>
              <a:ext cx="42840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3" name="WordArt 77"/>
            <p:cNvSpPr txBox="1"/>
            <p:nvPr/>
          </p:nvSpPr>
          <p:spPr>
            <a:xfrm>
              <a:off x="7596360" y="3718080"/>
              <a:ext cx="404640" cy="49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4" name="WordArt 78"/>
            <p:cNvSpPr txBox="1"/>
            <p:nvPr/>
          </p:nvSpPr>
          <p:spPr>
            <a:xfrm>
              <a:off x="7596360" y="4417920"/>
              <a:ext cx="404640" cy="51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5" name="WordArt 101"/>
            <p:cNvSpPr txBox="1"/>
            <p:nvPr/>
          </p:nvSpPr>
          <p:spPr>
            <a:xfrm>
              <a:off x="613080" y="2351160"/>
              <a:ext cx="388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Новый Год по-разному</a:t>
              </a:r>
              <a:endParaRPr b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6" name="WordArt 103"/>
            <p:cNvSpPr txBox="1"/>
            <p:nvPr/>
          </p:nvSpPr>
          <p:spPr>
            <a:xfrm>
              <a:off x="613080" y="1701720"/>
              <a:ext cx="230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Календарь</a:t>
              </a:r>
              <a:endParaRPr b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7" name="WordArt 105"/>
            <p:cNvSpPr txBox="1"/>
            <p:nvPr/>
          </p:nvSpPr>
          <p:spPr>
            <a:xfrm>
              <a:off x="613080" y="2997360"/>
              <a:ext cx="374328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Национальные костюмы</a:t>
              </a:r>
              <a:endParaRPr b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8" name="WordArt 107"/>
            <p:cNvSpPr txBox="1"/>
            <p:nvPr/>
          </p:nvSpPr>
          <p:spPr>
            <a:xfrm>
              <a:off x="613080" y="3789360"/>
              <a:ext cx="3816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Национальные блюда</a:t>
              </a:r>
              <a:endParaRPr b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9" name="WordArt 109"/>
            <p:cNvSpPr txBox="1"/>
            <p:nvPr/>
          </p:nvSpPr>
          <p:spPr>
            <a:xfrm>
              <a:off x="613080" y="4583160"/>
              <a:ext cx="38890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Религиозные здания</a:t>
              </a:r>
              <a:endParaRPr b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80" name="Line 118"/>
            <p:cNvSpPr/>
            <p:nvPr/>
          </p:nvSpPr>
          <p:spPr>
            <a:xfrm>
              <a:off x="395280" y="1414440"/>
              <a:ext cx="83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Когда отмеча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26560" y="1052280"/>
            <a:ext cx="79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День Толерантност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116000" y="3645000"/>
            <a:ext cx="144000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2 июн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3851280" y="2276640"/>
            <a:ext cx="1692360" cy="48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21 марта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6588000" y="3645000"/>
            <a:ext cx="192564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6 ноябр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86" name="WordArt 9"/>
          <p:cNvSpPr txBox="1"/>
          <p:nvPr/>
        </p:nvSpPr>
        <p:spPr>
          <a:xfrm>
            <a:off x="2340000" y="537372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Такого праздника нет в календаре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87" name="Picture 14" descr="sots_rec5_sml"/>
          <p:cNvPicPr/>
          <p:nvPr/>
        </p:nvPicPr>
        <p:blipFill>
          <a:blip r:embed="rId1"/>
          <a:stretch/>
        </p:blipFill>
        <p:spPr>
          <a:xfrm>
            <a:off x="2916360" y="3284640"/>
            <a:ext cx="3240000" cy="16668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0920" y="1341360"/>
            <a:ext cx="583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шением ЮНЕСКО в 1995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87280" y="3573360"/>
            <a:ext cx="237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в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день толерантности"/>
          <p:cNvPicPr/>
          <p:nvPr/>
        </p:nvPicPr>
        <p:blipFill>
          <a:blip r:embed="rId1"/>
          <a:stretch/>
        </p:blipFill>
        <p:spPr>
          <a:xfrm>
            <a:off x="4643280" y="2133720"/>
            <a:ext cx="4287960" cy="3247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50560" y="4076640"/>
            <a:ext cx="4537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еждународным Днём Толера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9"/>
          <p:cNvSpPr txBox="1"/>
          <p:nvPr/>
        </p:nvSpPr>
        <p:spPr>
          <a:xfrm>
            <a:off x="539640" y="404640"/>
            <a:ext cx="41767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971640" y="242100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6  НОЯБРЯ</a:t>
            </a:r>
            <a:endParaRPr b="1" lang="en-US" sz="1800" spc="1" strike="noStrike">
              <a:ln w="2844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94" name="AutoShape 12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00"/>
                            </p:stCondLst>
                            <p:childTnLst>
                              <p:par>
                                <p:cTn id="9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6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60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53989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Когда отмеча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92360" y="1196640"/>
            <a:ext cx="5975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День Росс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1258920" y="3645000"/>
            <a:ext cx="144000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2 июн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3780000" y="2565360"/>
            <a:ext cx="169200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21 марта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6300720" y="3860640"/>
            <a:ext cx="192564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6 ноябр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1763640" y="530064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Такого праздника  нет  в  календаре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01" name="Picture 13" descr="54"/>
          <p:cNvPicPr/>
          <p:nvPr/>
        </p:nvPicPr>
        <p:blipFill>
          <a:blip r:embed="rId1"/>
          <a:stretch/>
        </p:blipFill>
        <p:spPr>
          <a:xfrm>
            <a:off x="3059280" y="3284640"/>
            <a:ext cx="304776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День россии3"/>
          <p:cNvPicPr/>
          <p:nvPr/>
        </p:nvPicPr>
        <p:blipFill>
          <a:blip r:embed="rId1"/>
          <a:stretch/>
        </p:blipFill>
        <p:spPr>
          <a:xfrm>
            <a:off x="826920" y="3564000"/>
            <a:ext cx="3457800" cy="267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День россии2"/>
          <p:cNvPicPr/>
          <p:nvPr/>
        </p:nvPicPr>
        <p:blipFill>
          <a:blip r:embed="rId2"/>
          <a:stretch/>
        </p:blipFill>
        <p:spPr>
          <a:xfrm>
            <a:off x="5148360" y="3505320"/>
            <a:ext cx="3311280" cy="2732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День России"/>
          <p:cNvPicPr/>
          <p:nvPr/>
        </p:nvPicPr>
        <p:blipFill>
          <a:blip r:embed="rId3"/>
          <a:stretch/>
        </p:blipFill>
        <p:spPr>
          <a:xfrm rot="21050400">
            <a:off x="826920" y="1196640"/>
            <a:ext cx="2381400" cy="2232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9"/>
          <p:cNvSpPr txBox="1"/>
          <p:nvPr/>
        </p:nvSpPr>
        <p:spPr>
          <a:xfrm>
            <a:off x="611280" y="189000"/>
            <a:ext cx="41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3708360" y="1989000"/>
            <a:ext cx="48960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ень  России!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4932360" y="907920"/>
            <a:ext cx="27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2 ИЮНЯ -</a:t>
            </a:r>
            <a:endParaRPr b="1" lang="en-US" sz="1800" spc="1" strike="noStrike">
              <a:ln w="1908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08" name="AutoShape 14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7:16:01Z</dcterms:created>
  <dc:creator>КСТТ</dc:creator>
  <dc:description/>
  <dc:language>en-US</dc:language>
  <cp:lastModifiedBy>Пользователь</cp:lastModifiedBy>
  <dcterms:modified xsi:type="dcterms:W3CDTF">2019-10-15T05:29:41Z</dcterms:modified>
  <cp:revision>84</cp:revision>
  <dc:subject/>
  <dc:title>Слайд 1</dc:title>
</cp:coreProperties>
</file>