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74-1485-4CA0-A851-A48676A2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8AE-47AA-4677-A289-1E44A38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16C-9BF2-4866-B0A0-504609A9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AA4-26EC-4D9B-B3E1-DE2D45EB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638-1781-469F-B3D6-545F7C6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F4E-FBA1-4E32-8457-E71F4B7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F82-2D48-4A1E-BB28-D75A0B67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ED0-05FA-45B5-ADD4-2B2EFEC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4E1-2835-4680-8985-0B4269D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3DF-0C74-4684-BE3F-C90FA1F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03B-72B2-4976-89D2-C61DF50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21C-2BD3-4957-BE79-DE8D9C5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4FA-42E3-489C-B94F-256E8AF76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ление комплексной сравнительной характеристики двух океано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600000"/>
            <a:ext cx="82072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закрепить полученные на предыдущих уроках умения давать  комплексную сравнительную характеристику двух оке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Гурова Алена Анато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географии ГБОУ гимназия №6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357120"/>
            <a:ext cx="30081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Оке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6800" y="1142640"/>
            <a:ext cx="7472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кеан —был древнейшим богом водной стихии, праотцем богов моря, рек, источников и тому подобное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ставаясь в сказаниях родоначальником водных божеств, Океан живет на дальнем Западе, где находятся начала всех вещей, но род его распространен по всей земле в тысячах рек, ручьев и источников. С именем Океана древние связывали представление громадной реки, окружающей кольцом всю Землю. На востоке из его лона выходят звезды и Солнце, чтобы в час заката погрузиться в западные его волн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Сергей\Desktop\океан.gif"/>
          <p:cNvPicPr/>
          <p:nvPr/>
        </p:nvPicPr>
        <p:blipFill>
          <a:blip r:embed="rId1"/>
          <a:stretch/>
        </p:blipFill>
        <p:spPr>
          <a:xfrm>
            <a:off x="2071800" y="3143160"/>
            <a:ext cx="5111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бщая площадь Земл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суша 149млн.км²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мировой океан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61 млн.км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Диаграмма 5" descr=""/>
          <p:cNvPicPr/>
          <p:nvPr/>
        </p:nvPicPr>
        <p:blipFill>
          <a:blip r:embed="rId2"/>
          <a:stretch/>
        </p:blipFill>
        <p:spPr>
          <a:xfrm>
            <a:off x="4286160" y="35719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Диаграмма 7" descr=""/>
          <p:cNvPicPr/>
          <p:nvPr/>
        </p:nvPicPr>
        <p:blipFill>
          <a:blip r:embed="rId3"/>
          <a:stretch/>
        </p:blipFill>
        <p:spPr>
          <a:xfrm>
            <a:off x="0" y="41148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низ 6"/>
          <p:cNvSpPr/>
          <p:nvPr/>
        </p:nvSpPr>
        <p:spPr>
          <a:xfrm rot="2493000">
            <a:off x="2536560" y="840960"/>
            <a:ext cx="500040" cy="17794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10"/>
          <p:cNvSpPr/>
          <p:nvPr/>
        </p:nvSpPr>
        <p:spPr>
          <a:xfrm rot="17884800">
            <a:off x="5337720" y="690840"/>
            <a:ext cx="500040" cy="1444680"/>
          </a:xfrm>
          <a:prstGeom prst="downArrow">
            <a:avLst>
              <a:gd name="adj1" fmla="val 50000"/>
              <a:gd name="adj2" fmla="val 47416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с вырезом 14"/>
          <p:cNvSpPr/>
          <p:nvPr/>
        </p:nvSpPr>
        <p:spPr>
          <a:xfrm rot="5727600">
            <a:off x="2005200" y="369324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Стрелка вправо с вырезом 15"/>
          <p:cNvGrpSpPr/>
          <p:nvPr/>
        </p:nvGrpSpPr>
        <p:grpSpPr>
          <a:xfrm>
            <a:off x="6540480" y="2255760"/>
            <a:ext cx="1023840" cy="1798560"/>
            <a:chOff x="6540480" y="2255760"/>
            <a:chExt cx="1023840" cy="1798560"/>
          </a:xfrm>
        </p:grpSpPr>
        <p:pic>
          <p:nvPicPr>
            <p:cNvPr id="54" name="Стрелка вправо с вырезом 15" descr=""/>
            <p:cNvPicPr/>
            <p:nvPr/>
          </p:nvPicPr>
          <p:blipFill>
            <a:blip r:embed="rId5"/>
            <a:stretch/>
          </p:blipFill>
          <p:spPr>
            <a:xfrm>
              <a:off x="6540480" y="2255760"/>
              <a:ext cx="1023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5400000">
              <a:off x="6420600" y="2918520"/>
              <a:ext cx="1268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негодовая температура поверхностных 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Сергей\Desktop\темп.jpg"/>
          <p:cNvPicPr/>
          <p:nvPr/>
        </p:nvPicPr>
        <p:blipFill>
          <a:blip r:embed="rId1"/>
          <a:stretch/>
        </p:blipFill>
        <p:spPr>
          <a:xfrm>
            <a:off x="1413000" y="1600200"/>
            <a:ext cx="631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ЧЕСКАЯ ЗАГ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 оке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71680" y="149976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океана-178,6 млн км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альная глубина -11022 м (Марианская впад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морей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большие моря-Филиппинское, Коралловое, Тасманово, Южно-Китайское, Беринг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большой залив- Аляск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большие острова и архипелаги- Зондские, Новая Гвинея, Новая Зеландия, Япо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мощные течения- Северное и Южное Пассатные, Куросио, Восточно-Австралийское(теплые); Западных Ветров, Перуанское (холод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ГРАФИЧЕСКАЯ ЗАГАД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_______________ оке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щадь океана-76,17 млн км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ая глубина -7729 м (Зондский жёло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ичество морей-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большие моря-Аравийское, Красно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й большой залив- Бенгаль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большие острова - Мадагаскар, Шри-Ла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мощные течения- Южное Пассатные, Муссонные (теплые); Западных Ветров, Сомалийское (холодны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ощадь океанов, млн км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ощадь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яя глубина оке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 глубина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лан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Ледови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симальная глу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имальная глубина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22 (Марианская впад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лан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42 ( желоб Пуэрто-Ри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29 (Зондский желоб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Ледови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7 (Гренландское мо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03:51Z</dcterms:created>
  <dc:creator>Сергей</dc:creator>
  <dc:description/>
  <dc:language>en-US</dc:language>
  <cp:lastModifiedBy>Алёна Гурова</cp:lastModifiedBy>
  <dcterms:modified xsi:type="dcterms:W3CDTF">2019-11-27T16:45:59Z</dcterms:modified>
  <cp:revision>22</cp:revision>
  <dc:subject/>
  <dc:title>Практическая работа Составление комплексной сравнительной характеристики двух океанов.</dc:title>
</cp:coreProperties>
</file>