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219A-82DB-4B92-A908-0898FDC66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DE55-3020-4128-9317-5F687674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D43D-7F69-4208-9368-0295B15C0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631B-B44A-490D-AD3C-55A83D917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9801-2DDB-4D01-92B6-DA7E4610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1677-00AB-40EB-BC75-CD11E162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6EB1-BF6C-4DB5-9AE5-0D9F1F99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02F8-5C35-434B-BB84-6CEC7FEF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5520-3C20-4BAD-97D0-72044B5E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1A55-CDA2-476C-89D6-D1657920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3728-78C9-4FEC-A7E9-83FBE383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6192-20CC-4298-9655-CD7F17E1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8927-8AE6-482C-ABD3-87AA36D3B4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актическая работ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оставление комплексной сравнительной характеристики двух океанов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3600000"/>
            <a:ext cx="8207280" cy="28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Цель: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закрепить полученные на предыдущих уроках умения давать  комплексную сравнительную характеристику двух океан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втор: Гурова Алена Анатолье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ель географии ГБОУ гимназия №64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71840" y="357120"/>
            <a:ext cx="300816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Calibri"/>
              </a:rPr>
              <a:t>Океа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56800" y="1142640"/>
            <a:ext cx="74725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Океан —был древнейшим богом водной стихии, праотцем богов моря, рек, источников и тому подобное.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Оставаясь в сказаниях родоначальником водных божеств, Океан живет на дальнем Западе, где находятся начала всех вещей, но род его распространен по всей земле в тысячах рек, ручьев и источников. С именем Океана древние связывали представление громадной реки, окружающей кольцом всю Землю. На востоке из его лона выходят звезды и Солнце, чтобы в час заката погрузиться в западные его волны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Сергей\Desktop\океан.gif"/>
          <p:cNvPicPr/>
          <p:nvPr/>
        </p:nvPicPr>
        <p:blipFill>
          <a:blip r:embed="rId1"/>
          <a:stretch/>
        </p:blipFill>
        <p:spPr>
          <a:xfrm>
            <a:off x="2071800" y="3143160"/>
            <a:ext cx="51116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264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          </a:t>
            </a: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Общая площадь Земл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3600" spc="-1" strike="noStrike">
                <a:solidFill>
                  <a:srgbClr val="984807"/>
                </a:solidFill>
                <a:latin typeface="Calibri"/>
              </a:rPr>
              <a:t>суша 149млн.км²</a:t>
            </a:r>
            <a:br>
              <a:rPr sz="3600"/>
            </a:b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мировой океан</a:t>
            </a:r>
            <a:br>
              <a:rPr sz="3600"/>
            </a:b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361 млн.км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3" descr=""/>
          <p:cNvPicPr/>
          <p:nvPr/>
        </p:nvPicPr>
        <p:blipFill>
          <a:blip r:embed="rId1"/>
          <a:stretch/>
        </p:blipFill>
        <p:spPr>
          <a:xfrm>
            <a:off x="357120" y="37148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Диаграмма 5" descr=""/>
          <p:cNvPicPr/>
          <p:nvPr/>
        </p:nvPicPr>
        <p:blipFill>
          <a:blip r:embed="rId2"/>
          <a:stretch/>
        </p:blipFill>
        <p:spPr>
          <a:xfrm>
            <a:off x="4286160" y="3571920"/>
            <a:ext cx="4572000" cy="2743200"/>
          </a:xfrm>
          <a:prstGeom prst="rect">
            <a:avLst/>
          </a:prstGeom>
          <a:ln w="0">
            <a:noFill/>
          </a:ln>
        </p:spPr>
      </p:pic>
      <p:pic>
        <p:nvPicPr>
          <p:cNvPr id="49" name="Диаграмма 7" descr=""/>
          <p:cNvPicPr/>
          <p:nvPr/>
        </p:nvPicPr>
        <p:blipFill>
          <a:blip r:embed="rId3"/>
          <a:stretch/>
        </p:blipFill>
        <p:spPr>
          <a:xfrm>
            <a:off x="0" y="41148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50" name="Стрелка вниз 6"/>
          <p:cNvSpPr/>
          <p:nvPr/>
        </p:nvSpPr>
        <p:spPr>
          <a:xfrm rot="2493000">
            <a:off x="2536560" y="840960"/>
            <a:ext cx="500040" cy="177948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трелка вниз 10"/>
          <p:cNvSpPr/>
          <p:nvPr/>
        </p:nvSpPr>
        <p:spPr>
          <a:xfrm rot="17884800">
            <a:off x="5337720" y="690840"/>
            <a:ext cx="500040" cy="1444680"/>
          </a:xfrm>
          <a:prstGeom prst="downArrow">
            <a:avLst>
              <a:gd name="adj1" fmla="val 50000"/>
              <a:gd name="adj2" fmla="val 47416"/>
            </a:avLst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трелка вправо с вырезом 14"/>
          <p:cNvSpPr/>
          <p:nvPr/>
        </p:nvSpPr>
        <p:spPr>
          <a:xfrm rot="5727600">
            <a:off x="2005200" y="3693240"/>
            <a:ext cx="977760" cy="484200"/>
          </a:xfrm>
          <a:custGeom>
            <a:avLst/>
            <a:gdLst>
              <a:gd name="textAreaLeft" fmla="*/ 120960 w 977760"/>
              <a:gd name="textAreaRight" fmla="*/ 856800 w 97776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53" y="5400"/>
                </a:lnTo>
                <a:lnTo>
                  <a:pt x="16253" y="0"/>
                </a:lnTo>
                <a:lnTo>
                  <a:pt x="21600" y="10800"/>
                </a:lnTo>
                <a:lnTo>
                  <a:pt x="16253" y="21600"/>
                </a:lnTo>
                <a:lnTo>
                  <a:pt x="16253" y="16200"/>
                </a:lnTo>
                <a:lnTo>
                  <a:pt x="0" y="16200"/>
                </a:lnTo>
                <a:lnTo>
                  <a:pt x="2674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Стрелка вправо с вырезом 15"/>
          <p:cNvGrpSpPr/>
          <p:nvPr/>
        </p:nvGrpSpPr>
        <p:grpSpPr>
          <a:xfrm>
            <a:off x="6540480" y="2255760"/>
            <a:ext cx="1023840" cy="1798560"/>
            <a:chOff x="6540480" y="2255760"/>
            <a:chExt cx="1023840" cy="1798560"/>
          </a:xfrm>
        </p:grpSpPr>
        <p:pic>
          <p:nvPicPr>
            <p:cNvPr id="54" name="Стрелка вправо с вырезом 15" descr=""/>
            <p:cNvPicPr/>
            <p:nvPr/>
          </p:nvPicPr>
          <p:blipFill>
            <a:blip r:embed="rId5"/>
            <a:stretch/>
          </p:blipFill>
          <p:spPr>
            <a:xfrm>
              <a:off x="6540480" y="2255760"/>
              <a:ext cx="102384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rot="5400000">
              <a:off x="6420600" y="2918520"/>
              <a:ext cx="12682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реднегодовая температура поверхностных во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C:\Users\Сергей\Desktop\темп.jpg"/>
          <p:cNvPicPr/>
          <p:nvPr/>
        </p:nvPicPr>
        <p:blipFill>
          <a:blip r:embed="rId1"/>
          <a:stretch/>
        </p:blipFill>
        <p:spPr>
          <a:xfrm>
            <a:off x="1413000" y="1600200"/>
            <a:ext cx="6318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>
            <a:alpha val="9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ЕОГРАФИЧЕСКАЯ ЗАГАДК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_______________ оке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71680" y="1499760"/>
            <a:ext cx="82152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ощадь океана-178,6 млн км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ксимальная глубина -11022 м (Марианская впадин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личество морей-2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ые большие моря-Филиппинское, Коралловое, Тасманово, Южно-Китайское, Беринго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ый большой залив- Аляскинс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ые большие острова и архипелаги- Зондские, Новая Гвинея, Новая Зеландия, Япо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ые мощные течения- Северное и Южное Пассатные, Куросио, Восточно-Австралийское(теплые); Западных Ветров, Перуанское (холодны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ЕОГРАФИЧЕСКАЯ ЗАГАДК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_______________ океа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лощадь океана-76,17 млн км²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аксимальная глубина -7729 м (Зондский жёлоб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личество морей-1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амые большие моря-Аравийское, Красно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амый большой залив- Бенгальск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амые большие острова - Мадагаскар, Шри-Ланк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амые мощные течения- Южное Пассатные, Муссонные (теплые); Западных Ветров, Сомалийское (холодные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лощадь океанов, млн км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8229600" cy="1854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ние океа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лощадь океа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,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редняя глубина океан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00200"/>
          <a:ext cx="8229600" cy="2930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ние океа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едняя глубина,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х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тлантиче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дий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верный Ледови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ксимальная глуб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2930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ние океа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ксимальная глубина,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х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22 (Марианская впадин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тлантиче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42 ( желоб Пуэрто-Рик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дий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29 (Зондский желоб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верный Ледови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27 (Гренландское море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17:03:51Z</dcterms:created>
  <dc:creator>Сергей</dc:creator>
  <dc:description/>
  <dc:language>en-US</dc:language>
  <cp:lastModifiedBy>Алёна Гурова</cp:lastModifiedBy>
  <dcterms:modified xsi:type="dcterms:W3CDTF">2019-11-27T16:45:59Z</dcterms:modified>
  <cp:revision>22</cp:revision>
  <dc:subject/>
  <dc:title>Практическая работа Составление комплексной сравнительной характеристики двух океанов.</dc:title>
</cp:coreProperties>
</file>