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4548-AA3E-4A89-8BB4-2877B61FF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9BAD-7F1E-4B5F-A22F-56F73902D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AD3-1A26-4B9B-98C3-4242CA3C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94F-9625-4BAC-A010-1CE97FEC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983-6C80-4B5C-8CDF-3720EE15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24B-BD9B-4142-9899-4391C037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652-FB90-4E27-BF29-DEC0F014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DE5-A3F2-4D1A-80C3-9895418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719-15A8-412A-86AE-2119F2F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E46-0954-472E-9C29-ED19D8D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65D-952A-4EC4-A937-2CC3722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C3C-3BB1-41CE-8088-14A2E387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0C1-31A7-4F83-9166-B2790A0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384-2DFD-4F32-84E8-AB319B0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98D-CF5F-4742-A39A-9E93901A4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3500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БОУ Верхнеднепровская СОШ № 3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Дорогобужский район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Смоленская область.</a:t>
            </a:r>
            <a:br>
              <a:rPr sz="2000"/>
            </a:br>
            <a:br>
              <a:rPr sz="2000"/>
            </a:br>
            <a:r>
              <a:rPr b="1" i="1" lang="ru-RU" sz="6600" spc="-1" strike="noStrike">
                <a:solidFill>
                  <a:srgbClr val="ffffff"/>
                </a:solidFill>
                <a:latin typeface="Calibri"/>
              </a:rPr>
              <a:t>ХЛЕБНИЦ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723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оектн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ученика 7 класса: Смирнова Ро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Руководитель: Коржанов Г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07 Звездная капель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7252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6"/>
                </a:solidFill>
                <a:latin typeface="Calibri"/>
                <a:ea typeface="Calibri"/>
              </a:rPr>
              <a:t>Полученный результат: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А)  4 рейки: 1А, 2А, 3А, 4А  (10*10*220 мм). 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Б)  30 реек: 1Б-30Б  (10*10*160 мм).</a:t>
            </a:r>
            <a:br>
              <a:rPr sz="2400"/>
            </a:br>
            <a:r>
              <a:rPr b="1" lang="ru-RU" sz="2400" spc="-1" strike="noStrike">
                <a:solidFill>
                  <a:srgbClr val="984806"/>
                </a:solidFill>
                <a:latin typeface="Calibri"/>
                <a:ea typeface="Calibri"/>
              </a:rPr>
              <a:t>В)  18 соединительных деталей: 1В-18В (10*10*20 м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 rot="20547000">
            <a:off x="1096920" y="4179960"/>
            <a:ext cx="358308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 rot="20566800">
            <a:off x="1057320" y="3195360"/>
            <a:ext cx="521028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 rot="20500800">
            <a:off x="1160280" y="5230440"/>
            <a:ext cx="5871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45763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18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400500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30 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540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6"/>
                </a:solidFill>
                <a:latin typeface="Arial"/>
              </a:rPr>
              <a:t>1-4 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000080" y="450072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1071720" y="314316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4214880" y="21430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143000" y="378612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1428840" y="435780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4214880" y="285768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84807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000080" y="3286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421488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400068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100008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107172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571760" y="4714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борка готового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0.JPG"/>
          <p:cNvPicPr/>
          <p:nvPr/>
        </p:nvPicPr>
        <p:blipFill>
          <a:blip r:embed="rId1"/>
          <a:stretch/>
        </p:blipFill>
        <p:spPr>
          <a:xfrm>
            <a:off x="3935520" y="272880"/>
            <a:ext cx="4390920" cy="5853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Делим  все  рейки  поров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2,   Собираем первую половину, пропускаем леску в отверстия по сх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1В2 (завязываем леску)-1Б2-2В2-2Б2-3В2-3Б2-4В2-1А2-5В2-4Б2-6В2-5Б2-7В2-6Б2-8В2-7Б2-9В2-8Б2-10В2-9Б2-11В2-10Б2-12В2-11Б2-13В2-12Б2-14В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Цель нашей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1.  Инструктаж ОТ и ТБ.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2.  Организация рабочего места. 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3.  Подготовка необходимого материала,     инструмента и приспособ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.jpg"/>
          <p:cNvPicPr/>
          <p:nvPr/>
        </p:nvPicPr>
        <p:blipFill>
          <a:blip r:embed="rId1"/>
          <a:stretch/>
        </p:blipFill>
        <p:spPr>
          <a:xfrm>
            <a:off x="1554120" y="2095560"/>
            <a:ext cx="5375160" cy="40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Нанести разметку для реек.</a:t>
            </a:r>
            <a:br>
              <a:rPr sz="44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60 мм – 30 шт.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220 мм – 4 ш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3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Заготовка размечена и готова для обрабо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Ножовкой выпиливаем по разметке нашу заготов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от так работают наши дети.</a:t>
            </a:r>
            <a:br>
              <a:rPr sz="4400"/>
            </a:b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Пиление по разметке (видео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Хлебница 1.mp4" descr=""/>
          <p:cNvPicPr/>
          <p:nvPr/>
        </p:nvPicPr>
        <p:blipFill>
          <a:blip r:embed="rId1"/>
          <a:stretch/>
        </p:blipFill>
        <p:spPr>
          <a:xfrm>
            <a:off x="1257480" y="29480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Хлебница 2.mp4" descr=""/>
          <p:cNvPicPr/>
          <p:nvPr/>
        </p:nvPicPr>
        <p:blipFill>
          <a:blip r:embed="rId2"/>
          <a:stretch/>
        </p:blipFill>
        <p:spPr>
          <a:xfrm>
            <a:off x="5448240" y="294804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4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4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131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Полученные рейки, зачищаем наждачной бумаг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8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5" descr="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56760"/>
            <a:ext cx="8015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1.  Делаем отметки для отверстий.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2.  Готовим соединительные детали.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(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*10*25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мм – 18 шт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9.jpg"/>
          <p:cNvPicPr/>
          <p:nvPr/>
        </p:nvPicPr>
        <p:blipFill>
          <a:blip r:embed="rId1"/>
          <a:stretch/>
        </p:blipFill>
        <p:spPr>
          <a:xfrm>
            <a:off x="500040" y="30002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5" descr="11.jpg"/>
          <p:cNvPicPr/>
          <p:nvPr/>
        </p:nvPicPr>
        <p:blipFill>
          <a:blip r:embed="rId2"/>
          <a:stretch/>
        </p:blipFill>
        <p:spPr>
          <a:xfrm>
            <a:off x="4786200" y="300024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00040" y="30718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857840" y="3071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4:06:25Z</dcterms:created>
  <dc:creator>GAK</dc:creator>
  <dc:description/>
  <dc:language>en-US</dc:language>
  <cp:lastModifiedBy>Dom-PK</cp:lastModifiedBy>
  <dcterms:modified xsi:type="dcterms:W3CDTF">2019-11-27T11:38:44Z</dcterms:modified>
  <cp:revision>35</cp:revision>
  <dc:subject/>
  <dc:title>ХЛЕБНИЦА</dc:title>
</cp:coreProperties>
</file>