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1B1-FDEB-4560-9ECC-E73F8108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0AB-A0DF-4D51-9FF9-F74A8774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D8A-608E-4F97-BCC3-91A4D0DA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62F-12CD-490C-8FC0-8995E973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4E3-47D1-4FC4-A507-1BEEA2C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AC78-01E2-4E93-A152-DCB8D6C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B30-EB26-4288-9A1B-B64A2928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ECFD-BC64-4FA2-AD5F-F0EE820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140-3EE5-43F3-A5DF-7827EBA3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1F48-8FF5-48A6-8CEA-1DB14B77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CBE0-5DC7-441C-88A9-93E78A2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36F-AD75-45A3-BB36-433A0C1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011B-67C3-4100-BBDF-2A34292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693-0F5C-403D-AF48-C42A226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BAF5-FB32-4709-A1EA-A78F361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BB4-24A1-4284-9B76-9833C36D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AEA4-DD08-4154-9DCC-46E73F6A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B24-28D1-4D14-A5A3-CB09ED83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01F-4F7E-4DB0-B32C-D7812F0B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299-E147-4A00-887B-1BC2D53E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69F-37D4-4A48-A062-A9161385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FFA-146F-47EE-8BA1-A52BA0D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084-9B4B-45D1-A013-A478C29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66D-B2F5-436D-B370-2E190E8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A2DD-2980-4E07-9E5D-C3F5ACB52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597-F5DE-494A-A101-F4DA612F736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Толерантность-путь к миру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«Совершите чудо, руку протяните, 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о, чтобы в дружбу верил каждый челове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e80a1145db2"/>
          <p:cNvPicPr/>
          <p:nvPr/>
        </p:nvPicPr>
        <p:blipFill>
          <a:blip r:embed="rId1"/>
          <a:stretch/>
        </p:blipFill>
        <p:spPr>
          <a:xfrm>
            <a:off x="1076400" y="123840"/>
            <a:ext cx="69912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2"/>
          <p:cNvSpPr/>
          <p:nvPr/>
        </p:nvSpPr>
        <p:spPr>
          <a:xfrm flipH="1" flipV="1">
            <a:off x="1979640" y="333000"/>
            <a:ext cx="1728720" cy="215892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5435640" y="691920"/>
            <a:ext cx="2160720" cy="216036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4"/>
          <p:cNvSpPr/>
          <p:nvPr/>
        </p:nvSpPr>
        <p:spPr>
          <a:xfrm flipV="1">
            <a:off x="4356000" y="4365720"/>
            <a:ext cx="216000" cy="23032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5508720" y="3860640"/>
            <a:ext cx="2592360" cy="10810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755640" y="3789360"/>
            <a:ext cx="2736720" cy="122400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 rot="19050000">
            <a:off x="4932720" y="11246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Уважать друг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 rot="1356600">
            <a:off x="5578920" y="378900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Любить ближнего свое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9"/>
          <p:cNvSpPr/>
          <p:nvPr/>
        </p:nvSpPr>
        <p:spPr>
          <a:xfrm rot="3163800">
            <a:off x="1963440" y="121140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Не злиться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10"/>
          <p:cNvSpPr/>
          <p:nvPr/>
        </p:nvSpPr>
        <p:spPr>
          <a:xfrm rot="20199000">
            <a:off x="611640" y="349992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Быть добрым, терпимым</a:t>
            </a:r>
            <a:r>
              <a:rPr b="0" lang="ru-RU" sz="1800" spc="-1" strike="noStrike">
                <a:solidFill>
                  <a:srgbClr val="0f0f1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11"/>
          <p:cNvSpPr/>
          <p:nvPr/>
        </p:nvSpPr>
        <p:spPr>
          <a:xfrm rot="5880600">
            <a:off x="3755520" y="53949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Состра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Oval 12"/>
          <p:cNvSpPr/>
          <p:nvPr/>
        </p:nvSpPr>
        <p:spPr>
          <a:xfrm>
            <a:off x="3276720" y="2133720"/>
            <a:ext cx="2447640" cy="2303280"/>
          </a:xfrm>
          <a:prstGeom prst="ellipse">
            <a:avLst/>
          </a:prstGeom>
          <a:solidFill>
            <a:srgbClr val="f79d39"/>
          </a:solidFill>
          <a:ln w="936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635280" y="3213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11280" y="69228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Толерантность –</a:t>
            </a:r>
            <a:r>
              <a:rPr b="1" lang="ru-RU" sz="4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476360" y="1844640"/>
            <a:ext cx="712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(лат. </a:t>
            </a: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tolerantia </a:t>
            </a: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– терпение) – это способность терпеть что-то или кого-т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11280" y="306864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Терпимость –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76360" y="450864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Tahoma"/>
              </a:rPr>
              <a:t>способность терпеть, быть терпеливым, мириться  с чужим мнение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556000" y="83664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635280" y="3573360"/>
            <a:ext cx="4789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готовность быть терпимым, снисходительным. (Англий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826920" y="11466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</a:t>
            </a:r>
            <a:r>
              <a:rPr b="0" lang="ru-RU" sz="2400" spc="-1" strike="noStrike">
                <a:solidFill>
                  <a:srgbClr val="ee2a46"/>
                </a:solidFill>
                <a:latin typeface="Verdana"/>
              </a:rPr>
              <a:t> -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пособность признавать отличные от своих собственных идей и мнени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(Испанский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556000" y="836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332000" y="3068640"/>
            <a:ext cx="619272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рощение, снисходительность, мягкость, милосердие, сострадание, терпение. (Араб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763640" y="765000"/>
            <a:ext cx="518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Толерантность –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озволять, принимать, быть по отношению к другим великодушным. (Китайски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556000" y="836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e2a46"/>
                </a:solidFill>
                <a:latin typeface="Tahoma"/>
              </a:rPr>
              <a:t>Любовь</a:t>
            </a: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340000" y="270828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79d39"/>
                </a:solidFill>
                <a:latin typeface="Tahoma"/>
              </a:rPr>
              <a:t>Терпение</a:t>
            </a:r>
            <a:r>
              <a:rPr b="1" lang="ru-RU" sz="60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40000" y="4365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66"/>
                </a:solidFill>
                <a:latin typeface="Tahoma"/>
              </a:rPr>
              <a:t>Прощение</a:t>
            </a:r>
            <a:r>
              <a:rPr b="1" lang="ru-RU" sz="60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79280" y="177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e2a46"/>
                </a:solidFill>
                <a:latin typeface="Tahoma"/>
              </a:rPr>
              <a:t>Толерантность –</a:t>
            </a:r>
            <a:r>
              <a:rPr b="1" lang="ru-RU" sz="7200" spc="-1" strike="noStrike">
                <a:solidFill>
                  <a:srgbClr val="ee2a46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258920" y="3645000"/>
            <a:ext cx="66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ee2a46"/>
                </a:solidFill>
                <a:latin typeface="Tahoma"/>
              </a:rPr>
              <a:t>путь к миру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95280" y="333360"/>
            <a:ext cx="8353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0067"/>
                </a:solidFill>
                <a:latin typeface="Tahoma"/>
              </a:rPr>
              <a:t>          </a:t>
            </a:r>
            <a:r>
              <a:rPr b="1" lang="ru-RU" sz="3600" spc="-1" strike="noStrike">
                <a:solidFill>
                  <a:srgbClr val="ee2a46"/>
                </a:solidFill>
                <a:latin typeface="Tahoma"/>
              </a:rPr>
              <a:t>Заповед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лг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крад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Не уб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Возлюби ближнего свое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Tahoma"/>
              </a:rPr>
              <a:t>Почитай отца своего и матерь свою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f0f17"/>
                </a:solidFill>
                <a:latin typeface="Tahoma"/>
              </a:rPr>
              <a:t>        </a:t>
            </a:r>
            <a:r>
              <a:rPr b="1" lang="ru-RU" sz="3600" spc="-1" strike="noStrike">
                <a:solidFill>
                  <a:srgbClr val="ee2a46"/>
                </a:solidFill>
                <a:latin typeface="Tahoma"/>
              </a:rPr>
              <a:t>Золотое правило: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Tahoma"/>
              </a:rPr>
              <a:t>Относись к людям так, как бы ты хотел, чтобы относились к теб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24000" y="1125360"/>
            <a:ext cx="21564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24000" y="177336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324000" y="227664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324000" y="2781360"/>
            <a:ext cx="21564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324000" y="3357720"/>
            <a:ext cx="21564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5"/>
          <p:cNvSpPr/>
          <p:nvPr/>
        </p:nvSpPr>
        <p:spPr>
          <a:xfrm flipH="1" flipV="1">
            <a:off x="1979640" y="333000"/>
            <a:ext cx="1728720" cy="215892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5435640" y="691920"/>
            <a:ext cx="2160720" cy="216036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7"/>
          <p:cNvSpPr/>
          <p:nvPr/>
        </p:nvSpPr>
        <p:spPr>
          <a:xfrm flipV="1">
            <a:off x="4356000" y="4365720"/>
            <a:ext cx="216000" cy="23032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5508720" y="3860640"/>
            <a:ext cx="2592360" cy="108108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755640" y="3789360"/>
            <a:ext cx="2736720" cy="1224000"/>
          </a:xfrm>
          <a:prstGeom prst="line">
            <a:avLst/>
          </a:prstGeom>
          <a:ln w="7632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1"/>
          <p:cNvSpPr/>
          <p:nvPr/>
        </p:nvSpPr>
        <p:spPr>
          <a:xfrm rot="19050000">
            <a:off x="4932720" y="112464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Уважать друг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2"/>
          <p:cNvSpPr/>
          <p:nvPr/>
        </p:nvSpPr>
        <p:spPr>
          <a:xfrm rot="1356600">
            <a:off x="5578920" y="3789000"/>
            <a:ext cx="33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Любить ближнего свое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 rot="3163800">
            <a:off x="1963440" y="121140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Не злиться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 rot="20199000">
            <a:off x="611640" y="349992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Быть добрым, терпимым</a:t>
            </a:r>
            <a:r>
              <a:rPr b="0" lang="ru-RU" sz="1800" spc="-1" strike="noStrike">
                <a:solidFill>
                  <a:srgbClr val="0f0f17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 rot="5880600">
            <a:off x="3755520" y="53949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Сострад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Oval 17"/>
          <p:cNvSpPr/>
          <p:nvPr/>
        </p:nvSpPr>
        <p:spPr>
          <a:xfrm>
            <a:off x="3276720" y="2133720"/>
            <a:ext cx="2447640" cy="2303280"/>
          </a:xfrm>
          <a:prstGeom prst="ellipse">
            <a:avLst/>
          </a:prstGeom>
          <a:solidFill>
            <a:srgbClr val="f79d39"/>
          </a:solidFill>
          <a:ln w="9360">
            <a:solidFill>
              <a:srgbClr val="f79d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3635280" y="3213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3203640" y="299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0f17"/>
                </a:solidFill>
                <a:latin typeface="Tahoma"/>
              </a:rPr>
              <a:t>толерант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332000" y="1989000"/>
            <a:ext cx="79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0f17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Терпимос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Сострада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Прощ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Желание что-либо делать вмест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Сотрудничеств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Уважение прав друг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Tahoma"/>
              </a:rPr>
              <a:t>Принятие другого таким, какой он ес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2400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0067"/>
                </a:solidFill>
                <a:latin typeface="Tahoma"/>
              </a:rPr>
              <a:t>Качества толерантной лич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1187280" y="242100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1187280" y="285264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1187280" y="458136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1187280" y="414972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1187280" y="3645000"/>
            <a:ext cx="21600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1187280" y="3284640"/>
            <a:ext cx="216000" cy="21564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1187280" y="544500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187280" y="5013360"/>
            <a:ext cx="216000" cy="21600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1"/>
          <p:cNvSpPr txBox="1"/>
          <p:nvPr/>
        </p:nvSpPr>
        <p:spPr>
          <a:xfrm>
            <a:off x="971640" y="5157720"/>
            <a:ext cx="727236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e2a46"/>
                  </a:solidFill>
                  <a:miter/>
                </a:ln>
                <a:solidFill>
                  <a:srgbClr val="f79d3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 день!</a:t>
            </a:r>
            <a:endParaRPr b="0" lang="en-US" sz="1800" spc="1" strike="noStrike">
              <a:ln w="9360">
                <a:solidFill>
                  <a:srgbClr val="ee2a46"/>
                </a:solidFill>
                <a:miter/>
              </a:ln>
              <a:solidFill>
                <a:srgbClr val="f79d3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12" descr="4129"/>
          <p:cNvPicPr/>
          <p:nvPr/>
        </p:nvPicPr>
        <p:blipFill>
          <a:blip r:embed="rId1"/>
          <a:stretch/>
        </p:blipFill>
        <p:spPr>
          <a:xfrm>
            <a:off x="971640" y="0"/>
            <a:ext cx="74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svetik-vlyublyonnoe-solnyshko"/>
          <p:cNvPicPr/>
          <p:nvPr/>
        </p:nvPicPr>
        <p:blipFill>
          <a:blip r:embed="rId1"/>
          <a:stretch/>
        </p:blipFill>
        <p:spPr>
          <a:xfrm>
            <a:off x="826920" y="333360"/>
            <a:ext cx="7921800" cy="6120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187280" y="893160"/>
            <a:ext cx="705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Сохраняй спокойствие, когда сердиш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Владей собой, имей выдержку и хладнокров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Имей терпение выслушать собеседни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Спокойно объясни свою точку зр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2a46"/>
                </a:solidFill>
                <a:latin typeface="Verdana"/>
              </a:rPr>
              <a:t>Подумай, из-за чего возник сп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900000" y="2133720"/>
            <a:ext cx="770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Picture 3" descr="post-13295-117925686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77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2050920" y="320076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0f17"/>
                </a:solidFill>
                <a:latin typeface="Verdana"/>
              </a:rPr>
              <a:t>Люди злятся друг на друга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619280" y="2662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0f17"/>
                </a:solidFill>
                <a:latin typeface="Verdana"/>
              </a:rPr>
              <a:t>Кто-то говорил плохо о вас</a:t>
            </a:r>
            <a:r>
              <a:rPr b="0" lang="ru-RU" sz="1800" spc="-1" strike="noStrike">
                <a:solidFill>
                  <a:srgbClr val="0f0f17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0012-012-Zolotoe-pravilo-nravstvennosti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v dobr put foto mal"/>
          <p:cNvPicPr/>
          <p:nvPr/>
        </p:nvPicPr>
        <p:blipFill>
          <a:blip r:embed="rId1"/>
          <a:stretch/>
        </p:blipFill>
        <p:spPr>
          <a:xfrm>
            <a:off x="1476360" y="260280"/>
            <a:ext cx="63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324000" y="112536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9d39"/>
                </a:solidFill>
                <a:latin typeface="Tahoma"/>
              </a:rPr>
              <a:t>Поступайте с другими так же, как хотите, чтобы они поступали с в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ahoma"/>
              </a:rPr>
              <a:t>Будьте добрыми</a:t>
            </a:r>
            <a:r>
              <a:rPr b="0" i="1" lang="ru-RU" sz="2400" spc="-1" strike="noStrike">
                <a:solidFill>
                  <a:srgbClr val="cc99ff"/>
                </a:solidFill>
                <a:latin typeface="Tahoma"/>
              </a:rPr>
              <a:t>: любящими, внимательными, терпеливыми, заботливыми, милосердными, прощай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ahoma"/>
              </a:rPr>
              <a:t>Будьте надёжными</a:t>
            </a:r>
            <a:r>
              <a:rPr b="0" i="1" lang="ru-RU" sz="2400" spc="-1" strike="noStrike">
                <a:solidFill>
                  <a:srgbClr val="006666"/>
                </a:solidFill>
                <a:latin typeface="Tahoma"/>
              </a:rPr>
              <a:t>: честными, правдивыми, имейте чистое сердце, выполняйте свои обещ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0067"/>
                </a:solidFill>
                <a:latin typeface="Tahoma"/>
              </a:rPr>
              <a:t>Будьте заботливыми</a:t>
            </a:r>
            <a:r>
              <a:rPr b="0" i="1" lang="ru-RU" sz="2400" spc="-1" strike="noStrike">
                <a:solidFill>
                  <a:srgbClr val="fe0067"/>
                </a:solidFill>
                <a:latin typeface="Tahoma"/>
              </a:rPr>
              <a:t>: вежливыми, внимательными, любез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ahoma"/>
              </a:rPr>
              <a:t>Будьте щедрыми</a:t>
            </a: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: не жадными, бескорыстными, великодушными, готовыми помоч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61928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e2a46"/>
                </a:solidFill>
                <a:uFillTx/>
                <a:latin typeface="Tahoma"/>
              </a:rPr>
              <a:t>Мои пожелан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539640" y="1268280"/>
            <a:ext cx="144720" cy="14472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539640" y="342900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539640" y="4724280"/>
            <a:ext cx="144720" cy="14472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539640" y="558972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539640" y="2133720"/>
            <a:ext cx="144720" cy="144360"/>
          </a:xfrm>
          <a:prstGeom prst="ellipse">
            <a:avLst/>
          </a:prstGeom>
          <a:solidFill>
            <a:srgbClr val="ee2a46"/>
          </a:solidFill>
          <a:ln w="9360">
            <a:solidFill>
              <a:srgbClr val="ee2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9"/>
          <p:cNvSpPr txBox="1"/>
          <p:nvPr/>
        </p:nvSpPr>
        <p:spPr>
          <a:xfrm>
            <a:off x="1116000" y="3170160"/>
            <a:ext cx="6840720" cy="27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2a46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2a46"/>
              </a:solidFill>
              <a:latin typeface="Arial"/>
              <a:ea typeface="Arial"/>
            </a:endParaRPr>
          </a:p>
        </p:txBody>
      </p:sp>
      <p:pic>
        <p:nvPicPr>
          <p:cNvPr id="261" name="Picture 11" descr="33131"/>
          <p:cNvPicPr/>
          <p:nvPr/>
        </p:nvPicPr>
        <p:blipFill>
          <a:blip r:embed="rId1"/>
          <a:stretch/>
        </p:blipFill>
        <p:spPr>
          <a:xfrm>
            <a:off x="2268360" y="189000"/>
            <a:ext cx="511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1390"/>
          <p:cNvPicPr/>
          <p:nvPr/>
        </p:nvPicPr>
        <p:blipFill>
          <a:blip r:embed="rId1"/>
          <a:stretch/>
        </p:blipFill>
        <p:spPr>
          <a:xfrm>
            <a:off x="1116000" y="620640"/>
            <a:ext cx="7416720" cy="5329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 flipV="1" rot="10800000">
            <a:off x="1402920" y="125424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лёнок увидел множество птиц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images (1)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532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743120" y="4128840"/>
            <a:ext cx="62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ёл живёт в одиночестве – такова его доля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743120" y="441792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3" descr="images (2)"/>
          <p:cNvPicPr/>
          <p:nvPr/>
        </p:nvPicPr>
        <p:blipFill>
          <a:blip r:embed="rId1"/>
          <a:stretch/>
        </p:blipFill>
        <p:spPr>
          <a:xfrm>
            <a:off x="1116000" y="836640"/>
            <a:ext cx="6553080" cy="5184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1116000" y="49435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й-ай, они украли у нас е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orel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1022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1547640" y="1123920"/>
            <a:ext cx="65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18728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ак бы орёл ни был голоден, он непременно должен поделиться частью своей добычи с птицами, живущими по соседств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2c20ba66ab3b670c1e958255a2dd5175"/>
          <p:cNvPicPr/>
          <p:nvPr/>
        </p:nvPicPr>
        <p:blipFill>
          <a:blip r:embed="rId1"/>
          <a:stretch/>
        </p:blipFill>
        <p:spPr>
          <a:xfrm>
            <a:off x="684360" y="1341360"/>
            <a:ext cx="7991280" cy="51642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684360" y="540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 такой высоте они не в силах найти себе пропитание, и им следует помогат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684360" y="693720"/>
            <a:ext cx="813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619280" y="189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6" descr="1320853687_050519-308"/>
          <p:cNvPicPr/>
          <p:nvPr/>
        </p:nvPicPr>
        <p:blipFill>
          <a:blip r:embed="rId1"/>
          <a:stretch/>
        </p:blipFill>
        <p:spPr>
          <a:xfrm>
            <a:off x="1187280" y="2133720"/>
            <a:ext cx="6667560" cy="4314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611280" y="36396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сяк, кто желает иметь верных друзей, должен быть добрым и терпимым, проявляя внимание к чужим нуждам. Почёт и уважение добываются не силой, а великодушием и готовностью поделиться с нуждающимся последним куск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омашк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06:58Z</dcterms:created>
  <dc:creator>*</dc:creator>
  <dc:description/>
  <dc:language>en-US</dc:language>
  <cp:lastModifiedBy>Пользователь Windows</cp:lastModifiedBy>
  <dcterms:modified xsi:type="dcterms:W3CDTF">2019-11-14T23:27:35Z</dcterms:modified>
  <cp:revision>9</cp:revision>
  <dc:subject/>
  <dc:title>Слайд 1</dc:title>
</cp:coreProperties>
</file>