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0B57-6B67-4A39-B4EB-3C7BD032E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68E2-1E80-4B68-A6BC-81E19C8A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3F81-C3FC-426C-AF7F-8D8EE3C30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DCAB-82F0-429B-B2C0-6FDA2BF82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8373-D3BE-430F-BE17-7301032C7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0DFF1-D226-4843-B99E-EAD23C64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9A834-DCC1-4EDF-9515-F85FE62C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19A4-89F0-4EBE-91A7-B78C90DA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72A7-C433-4E97-A6FD-3C8CC48A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32A3-F436-423C-B703-8F967E45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3C77-0538-4CEC-B612-F40F8B3A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BB38-2542-498A-9C6F-8307A9F3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9A1F-28CA-4BE2-B51D-263ABEAF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E81B-FEA0-471B-A1AB-23FF05E2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36A6-2309-4DB6-B60E-54C1B6C6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98AD-FF62-488A-89C9-28420D1DD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46DF-2BE5-43EF-854C-1B5257506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CC244-39AE-4016-9C7F-66F2F56B9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9080D-C735-4F97-9F51-7530D732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6C481-BEAA-442C-8DD9-21D2E044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3B456-B537-4675-AD15-DF6C2ECB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776FE-1E27-463A-84C4-F5766359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A15A-74D7-4F68-A301-3D62ABC8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C9BB4-E3B4-4A5E-A4EF-BBD35621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D5D44-3BAF-4852-B847-C5EF40E1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6D26E-FA30-482C-9A85-F3E46331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22EF0-6D57-475A-A118-809C31A0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4F840-80E0-4632-A713-FD4EEB60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C2448-506E-4874-B82E-EA2FE6A10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5A812-2ADD-4B5A-AA92-6A8BB3C6F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C9340-CF35-40F3-B1E7-756F2ABF2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22EA6-88CF-4A03-9221-9CA98C4D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D3415-4D5A-4A64-83AD-CC1A55A5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CEBF-C39B-431A-B581-A2AB51DC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78086-D80F-4C06-9E9F-1BC656D5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EA2BF-2220-4E92-A9AB-A0AB9ED9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7715C-6D79-4CD1-A769-63F0B4F2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DF7DA-D066-4B61-A39A-023C4E47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196D6-64F2-4CF1-91D6-627B6D9E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F60A0-218A-45F2-816E-39D61ACC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C223E-3806-4DC5-B0E8-8D8623D1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9B308-58AF-444A-A685-3F4DD324D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42DC7-66D5-4EF4-8A82-AFAEA733D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4F497-481E-4831-BAA0-5556C5F67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65B8-DBCD-45F9-8F16-C9B6A483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4EB3E-968D-4033-B3B1-D6818FAC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01FB5-32B8-4A83-A51E-437C8FAF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06D61-6600-44F4-84C7-DFA4B759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40E5F-1D66-4CA7-9DAB-B11BD7D7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32CF1-5CE6-47CD-AB90-DD81D395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C7574-8832-44A6-A169-05AA57A0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B75E7-BB9D-4B3D-9502-26BCDED0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BF64A-0F08-465B-B690-DA802DF2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4A885-C610-4096-A95A-8D819930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94A9F-0D0A-4734-BD1C-4972195CA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433C-8011-438F-BDAE-7F9C31E3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03607-AC28-45B3-8A7F-ACDC71FCA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F2A0-5ED3-4008-8651-BF047810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1351-5F60-4A6F-A7AA-2019E3D2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2214-2A70-47FF-8B77-650569AE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2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3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4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7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0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" name="Group 9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14" name="Chevron 10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1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2169-02E6-4980-9FCF-342E91F5C984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59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60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61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64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6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67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Group 5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71" name="Chevron 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2B10-EF0C-46CC-A548-C63FB7FC40F0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116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117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118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121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24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8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9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7B01-7E96-4400-AE5F-22680511F060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170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171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172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175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78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1" name="Group 6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182" name="Chevron 7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8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0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1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2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83C8-D382-4339-B277-995368DA3467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BC96-90BA-4200-870D-44BF64AE2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шины на дорог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: Никити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на Владимиро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школа №43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пинского райо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т-Петербур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7777080" cy="3978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5ff"/>
                </a:solidFill>
                <a:latin typeface="Arial"/>
              </a:rPr>
              <a:t>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Сложи картинку из ча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Назови вид транспор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Рисунок 3" descr=""/>
          <p:cNvPicPr/>
          <p:nvPr/>
        </p:nvPicPr>
        <p:blipFill>
          <a:blip r:embed="rId1"/>
          <a:stretch/>
        </p:blipFill>
        <p:spPr>
          <a:xfrm>
            <a:off x="3419640" y="2205000"/>
            <a:ext cx="2589120" cy="25844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27c5"/>
                </a:solidFill>
                <a:latin typeface="Arial"/>
              </a:rPr>
              <a:t>ИГРА «Пешеход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05:59:06Z</dcterms:created>
  <dc:creator>Пользователь</dc:creator>
  <dc:description/>
  <dc:language>en-US</dc:language>
  <cp:lastModifiedBy>Ученик</cp:lastModifiedBy>
  <dcterms:modified xsi:type="dcterms:W3CDTF">2019-11-27T09:11:04Z</dcterms:modified>
  <cp:revision>121</cp:revision>
  <dc:subject/>
  <dc:title>«Познай самого себя».</dc:title>
</cp:coreProperties>
</file>