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D4C1-FFB4-4BC2-92D5-E36CE7753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3C99-F489-43F8-9592-A701443B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841B-98EF-49B0-9DEE-886AA3A75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24F9-4154-4133-83F1-E187A27A4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7EAA-0608-4295-88EF-098ED6F61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B75F7-592C-4AEA-9A82-EFED2E65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FE2B-D41E-4EE8-B1EC-D130B100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BEF1-871C-468E-B225-C76EA9843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BAE22-6A10-40BB-A0BB-0BCFC965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5655-1DE3-47CC-88B3-0F7A3641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9217-1D5E-4311-9136-FA49F100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200E-B225-4666-AFFB-474320E0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8B5C-3949-4C6A-9779-85BE2DC2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EB36-A299-48A4-902A-85864A45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D66B-044D-4923-A74C-0DC1C41D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B1CE-221D-4EB1-9CE7-C50FDF654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4F649-B80B-4D5D-970F-A2A7002A0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3E8C4-C704-4353-80C7-613666991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4E004-1713-4C10-BBB1-941358DC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C4142-2459-40D8-B7AA-26747C88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08E1A-E720-4688-9F2A-720FB03E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A26EF-9CBB-4B91-AEBD-CF78A65E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D162-70C9-4D3C-9E0D-158EA02B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A86D9-8991-4F14-BE1F-20AE1197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937A3-86D1-4527-83BE-F9826A08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339CB-2A12-4B05-8976-14BFCAC8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CF39C-DD2A-4119-890E-A07F3909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61B47-FF0B-419E-8A56-CF4DE774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60079-B112-491C-925B-881AFE8B3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38394-CFAC-4850-9751-A7A08DEB1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436F9-2F6B-401A-8017-DC0B095B4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EB704-B8DC-487A-956B-57F25C7A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756C3-33A0-4E29-9D31-0269E7C3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2627-2ECE-4B5D-BB26-2907253C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46A36-F316-4C84-ABB4-440E613E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9D1C6-4211-4D2B-8F34-EC58BDAB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FE644-00B4-45BC-9CEB-47F53BE5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F9045-A990-40F7-995D-38649AFF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49FE7-1C1F-4CCA-89D2-FCF2AA05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FE2D9-0040-4A3A-8003-5FF3F94E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C9258-F99D-45D1-9DB6-B4F2E8D1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B81AD-E29B-4855-B225-AB3BFC130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365CF-B199-4B1C-9D72-2565EC0B6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CA006-B779-4878-9BF1-0C3519592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2287-6459-4FC8-9D0F-DB6463AB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05D74-EDE0-42B6-8FEF-E485984F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40C56-93F5-40EF-BE85-2EB1A959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B54EF-EEA2-48F7-970B-C519D324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F8B1A-C2F5-4DE4-B6B8-A0B5B03E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A30ED-A235-4625-ADF3-98E1F17B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2F787-6C75-4887-9947-21B59351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B6D1F-1EE8-4185-8888-9E9450E9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0A02D-CDD5-40FE-AD84-B52DC7D5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6CCA0-6257-480E-A491-8114A226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79B51-CEE8-45BB-BBE8-1F437AF19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A027-149C-49C4-9BA5-DF76F50F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8A60B-F440-446A-B83A-DC7294632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3791-DEB5-4ACE-88DD-96B8AFD0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31EF-7E3A-47E7-B885-835383D7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3058-B570-449E-818E-2F4CFE65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2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3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4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7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0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" name="Group 9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14" name="Chevron 10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1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FDD5-C98F-429C-B0CB-823083BACB86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59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60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61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64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6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67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Group 5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71" name="Chevron 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7CAD-4F01-4249-9CF2-C00FAD2A9539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116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117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118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121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24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8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9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E8EE-1D8B-4D92-BFF6-4DE20D873D74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170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171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172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175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78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1" name="Group 6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182" name="Chevron 7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8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0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1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2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A152-0FC8-4A3E-AECA-3030A5DDAF4A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B5BE-5AAA-4841-9E2B-64415CE3C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шины на дорог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: Никити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на Владимиро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школа №43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пинского райо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т-Петербур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7777080" cy="3978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5ff"/>
                </a:solidFill>
                <a:latin typeface="Arial"/>
              </a:rPr>
              <a:t>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Сложи картинку из ча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Назови вид транспор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Рисунок 3" descr=""/>
          <p:cNvPicPr/>
          <p:nvPr/>
        </p:nvPicPr>
        <p:blipFill>
          <a:blip r:embed="rId1"/>
          <a:stretch/>
        </p:blipFill>
        <p:spPr>
          <a:xfrm>
            <a:off x="3419640" y="2205000"/>
            <a:ext cx="2589120" cy="25844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27c5"/>
                </a:solidFill>
                <a:latin typeface="Arial"/>
              </a:rPr>
              <a:t>ИГРА «Пешеход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05:59:06Z</dcterms:created>
  <dc:creator>Пользователь</dc:creator>
  <dc:description/>
  <dc:language>en-US</dc:language>
  <cp:lastModifiedBy>Ученик</cp:lastModifiedBy>
  <dcterms:modified xsi:type="dcterms:W3CDTF">2019-11-27T09:11:04Z</dcterms:modified>
  <cp:revision>121</cp:revision>
  <dc:subject/>
  <dc:title>«Познай самого себя».</dc:title>
</cp:coreProperties>
</file>