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9C6-29FD-4C6F-A391-45600760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BF3-9497-45AB-B182-0A009647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375-5005-45F6-B1BB-4FAAEB29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C9F-C1B0-4B05-B8A4-46AB9873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561-08AF-4975-8795-4D462B82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845-D713-46CB-8668-EA09C23D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B20-4F74-49CA-92DC-24E7BC1C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D0F-C0D2-437D-913B-200C65D6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5D0-394D-4190-8C16-ACE2550F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27D-A84C-455F-92A3-6C5B92F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0E9-91B6-4766-8641-BB70576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C45-FD31-48B5-AA03-2D0ECBA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BED-DC4C-421B-AA17-78FF2D10C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7&amp;lr=55&amp;rpt=simage&amp;uinfo=ww-977-wh-626-fw-765-fh-448-pd-1&amp;img_url=http%3A%2F%2Fcontent.foto.mail.ru%2Fmail%2Felena-ishmaeva%2F_blogs%2Fi-136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8&amp;lr=55&amp;rpt=simage&amp;uinfo=ww-977-wh-626-fw-765-fh-448-pd-1&amp;img_url=http%3A%2F%2Fcsdb.ufanet.ru%2Fimages%2Fmodelnie%2Ff18%2Fmalisham%2Fimage00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6&amp;lr=55&amp;rpt=simage&amp;uinfo=ww-977-wh-626-fw-765-fh-448-pd-1&amp;img_url=http%3A%2F%2Fimg15.nnm.ru%2Fa%2Fa%2F2%2F4%2F3%2Fa9ed0cd7ed0b660f054a0e86f8c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1&amp;uinfo=ww-977-wh-626-fw-765-fh-448-pd-1&amp;p=1&amp;text=&#1082;&#1086;&#1085;&#1089;&#1090;&#1080;&#1090;&#1091;&#1094;&#1080;&#1103;%20&#1088;&#1086;&#1089;&#1089;&#1080;&#1080;%20&#1074;%20&#1088;&#1080;&#1089;&#1091;&#1085;&#1082;&#1072;&#1093;%20&#1076;&#1077;&#1090;&#1077;&#1081;&amp;noreask=1&amp;pos=32&amp;rpt=simage&amp;lr=55&amp;img_url=http%3A%2F%2Fljplus.ru%2Fimg4%2Fl%2Fv%2Flvoropaeva%2Fpost-3-1210151752978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1&amp;uinfo=ww-977-wh-626-fw-765-fh-448-pd-1&amp;p=1&amp;text=&#1082;&#1086;&#1085;&#1089;&#1090;&#1080;&#1090;&#1091;&#1094;&#1080;&#1103;%20&#1088;&#1086;&#1089;&#1089;&#1080;&#1080;%20&#1074;%20&#1088;&#1080;&#1089;&#1091;&#1085;&#1082;&#1072;&#1093;%20&#1076;&#1077;&#1090;&#1077;&#1081;&amp;noreask=1&amp;pos=33&amp;rpt=simage&amp;lr=55&amp;img_url=http%3A%2F%2Fimages.prom.ua%2F13801829_w640_h640_imgres.jpe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1&amp;lr=55&amp;rpt=simage&amp;uinfo=ww-977-wh-626-fw-765-fh-448-pd-1&amp;img_url=http%3A%2F%2Fwww.ekort.ru%2Ffiles%2Fstyles%2Fcalendar_thumb%2Fpublic%2F12_dec_konstituciya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2;&#1086;&#1085;&#1089;&#1090;&#1080;&#1090;&#1091;&#1094;&#1080;&#1103;%20&#1088;&#1086;&#1089;&#1089;&#1080;&#1080;%20&#1074;%20&#1088;&#1080;&#1089;&#1091;&#1085;&#1082;&#1072;&#1093;%20&#1076;&#1077;&#1090;&#1077;&#1081;&amp;noreask=1&amp;pos=1&amp;lr=55&amp;rpt=simage&amp;uinfo=ww-977-wh-626-fw-765-fh-448-pd-1&amp;img_url=http%3A%2F%2Fviki.rdf.ru%2Fmedia%2Fupload%2Fpreview%2Fkonst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2&amp;uinfo=ww-977-wh-626-fw-765-fh-448-pd-1&amp;p=2&amp;text=&#1082;&#1086;&#1085;&#1089;&#1090;&#1080;&#1090;&#1091;&#1094;&#1080;&#1103;%20&#1088;&#1086;&#1089;&#1089;&#1080;&#1080;%20&#1074;%20&#1088;&#1080;&#1089;&#1091;&#1085;&#1082;&#1072;&#1093;%20&#1076;&#1077;&#1090;&#1077;&#1081;&amp;noreask=1&amp;pos=62&amp;rpt=simage&amp;lr=55&amp;img_url=http%3A%2F%2Fkak.znate.ru%2Fpars_docs%2Frefs%2F101%2F100526%2F100526_html_m6b0d350f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«НАСТОЛЬНАЯ КНИГА ГРАЖДАНИНА РОССИ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Единый урок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uch.znate.ru/tw_files2/urls_3/13/d-12310/img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815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ozedu.ru/files/u1111/0008-008-Deti-imejut-pravo-na-vospitanie-v-semejnom-okruzhenii-ili-byt-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0643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vasi.net/uploads/podbor/narisuy_presidenta/thumbs/ziak7bq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89000"/>
            <a:ext cx="4556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g11.nnm.ru/imagez/gallery/8/b/a/d/c/8badc0db113317a7b99a27d7a06734bc_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3360"/>
            <a:ext cx="82087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edu.cap.ru/home/4670/0_7c138_61327a0a_x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79930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pics2.pokazuha.ru/p442/x/3/4933069m3x.jpg"/>
          <p:cNvPicPr/>
          <p:nvPr/>
        </p:nvPicPr>
        <p:blipFill>
          <a:blip r:embed="rId1"/>
          <a:stretch/>
        </p:blipFill>
        <p:spPr>
          <a:xfrm>
            <a:off x="2268360" y="260280"/>
            <a:ext cx="38880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ural.rfn.ru/p/m_7755.jpg"/>
          <p:cNvPicPr/>
          <p:nvPr/>
        </p:nvPicPr>
        <p:blipFill>
          <a:blip r:embed="rId1"/>
          <a:stretch/>
        </p:blipFill>
        <p:spPr>
          <a:xfrm>
            <a:off x="539640" y="404640"/>
            <a:ext cx="8161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User\Desktop\карта тюмень.jpg"/>
          <p:cNvPicPr/>
          <p:nvPr/>
        </p:nvPicPr>
        <p:blipFill>
          <a:blip r:embed="rId1"/>
          <a:stretch/>
        </p:blipFill>
        <p:spPr>
          <a:xfrm>
            <a:off x="1619280" y="0"/>
            <a:ext cx="5527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116000" y="620640"/>
            <a:ext cx="64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14 августа 1944 образована Тюменская обла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cs402526.userapi.com/v402526692/ba4/K29RjWWWPgQ.jpg"/>
          <p:cNvPicPr/>
          <p:nvPr/>
        </p:nvPicPr>
        <p:blipFill>
          <a:blip r:embed="rId1"/>
          <a:stretch/>
        </p:blipFill>
        <p:spPr>
          <a:xfrm>
            <a:off x="395280" y="333360"/>
            <a:ext cx="8415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static.freepik.com/free-photo/steppe_19-125287.jpg"/>
          <p:cNvPicPr/>
          <p:nvPr/>
        </p:nvPicPr>
        <p:blipFill>
          <a:blip r:embed="rId1"/>
          <a:stretch/>
        </p:blipFill>
        <p:spPr>
          <a:xfrm>
            <a:off x="395280" y="404640"/>
            <a:ext cx="8151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12 декабря 1993 года принята Конституция Р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papa-vlad.narod.ru/data/o-zhivotnykh/_Sibir-1.files/0009-016-Tajga.jpg"/>
          <p:cNvPicPr/>
          <p:nvPr/>
        </p:nvPicPr>
        <p:blipFill>
          <a:blip r:embed="rId1"/>
          <a:stretch/>
        </p:blipFill>
        <p:spPr>
          <a:xfrm>
            <a:off x="250920" y="260280"/>
            <a:ext cx="8637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osztinfo.hu/upload/0/05f95803e6d93124befa11b6accb2c1a_tundra.jpg"/>
          <p:cNvPicPr/>
          <p:nvPr/>
        </p:nvPicPr>
        <p:blipFill>
          <a:blip r:embed="rId1"/>
          <a:stretch/>
        </p:blipFill>
        <p:spPr>
          <a:xfrm>
            <a:off x="1042920" y="404640"/>
            <a:ext cx="7502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mountain.ru/photo/2003/putorany/img/nor15.jpg"/>
          <p:cNvPicPr/>
          <p:nvPr/>
        </p:nvPicPr>
        <p:blipFill>
          <a:blip r:embed="rId1"/>
          <a:stretch/>
        </p:blipFill>
        <p:spPr>
          <a:xfrm>
            <a:off x="468360" y="620640"/>
            <a:ext cx="8211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cdn4.img22.rian.ru/images/43602/13/436021340.jpg"/>
          <p:cNvPicPr/>
          <p:nvPr/>
        </p:nvPicPr>
        <p:blipFill>
          <a:blip r:embed="rId1"/>
          <a:stretch/>
        </p:blipFill>
        <p:spPr>
          <a:xfrm>
            <a:off x="395280" y="1125360"/>
            <a:ext cx="8389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mountain.ru/photo/autors_photo/aleksandrov/pripolar_ural/16.jpg"/>
          <p:cNvPicPr/>
          <p:nvPr/>
        </p:nvPicPr>
        <p:blipFill>
          <a:blip r:embed="rId1"/>
          <a:stretch/>
        </p:blipFill>
        <p:spPr>
          <a:xfrm>
            <a:off x="395280" y="620640"/>
            <a:ext cx="8466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www.irtysh.ru/images/omsk/irtysh-zaton-cherlak2.jpg"/>
          <p:cNvPicPr/>
          <p:nvPr/>
        </p:nvPicPr>
        <p:blipFill>
          <a:blip r:embed="rId1"/>
          <a:stretch/>
        </p:blipFill>
        <p:spPr>
          <a:xfrm>
            <a:off x="611280" y="333360"/>
            <a:ext cx="7956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img232.imageshack.us/img232/3607/4a6bacd9b89b29e23a7a854ta4.jpg"/>
          <p:cNvPicPr/>
          <p:nvPr/>
        </p:nvPicPr>
        <p:blipFill>
          <a:blip r:embed="rId1"/>
          <a:srcRect l="0" t="0" r="0" b="31953"/>
          <a:stretch/>
        </p:blipFill>
        <p:spPr>
          <a:xfrm>
            <a:off x="579600" y="476280"/>
            <a:ext cx="76644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User\Desktop\карта тюмень.jpg"/>
          <p:cNvPicPr/>
          <p:nvPr/>
        </p:nvPicPr>
        <p:blipFill>
          <a:blip r:embed="rId1"/>
          <a:stretch/>
        </p:blipFill>
        <p:spPr>
          <a:xfrm>
            <a:off x="1619280" y="0"/>
            <a:ext cx="552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И как в иной таежный уг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Издалека вели сю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Кого приказ, кого заслуг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Кого мечта, кого бед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А.Т. Твардовск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pi-ar.com/UserFiles/Image/Panorama%20Golishmanovo.jpg"/>
          <p:cNvPicPr/>
          <p:nvPr/>
        </p:nvPicPr>
        <p:blipFill>
          <a:blip r:embed="rId1"/>
          <a:stretch/>
        </p:blipFill>
        <p:spPr>
          <a:xfrm>
            <a:off x="1042920" y="620640"/>
            <a:ext cx="7359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20 лет Конституции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gimnazium4.ucoz.ru/_nw/7/821768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268280"/>
            <a:ext cx="51847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tyumedia.ru/static/photo/30_06_422.jpg"/>
          <p:cNvPicPr/>
          <p:nvPr/>
        </p:nvPicPr>
        <p:blipFill>
          <a:blip r:embed="rId1"/>
          <a:stretch/>
        </p:blipFill>
        <p:spPr>
          <a:xfrm>
            <a:off x="539640" y="333360"/>
            <a:ext cx="8039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starkons.ucoz.ru/_ph/7/2/537088365.jpg"/>
          <p:cNvPicPr/>
          <p:nvPr/>
        </p:nvPicPr>
        <p:blipFill>
          <a:blip r:embed="rId1"/>
          <a:stretch/>
        </p:blipFill>
        <p:spPr>
          <a:xfrm>
            <a:off x="1763640" y="260280"/>
            <a:ext cx="4680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tyumedia.ru/static/pic/18416.jpg"/>
          <p:cNvPicPr/>
          <p:nvPr/>
        </p:nvPicPr>
        <p:blipFill>
          <a:blip r:embed="rId1"/>
          <a:stretch/>
        </p:blipFill>
        <p:spPr>
          <a:xfrm>
            <a:off x="1116000" y="404640"/>
            <a:ext cx="648036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Мини-проек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«Моя программа юбилея Тюменской област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70-лет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ural56.ru/photos/dekab_2010/99f09988657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89000"/>
            <a:ext cx="82504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МВОЛЫ 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ер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им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Фла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dok.opredelim.com/pars_docs/refs/14/13340/img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7962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  ПРАВАХ  В  СКАЗ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право было наруше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их ещё сказках говорится о прав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  ПРАВАХ  В  СКАЗ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а о мёртвой царевне и семи богатыр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лк и семеро козл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уси-леб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а и Медве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ежная корол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поросё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юймов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курс рисунков «КОНСТИТУЦИЯ ГЛАЗАМИ ДЕТЕ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2:05:26Z</dcterms:created>
  <dc:creator>User</dc:creator>
  <dc:description/>
  <dc:language>en-US</dc:language>
  <cp:lastModifiedBy>User</cp:lastModifiedBy>
  <dcterms:modified xsi:type="dcterms:W3CDTF">2013-12-03T14:02:56Z</dcterms:modified>
  <cp:revision>31</cp:revision>
  <dc:subject/>
  <dc:title>Слайд 1</dc:title>
</cp:coreProperties>
</file>