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111-C7A8-445D-B2FA-56A1EF3B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853-33F8-4A0E-B25B-D656623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21C-C986-48D4-9F8F-925AC1EF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178-978E-4EE7-BA83-E63F1D81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1F6-78EB-48C0-9301-E01BFFD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C61-DEE3-4402-A896-481D66E4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F9B-C3AB-41F0-AB95-0A813FC8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D67-4987-4F9C-BDD7-6ACC080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522-D582-4389-8010-91ACD474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2D0-1AB7-4930-92AE-957E574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8D7-0D2A-4E8A-A5F1-FFB484E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C29-684B-4F99-8193-D9839FA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3F9B-EF46-418B-883D-8DF378E42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7&amp;lr=55&amp;rpt=simage&amp;uinfo=ww-977-wh-626-fw-765-fh-448-pd-1&amp;img_url=http%3A%2F%2Fcontent.foto.mail.ru%2Fmail%2Felena-ishmaeva%2F_blogs%2Fi-136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8&amp;lr=55&amp;rpt=simage&amp;uinfo=ww-977-wh-626-fw-765-fh-448-pd-1&amp;img_url=http%3A%2F%2Fcsdb.ufanet.ru%2Fimages%2Fmodelnie%2Ff18%2Fmalisham%2Fimage00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6&amp;lr=55&amp;rpt=simage&amp;uinfo=ww-977-wh-626-fw-765-fh-448-pd-1&amp;img_url=http%3A%2F%2Fimg15.nnm.ru%2Fa%2Fa%2F2%2F4%2F3%2Fa9ed0cd7ed0b660f054a0e86f8c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uinfo=ww-977-wh-626-fw-765-fh-448-pd-1&amp;p=1&amp;text=&#1082;&#1086;&#1085;&#1089;&#1090;&#1080;&#1090;&#1091;&#1094;&#1080;&#1103;%20&#1088;&#1086;&#1089;&#1089;&#1080;&#1080;%20&#1074;%20&#1088;&#1080;&#1089;&#1091;&#1085;&#1082;&#1072;&#1093;%20&#1076;&#1077;&#1090;&#1077;&#1081;&amp;noreask=1&amp;pos=32&amp;rpt=simage&amp;lr=55&amp;img_url=http%3A%2F%2Fljplus.ru%2Fimg4%2Fl%2Fv%2Flvoropaeva%2Fpost-3-1210151752978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uinfo=ww-977-wh-626-fw-765-fh-448-pd-1&amp;p=1&amp;text=&#1082;&#1086;&#1085;&#1089;&#1090;&#1080;&#1090;&#1091;&#1094;&#1080;&#1103;%20&#1088;&#1086;&#1089;&#1089;&#1080;&#1080;%20&#1074;%20&#1088;&#1080;&#1089;&#1091;&#1085;&#1082;&#1072;&#1093;%20&#1076;&#1077;&#1090;&#1077;&#1081;&amp;noreask=1&amp;pos=33&amp;rpt=simage&amp;lr=55&amp;img_url=http%3A%2F%2Fimages.prom.ua%2F13801829_w640_h640_imgres.jpe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1&amp;lr=55&amp;rpt=simage&amp;uinfo=ww-977-wh-626-fw-765-fh-448-pd-1&amp;img_url=http%3A%2F%2Fwww.ekort.ru%2Ffiles%2Fstyles%2Fcalendar_thumb%2Fpublic%2F12_dec_konstituciya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&amp;lr=55&amp;rpt=simage&amp;uinfo=ww-977-wh-626-fw-765-fh-448-pd-1&amp;img_url=http%3A%2F%2Fviki.rdf.ru%2Fmedia%2Fupload%2Fpreview%2Fkons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977-wh-626-fw-765-fh-448-pd-1&amp;p=2&amp;text=&#1082;&#1086;&#1085;&#1089;&#1090;&#1080;&#1090;&#1091;&#1094;&#1080;&#1103;%20&#1088;&#1086;&#1089;&#1089;&#1080;&#1080;%20&#1074;%20&#1088;&#1080;&#1089;&#1091;&#1085;&#1082;&#1072;&#1093;%20&#1076;&#1077;&#1090;&#1077;&#1081;&amp;noreask=1&amp;pos=62&amp;rpt=simage&amp;lr=55&amp;img_url=http%3A%2F%2Fkak.znate.ru%2Fpars_docs%2Frefs%2F101%2F100526%2F100526_html_m6b0d350f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«НАСТОЛЬНАЯ КНИГА ГРАЖДАНИНА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Единый урок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uch.znate.ru/tw_files2/urls_3/13/d-12310/img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15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ozedu.ru/files/u1111/0008-008-Deti-imejut-pravo-na-vospitanie-v-semejnom-okruzhenii-ili-byt-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0643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vasi.net/uploads/podbor/narisuy_presidenta/thumbs/ziak7bq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9000"/>
            <a:ext cx="4556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11.nnm.ru/imagez/gallery/8/b/a/d/c/8badc0db113317a7b99a27d7a06734bc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82087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edu.cap.ru/home/4670/0_7c138_61327a0a_x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79930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pics2.pokazuha.ru/p442/x/3/4933069m3x.jpg"/>
          <p:cNvPicPr/>
          <p:nvPr/>
        </p:nvPicPr>
        <p:blipFill>
          <a:blip r:embed="rId1"/>
          <a:stretch/>
        </p:blipFill>
        <p:spPr>
          <a:xfrm>
            <a:off x="2268360" y="260280"/>
            <a:ext cx="3888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ural.rfn.ru/p/m_7755.jpg"/>
          <p:cNvPicPr/>
          <p:nvPr/>
        </p:nvPicPr>
        <p:blipFill>
          <a:blip r:embed="rId1"/>
          <a:stretch/>
        </p:blipFill>
        <p:spPr>
          <a:xfrm>
            <a:off x="539640" y="404640"/>
            <a:ext cx="816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карта тюмень.jpg"/>
          <p:cNvPicPr/>
          <p:nvPr/>
        </p:nvPicPr>
        <p:blipFill>
          <a:blip r:embed="rId1"/>
          <a:stretch/>
        </p:blipFill>
        <p:spPr>
          <a:xfrm>
            <a:off x="1619280" y="0"/>
            <a:ext cx="5527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116000" y="620640"/>
            <a:ext cx="64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14 августа 1944 образована Тюменская обл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cs402526.userapi.com/v402526692/ba4/K29RjWWWPgQ.jpg"/>
          <p:cNvPicPr/>
          <p:nvPr/>
        </p:nvPicPr>
        <p:blipFill>
          <a:blip r:embed="rId1"/>
          <a:stretch/>
        </p:blipFill>
        <p:spPr>
          <a:xfrm>
            <a:off x="395280" y="333360"/>
            <a:ext cx="8415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tatic.freepik.com/free-photo/steppe_19-125287.jpg"/>
          <p:cNvPicPr/>
          <p:nvPr/>
        </p:nvPicPr>
        <p:blipFill>
          <a:blip r:embed="rId1"/>
          <a:stretch/>
        </p:blipFill>
        <p:spPr>
          <a:xfrm>
            <a:off x="395280" y="404640"/>
            <a:ext cx="8151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12 декабря 1993 года принята Конституция Р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apa-vlad.narod.ru/data/o-zhivotnykh/_Sibir-1.files/0009-016-Tajga.jpg"/>
          <p:cNvPicPr/>
          <p:nvPr/>
        </p:nvPicPr>
        <p:blipFill>
          <a:blip r:embed="rId1"/>
          <a:stretch/>
        </p:blipFill>
        <p:spPr>
          <a:xfrm>
            <a:off x="250920" y="260280"/>
            <a:ext cx="8637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osztinfo.hu/upload/0/05f95803e6d93124befa11b6accb2c1a_tundra.jpg"/>
          <p:cNvPicPr/>
          <p:nvPr/>
        </p:nvPicPr>
        <p:blipFill>
          <a:blip r:embed="rId1"/>
          <a:stretch/>
        </p:blipFill>
        <p:spPr>
          <a:xfrm>
            <a:off x="1042920" y="404640"/>
            <a:ext cx="7502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ountain.ru/photo/2003/putorany/img/nor15.jpg"/>
          <p:cNvPicPr/>
          <p:nvPr/>
        </p:nvPicPr>
        <p:blipFill>
          <a:blip r:embed="rId1"/>
          <a:stretch/>
        </p:blipFill>
        <p:spPr>
          <a:xfrm>
            <a:off x="468360" y="620640"/>
            <a:ext cx="8211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cdn4.img22.rian.ru/images/43602/13/436021340.jpg"/>
          <p:cNvPicPr/>
          <p:nvPr/>
        </p:nvPicPr>
        <p:blipFill>
          <a:blip r:embed="rId1"/>
          <a:stretch/>
        </p:blipFill>
        <p:spPr>
          <a:xfrm>
            <a:off x="395280" y="1125360"/>
            <a:ext cx="8389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mountain.ru/photo/autors_photo/aleksandrov/pripolar_ural/16.jpg"/>
          <p:cNvPicPr/>
          <p:nvPr/>
        </p:nvPicPr>
        <p:blipFill>
          <a:blip r:embed="rId1"/>
          <a:stretch/>
        </p:blipFill>
        <p:spPr>
          <a:xfrm>
            <a:off x="395280" y="620640"/>
            <a:ext cx="8466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irtysh.ru/images/omsk/irtysh-zaton-cherlak2.jpg"/>
          <p:cNvPicPr/>
          <p:nvPr/>
        </p:nvPicPr>
        <p:blipFill>
          <a:blip r:embed="rId1"/>
          <a:stretch/>
        </p:blipFill>
        <p:spPr>
          <a:xfrm>
            <a:off x="611280" y="333360"/>
            <a:ext cx="7956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g232.imageshack.us/img232/3607/4a6bacd9b89b29e23a7a854ta4.jpg"/>
          <p:cNvPicPr/>
          <p:nvPr/>
        </p:nvPicPr>
        <p:blipFill>
          <a:blip r:embed="rId1"/>
          <a:srcRect l="0" t="0" r="0" b="31953"/>
          <a:stretch/>
        </p:blipFill>
        <p:spPr>
          <a:xfrm>
            <a:off x="579600" y="476280"/>
            <a:ext cx="7664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User\Desktop\карта тюмень.jpg"/>
          <p:cNvPicPr/>
          <p:nvPr/>
        </p:nvPicPr>
        <p:blipFill>
          <a:blip r:embed="rId1"/>
          <a:stretch/>
        </p:blipFill>
        <p:spPr>
          <a:xfrm>
            <a:off x="1619280" y="0"/>
            <a:ext cx="552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И как в иной таежный уг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Издалека вели сю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Кого приказ, кого заслуг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Кого мечта, кого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А.Т. Твардов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pi-ar.com/UserFiles/Image/Panorama%20Golishmanovo.jpg"/>
          <p:cNvPicPr/>
          <p:nvPr/>
        </p:nvPicPr>
        <p:blipFill>
          <a:blip r:embed="rId1"/>
          <a:stretch/>
        </p:blipFill>
        <p:spPr>
          <a:xfrm>
            <a:off x="1042920" y="620640"/>
            <a:ext cx="7359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0 лет Конституции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gimnazium4.ucoz.ru/_nw/7/821768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268280"/>
            <a:ext cx="5184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tyumedia.ru/static/photo/30_06_422.jpg"/>
          <p:cNvPicPr/>
          <p:nvPr/>
        </p:nvPicPr>
        <p:blipFill>
          <a:blip r:embed="rId1"/>
          <a:stretch/>
        </p:blipFill>
        <p:spPr>
          <a:xfrm>
            <a:off x="539640" y="333360"/>
            <a:ext cx="8039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starkons.ucoz.ru/_ph/7/2/537088365.jpg"/>
          <p:cNvPicPr/>
          <p:nvPr/>
        </p:nvPicPr>
        <p:blipFill>
          <a:blip r:embed="rId1"/>
          <a:stretch/>
        </p:blipFill>
        <p:spPr>
          <a:xfrm>
            <a:off x="1763640" y="260280"/>
            <a:ext cx="4680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tyumedia.ru/static/pic/18416.jpg"/>
          <p:cNvPicPr/>
          <p:nvPr/>
        </p:nvPicPr>
        <p:blipFill>
          <a:blip r:embed="rId1"/>
          <a:stretch/>
        </p:blipFill>
        <p:spPr>
          <a:xfrm>
            <a:off x="1116000" y="404640"/>
            <a:ext cx="64803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Мини-проек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Моя программа юбилея Тюменской област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0-лет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ural56.ru/photos/dekab_2010/99f09988657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82504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МВОЛЫ 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ер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им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Фла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dok.opredelim.com/pars_docs/refs/14/13340/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7962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  ПРАВАХ  В  СКАЗ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право было наруше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их ещё сказках говорится о прав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  ПРАВАХ  В  СКАЗ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а о мёртвой царевне и семи богатыр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к и семеро коз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си-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а и Медве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ежная корол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порос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юймов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курс рисунков «КОНСТИТУЦИЯ ГЛАЗАМИ ДЕТ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05:26Z</dcterms:created>
  <dc:creator>User</dc:creator>
  <dc:description/>
  <dc:language>en-US</dc:language>
  <cp:lastModifiedBy>User</cp:lastModifiedBy>
  <dcterms:modified xsi:type="dcterms:W3CDTF">2013-12-03T14:02:56Z</dcterms:modified>
  <cp:revision>31</cp:revision>
  <dc:subject/>
  <dc:title>Слайд 1</dc:title>
</cp:coreProperties>
</file>