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C95-38AA-4511-BBC2-2F97F3D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0FD-9869-42EC-BE70-91A0A3AF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266-5508-45C6-A335-5EEADD04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0B6-7766-409E-93BA-7986B848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D01-BB94-41D4-84AF-A1CDE429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155-53C3-44C6-9DB2-0132CE24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F99-947C-4ABF-819C-3D79FC3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207-062D-4293-BB4A-7991008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8A8-A7C0-4829-9A26-6FB5789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7BA-F89C-4D1F-BD98-5A6446B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2B6-0873-4F00-B4CB-1E59DE0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3D1-B25A-4D2E-8EBC-9CC4350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4BC-0B65-43E6-9E1B-78C5145A5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rftR6.png"/>
          <p:cNvPicPr/>
          <p:nvPr/>
        </p:nvPicPr>
        <p:blipFill>
          <a:blip r:embed="rId1"/>
          <a:stretch/>
        </p:blipFill>
        <p:spPr>
          <a:xfrm>
            <a:off x="1500120" y="3786120"/>
            <a:ext cx="2286000" cy="2506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84360" y="692280"/>
            <a:ext cx="78976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НПК «Шаг в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«Ох, уж эти смеси, сп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концентрация и проценты  …»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инный способ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ожим, что смешиваются  два вещества – первое стоимость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ивен  за фунт  и второе стоимостью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ивен за фунт. Желательно  получить вещество стоимость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ивен за фунт. Будем считать,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&l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, то задача неразрешима, ибо,  смешивая дешевые вещества, дорогое не получишь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можно считать, что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Смешиваем один фунт первого вещества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го. В результате получи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унтов вещества  стоимостью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ивен. Один фунт  смеси должен стои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ивен. Значит  должно выполняться равенство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*(1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юда находи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/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ли 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: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нно этот соотношение дает старинный спосо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Прямая со стрелкой 6"/>
          <p:cNvCxnSpPr/>
          <p:nvPr/>
        </p:nvCxnSpPr>
        <p:spPr>
          <a:xfrm flipV="1">
            <a:off x="2700000" y="5013000"/>
            <a:ext cx="43236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8"/>
          <p:cNvCxnSpPr/>
          <p:nvPr/>
        </p:nvCxnSpPr>
        <p:spPr>
          <a:xfrm>
            <a:off x="2771640" y="5300640"/>
            <a:ext cx="43272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10"/>
          <p:cNvCxnSpPr/>
          <p:nvPr/>
        </p:nvCxnSpPr>
        <p:spPr>
          <a:xfrm flipV="1">
            <a:off x="3492000" y="5013000"/>
            <a:ext cx="57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2"/>
          <p:cNvCxnSpPr/>
          <p:nvPr/>
        </p:nvCxnSpPr>
        <p:spPr>
          <a:xfrm>
            <a:off x="3492000" y="4941720"/>
            <a:ext cx="57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некоторого человека  были продажные масла: одно ценою 10 гривен за ведро, а другое 6 гривен за ведро. Захотелось ему  сделать из этих двух масел, смешав их , масло ценою 7 гривен за ведро . Какие части  этих двух масел  нужно взять , чтобы получить  ведро масла стоимостью 7 гривен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шение:                                                                3/4-дешевого мас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6                           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0                         1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/4-дорогого мас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рка: 1/4* 10+3/4*6=28/4=7 грив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8"/>
          <p:cNvCxnSpPr/>
          <p:nvPr/>
        </p:nvCxnSpPr>
        <p:spPr>
          <a:xfrm flipV="1">
            <a:off x="2340000" y="321228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0"/>
          <p:cNvCxnSpPr/>
          <p:nvPr/>
        </p:nvCxnSpPr>
        <p:spPr>
          <a:xfrm>
            <a:off x="2340000" y="3789000"/>
            <a:ext cx="1224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2"/>
          <p:cNvCxnSpPr/>
          <p:nvPr/>
        </p:nvCxnSpPr>
        <p:spPr>
          <a:xfrm flipV="1">
            <a:off x="4140360" y="3357360"/>
            <a:ext cx="1296000" cy="108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4"/>
          <p:cNvCxnSpPr/>
          <p:nvPr/>
        </p:nvCxnSpPr>
        <p:spPr>
          <a:xfrm>
            <a:off x="3924360" y="3213000"/>
            <a:ext cx="1512000" cy="115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00000" y="1811880"/>
            <a:ext cx="727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для составления 12%-ной смеси требуется взя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аммов 3%-ного раствор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аммов 30% -ного раствора. Тогда в первой пропорции содержится 0,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граммов чистой перекиси  водорода, во второй 0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+ 0,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олу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аммов раствора, в котором чистой перекиси должно бы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12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м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+ 0,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0,12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этого уравнения наход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. 3%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го раствора надо взять вдвое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задач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 парикмахерско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драт Пирс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684360" y="1484280"/>
            <a:ext cx="763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1258920" y="2637000"/>
            <a:ext cx="1728720" cy="1777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 flipV="1">
            <a:off x="1258920" y="2637000"/>
            <a:ext cx="1728720" cy="180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5"/>
          <p:cNvSpPr/>
          <p:nvPr/>
        </p:nvSpPr>
        <p:spPr>
          <a:xfrm>
            <a:off x="1258920" y="2637000"/>
            <a:ext cx="1728720" cy="180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755640" y="22766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973800" y="4365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1911240" y="3573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1"/>
          <p:cNvSpPr/>
          <p:nvPr/>
        </p:nvSpPr>
        <p:spPr>
          <a:xfrm>
            <a:off x="2990160" y="2276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2"/>
          <p:cNvSpPr/>
          <p:nvPr/>
        </p:nvSpPr>
        <p:spPr>
          <a:xfrm>
            <a:off x="2919600" y="4365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3"/>
          <p:cNvSpPr/>
          <p:nvPr/>
        </p:nvSpPr>
        <p:spPr>
          <a:xfrm>
            <a:off x="4727160" y="24210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%- 9/27=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4"/>
          <p:cNvSpPr/>
          <p:nvPr/>
        </p:nvSpPr>
        <p:spPr>
          <a:xfrm>
            <a:off x="4798800" y="39337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%-18/27=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инный метод Магницког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835280" y="2349360"/>
            <a:ext cx="316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       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4"/>
          <p:cNvCxnSpPr/>
          <p:nvPr/>
        </p:nvCxnSpPr>
        <p:spPr>
          <a:xfrm flipV="1">
            <a:off x="2484360" y="2780640"/>
            <a:ext cx="720000" cy="6483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11" name="Прямая со стрелкой 6"/>
          <p:cNvCxnSpPr/>
          <p:nvPr/>
        </p:nvCxnSpPr>
        <p:spPr>
          <a:xfrm>
            <a:off x="2555640" y="3573000"/>
            <a:ext cx="6483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9"/>
          <p:cNvCxnSpPr/>
          <p:nvPr/>
        </p:nvCxnSpPr>
        <p:spPr>
          <a:xfrm>
            <a:off x="3563640" y="2636640"/>
            <a:ext cx="86436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11"/>
          <p:cNvCxnSpPr/>
          <p:nvPr/>
        </p:nvCxnSpPr>
        <p:spPr>
          <a:xfrm flipV="1">
            <a:off x="3708000" y="2923920"/>
            <a:ext cx="864360" cy="12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12"/>
          <p:cNvSpPr/>
          <p:nvPr/>
        </p:nvSpPr>
        <p:spPr>
          <a:xfrm>
            <a:off x="5886000" y="24922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%- 18/27=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814000" y="400536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%-9/27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 стаканч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928800" y="1500120"/>
            <a:ext cx="1214280" cy="1571400"/>
            <a:chOff x="928800" y="1500120"/>
            <a:chExt cx="1214280" cy="1571400"/>
          </a:xfrm>
        </p:grpSpPr>
        <p:sp>
          <p:nvSpPr>
            <p:cNvPr id="118" name="Freeform 9"/>
            <p:cNvSpPr/>
            <p:nvPr/>
          </p:nvSpPr>
          <p:spPr>
            <a:xfrm>
              <a:off x="928800" y="1613880"/>
              <a:ext cx="1214280" cy="14544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1454400"/>
                <a:gd name="textAreaBottom" fmla="*/ 1454760 h 1454400"/>
              </a:gdLst>
              <a:ahLst/>
              <a:rect l="textAreaLeft" t="textAreaTop" r="textAreaRight" b="textAreaBottom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1171440" y="2916360"/>
              <a:ext cx="851040" cy="15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928800" y="1613880"/>
              <a:ext cx="1214280" cy="145764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1457640"/>
                <a:gd name="textAreaBottom" fmla="*/ 1458000 h 1457640"/>
              </a:gdLst>
              <a:ahLst/>
              <a:rect l="textAreaLeft" t="textAreaTop" r="textAreaRight" b="textAreaBottom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928800" y="1500120"/>
              <a:ext cx="1214280" cy="2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3571920" y="1500120"/>
            <a:ext cx="1143000" cy="1500120"/>
            <a:chOff x="3571920" y="1500120"/>
            <a:chExt cx="1143000" cy="1500120"/>
          </a:xfrm>
        </p:grpSpPr>
        <p:sp>
          <p:nvSpPr>
            <p:cNvPr id="123" name="Freeform 9"/>
            <p:cNvSpPr/>
            <p:nvPr/>
          </p:nvSpPr>
          <p:spPr>
            <a:xfrm>
              <a:off x="3571920" y="1609560"/>
              <a:ext cx="1143000" cy="13888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88880"/>
                <a:gd name="textAreaBottom" fmla="*/ 1389240 h 1388880"/>
              </a:gdLst>
              <a:ahLst/>
              <a:rect l="textAreaLeft" t="textAreaTop" r="textAreaRight" b="textAreaBottom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3800520" y="2852640"/>
              <a:ext cx="7999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3571920" y="1609560"/>
              <a:ext cx="1143000" cy="13906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571920" y="1500120"/>
              <a:ext cx="1143000" cy="21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6572160" y="1500120"/>
            <a:ext cx="1143000" cy="1571400"/>
            <a:chOff x="6572160" y="1500120"/>
            <a:chExt cx="1143000" cy="1571400"/>
          </a:xfrm>
        </p:grpSpPr>
        <p:sp>
          <p:nvSpPr>
            <p:cNvPr id="128" name="Freeform 9"/>
            <p:cNvSpPr/>
            <p:nvPr/>
          </p:nvSpPr>
          <p:spPr>
            <a:xfrm>
              <a:off x="6572160" y="1613880"/>
              <a:ext cx="1143000" cy="145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54400"/>
                <a:gd name="textAreaBottom" fmla="*/ 1454760 h 1454400"/>
              </a:gdLst>
              <a:ahLst/>
              <a:rect l="textAreaLeft" t="textAreaTop" r="textAreaRight" b="textAreaBottom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800760" y="2916360"/>
              <a:ext cx="799920" cy="15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6572160" y="1613880"/>
              <a:ext cx="1143000" cy="14576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57640"/>
                <a:gd name="textAreaBottom" fmla="*/ 1458000 h 1457640"/>
              </a:gdLst>
              <a:ahLst/>
              <a:rect l="textAreaLeft" t="textAreaTop" r="textAreaRight" b="textAreaBottom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6572160" y="1500120"/>
              <a:ext cx="1143000" cy="2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18"/>
          <p:cNvSpPr/>
          <p:nvPr/>
        </p:nvSpPr>
        <p:spPr>
          <a:xfrm>
            <a:off x="2500200" y="2071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9"/>
          <p:cNvSpPr/>
          <p:nvPr/>
        </p:nvSpPr>
        <p:spPr>
          <a:xfrm>
            <a:off x="5218200" y="200016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000080" y="3220560"/>
            <a:ext cx="1428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тим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X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0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%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564000" y="350460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Y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227640" y="3504600"/>
            <a:ext cx="15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1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143000" y="500220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,03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,3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,12(x+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227640" y="50148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х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9"/>
          <p:cNvSpPr/>
          <p:nvPr/>
        </p:nvSpPr>
        <p:spPr>
          <a:xfrm>
            <a:off x="6084720" y="585792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ывод: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равнив полученные результаты, я пришла к выводу, что решение задач на проценты различными способами дают один и тот же результат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так, гипотеза оказалась вер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76720" y="907920"/>
            <a:ext cx="27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Эпигра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84360" y="2276640"/>
            <a:ext cx="806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Если вы хотите научиться плавать, то смело входите в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если хотите научиться решать задачи, то решайте 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Дьёрдь По́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619280" y="69228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 на смеси, сплавы и концент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образие задач, методы и приемы их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более полного представления о методах решения задач данного типа и научиться решать этими мет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я буду вооружен необходимым теоретическим материалом по данной теме, тогда и решения подобных задач не вызовут у меня затруднения, и ее решение  будет для меня  как объект конструирования и изобре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84360" y="69228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исторический и теоретический материал по интересующему вопр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крыть некоторые методы решения  задач на концентрацию, смеси и спл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практическое применение та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план дальнейшей работы над 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«В парикмахерск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8920" y="1484280"/>
            <a:ext cx="7078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т ли алгебра понадобиться  в парикмахерско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азывается, такие случаи бывают. Мне пришлось убедиться в этом, когда однажды в парикмахерской   подошел ко мне мастер с неожиданной просьб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Не поможете ли нам разрешить задачу, с которой мы никак не справим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Уж сколько раствора испортили из-за этого!- добавил друг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В чем зад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У нас имеется два раствора перекиси водорода: 30%- ный и  3 % -ный. Нужно их смешать так, чтобы  составился 12% -ный раствор. Не  можем подыскать правильной пропорци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е дали бумажку, и требуемая пропорция была найде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оказалась  очень простой. Какой имен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684360" y="141300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рождения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7 марта 1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Место рождения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Англия, Лон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смерти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7 апреля 1936 (79 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Страна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 Великобр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Научная сфера: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математика, 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Награды и преми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аль Дарвина (18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403280" y="620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ного  о Карле Пирс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дающийся английский матема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о Пирсоне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714240" y="428760"/>
            <a:ext cx="78091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ешении задач на растворы с разными концентрациями чаще всего применяют квадрат Пирс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счётах записывают одну над другой массовые доли растворённого вещества в исходных растворах, справа между ними – его массовую долю в растворе, который нужно приготовить, и вычитают по диагонали из большего меньше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сти их вычитаний показывают массовые доли для первого и второго растворов, необходимые для приготовления нужн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9"/>
          <p:cNvGrpSpPr/>
          <p:nvPr/>
        </p:nvGrpSpPr>
        <p:grpSpPr>
          <a:xfrm>
            <a:off x="3000240" y="4857840"/>
            <a:ext cx="3286440" cy="1134000"/>
            <a:chOff x="3000240" y="4857840"/>
            <a:chExt cx="3286440" cy="1134000"/>
          </a:xfrm>
        </p:grpSpPr>
        <p:sp>
          <p:nvSpPr>
            <p:cNvPr id="54" name="TextBox 5"/>
            <p:cNvSpPr/>
            <p:nvPr/>
          </p:nvSpPr>
          <p:spPr>
            <a:xfrm>
              <a:off x="3000240" y="4857840"/>
              <a:ext cx="328644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1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      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—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3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2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      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—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Группа 8"/>
            <p:cNvGrpSpPr/>
            <p:nvPr/>
          </p:nvGrpSpPr>
          <p:grpSpPr>
            <a:xfrm>
              <a:off x="3428280" y="5071320"/>
              <a:ext cx="1215000" cy="572400"/>
              <a:chOff x="3428280" y="5071320"/>
              <a:chExt cx="1215000" cy="572400"/>
            </a:xfrm>
          </p:grpSpPr>
          <p:cxnSp>
            <p:nvCxnSpPr>
              <p:cNvPr id="56" name="Прямая со стрелкой 7"/>
              <p:cNvCxnSpPr/>
              <p:nvPr/>
            </p:nvCxnSpPr>
            <p:spPr>
              <a:xfrm>
                <a:off x="3428280" y="507168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7" name="Прямая со стрелкой 8"/>
              <p:cNvCxnSpPr/>
              <p:nvPr/>
            </p:nvCxnSpPr>
            <p:spPr>
              <a:xfrm>
                <a:off x="4214160" y="542916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8" name="Прямая со стрелкой 10"/>
              <p:cNvCxnSpPr/>
              <p:nvPr/>
            </p:nvCxnSpPr>
            <p:spPr>
              <a:xfrm flipV="1">
                <a:off x="3428280" y="542880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9" name="Прямая со стрелкой 11"/>
              <p:cNvCxnSpPr/>
              <p:nvPr/>
            </p:nvCxnSpPr>
            <p:spPr>
              <a:xfrm flipV="1">
                <a:off x="4214160" y="507132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1" descr=""/>
          <p:cNvPicPr/>
          <p:nvPr/>
        </p:nvPicPr>
        <p:blipFill>
          <a:blip r:embed="rId1"/>
          <a:stretch/>
        </p:blipFill>
        <p:spPr>
          <a:xfrm>
            <a:off x="3322800" y="4968720"/>
            <a:ext cx="2523960" cy="1103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6" descr=""/>
          <p:cNvPicPr/>
          <p:nvPr/>
        </p:nvPicPr>
        <p:blipFill>
          <a:blip r:embed="rId2"/>
          <a:stretch/>
        </p:blipFill>
        <p:spPr>
          <a:xfrm>
            <a:off x="3316320" y="4400640"/>
            <a:ext cx="2535120" cy="109836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41"/>
          <p:cNvGrpSpPr/>
          <p:nvPr/>
        </p:nvGrpSpPr>
        <p:grpSpPr>
          <a:xfrm>
            <a:off x="2856960" y="1285560"/>
            <a:ext cx="3501000" cy="3500640"/>
            <a:chOff x="2856960" y="1285560"/>
            <a:chExt cx="3501000" cy="3500640"/>
          </a:xfrm>
        </p:grpSpPr>
        <p:sp>
          <p:nvSpPr>
            <p:cNvPr id="63" name="Прямая соединительная линия 9"/>
            <p:cNvSpPr/>
            <p:nvPr/>
          </p:nvSpPr>
          <p:spPr>
            <a:xfrm flipH="1" flipV="1">
              <a:off x="2857320" y="1285560"/>
              <a:ext cx="3500280" cy="3500280"/>
            </a:xfrm>
            <a:prstGeom prst="line">
              <a:avLst/>
            </a:prstGeom>
            <a:ln w="2232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Группа 39"/>
            <p:cNvGrpSpPr/>
            <p:nvPr/>
          </p:nvGrpSpPr>
          <p:grpSpPr>
            <a:xfrm>
              <a:off x="2856960" y="1285560"/>
              <a:ext cx="3501000" cy="3500640"/>
              <a:chOff x="2856960" y="1285560"/>
              <a:chExt cx="3501000" cy="3500640"/>
            </a:xfrm>
          </p:grpSpPr>
          <p:sp>
            <p:nvSpPr>
              <p:cNvPr id="65" name="Прямоугольник 3"/>
              <p:cNvSpPr/>
              <p:nvPr/>
            </p:nvSpPr>
            <p:spPr>
              <a:xfrm>
                <a:off x="2857680" y="1285920"/>
                <a:ext cx="3500280" cy="3500280"/>
              </a:xfrm>
              <a:prstGeom prst="rect">
                <a:avLst/>
              </a:prstGeom>
              <a:noFill/>
              <a:ln cap="rnd" w="38160">
                <a:solidFill>
                  <a:srgbClr val="31859c"/>
                </a:solidFill>
                <a:miter/>
              </a:ln>
              <a:effectLst>
                <a:outerShdw dist="38160" dir="108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Прямая соединительная линия 8"/>
              <p:cNvSpPr/>
              <p:nvPr/>
            </p:nvSpPr>
            <p:spPr>
              <a:xfrm flipV="1">
                <a:off x="2856960" y="1285560"/>
                <a:ext cx="3500280" cy="3500280"/>
              </a:xfrm>
              <a:prstGeom prst="line">
                <a:avLst/>
              </a:prstGeom>
              <a:ln w="2232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67" name="Прямая со стрелкой 4"/>
          <p:cNvCxnSpPr/>
          <p:nvPr/>
        </p:nvCxnSpPr>
        <p:spPr>
          <a:xfrm flipV="1">
            <a:off x="2857680" y="3071160"/>
            <a:ext cx="1643760" cy="164196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pic>
        <p:nvPicPr>
          <p:cNvPr id="68" name="Прямоугольник 18" descr=""/>
          <p:cNvPicPr/>
          <p:nvPr/>
        </p:nvPicPr>
        <p:blipFill>
          <a:blip r:embed="rId3"/>
          <a:stretch/>
        </p:blipFill>
        <p:spPr>
          <a:xfrm>
            <a:off x="1122480" y="255600"/>
            <a:ext cx="2273040" cy="11034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0" descr=""/>
          <p:cNvPicPr/>
          <p:nvPr/>
        </p:nvPicPr>
        <p:blipFill>
          <a:blip r:embed="rId4"/>
          <a:stretch/>
        </p:blipFill>
        <p:spPr>
          <a:xfrm>
            <a:off x="1054080" y="4260960"/>
            <a:ext cx="2249640" cy="11030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1" descr=""/>
          <p:cNvPicPr/>
          <p:nvPr/>
        </p:nvPicPr>
        <p:blipFill>
          <a:blip r:embed="rId5"/>
          <a:stretch/>
        </p:blipFill>
        <p:spPr>
          <a:xfrm>
            <a:off x="3340080" y="1828800"/>
            <a:ext cx="289548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2" descr=""/>
          <p:cNvPicPr/>
          <p:nvPr/>
        </p:nvPicPr>
        <p:blipFill>
          <a:blip r:embed="rId6"/>
          <a:stretch/>
        </p:blipFill>
        <p:spPr>
          <a:xfrm>
            <a:off x="6083280" y="255600"/>
            <a:ext cx="121932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3" descr=""/>
          <p:cNvPicPr/>
          <p:nvPr/>
        </p:nvPicPr>
        <p:blipFill>
          <a:blip r:embed="rId7"/>
          <a:stretch/>
        </p:blipFill>
        <p:spPr>
          <a:xfrm>
            <a:off x="6004080" y="4327560"/>
            <a:ext cx="1201680" cy="110340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32"/>
          <p:cNvCxnSpPr/>
          <p:nvPr/>
        </p:nvCxnSpPr>
        <p:spPr>
          <a:xfrm flipV="1">
            <a:off x="4571640" y="1285560"/>
            <a:ext cx="1786680" cy="171216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sp>
        <p:nvSpPr>
          <p:cNvPr id="74" name="TextBox 36"/>
          <p:cNvSpPr/>
          <p:nvPr/>
        </p:nvSpPr>
        <p:spPr>
          <a:xfrm>
            <a:off x="3340080" y="5716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7"/>
          <p:cNvCxnSpPr/>
          <p:nvPr/>
        </p:nvCxnSpPr>
        <p:spPr>
          <a:xfrm>
            <a:off x="4570920" y="2999880"/>
            <a:ext cx="1786680" cy="178668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cxnSp>
        <p:nvCxnSpPr>
          <p:cNvPr id="76" name="Прямая со стрелкой 12"/>
          <p:cNvCxnSpPr/>
          <p:nvPr/>
        </p:nvCxnSpPr>
        <p:spPr>
          <a:xfrm>
            <a:off x="2857320" y="1285920"/>
            <a:ext cx="1641960" cy="164376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sp>
        <p:nvSpPr>
          <p:cNvPr id="77" name="Номер слайда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AACC-3892-4AEF-B97F-86DE05025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684360" y="141300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рождения: 19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166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Место рождения: город Осташков, 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смерти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13 октября 1739 (7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Страна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 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Научная сфера: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1403280" y="620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ного о Леонтии Магницк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дающийся русский матема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о Пирсоне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1\Desktop\210646002.jpg"/>
          <p:cNvPicPr/>
          <p:nvPr/>
        </p:nvPicPr>
        <p:blipFill>
          <a:blip r:embed="rId1"/>
          <a:stretch/>
        </p:blipFill>
        <p:spPr>
          <a:xfrm>
            <a:off x="5003640" y="126828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08:00:13Z</dcterms:created>
  <dc:creator>admin</dc:creator>
  <dc:description/>
  <dc:language>en-US</dc:language>
  <cp:lastModifiedBy>Гость</cp:lastModifiedBy>
  <dcterms:modified xsi:type="dcterms:W3CDTF">2019-11-16T02:04:10Z</dcterms:modified>
  <cp:revision>115</cp:revision>
  <dc:subject/>
  <dc:title>Слайд 1</dc:title>
</cp:coreProperties>
</file>