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6B3-9575-4A63-800B-EB0B9C64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B37-8782-40DE-A82A-0DC90A9D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76C-2E52-46CE-9A1B-1D9CCD04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464-CFBE-4E13-9B6D-0B5DFB30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02C-9D79-4A89-A189-4B134F84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419-5872-47D0-9D93-5FAED820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A25-9BFC-4669-B5C5-3C5D775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320-366A-4AFB-859C-7F8165A8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452-3453-4BF3-8A35-E8416364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B41-82A9-4C08-A850-B88D0A6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414-AF9B-4143-94D8-FA830790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0FD-3DD6-4E0D-B079-21C9D0E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FE4B-56F2-459C-8EC8-6038D92A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4149360"/>
            <a:ext cx="410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л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ник 1 Е класса Трофимов Родион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3743280" cy="4730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5280" y="765000"/>
            <a:ext cx="4681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гуречни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огур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16360" y="160020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вощ, не секр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м известен с древ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еки звали  «агурос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не созревший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у-то друз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сегда зеле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944720" cy="41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76720" y="1773360"/>
            <a:ext cx="475128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римский император Тиберей, очень любил огурец на завтрак, обед и на ужин. И проходилось растить огурцы на тележках, перевозя с места на места, где солнца лучи очень сильно греют, и нет холодных в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99920"/>
            <a:ext cx="71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2376360" cy="37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907920"/>
            <a:ext cx="6048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ас огурец при Петре уж прижи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аз он издал, чтоб растили 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тех пор и растил, да и любил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79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, спросишь ты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А вот сам послуш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16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м вода, что по составу, может токсины раст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м витамины В, С, каротин, микро – элемен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еще там калий есть, что для сердца и для почек очень уж незамени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36720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Йод там есть друзья, нам без него, никак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3744720" cy="3068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03280" y="155736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любит огуре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го употреблять, надо точно братцы зн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свежим, прямо с грядки, только вымыть не заб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2448000" cy="496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476000" y="1599840"/>
            <a:ext cx="3600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сделать нам  салат, положив томат и лу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1767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в бочке засолить, а потом зимой откры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3240360" cy="3457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т совет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наших м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337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сделать и лосьон, для лица обыкнов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маски  и компрессы для лица, для  глаз и ше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2880000" cy="41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560" y="1268280"/>
            <a:ext cx="41050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 можно говорить, рассуждать, да и хвал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то скажем, мы друзья, ОГУРЕЦ – это просто МОЛОД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240360" cy="5408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7:51:24Z</dcterms:created>
  <dc:creator>Ляля</dc:creator>
  <dc:description/>
  <dc:language>en-US</dc:language>
  <cp:lastModifiedBy>ноут</cp:lastModifiedBy>
  <dcterms:modified xsi:type="dcterms:W3CDTF">2015-10-13T23:08:30Z</dcterms:modified>
  <cp:revision>7</cp:revision>
  <dc:subject/>
  <dc:title>Огуречник!</dc:title>
</cp:coreProperties>
</file>