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F94-291D-4C22-A566-D891A221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02F-08F8-4F33-BD72-ED13BC90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9CB-3BF2-4A29-AEEA-90BA5213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115-930F-4EED-85D8-989FF40F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E6DD-C0E5-480F-881D-A816F7F2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06BF-3770-47CE-B90E-0638E147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A477-0CC9-484C-A042-C67FBB1F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5008-E539-4CAB-9686-F371BFF3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0B15-DC7F-4A49-9637-096AAB1C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0545-5C68-4EB2-AD21-7C7441CD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C786-DE4E-454F-B81F-4B1B2FD9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F6C-4569-496F-A70B-9A187BF5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9A87-47E7-43B9-9D50-19018FC0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20D3-3579-433C-A2CE-92C21606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7FF2-C61F-42DB-B3E6-44ECF842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7ABF-3CD3-4D61-BA04-D015B6E0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3960-E6BE-420F-A3E7-D4D1C40A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B1E-3E6D-40AD-AA50-658468FE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E61-09B0-4305-8B62-7237ECC2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2B7-520F-4A4F-A371-09D7C896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47C6-0F02-40AA-AB13-C04E1D73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BB3-0A1D-4027-8897-70C6AF42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CE6-218A-4CD5-B751-72F10507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4DA-2519-4D04-92E0-766C6152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6BD5-FA53-4D1D-B608-53EFD17FCDA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8C91-1CB2-4C45-9E24-C48A44524C2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26920" y="1125360"/>
            <a:ext cx="75614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Падеж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име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уществительны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55640" y="134136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Что нужно сделать, чтобы правильно определить падеж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3720" y="404640"/>
            <a:ext cx="790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Чтобы правильно определи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адеж, нужн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1916280"/>
            <a:ext cx="8064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бедиться, что это имя существительн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йти слово, к которому относится существительн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ставить от этого слова к существительному падежные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если  Вы задаете смысловые вопросы, то обязательно нужно добавить падеж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4360" y="692280"/>
            <a:ext cx="792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Благод..рить (зима) за (радость); благодарный (зима); радоваться (весна); радость (от весн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765000"/>
            <a:ext cx="7559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нег покрывает</a:t>
            </a:r>
            <a:r>
              <a:rPr b="0" lang="ru-RU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сад. Зимний закат поз..лотил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небо. Тучи закрыли ф..вральское</a:t>
            </a:r>
            <a:r>
              <a:rPr b="0" lang="ru-RU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со..нц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Фотомагистраль - Картинная галерея - ЖД в изобразительном искусстве"/>
          <p:cNvPicPr/>
          <p:nvPr/>
        </p:nvPicPr>
        <p:blipFill>
          <a:blip r:embed="rId1"/>
          <a:stretch/>
        </p:blipFill>
        <p:spPr>
          <a:xfrm>
            <a:off x="1332000" y="0"/>
            <a:ext cx="6408720" cy="4309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43657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Остр..конечные темно- зеленые _____ тянут(?)ся к золотисто-розовому  ______ . 2. На высоком ______ прот..нулась железная ______ . 3. В лесу в..днеет(?)ся небольшой двухэтажный ______ . 4. Особенно четко художник изобразил синие _____ на подтаявшем ______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1197000"/>
            <a:ext cx="820728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им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троконечные темно-зелены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л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тянутся к золотисто-розов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д.п.)                          (п.п)                                        (им.п.)          (п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еб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2. На высоком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холм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протянулась железная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рог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3. В ле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им.п.)                                  (им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иднеется небольшой двухэтажный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мик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4. Особенно четко худож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в.п.)                            (п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образил сини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ен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на подтаявшем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нег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68360" y="476280"/>
            <a:ext cx="82072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тоги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 -13 баллов – оценка «5». 9-11 баллов – оценка «4». 7-8 баллов – оценка «3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мею отличать имена существительные от других частей речи. (Не умею, затрудняюс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мею находить слово, с которым связано существительное. (Не умею, затрудняюс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наю и умею задавать падежные вопросы. (Не умею, затрудняюс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360" y="765000"/>
            <a:ext cx="75596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машнее зад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по выбор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пр. 5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ставить предложения по картине Г.Г. Нисского «Февраль. Подмосковье», определить падежи имен существите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11:55:16Z</dcterms:created>
  <dc:creator>Я</dc:creator>
  <dc:description/>
  <dc:language>en-US</dc:language>
  <cp:lastModifiedBy>Я</cp:lastModifiedBy>
  <dcterms:modified xsi:type="dcterms:W3CDTF">2015-02-16T21:24:57Z</dcterms:modified>
  <cp:revision>3</cp:revision>
  <dc:subject/>
  <dc:title>Слайд 1</dc:title>
</cp:coreProperties>
</file>