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E23-6FA0-4E54-83B7-399CF448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BD3-0D9D-4D8D-ACB8-D1C95A2E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9BD-A180-4A89-9733-A499E489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EA9-139F-4CC7-B113-4543E545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A716-1C58-40C5-A58B-F8D081C5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7B3B-F8A3-4F2B-A79E-0853E93A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C05B-5F45-40E5-B483-6C79725C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8C16-11B1-4117-B32B-71ED5629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CCA1-704A-46AF-99C4-311B5AFC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7649-953A-43F6-B422-7330AB2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B7A1-B194-45CC-BFB2-F6D1A67B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273-B813-4E84-9F89-4A41167E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A722-5AA7-417A-91F0-1F8BFB30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CA86-C639-4497-94C8-93E62B35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F04B-7929-43BB-8930-48442A0F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EC16-26F3-4EEA-BC1B-93AE58B9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9C45-A246-41B1-9EDB-85A54802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74F-1487-4632-A067-1828DC8E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0FC-6E5D-403B-8E51-08F0542E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067-F8B4-4AC5-9340-B8E81AC8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918-308E-43BF-8417-3B18C5E4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EE2-1DE0-446C-B61D-34AB496B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03C-A72F-44A9-8BEC-25244816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73F-D5AD-4834-A773-2065E979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AB75-8960-4D51-B5EC-99E60F64F14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1610-EA44-4279-A7B9-846DBF0135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26920" y="1125360"/>
            <a:ext cx="7561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Падеж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име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уществительны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55640" y="1341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Что нужно сделать, чтобы правильно определить падеж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3720" y="404640"/>
            <a:ext cx="790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Чтобы правильно определ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адеж, нуж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1916280"/>
            <a:ext cx="8064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бедиться, что это имя существитель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йти слово, к которому относится существитель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ставить от этого слова к существительному падежные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если  Вы задаете смысловые вопросы, то обязательно нужно добавить падеж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4360" y="69228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лагод..рить (зима) за (радость); благодарный (зима); радоваться (весна); радость (от весн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765000"/>
            <a:ext cx="7559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нег покрывает</a:t>
            </a:r>
            <a:r>
              <a:rPr b="0" lang="ru-RU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сад. Зимний закат поз..лотил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небо. Тучи закрыли ф..вральское</a:t>
            </a:r>
            <a:r>
              <a:rPr b="0" lang="ru-RU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со..нц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Фотомагистраль - Картинная галерея - ЖД в изобразительном искусстве"/>
          <p:cNvPicPr/>
          <p:nvPr/>
        </p:nvPicPr>
        <p:blipFill>
          <a:blip r:embed="rId1"/>
          <a:stretch/>
        </p:blipFill>
        <p:spPr>
          <a:xfrm>
            <a:off x="1332000" y="0"/>
            <a:ext cx="6408720" cy="4309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4365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Остр..конечные темно- зеленые _____ тянут(?)ся к золотисто-розовому  ______ . 2. На высоком ______ прот..нулась железная ______ . 3. В лесу в..днеет(?)ся небольшой двухэтажный ______ . 4. Особенно четко художник изобразил синие _____ на подтаявшем ______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1197000"/>
            <a:ext cx="820728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им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троконечные темно-зелены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л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тянутся к золотисто-роз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д.п.)                          (п.п)                                        (им.п.)          (п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еб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2. На высоком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холм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ротянулась железная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рог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3. В ле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им.п.)                                  (им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днеется небольшой двухэтажный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ми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4. Особенно четко худож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в.п.)                            (п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образил сини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ен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на подтаявшем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нег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8360" y="476280"/>
            <a:ext cx="82072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тог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-13 баллов – оценка «5». 9-11 баллов – оценка «4». 7-8 баллов – оценка «3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мею отличать имена существительные от других частей речи. (Не умею, затрудняю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мею находить слово, с которым связано существительное. (Не умею, затрудняю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наю и умею задавать падежные вопросы. (Не умею, затрудняю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765000"/>
            <a:ext cx="7559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по выбор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пр. 5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авить предложения по картине Г.Г. Нисского «Февраль. Подмосковье», определить падежи имен существ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1:55:16Z</dcterms:created>
  <dc:creator>Я</dc:creator>
  <dc:description/>
  <dc:language>en-US</dc:language>
  <cp:lastModifiedBy>Я</cp:lastModifiedBy>
  <dcterms:modified xsi:type="dcterms:W3CDTF">2015-02-16T21:24:57Z</dcterms:modified>
  <cp:revision>3</cp:revision>
  <dc:subject/>
  <dc:title>Слайд 1</dc:title>
</cp:coreProperties>
</file>