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8EE7-C5AC-49D6-ABAB-091C48EB0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F6F8-BC40-41E6-B28C-7CBBCBA6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520F-AA4E-47A2-9E4A-CB06E69FD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808B-6FD9-4E07-B1FB-1BA6157C2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5A2E-DDB9-48D4-95D1-45A5BFB8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C1D1-2197-46A5-B89E-0B6317B4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9D48-7133-4083-A02A-4F0546C0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6FEA-3A09-4370-B88D-52565CE1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DB6E-9701-4D35-ADE1-FAD3F7E5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6504-8625-475D-B12C-76238F00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493C-6C03-4EBE-8D15-D13FD5B2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50C4-5E43-4591-86DE-B695F8DE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65D4-3F93-4FE3-970F-1FDD073C20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371600" y="990720"/>
            <a:ext cx="6781680" cy="348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ила поведени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 возникновении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ррористического акт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2185920" y="4876920"/>
            <a:ext cx="49006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335304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Не приближаться к обнаруженному предмету, не трогать его и не подпускать других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Немедленно сообщить в дежурные службы органов МВД, ФСБ, ГО и ЧС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Из-за возможного срабатывания радиоуправляемого взрывателя не пользоваться пейджерами, сотовыми телефонами, рациями.</a:t>
            </a:r>
            <a:br>
              <a:rPr sz="20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terror_pov_2"/>
          <p:cNvPicPr/>
          <p:nvPr/>
        </p:nvPicPr>
        <p:blipFill>
          <a:blip r:embed="rId1"/>
          <a:stretch/>
        </p:blipFill>
        <p:spPr>
          <a:xfrm>
            <a:off x="3733920" y="1143000"/>
            <a:ext cx="4952880" cy="49528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3809880" y="152280"/>
            <a:ext cx="487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При обнаружении подозрительного предмета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5028840" y="304920"/>
            <a:ext cx="38098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ри угрозе совершения терракта действуйте в соответствии с планом эваку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Во время эвакуации не допускайте паники, оказывайте необходимую помощь друг дру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terror_pov_1"/>
          <p:cNvPicPr/>
          <p:nvPr/>
        </p:nvPicPr>
        <p:blipFill>
          <a:blip r:embed="rId1"/>
          <a:stretch/>
        </p:blipFill>
        <p:spPr>
          <a:xfrm>
            <a:off x="533520" y="1981080"/>
            <a:ext cx="3962160" cy="35053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304920" y="457200"/>
            <a:ext cx="4190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Правила поведения при возникновении террористического а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38098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О начале штурма могут свидетельствова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кий отвлекающий звук (взрыв, сире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янувшаяся пауза в ходе перегов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старайтесь расположиться подальше от окон и двере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Лягте или сядьте сложив руки на затылке. В руках не должно быть никаких предме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4038480" cy="39621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4419720" y="623880"/>
            <a:ext cx="50497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При начале штур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029200" y="685800"/>
            <a:ext cx="3657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райтесь запомнить как можно больше о террористах, их число, вооруженность, телосложение, темперамент, манеру речи, акцент и т.п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Не оказывайте сопротивления, выполняйте все требовани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Не пытайтесь убежать, если нет полной уверенности в успех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Не вмешивайтесь в переговоры, не пытайтесь вести их самостояте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terror_pov_9"/>
          <p:cNvPicPr/>
          <p:nvPr/>
        </p:nvPicPr>
        <p:blipFill>
          <a:blip r:embed="rId1"/>
          <a:stretch/>
        </p:blipFill>
        <p:spPr>
          <a:xfrm>
            <a:off x="457200" y="2438280"/>
            <a:ext cx="4419720" cy="35053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228600" y="9144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Если вы заложни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52280" y="609480"/>
            <a:ext cx="3657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окинув здание не возвращайтесь в него за забытыми вещами или по другим причинам, так как за первым взрывом может последовать второ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Не обнаружив среди спасшихся товарища, укажите спасателям, где видели его перед взрыво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старайтесь уловить звуковой фон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кажите пострадавшим первую медицинскую помощ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terror_pov_8"/>
          <p:cNvPicPr/>
          <p:nvPr/>
        </p:nvPicPr>
        <p:blipFill>
          <a:blip r:embed="rId1"/>
          <a:stretch/>
        </p:blipFill>
        <p:spPr>
          <a:xfrm>
            <a:off x="4038480" y="1676520"/>
            <a:ext cx="480060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3962520" y="533520"/>
            <a:ext cx="5181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Если произошел взры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Если позвонили или прислали письмо с угрозой совершения теракта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419360" y="1219320"/>
            <a:ext cx="4267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остарайтесь запомнить точное содержание разговор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тметьте манеру речи, особенности голоса, характерные слова и оборот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старайтесь уловить звуковой фон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Не опуская трубку, позвоните на местную АТС для возможного определения номер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Срочно уведомите службу безопасности предприятия и правоохранительные орган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Письмо с угрозой не следует передавать другим сотрудник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3124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8-08-31T21:56:0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