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E389-53E5-49A7-B21B-CD3934B59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8D37-3149-481A-BDCD-DFB9B3DDB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EDEC-1D1E-4F68-B0C7-AB84119A9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A797-8A59-4F68-904E-0836548AB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3221-7BF5-4787-A432-8E0E4891B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D154-8AA9-41BE-9314-19976AA08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171E-9645-4D6E-A3A0-54F24A41B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B0EA-B33F-4F98-AC0B-4B558E2B5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A504-8A37-4A36-B695-77B4871DB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3AA5-884F-4144-8434-3E97855E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C923-4959-47F0-B8EF-454E0257B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48A2-8521-449F-A056-EB2131C19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ffff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E7E32-79DB-4EDD-9AB3-46FBB6B77A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371600" y="990720"/>
            <a:ext cx="6781680" cy="348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авила поведени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 возникновении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еррористического акт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2185920" y="4876920"/>
            <a:ext cx="490068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3353040" cy="620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Не приближаться к обнаруженному предмету, не трогать его и не подпускать других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Немедленно сообщить в дежурные службы органов МВД, ФСБ, ГО и ЧС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Из-за возможного срабатывания радиоуправляемого взрывателя не пользоваться пейджерами, сотовыми телефонами, рациями.</a:t>
            </a:r>
            <a:br>
              <a:rPr sz="20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terror_pov_2"/>
          <p:cNvPicPr/>
          <p:nvPr/>
        </p:nvPicPr>
        <p:blipFill>
          <a:blip r:embed="rId1"/>
          <a:stretch/>
        </p:blipFill>
        <p:spPr>
          <a:xfrm>
            <a:off x="3733920" y="1143000"/>
            <a:ext cx="4952880" cy="495288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5"/>
          <p:cNvSpPr/>
          <p:nvPr/>
        </p:nvSpPr>
        <p:spPr>
          <a:xfrm>
            <a:off x="3809880" y="152280"/>
            <a:ext cx="4876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При обнаружении подозрительного предмета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5028840" y="304920"/>
            <a:ext cx="380988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При угрозе совершения терракта действуйте в соответствии с планом эваку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Во время эвакуации не допускайте паники, оказывайте необходимую помощь друг друг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terror_pov_1"/>
          <p:cNvPicPr/>
          <p:nvPr/>
        </p:nvPicPr>
        <p:blipFill>
          <a:blip r:embed="rId1"/>
          <a:stretch/>
        </p:blipFill>
        <p:spPr>
          <a:xfrm>
            <a:off x="533520" y="1981080"/>
            <a:ext cx="3962160" cy="35053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5"/>
          <p:cNvSpPr/>
          <p:nvPr/>
        </p:nvSpPr>
        <p:spPr>
          <a:xfrm>
            <a:off x="304920" y="457200"/>
            <a:ext cx="4190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ff"/>
                </a:solidFill>
                <a:latin typeface="Arial"/>
              </a:rPr>
              <a:t>Правила поведения при возникновении террористического а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6840" y="609480"/>
            <a:ext cx="38098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О начале штурма могут свидетельствоват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зкий отвлекающий звук (взрыв, сире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тянувшаяся пауза в ходе перегов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Постарайтесь расположиться подальше от окон и дверей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Лягте или сядьте сложив руки на затылке. В руках не должно быть никаких предмет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4800600" y="2133720"/>
            <a:ext cx="4038480" cy="39621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4419720" y="623880"/>
            <a:ext cx="504972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Arial"/>
              </a:rPr>
              <a:t>При начале штурм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029200" y="685800"/>
            <a:ext cx="3657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арайтесь запомнить как можно больше о террористах, их число, вооруженность, телосложение, темперамент, манеру речи, акцент и т.п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Не оказывайте сопротивления, выполняйте все требования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Не пытайтесь убежать, если нет полной уверенности в успехе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Не вмешивайтесь в переговоры, не пытайтесь вести их самостоятель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terror_pov_9"/>
          <p:cNvPicPr/>
          <p:nvPr/>
        </p:nvPicPr>
        <p:blipFill>
          <a:blip r:embed="rId1"/>
          <a:stretch/>
        </p:blipFill>
        <p:spPr>
          <a:xfrm>
            <a:off x="457200" y="2438280"/>
            <a:ext cx="4419720" cy="35053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5"/>
          <p:cNvSpPr/>
          <p:nvPr/>
        </p:nvSpPr>
        <p:spPr>
          <a:xfrm>
            <a:off x="228600" y="9144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Если вы заложни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52280" y="609480"/>
            <a:ext cx="3657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Покинув здание не возвращайтесь в него за забытыми вещами или по другим причинам, так как за первым взрывом может последовать второй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Не обнаружив среди спасшихся товарища, укажите спасателям, где видели его перед взрывом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Постарайтесь уловить звуковой фон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Окажите пострадавшим первую медицинскую помощ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terror_pov_8"/>
          <p:cNvPicPr/>
          <p:nvPr/>
        </p:nvPicPr>
        <p:blipFill>
          <a:blip r:embed="rId1"/>
          <a:stretch/>
        </p:blipFill>
        <p:spPr>
          <a:xfrm>
            <a:off x="4038480" y="1676520"/>
            <a:ext cx="4800600" cy="41148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5"/>
          <p:cNvSpPr/>
          <p:nvPr/>
        </p:nvSpPr>
        <p:spPr>
          <a:xfrm>
            <a:off x="3962520" y="533520"/>
            <a:ext cx="51814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Arial"/>
              </a:rPr>
              <a:t>Если произошел взры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Arial"/>
              </a:rPr>
              <a:t>Если позвонили или прислали письмо с угрозой совершения теракта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419360" y="1219320"/>
            <a:ext cx="4267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Постарайтесь запомнить точное содержание разговор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Отметьте манеру речи, особенности голоса, характерные слова и обороты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Постарайтесь уловить звуковой фон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Не опуская трубку, позвоните на местную АТС для возможного определения номер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Срочно уведомите службу безопасности предприятия и правоохранительные органы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Письмо с угрозой не следует передавать другим сотрудник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31240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8-08-31T21:56:03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