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E65F-B26A-4466-9D0D-B3AF4E7D3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9AEB-E5DA-4233-AE6D-AC74931F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C4A7-0214-498E-B746-980D3A628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BE7A-5077-422D-A7DA-FBD1B7FAB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DB35-AB91-4424-81C6-C0A9B694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A9EF-9C00-41EC-9522-FFDD4169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9121-6C6A-4E68-B0D7-9B0E5700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2DB7-9F79-4BAC-B4A5-9F4C3AA7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5A68-1F62-49B8-B0B1-73C09280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17C2-6309-4743-B539-F4B702AD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694A-8EC3-44CC-B59B-F768CDDF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2A56-FB75-4BFC-9889-E00EF09C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EE3D-E750-4B89-87FB-F825A3F38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404640"/>
            <a:ext cx="72723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емья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жизни каждого человека занимает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ое место.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63928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735120"/>
            <a:ext cx="91440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44440"/>
            <a:ext cx="8818560" cy="66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096480" cy="60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27T07:36:23Z</dcterms:created>
  <dc:creator>user</dc:creator>
  <dc:description/>
  <dc:language>en-US</dc:language>
  <cp:lastModifiedBy>user</cp:lastModifiedBy>
  <dcterms:modified xsi:type="dcterms:W3CDTF">2019-11-27T07:43:51Z</dcterms:modified>
  <cp:revision>2</cp:revision>
  <dc:subject/>
  <dc:title>Слайд 1</dc:title>
</cp:coreProperties>
</file>