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B19-01E7-4484-ADD5-35E06FDC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2D0-84B8-471E-9ECA-664BF74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CE8-6B8E-4832-BF04-4D2F629E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078-8094-465D-A2EA-8F718CFA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DCF-444B-433C-9663-DC8387C8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868-4436-404D-A5B0-AAFAA99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1DA-900F-4819-AAF9-8076AC6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D17-CCF3-4B64-ABFE-2BBCF5E4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040-45F2-4AEE-8CAB-21228073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A24-29DD-4D4D-A830-709AAD87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C0D-CB92-4C8C-8579-CB0444AE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059-BC15-4242-8B0C-0074D67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0EEA-186C-4E56-8E0E-B2F6B8FE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04640"/>
            <a:ext cx="7272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ья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жизни каждого человека занимает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ое место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6392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44440"/>
            <a:ext cx="88185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9648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7T07:36:23Z</dcterms:created>
  <dc:creator>user</dc:creator>
  <dc:description/>
  <dc:language>en-US</dc:language>
  <cp:lastModifiedBy>user</cp:lastModifiedBy>
  <dcterms:modified xsi:type="dcterms:W3CDTF">2019-11-27T07:43:51Z</dcterms:modified>
  <cp:revision>2</cp:revision>
  <dc:subject/>
  <dc:title>Слайд 1</dc:title>
</cp:coreProperties>
</file>