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3AD2-DBBC-442D-90C4-05FED6F80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F3C3-4349-41ED-A70D-37B467B939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чит спокойная мело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5DE5-CCE9-4E94-8C6D-FB7C7D421E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Вы согласны с такими  высказываниями? Почему? (коллеги высказывают свое мнение) - А как вы заботитесь о своем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A5A6-8805-4539-8C88-8509BFA4D9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9C99-6169-4D5A-BCBD-143FDC2083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читаю предложение. Если оно подходит к вам, ставьте +, если нет -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35C9-2682-411C-952F-66BBEC95F6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1343-B71B-44EB-B535-F6F1FAB5DA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ТИВ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помощ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оздушного шарика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й перекидывают друг другу выяснить, что является главным  в жизни каждого в данном классе.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ез чего человек не может достичь вышеназванных це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Ь ПРОБЛЕМУ. (Варианты ответов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.- Без здоровья очень трудно достичь чего-либо, поэтому оно является - одним из  главных жизненных ценносте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ращает внимание коллег на тему урока, записанную на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 чём сегодня пойдёт речь на уроке?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егодня мы выясним,  из чего же складывается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5FE4-CE02-4261-99DD-895343168F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ЦЕЛЕПОЛАГАНИЕ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82AB-D38D-47E4-A08D-BB3F0EAFE0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ллеги! Сегодня в нашей стране одной из волнующих тем является тема здоровья. Болезни, травматизм, последствия вредных привычек лишают молодых людей возможности стать полноценными и полезными членами общества, государства, становятся личной трагедией и трагедией сем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се мы прекрасно понимаем, что здоровье надо беречь – этому нас учат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о не все понимают, что здоровье – это не только отсутствие болезней, а поэтому, нарушая общечеловеческие, духовные, нравственные и иные законы, попадают в ситуацию, когда и физическое здоровье уже начинает утрачивать смысл. Почему так получается? Может мы чего-то недопонима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- Какой смысл мы вкладываем в понятие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EFB1-8F5D-4E51-BD3C-DE444C9C5A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-Попробуйте дать определение здоровью. (Варианты ответов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E97E-A4B1-4E1F-885D-A75E978C8F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994A-149C-48F4-A0C7-3C518AFCEB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ель здоровья в виде цвет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оотносит её с записями на доске и говорит о взаимосвязи всех аспектов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зическое здоровь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стественное состояние организма, когда все показатели деятельности органов и систем соответствуют полу и возра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теллектуальное здоровье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человека мысл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моциональное здоровье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ность противостоять стрес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чностное здоровье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ность осознавать себя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циальное здоровье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мение адаптироваться среди людей, роль в обществе, семье, школе, 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уховное здоровье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суть нашего существования на планете, то, что действительно важно для нас. Это центр нашей жизни, обеспечивающий целостность нашей личности, позволяющий понять другие аспекты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D3F-99F1-4073-A520-CC4F3115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37E-E9BA-4B59-9C82-63FC2043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A69-40CC-46F8-99D4-51AC09BC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7BA-CD4F-4E44-9D70-3E3BA97C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6746-E38A-44B1-BE2B-D4FB5B0A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0376-7D31-46AB-B4D2-AF6A0F2B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FF10-3721-418B-8FB8-53E77C33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BD5F-27C7-4CA0-9E8D-7D71C4DC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ACCA-9CE3-4451-87C5-E58C6E89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9E5A-BA96-4EFA-8EFF-C34754F0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3D60-0299-459D-B87C-B3CF779F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9C3-F86B-4E31-8659-66A3064A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E966-A630-4EDB-B36E-9A36EAB2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2840-4112-4835-BABC-56E19031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999B-78B8-4A22-AE22-10795A97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6DCE-1F51-4397-A938-CE252A5C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0895-D03A-4B89-B03D-B5E089ED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9BB-5A90-45B0-AB15-899FBF75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DF0-4809-4A5A-B0E7-A312EBD0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CB7-F7A0-4EE3-A5CD-3536A2EA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848-89A3-4A05-9F2D-849DB275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8D2-61CC-4720-A295-822845A8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CDE-105B-4E9D-B63E-C1B7DFF7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FD5-F0C6-48BB-99E5-F1FCF8E4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E95B-C4BD-4F4A-AF13-F08095CB16C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3BAF-AEB8-4B4F-93E9-9B03A883C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EB93-7837-4D1E-A115-B95E11C1CB2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D187-BEB2-41C4-BF21-4F97C75CD3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3292-448F-49DE-844B-4C402A5F04C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E6DB-205A-44D8-B171-541886A698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F298-615C-49BC-826E-5A80ACB772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85920" y="244080"/>
            <a:ext cx="75564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Здоровье - дороже золота.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В. Шекспир)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Девять десятых нашего счастья зависит от здоровья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(А. Шопенгауэр)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Здоровье - это единственная драгоценность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(Монтель)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800"/>
            </a:br>
            <a:br>
              <a:rPr sz="40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ысказывания мудрых: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71680" y="981000"/>
            <a:ext cx="824832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Деньги потерял – ничего не потерял, время потерял – многое потерял, здоровье потерял – все потерял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Здоровье – это достояние каждого человека, которое надо беречь и преумножать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Тест “Оцени себя сам”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Если положение подходит к вам, ставьте +, если нет - .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0" i="1" lang="ru-RU" sz="2000" spc="-1" strike="noStrike" u="sng">
                <a:solidFill>
                  <a:srgbClr val="0066ff"/>
                </a:solidFill>
                <a:uFillTx/>
                <a:latin typeface="Arial"/>
              </a:rPr>
              <a:t>ЗОЛОТЫЕ ПРАВИЛА ЗДОРОВЬЯ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никогда не кур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всегда завтрак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ем не спеш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не переед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никогда не злоупотребляю алкогол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сплю не менее 8 часов в су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поддерживаю нормальную массу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знаю показатели своего здоров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ежедневно хожу пеш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никогда не раздражаюсь и не выхожу из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9265-6CF3-4E69-B3B0-CFC931B565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дсчитайте,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колько вы набрали +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10-9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вы хорошо заботитесь о своем здоровье, МОЛОДЦ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7-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Вы что-то не умеете делать? Дайте себе слово, что обязательно научитесь и будете выполнять «золотые правила ЗОЖ». Посещайте спортивные секции, больше гуляйте на свежем воздухе, правильно питайт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2D0B-7132-4032-B206-086A073904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84872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ЗОЖ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это образ жизни человека, его поведение и мышление, которые обеспечивают охрану и укрепление здоровь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DSCN1069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431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Всем  доброго здоровья!</a:t>
            </a:r>
            <a:br>
              <a:rPr sz="48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0720" y="5661000"/>
            <a:ext cx="67816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пасибо за работ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МАСТЕР-КЛАСС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169992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 тему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</a:rPr>
              <a:t>«Мы за здоровый образ жизни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МАОУ «Усть-Ламенская СОШ», 2012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0423-D84C-4241-9710-CE181F291A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9880" y="291960"/>
            <a:ext cx="448632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Изучаемые вопросы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новные аспекты здоровь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ОЖ, его составляющ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амопозна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6A2A-1B8D-44B4-B5B1-DF6ECC9953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82440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огда нет здоровья,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молчит мудрость,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е может расцвести искусство, не играют силы,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бесполезно богатство и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бессилен разум”             </a:t>
            </a:r>
            <a:br>
              <a:rPr sz="44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 Геродот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5CF9-C170-4F05-AFB0-DC1251F9A9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86800" cy="53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Здоровье – это единственная драгоценность”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 Монтень)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4C50-4AFE-4F21-BF92-8782DE55BE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71516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Заботу о пище и уходе за телом нужно отнести к области здоровья и поддержания сил, а не к области наслаждения”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Цицерон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3A9D-5016-4600-B352-3EE6DBEF39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Таблица 15" descr="C:\Documents and Settings\User\Рабочий стол\мастер класс по зож\img1.JPG"/>
          <p:cNvPicPr/>
          <p:nvPr/>
        </p:nvPicPr>
        <p:blipFill>
          <a:blip r:embed="rId1"/>
          <a:stretch/>
        </p:blipFill>
        <p:spPr>
          <a:xfrm>
            <a:off x="714240" y="785880"/>
            <a:ext cx="778680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48C7-6308-40BF-BA82-EEB23F5C3A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4653000"/>
            <a:ext cx="80805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0066ff"/>
                </a:solidFill>
                <a:latin typeface="Arial"/>
              </a:rPr>
              <a:t>(из Устава ВОЗ, 1975г.)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209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i="1" lang="ru-RU" sz="4800" spc="-1" strike="noStrike">
                <a:solidFill>
                  <a:srgbClr val="0066ff"/>
                </a:solidFill>
                <a:latin typeface="Arial"/>
              </a:rPr>
              <a:t>Здоровье</a:t>
            </a:r>
            <a:r>
              <a:rPr b="1" i="1" lang="ru-RU" sz="4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это состояние полного физического, социального и психического благополучия, а не просто отсутствие болезней или физических дефектов.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logo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24000" y="26028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7E58-4B60-46A3-A63F-A77A85C685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428760" y="500040"/>
            <a:ext cx="807228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оциальная реклама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 некоммерческой рекламы, направленной на изменение моделей общественного поведения и привлечения внимания к проблемам социум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2:04:27Z</dcterms:created>
  <dc:creator>Сергей</dc:creator>
  <dc:description/>
  <dc:language>en-US</dc:language>
  <cp:lastModifiedBy>User</cp:lastModifiedBy>
  <dcterms:modified xsi:type="dcterms:W3CDTF">2012-05-08T16:05:10Z</dcterms:modified>
  <cp:revision>41</cp:revision>
  <dc:subject/>
  <dc:title>МАСТЕР-КЛАСС</dc:title>
</cp:coreProperties>
</file>