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1A0A-8662-4ECB-B33E-999D08F71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DA90-B678-4774-9ADD-001A8124BB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чит спокойная мело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0926-AEFA-43B3-B533-29ACE69958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Вы согласны с такими  высказываниями? Почему? (коллеги высказывают свое мнение) - А как вы заботитесь о своем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D4B0-17AF-4AB5-8B08-FA4A14D647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0C0F-21F8-4A8D-B558-5ED14202C9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читаю предложение. Если оно подходит к вам, ставьте +, если нет -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28E8-1190-456A-B186-A5A6A5A814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8FD3-253A-4C19-94F4-58624C5959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ТИВ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помощ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оздушного шарика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й перекидывают друг другу выяснить, что является главным  в жизни каждого в данном классе.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ез чего человек не может достичь вышеназванных це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Ь ПРОБЛЕМУ. (Варианты ответов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.- Без здоровья очень трудно достичь чего-либо, поэтому оно является - одним из  главных жизненных ценносте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ращает внимание коллег на тему урока, записанную на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 чём сегодня пойдёт речь на уроке?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егодня мы выясним,  из чего же складывается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52F6-2175-4F8A-B89E-73D21E10CB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ЦЕЛЕПОЛАГАНИЕ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C9E3-1B41-4C0E-869B-F3A9F75668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ллеги! Сегодня в нашей стране одной из волнующих тем является тема здоровья. Болезни, травматизм, последствия вредных привычек лишают молодых людей возможности стать полноценными и полезными членами общества, государства, становятся личной трагедией и трагедией сем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се мы прекрасно понимаем, что здоровье надо беречь – этому нас учат в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о не все понимают, что здоровье – это не только отсутствие болезней, а поэтому, нарушая общечеловеческие, духовные, нравственные и иные законы, попадают в ситуацию, когда и физическое здоровье уже начинает утрачивать смысл. Почему так получается? Может мы чего-то недопонима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- Какой смысл мы вкладываем в понятие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9BE1-98E5-4CB5-B1F9-BE1FDC4C8C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-Попробуйте дать определение здоровью. (Варианты ответов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1D82-5DB8-4C62-8F9B-BA470F7933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A6A5-433B-477F-A07D-DEE04924A0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дель здоровья в виде цвет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оотносит её с записями на доске и говорит о взаимосвязи всех аспектов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зическое здоровь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естественное состояние организма, когда все показатели деятельности органов и систем соответствуют полу и возра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теллектуальное здоровье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человека мысл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моциональное здоровье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ность противостоять стрес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чностное здоровье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ность осознавать себя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циальное здоровье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мение адаптироваться среди людей, роль в обществе, семье, школе, 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уховное здоровье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суть нашего существования на планете, то, что действительно важно для нас. Это центр нашей жизни, обеспечивающий целостность нашей личности, позволяющий понять другие аспекты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F16-23CA-4A26-8A88-AD4B2B3D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6DE-B985-460B-A9E4-36FD129C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233-D5A5-41FC-B91F-0E9BCFA0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8EB-824D-4A68-981A-773554CC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B9E4-FCF2-4A77-B7D6-087F33BC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1BF3-0B83-4645-B729-C8799C12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7D61-8F94-4E6C-86F6-2767AF5E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CAD5-3A0B-4803-8F0E-CE09F8FB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6A18-ED32-47C3-873E-8B8F79C8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4D5F-89F9-42C8-A4BF-C80419DD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69FE-98EC-4090-BEB5-5436D57A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3CE-3B9F-40CA-9EB5-709F40AE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DD44-34AA-4678-A4D7-C09AB1A2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9636-F5D0-42A4-BC1E-FAB5890B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28BD-CC4B-4C20-B3BB-620FF883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809B-BEE6-48AB-813A-25DCC65D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FDFA-E05D-41F0-A304-F3782E37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AD4-C97F-43BA-A57F-80105A64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285-9DA4-4B17-8FBF-96587691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86D-3141-474A-92E6-C8164A9A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74C-F4E4-4453-B2FE-88B318E1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D59-F396-47A9-A0E8-E2B8F648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85C-B3A2-46AA-91D1-6EAFC04C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E04-752C-41D3-A55B-5FB01E0D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8E98-C30D-4497-8344-75262FE7D0B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CEF1-9375-4465-B03B-3F3BF8011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612-A7FA-4E60-919D-403B3E2D347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B688-4FB4-4433-ADB7-4A2ADC4FDC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EB9C-3F59-495E-8893-85D933714BBF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5F59-00CA-4AB8-A6FC-3F87E1B9C5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F2D4-1651-49E8-8147-5ABFD06EC7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85920" y="244080"/>
            <a:ext cx="75564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Здоровье - дороже золота.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В. Шекспир)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Девять десятых нашего счастья зависит от здоровья.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(А. Шопенгауэр)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Здоровье - это единственная драгоценность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(Монтель)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800"/>
            </a:br>
            <a:br>
              <a:rPr sz="40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ысказывания мудрых: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71680" y="981000"/>
            <a:ext cx="824832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Деньги потерял – ничего не потерял, время потерял – многое потерял, здоровье потерял – все потерял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Здоровье – это достояние каждого человека, которое надо беречь и преумножать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Тест “Оцени себя сам”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Если положение подходит к вам, ставьте +, если нет - .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0" i="1" lang="ru-RU" sz="2000" spc="-1" strike="noStrike" u="sng">
                <a:solidFill>
                  <a:srgbClr val="0066ff"/>
                </a:solidFill>
                <a:uFillTx/>
                <a:latin typeface="Arial"/>
              </a:rPr>
              <a:t>ЗОЛОТЫЕ ПРАВИЛА ЗДОРОВЬЯ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497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никогда не кур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всегда завтрак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ем не спеш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не переед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никогда не злоупотребляю алкогол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сплю не менее 8 часов в су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поддерживаю нормальную массу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знаю показатели своего здоров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ежедневно хожу пеш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никогда не раздражаюсь и не выхожу из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D2B-7730-4A87-9DE3-953AE12A89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дсчитайте,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колько вы набрали +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10-9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вы хорошо заботитесь о своем здоровье, МОЛОДЦ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7-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Вы что-то не умеете делать? Дайте себе слово, что обязательно научитесь и будете выполнять «золотые правила ЗОЖ». Посещайте спортивные секции, больше гуляйте на свежем воздухе, правильно питайт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A65B-8414-43DA-8B6B-BFE815BC31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84872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ЗОЖ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это образ жизни человека, его поведение и мышление, которые обеспечивают охрану и укрепление здоровь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DSCN1069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431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Всем  доброго здоровья!</a:t>
            </a:r>
            <a:br>
              <a:rPr sz="48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0720" y="5661000"/>
            <a:ext cx="67816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пасибо за работ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МАСТЕР-КЛАСС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169992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 тему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</a:rPr>
              <a:t>«Мы за здоровый образ жизни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МАОУ «Усть-Ламенская СОШ», 2012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0B41-0304-43C0-A118-EE4F7981BA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9880" y="291960"/>
            <a:ext cx="448632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Изучаемые вопросы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новные аспекты здоровь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ОЖ, его составляющ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амопозна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155D-736E-46D5-AB1E-9BBABA1FBA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82440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огда нет здоровья,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молчит мудрость,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не может расцвести искусство, не играют силы,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бесполезно богатство и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бессилен разум”             </a:t>
            </a:r>
            <a:br>
              <a:rPr sz="44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 Геродот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7585-E476-4470-BE40-A194627D0F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86800" cy="53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Здоровье – это единственная драгоценность”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 Монтень)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D07B-3835-4FF0-B076-EAD62C088B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71516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Заботу о пище и уходе за телом нужно отнести к области здоровья и поддержания сил, а не к области наслаждения”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Цицерон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1C1F-EA6B-414A-9B0E-C34DFB27E4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Таблица 15" descr="C:\Documents and Settings\User\Рабочий стол\мастер класс по зож\img1.JPG"/>
          <p:cNvPicPr/>
          <p:nvPr/>
        </p:nvPicPr>
        <p:blipFill>
          <a:blip r:embed="rId1"/>
          <a:stretch/>
        </p:blipFill>
        <p:spPr>
          <a:xfrm>
            <a:off x="714240" y="785880"/>
            <a:ext cx="778680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16C-6706-40FD-9A58-935590E905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4653000"/>
            <a:ext cx="80805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0066ff"/>
                </a:solidFill>
                <a:latin typeface="Arial"/>
              </a:rPr>
              <a:t>(из Устава ВОЗ, 1975г.)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209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i="1" lang="ru-RU" sz="4800" spc="-1" strike="noStrike">
                <a:solidFill>
                  <a:srgbClr val="0066ff"/>
                </a:solidFill>
                <a:latin typeface="Arial"/>
              </a:rPr>
              <a:t>Здоровье</a:t>
            </a:r>
            <a:r>
              <a:rPr b="1" i="1" lang="ru-RU" sz="4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это состояние полного физического, социального и психического благополучия, а не просто отсутствие болезней или физических дефектов.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logo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24000" y="26028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8006-F472-4B1C-A42B-E87ED3C28F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428760" y="500040"/>
            <a:ext cx="807228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оциальная реклама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 некоммерческой рекламы, направленной на изменение моделей общественного поведения и привлечения внимания к проблемам социум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2:04:27Z</dcterms:created>
  <dc:creator>Сергей</dc:creator>
  <dc:description/>
  <dc:language>en-US</dc:language>
  <cp:lastModifiedBy>User</cp:lastModifiedBy>
  <dcterms:modified xsi:type="dcterms:W3CDTF">2012-05-08T16:05:10Z</dcterms:modified>
  <cp:revision>41</cp:revision>
  <dc:subject/>
  <dc:title>МАСТЕР-КЛАСС</dc:title>
</cp:coreProperties>
</file>