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8.png" ContentType="image/png"/>
  <Override PartName="/ppt/media/image5.png" ContentType="image/png"/>
  <Override PartName="/ppt/media/image14.png" ContentType="image/png"/>
  <Override PartName="/ppt/media/image10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41.png" ContentType="image/png"/>
  <Override PartName="/ppt/media/image42.png" ContentType="image/png"/>
  <Override PartName="/ppt/media/image23.jpeg" ContentType="image/jpeg"/>
  <Override PartName="/ppt/media/image31.png" ContentType="image/png"/>
  <Override PartName="/ppt/media/image43.png" ContentType="image/png"/>
  <Override PartName="/ppt/media/image32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44.png" ContentType="image/png"/>
  <Override PartName="/ppt/media/image33.png" ContentType="image/png"/>
  <Override PartName="/ppt/media/image45.png" ContentType="image/png"/>
  <Override PartName="/ppt/media/image9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B5D-EA9C-48B1-804F-FD06D2F1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469-D92D-4A64-B6BE-40695683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26B-0654-4A90-97F8-D028766A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F4F-488B-4EA4-9676-CD81FB62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7CB-9680-4F90-AC0A-99294E0A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491-CBAB-4F8C-9F34-1F038B1F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A37-A1F5-4875-B1FB-07A3D3D1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C06-425C-422C-9795-549D2C11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A55-375A-42D5-990F-EDD001EC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073-3048-4C37-A0B9-D77F873D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2F1-9CBD-40EE-AD49-C03C539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1EB-314E-4972-A457-35824DD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0567-3ADB-40B9-85FB-C5DE86E29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5.xml"/><Relationship Id="rId3" Type="http://schemas.openxmlformats.org/officeDocument/2006/relationships/image" Target="../media/image40.png"/><Relationship Id="rId4" Type="http://schemas.openxmlformats.org/officeDocument/2006/relationships/slide" Target="slide8.xml"/><Relationship Id="rId5" Type="http://schemas.openxmlformats.org/officeDocument/2006/relationships/image" Target="../media/image41.png"/><Relationship Id="rId6" Type="http://schemas.openxmlformats.org/officeDocument/2006/relationships/slide" Target="slide11.xml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seozemle.ru/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" Target="slide12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ткуда берутся горные породы и минералы?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чему они так разнообразны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941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 Уваров Артем, Осмоловский Дмитрий, обучающиеся 6-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190944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111\Desktop\горные породы\самородное золото.jpg"/>
          <p:cNvPicPr/>
          <p:nvPr/>
        </p:nvPicPr>
        <p:blipFill>
          <a:blip r:embed="rId2"/>
          <a:stretch/>
        </p:blipFill>
        <p:spPr>
          <a:xfrm>
            <a:off x="6443640" y="3716280"/>
            <a:ext cx="2521080" cy="180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Агат"/>
          <p:cNvPicPr/>
          <p:nvPr/>
        </p:nvPicPr>
        <p:blipFill>
          <a:blip r:embed="rId3"/>
          <a:stretch/>
        </p:blipFill>
        <p:spPr>
          <a:xfrm>
            <a:off x="6804000" y="1125360"/>
            <a:ext cx="2089080" cy="194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РОЗОВЫЙ КВАРЦ"/>
          <p:cNvPicPr/>
          <p:nvPr/>
        </p:nvPicPr>
        <p:blipFill>
          <a:blip r:embed="rId4"/>
          <a:stretch/>
        </p:blipFill>
        <p:spPr>
          <a:xfrm>
            <a:off x="3059280" y="3068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адоч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ломочные горные по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Text Box 13"/>
          <p:cNvGrpSpPr/>
          <p:nvPr/>
        </p:nvGrpSpPr>
        <p:grpSpPr>
          <a:xfrm>
            <a:off x="0" y="1341360"/>
            <a:ext cx="4363920" cy="5267520"/>
            <a:chOff x="0" y="1341360"/>
            <a:chExt cx="4363920" cy="5267520"/>
          </a:xfrm>
        </p:grpSpPr>
        <p:pic>
          <p:nvPicPr>
            <p:cNvPr id="86" name="Text Box 13" descr=""/>
            <p:cNvPicPr/>
            <p:nvPr/>
          </p:nvPicPr>
          <p:blipFill>
            <a:blip r:embed="rId1"/>
            <a:stretch/>
          </p:blipFill>
          <p:spPr>
            <a:xfrm>
              <a:off x="0" y="1341360"/>
              <a:ext cx="4363920" cy="52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473040" y="1801800"/>
              <a:ext cx="3429000" cy="43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Под влияние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ветра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текучих вод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колебаний температур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и других воздействий разрушаются скалы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Так образуются галечник, гравий, песо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Прямоугольник с двумя вырезанными противолежащими углами 7"/>
          <p:cNvGrpSpPr/>
          <p:nvPr/>
        </p:nvGrpSpPr>
        <p:grpSpPr>
          <a:xfrm>
            <a:off x="4284720" y="1311120"/>
            <a:ext cx="4621320" cy="5413680"/>
            <a:chOff x="4284720" y="1311120"/>
            <a:chExt cx="4621320" cy="5413680"/>
          </a:xfrm>
        </p:grpSpPr>
        <p:pic>
          <p:nvPicPr>
            <p:cNvPr id="89" name="Прямоугольник с двумя выреза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4284720" y="1311120"/>
              <a:ext cx="4621320" cy="541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4572000" y="1781280"/>
              <a:ext cx="4321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9800" indent="-469800"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381024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TextBox 10"/>
          <p:cNvSpPr/>
          <p:nvPr/>
        </p:nvSpPr>
        <p:spPr>
          <a:xfrm>
            <a:off x="3995640" y="602136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лечник- влияние текучих 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856720" cy="1143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Осадочные горные породы (химические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Природные материалы для аквариумного грунта. &quot;Гипсовая роза&quot; - друза кристаллов гипса."/>
          <p:cNvPicPr/>
          <p:nvPr/>
        </p:nvPicPr>
        <p:blipFill>
          <a:blip r:embed="rId1"/>
          <a:stretch/>
        </p:blipFill>
        <p:spPr>
          <a:xfrm>
            <a:off x="5219640" y="4005360"/>
            <a:ext cx="3276720" cy="263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Минералы и горные породы, растворимые в воде. Галит и сильвин."/>
          <p:cNvPicPr/>
          <p:nvPr/>
        </p:nvPicPr>
        <p:blipFill>
          <a:blip r:embed="rId2"/>
          <a:stretch/>
        </p:blipFill>
        <p:spPr>
          <a:xfrm>
            <a:off x="5724360" y="1413000"/>
            <a:ext cx="3419640" cy="2447640"/>
          </a:xfrm>
          <a:prstGeom prst="rect">
            <a:avLst/>
          </a:prstGeom>
          <a:ln w="0">
            <a:noFill/>
          </a:ln>
        </p:spPr>
      </p:pic>
      <p:pic>
        <p:nvPicPr>
          <p:cNvPr id="96" name="Text Box 4" descr=""/>
          <p:cNvPicPr/>
          <p:nvPr/>
        </p:nvPicPr>
        <p:blipFill>
          <a:blip r:embed="rId3"/>
          <a:stretch/>
        </p:blipFill>
        <p:spPr>
          <a:xfrm>
            <a:off x="3852720" y="1987560"/>
            <a:ext cx="178596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851280" y="5084640"/>
            <a:ext cx="1224000" cy="1015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и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276720" y="213372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700360" y="40766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324000" y="1773360"/>
            <a:ext cx="3311280" cy="588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оды химического происхождения образуются при выпадении в осадок различных веществ, которые были растворены в в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дне водоемов эти осадки накапливаются и уплотняю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и породы хрупкие, могут растворяться в в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адочные горные породы (органическ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6715080" y="1413000"/>
          <a:ext cx="24289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5080" y="1413000"/>
                    <a:ext cx="24289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6648480" y="4076640"/>
          <a:ext cx="256680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48480" y="4076640"/>
                    <a:ext cx="256680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8"/>
          <p:cNvSpPr/>
          <p:nvPr/>
        </p:nvSpPr>
        <p:spPr>
          <a:xfrm>
            <a:off x="3635280" y="1844640"/>
            <a:ext cx="2266920" cy="5814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звестн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843280" y="5877000"/>
            <a:ext cx="3801960" cy="5814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менный у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Text Box 12" descr=""/>
          <p:cNvPicPr/>
          <p:nvPr/>
        </p:nvPicPr>
        <p:blipFill>
          <a:blip r:embed="rId5"/>
          <a:stretch/>
        </p:blipFill>
        <p:spPr>
          <a:xfrm>
            <a:off x="324000" y="2708280"/>
            <a:ext cx="612288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250920" y="0"/>
            <a:ext cx="8242200" cy="871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1439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таморфоза -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евращение (с гре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Rectangle 27"/>
          <p:cNvGrpSpPr/>
          <p:nvPr/>
        </p:nvGrpSpPr>
        <p:grpSpPr>
          <a:xfrm>
            <a:off x="179280" y="1844640"/>
            <a:ext cx="3527280" cy="2347920"/>
            <a:chOff x="179280" y="1844640"/>
            <a:chExt cx="3527280" cy="2347920"/>
          </a:xfrm>
        </p:grpSpPr>
        <p:pic>
          <p:nvPicPr>
            <p:cNvPr id="112" name="Rectangle 27" descr=""/>
            <p:cNvPicPr/>
            <p:nvPr/>
          </p:nvPicPr>
          <p:blipFill>
            <a:blip r:embed="rId2"/>
            <a:stretch/>
          </p:blipFill>
          <p:spPr>
            <a:xfrm>
              <a:off x="179280" y="2492640"/>
              <a:ext cx="3454920" cy="16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9"/>
            <p:cNvSpPr/>
            <p:nvPr/>
          </p:nvSpPr>
          <p:spPr>
            <a:xfrm>
              <a:off x="179280" y="1844640"/>
              <a:ext cx="3527280" cy="22654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В глубин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земн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кор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8"/>
          <p:cNvSpPr/>
          <p:nvPr/>
        </p:nvSpPr>
        <p:spPr>
          <a:xfrm>
            <a:off x="4335480" y="3313080"/>
            <a:ext cx="16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AutoShape 32"/>
          <p:cNvGrpSpPr/>
          <p:nvPr/>
        </p:nvGrpSpPr>
        <p:grpSpPr>
          <a:xfrm>
            <a:off x="2182680" y="2852640"/>
            <a:ext cx="3009960" cy="774720"/>
            <a:chOff x="2182680" y="2852640"/>
            <a:chExt cx="3009960" cy="774720"/>
          </a:xfrm>
        </p:grpSpPr>
        <p:pic>
          <p:nvPicPr>
            <p:cNvPr id="116" name="AutoShape 32" descr=""/>
            <p:cNvPicPr/>
            <p:nvPr/>
          </p:nvPicPr>
          <p:blipFill>
            <a:blip r:embed="rId3"/>
            <a:stretch/>
          </p:blipFill>
          <p:spPr>
            <a:xfrm>
              <a:off x="3851280" y="2852640"/>
              <a:ext cx="13413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1"/>
            <p:cNvSpPr/>
            <p:nvPr/>
          </p:nvSpPr>
          <p:spPr>
            <a:xfrm>
              <a:off x="2182680" y="3375000"/>
              <a:ext cx="10702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AutoShape 34"/>
          <p:cNvGrpSpPr/>
          <p:nvPr/>
        </p:nvGrpSpPr>
        <p:grpSpPr>
          <a:xfrm>
            <a:off x="4211640" y="4005360"/>
            <a:ext cx="695160" cy="920520"/>
            <a:chOff x="4211640" y="4005360"/>
            <a:chExt cx="695160" cy="920520"/>
          </a:xfrm>
        </p:grpSpPr>
        <p:pic>
          <p:nvPicPr>
            <p:cNvPr id="119" name="AutoShape 34" descr=""/>
            <p:cNvPicPr/>
            <p:nvPr/>
          </p:nvPicPr>
          <p:blipFill>
            <a:blip r:embed="rId4"/>
            <a:stretch/>
          </p:blipFill>
          <p:spPr>
            <a:xfrm>
              <a:off x="4211640" y="4005360"/>
              <a:ext cx="6951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4"/>
            <p:cNvSpPr/>
            <p:nvPr/>
          </p:nvSpPr>
          <p:spPr>
            <a:xfrm>
              <a:off x="4416120" y="4043520"/>
              <a:ext cx="28872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Text Box 35"/>
          <p:cNvGrpSpPr/>
          <p:nvPr/>
        </p:nvGrpSpPr>
        <p:grpSpPr>
          <a:xfrm>
            <a:off x="179280" y="5013360"/>
            <a:ext cx="8713440" cy="1716840"/>
            <a:chOff x="179280" y="5013360"/>
            <a:chExt cx="8713440" cy="1716840"/>
          </a:xfrm>
        </p:grpSpPr>
        <p:pic>
          <p:nvPicPr>
            <p:cNvPr id="122" name="Text Box 35" descr=""/>
            <p:cNvPicPr/>
            <p:nvPr/>
          </p:nvPicPr>
          <p:blipFill>
            <a:blip r:embed="rId5"/>
            <a:stretch/>
          </p:blipFill>
          <p:spPr>
            <a:xfrm>
              <a:off x="179280" y="5013360"/>
              <a:ext cx="871344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9"/>
            <p:cNvSpPr/>
            <p:nvPr/>
          </p:nvSpPr>
          <p:spPr>
            <a:xfrm>
              <a:off x="256320" y="5538960"/>
              <a:ext cx="8579520" cy="11912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Одни горные породы превращаются в друг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40"/>
          <p:cNvSpPr/>
          <p:nvPr/>
        </p:nvSpPr>
        <p:spPr>
          <a:xfrm>
            <a:off x="2411280" y="4941720"/>
            <a:ext cx="54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Text Box 33"/>
          <p:cNvGrpSpPr/>
          <p:nvPr/>
        </p:nvGrpSpPr>
        <p:grpSpPr>
          <a:xfrm>
            <a:off x="5651640" y="1628640"/>
            <a:ext cx="3241080" cy="2736720"/>
            <a:chOff x="5651640" y="1628640"/>
            <a:chExt cx="3241080" cy="2736720"/>
          </a:xfrm>
        </p:grpSpPr>
        <p:pic>
          <p:nvPicPr>
            <p:cNvPr id="126" name="Text Box 33" descr=""/>
            <p:cNvPicPr/>
            <p:nvPr/>
          </p:nvPicPr>
          <p:blipFill>
            <a:blip r:embed="rId6"/>
            <a:stretch/>
          </p:blipFill>
          <p:spPr>
            <a:xfrm>
              <a:off x="5651640" y="1628640"/>
              <a:ext cx="324108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26"/>
            <p:cNvSpPr/>
            <p:nvPr/>
          </p:nvSpPr>
          <p:spPr>
            <a:xfrm>
              <a:off x="5889960" y="1796400"/>
              <a:ext cx="2649600" cy="15562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Сильное нагревание и сжат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Метаморфические горные по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124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468360" y="45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6836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вестняк                               мрам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2916360" y="5516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52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Метаморфические горные по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68360" y="45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6836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нит                               гней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340000" y="5516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052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052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1c1c96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ни-ис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1187280" y="1628640"/>
            <a:ext cx="6409080" cy="47574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метры изуч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шние призна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от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66000" y="2421000"/>
            <a:ext cx="2620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0" y="-244440"/>
            <a:ext cx="9558360" cy="17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0" y="1201680"/>
          <a:ext cx="9144000" cy="473256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500120"/>
                <a:gridCol w="1422360"/>
                <a:gridCol w="1609920"/>
                <a:gridCol w="1682640"/>
              </a:tblGrid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магма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100000">
                          <a:srgbClr val="47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сад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475e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Метамор-ф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52525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лубин-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Излив-шие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неорган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Органи-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Об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мо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Хими-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ран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базаль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пес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поварен-ная 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у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Мрам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алм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пем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ип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неф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ней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рав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Кварц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</a:tr>
              <a:tr h="66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вал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известня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</a:tr>
              <a:tr h="66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ал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м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</a:tr>
            </a:tbl>
          </a:graphicData>
        </a:graphic>
      </p:graphicFrame>
      <p:grpSp>
        <p:nvGrpSpPr>
          <p:cNvPr id="145" name="Овал 3"/>
          <p:cNvGrpSpPr/>
          <p:nvPr/>
        </p:nvGrpSpPr>
        <p:grpSpPr>
          <a:xfrm>
            <a:off x="2517840" y="1182600"/>
            <a:ext cx="463320" cy="470160"/>
            <a:chOff x="2517840" y="1182600"/>
            <a:chExt cx="463320" cy="470160"/>
          </a:xfrm>
        </p:grpSpPr>
        <p:pic>
          <p:nvPicPr>
            <p:cNvPr id="146" name="Овал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17840" y="1182600"/>
              <a:ext cx="46332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624040" y="126684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Овал 4"/>
          <p:cNvGrpSpPr/>
          <p:nvPr/>
        </p:nvGrpSpPr>
        <p:grpSpPr>
          <a:xfrm>
            <a:off x="6516720" y="1182600"/>
            <a:ext cx="469800" cy="470160"/>
            <a:chOff x="6516720" y="1182600"/>
            <a:chExt cx="469800" cy="470160"/>
          </a:xfrm>
        </p:grpSpPr>
        <p:pic>
          <p:nvPicPr>
            <p:cNvPr id="149" name="Овал 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6516720" y="1182600"/>
              <a:ext cx="4698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624720" y="126684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Овал 5"/>
          <p:cNvGrpSpPr/>
          <p:nvPr/>
        </p:nvGrpSpPr>
        <p:grpSpPr>
          <a:xfrm>
            <a:off x="8016840" y="1968480"/>
            <a:ext cx="468360" cy="469800"/>
            <a:chOff x="8016840" y="1968480"/>
            <a:chExt cx="468360" cy="469800"/>
          </a:xfrm>
        </p:grpSpPr>
        <p:pic>
          <p:nvPicPr>
            <p:cNvPr id="152" name="Овал 5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016840" y="1968480"/>
              <a:ext cx="4683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124840" y="205272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85068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1c1c96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757080" y="1557000"/>
            <a:ext cx="457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476000" y="1600200"/>
            <a:ext cx="576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179280" y="1341360"/>
            <a:ext cx="8640720" cy="969516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яснили причину разнообразия горных пород -  различное происхо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е горные породы объединяют в три группы: магматические, осадочные и метаморфическ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Горные породы отличаются внешними признаками, плотностью. твердост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611280" y="151920"/>
            <a:ext cx="7921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Arial"/>
                <a:ea typeface="Calibri"/>
              </a:rPr>
              <a:t>Используемые источники информации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1"/>
              </a:rPr>
              <a:t>http://www.vseozemle.ru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Calibri"/>
              </a:rPr>
              <a:t>Энциклопедия для детей. Геология. М.:Аванта+,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Calibri"/>
              </a:rPr>
              <a:t>Е.М.Домогацких, Н.И.Алексеевский. География. Учебник 6 класса. –Москва «Русское слово»- 2013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Users\111\Pictures\школа\школьные 6\на юкосе 67 (2).gif"/>
          <p:cNvPicPr/>
          <p:nvPr/>
        </p:nvPicPr>
        <p:blipFill>
          <a:blip r:embed="rId2"/>
          <a:stretch/>
        </p:blipFill>
        <p:spPr>
          <a:xfrm>
            <a:off x="3564000" y="38736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Users\111\Pictures\школа\школьные 6\на юкосе 67 (4).png"/>
          <p:cNvPicPr/>
          <p:nvPr/>
        </p:nvPicPr>
        <p:blipFill>
          <a:blip r:embed="rId3"/>
          <a:stretch/>
        </p:blipFill>
        <p:spPr>
          <a:xfrm>
            <a:off x="971640" y="3433680"/>
            <a:ext cx="2017800" cy="259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Users\111\Pictures\школа\книга.gif"/>
          <p:cNvPicPr/>
          <p:nvPr/>
        </p:nvPicPr>
        <p:blipFill>
          <a:blip r:embed="rId4"/>
          <a:stretch/>
        </p:blipFill>
        <p:spPr>
          <a:xfrm>
            <a:off x="6084720" y="3500280"/>
            <a:ext cx="22338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5112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выяснить природу формирования горных пород и минералов и причины их разнообразия на Земл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адач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основные группы горных пород по происхождению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Научиться различать по внешним признакам осадочные и магматические породы;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овести мини-исследование определения твёрдости горных пород различными методам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ятиугольник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09080" cy="100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468360" y="1484280"/>
            <a:ext cx="8215200" cy="50292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Горная порода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родное тело, слагающее земную кору и состоящее из минер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Минерал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– природные тела однородные по составу и свойствам, образующиеся  в глубинах и на поверхност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варц + полевой шпат + слюда =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ра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114800" cy="246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igfn"/>
          <p:cNvPicPr/>
          <p:nvPr/>
        </p:nvPicPr>
        <p:blipFill>
          <a:blip r:embed="rId2"/>
          <a:stretch/>
        </p:blipFill>
        <p:spPr>
          <a:xfrm>
            <a:off x="5292720" y="1628640"/>
            <a:ext cx="2952720" cy="26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2484360" y="4508640"/>
            <a:ext cx="3611520" cy="2131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324000" y="436572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7236000" y="4437000"/>
            <a:ext cx="19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539640" y="6093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Содержимое 2"/>
          <p:cNvGrpSpPr/>
          <p:nvPr/>
        </p:nvGrpSpPr>
        <p:grpSpPr>
          <a:xfrm>
            <a:off x="179280" y="1341360"/>
            <a:ext cx="8540640" cy="4529160"/>
            <a:chOff x="179280" y="1341360"/>
            <a:chExt cx="8540640" cy="4529160"/>
          </a:xfrm>
        </p:grpSpPr>
        <p:pic>
          <p:nvPicPr>
            <p:cNvPr id="5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54064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3"/>
            <p:cNvSpPr/>
            <p:nvPr/>
          </p:nvSpPr>
          <p:spPr>
            <a:xfrm>
              <a:off x="423720" y="1630440"/>
              <a:ext cx="8229600" cy="41860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75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Образуются из магмы в глубине земной кор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Застывание магмы на глубине происходит медленн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Из-за медленного остывания образуются крупные кристаллы. Они хорошо видны в пород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Породы кристаллические, плотные</a:t>
              </a:r>
              <a:r>
                <a:rPr b="0" lang="ru-RU" sz="3200" spc="-1" strike="noStrike">
                  <a:solidFill>
                    <a:srgbClr val="80808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Times New Roman"/>
              </a:rPr>
              <a:t>МАГМАТ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остывание магмы происходит ниже поверхности, Земли  то формиру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111\Desktop\горные породы\90028062.jpg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иды гран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035160" cy="283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841480" cy="284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4716360" y="1484280"/>
            <a:ext cx="4176720" cy="2784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4306680" cy="276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3527640" cy="2786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0" y="3716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обработ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79280" y="59500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бот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лившиеся магматические горные по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"/>
          <p:cNvPicPr/>
          <p:nvPr/>
        </p:nvPicPr>
        <p:blipFill>
          <a:blip r:embed="rId1"/>
          <a:stretch/>
        </p:blipFill>
        <p:spPr>
          <a:xfrm>
            <a:off x="0" y="2900520"/>
            <a:ext cx="5219640" cy="3957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481680" y="5950080"/>
            <a:ext cx="1319040" cy="581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м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bazalt 1.jpg"/>
          <p:cNvPicPr/>
          <p:nvPr/>
        </p:nvPicPr>
        <p:blipFill>
          <a:blip r:embed="rId2"/>
          <a:stretch/>
        </p:blipFill>
        <p:spPr>
          <a:xfrm>
            <a:off x="4356000" y="1484280"/>
            <a:ext cx="4788000" cy="3168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4800960" y="3573360"/>
            <a:ext cx="1686600" cy="581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заль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Стрелка влево 8"/>
          <p:cNvGrpSpPr/>
          <p:nvPr/>
        </p:nvGrpSpPr>
        <p:grpSpPr>
          <a:xfrm>
            <a:off x="7991640" y="6162840"/>
            <a:ext cx="890280" cy="536400"/>
            <a:chOff x="7991640" y="6162840"/>
            <a:chExt cx="890280" cy="536400"/>
          </a:xfrm>
        </p:grpSpPr>
        <p:pic>
          <p:nvPicPr>
            <p:cNvPr id="82" name="Стрелка влево 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991640" y="6162840"/>
              <a:ext cx="890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8151840" y="6300720"/>
              <a:ext cx="6778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8:28:40Z</dcterms:created>
  <dc:creator>pavel</dc:creator>
  <dc:description/>
  <dc:language>en-US</dc:language>
  <cp:lastModifiedBy>Кирил</cp:lastModifiedBy>
  <dcterms:modified xsi:type="dcterms:W3CDTF">2019-11-27T07:21:31Z</dcterms:modified>
  <cp:revision>89</cp:revision>
  <dc:subject/>
  <dc:title>I. Контроль знаний и умений по теме «Строение Земли»</dc:title>
</cp:coreProperties>
</file>