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691813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32764-58C2-4EF9-BE6E-C1E251466B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FD58D-9BB6-405F-A0CC-55F54E4413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056AE-37AC-471C-B1F4-1C4EB936AA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CFFED-D28E-4E8B-A309-CA9FD9C007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780FC-4F65-4EE0-8919-6DAD67E6DE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21A5C-B19E-4C9F-86AA-81D91D5DD3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6ABBE-0666-48AA-8F06-6E4B77D368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F086E-E8E8-4060-9D6B-1902B6D104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FA5C1-AE32-4B13-BD55-84A922CB27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E0A2C-438E-4CD9-A96A-410019006A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4784C-B22F-48EB-8CDB-47A26110A6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B689E-A563-493B-BFD7-296BF6C6FE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0BF80-B77E-4982-9235-E82189C9C8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0EEFD-F729-41DC-8038-2AB467D5D6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769AC-1592-4BB0-9A83-3877BF1FAC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F87A1-D5DC-43CE-845D-10FA2A31B74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CC933-26E9-4CCA-836E-C923D9BFE0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FEFC-491F-430A-8353-81826DF8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0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600" y="4374000"/>
            <a:ext cx="9620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6A1B-358E-4808-9F79-748EEE94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437400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4080" y="437400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7E56-0A74-42ED-8162-B34134A4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309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7200" y="1768320"/>
            <a:ext cx="309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0160" y="1768320"/>
            <a:ext cx="309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600" y="4374000"/>
            <a:ext cx="309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7200" y="4374000"/>
            <a:ext cx="309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0160" y="4374000"/>
            <a:ext cx="309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277D-E377-432F-8396-D11452C4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600" y="1768320"/>
            <a:ext cx="96202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CECE-D4D5-4CBA-BE22-093EF3AC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02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EA6B-F870-4262-AA33-2BF43FAA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B168-EB55-4CB2-B000-27C33D51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8636-A7CA-4D0C-A5BA-F38ED9D5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02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8FD3-266A-46B3-A339-42F2AF1A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600" y="437400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B20F-AD97-4C8D-ACD9-7F6C0293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4080" y="437400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C2A6-C56A-4065-B0FC-DFAAE703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600" y="4374000"/>
            <a:ext cx="9620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82B9-68BD-4177-9AAF-F9DA67C6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600" y="1768320"/>
            <a:ext cx="96202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600" y="6886440"/>
            <a:ext cx="2489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6160" y="6886440"/>
            <a:ext cx="3387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6200" y="6886440"/>
            <a:ext cx="2489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6B2170-5000-46D4-9B96-D95F2C5A31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58720" y="1493640"/>
            <a:ext cx="962208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знь и творчество Федора Шаляпи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4600" y="5780160"/>
            <a:ext cx="962172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  ученица 6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апова 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10728360" y="-13001760"/>
            <a:ext cx="36720" cy="243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36360" y="482400"/>
            <a:ext cx="96217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з-за острова на стрежень».жанров камерно-вокальной музыки. В число шедевров вошли: «Пророк» Римского-Корсакова, «Два гренадера» Роберта  Шумана, «Блоха», «Забытый», «Трепак» Мусоргского, «Ночной смотр» Глинки, «Двойник» Ф. Шуберта. А также русские народные песни «Прощай, радость», «Не велят Маше за реченьку ходить», «Из-за острова на стрежен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рческий путь Федора Шаляпина глубоко народен, так как истин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его  – это сама русская пес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-10691640" y="-600120"/>
            <a:ext cx="572436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 Маше за реченьку ходить», «Из-за острова на стрежень».жанров камерно-вокальной музыки. В число шедевров вошли: «Пророк» Римского-Корсакова, «Два гренадера» Роберта  Шумана, «Блоха», «Забытый», «Трепак» Мусоргского, «Ночной смотр» Глинки, «Двойник» Ф. Шуберта. А также русские народные песни «Прощай, радость», «Не велят Маше за реченьку ходить», «Из-за острова на стрежен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6275520" y="4032360"/>
            <a:ext cx="4163760" cy="33098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61560" y="71280"/>
            <a:ext cx="9621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630360" y="539640"/>
            <a:ext cx="92329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 своей первой женой Фёдор Шаляпин познакомился в Нижнем Новгороде,  и они поженились в 1896 году. Это была итальянская актриса по имени Иола Торнаги, родившаяся в городе Монца (недалеко от Милан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2987640" y="3208320"/>
            <a:ext cx="5002200" cy="35496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8720" y="564840"/>
            <a:ext cx="9622080" cy="2840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его у Шаляпина в этом браке родилось шестеро детей: Фёдор, Татьяна, Ирина, Лидия, Игорь (умер в возрасте 4 лет) и Борис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ола Торнаги долгое время жила в России и только в конце 1950-х годов, по приглашению сына Фёдора, переехала в Рим.</a:t>
            </a:r>
            <a:br>
              <a:rPr sz="2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630520" y="3780000"/>
            <a:ext cx="510552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7280" y="215640"/>
            <a:ext cx="9621720" cy="29955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же¸ Фёдор Иванович Шаляпин знакомится  с Марией Валентиновной Петцольд, у которой было двое своих детей от первого брака. У них рождаются три дочери: Марфа, Марина и Дасия. Дочь Шаляпина Марина  прожила больше всех его детей и скончалась на 98-ом году жизни.</a:t>
            </a: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376360" y="2592360"/>
            <a:ext cx="6096240" cy="489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4608360" y="7142040"/>
            <a:ext cx="302400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987560" y="2136600"/>
            <a:ext cx="7721640" cy="49896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344520" y="279360"/>
            <a:ext cx="103471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ически у Шаляпина появилась вторая семья. Первый брак не был  расторгнут, а второй не зарегистрировали,  и он считался недействите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63440"/>
            <a:ext cx="9621720" cy="2500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фициально брак Марии Валентиновны с Шаляпиным был оформлен в 1927 году уже в Париж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6846840" y="2922480"/>
            <a:ext cx="3525840" cy="44020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4600" y="301680"/>
            <a:ext cx="9621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едор Шаляпин умер 12 апреля 1938 г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438360" y="1922400"/>
            <a:ext cx="3814920" cy="49896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1280" y="1655640"/>
            <a:ext cx="59040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ёдор Шаляпин родился 13 февраля 1873 года в городе Казани на Рыбнорядской  улице, в семье вятского крестьян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6043680" y="1152360"/>
            <a:ext cx="4252680" cy="46087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5920" y="1352160"/>
            <a:ext cx="9621720" cy="14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едора рано отдали учиться ремеслу у сапожника, а затем у токаря. Вскоре, семье Шаляпиных удалось устроить Федю в городское четырехклассное училище, которое он окончил с похвальной грамото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681280" y="3527280"/>
            <a:ext cx="5238720" cy="32958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959280" y="-5629680"/>
            <a:ext cx="720720" cy="131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3680" y="598320"/>
            <a:ext cx="5684760" cy="691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сем юным он нанимается в увеселительный хор Серебрякова, где происходит его встреча с Максимом Горьким. Горького в хор на тот момент приняли, а Шаляпина нет. Не познакомившись друг с другом, они расстаются. Однако, позднее в Нижнем Новгороде в 1900 году они подружатся на всю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01600" y="1422360"/>
            <a:ext cx="3790800" cy="478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7343640" y="2319120"/>
            <a:ext cx="475128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5800" y="493560"/>
            <a:ext cx="96220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83 году он в первый раз попал в театр. В тот знаменательный день давали «Русскую свадьбу» П. П. Сухонина. В последствие, посещение театра решило судьбу Федора Ивановича Шаляпина. Он стремился попасть едва ли не на каждый спектак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5202360" y="4032360"/>
            <a:ext cx="4733640" cy="280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0691640" y="863640"/>
            <a:ext cx="9621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203880" y="2851200"/>
            <a:ext cx="3368880" cy="4406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272880" y="279360"/>
            <a:ext cx="9504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80-е годы XIX века на сцене казанского театра играли великолепные мастера. Газеты восхищались игрой Андреева-Бурлака, Писарева, Свободиной-Барышевой, Иванова-Казельского и других. И совсем не удивительно, что десятилетний мальчик всерьез увлекся театр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2303640" y="569880"/>
            <a:ext cx="1295640" cy="74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71280"/>
            <a:ext cx="9621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дор Шаляпин сделал свой выбор - он предпочел быть артистом. Отец отправил сына в Арское училище, обучаться на столяра. Но вскоре заболела его мать, и для ухода за ней Федор вернулся в Казань. На казанской сцене состоялись дебюты Федора Ивановича Шаляпина как артиста и певца. Сначала он работал в театре статистом, а в 1889 году впервые спел сольную партию в любительской постановке «Пиковой дам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5692680" y="3168720"/>
            <a:ext cx="3306960" cy="40323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 rot="21103200">
            <a:off x="919080" y="1089000"/>
            <a:ext cx="3632400" cy="62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нство партий впервые он исполнил на сцене Московской частной русской оперы, пел в Большом и Мариинском теат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лучших партий Шаляпина — Мефистофель («Фауст» Шарля Гуно и «Мефистофель» Арриго Бойто). Также сюда можно отнести Бориса («Борис Годунов» композитора Модеста Петровича Мусоргского). Мельник («Русалка» Александра Сергеевича Даргомыжского), Иван Грозный («Псковитянка» Н. А. Римского-Корсакова), Сусанин («Иван Сусанин» Михаила Ивановича Глинки) тоже являются удачными партиями Шаляп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 rot="484800">
            <a:off x="6345360" y="1455480"/>
            <a:ext cx="280800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600" y="301680"/>
            <a:ext cx="9621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т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128600" y="1768320"/>
            <a:ext cx="3048120" cy="498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5543640" y="1800360"/>
            <a:ext cx="3286080" cy="470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1:55:25Z</dcterms:created>
  <dc:creator>Гоголева Марина Юрьевна</dc:creator>
  <dc:description/>
  <dc:language>en-US</dc:language>
  <cp:lastModifiedBy>gomaur</cp:lastModifiedBy>
  <dcterms:modified xsi:type="dcterms:W3CDTF">2019-11-26T21:28:23Z</dcterms:modified>
  <cp:revision>14</cp:revision>
  <dc:subject/>
  <dc:title>Жизнь и творчество Федора Шаляпина.</dc:title>
</cp:coreProperties>
</file>