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57533-B137-45D9-B2C2-2159AAEA32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3FFB3-8590-4B96-8ABD-C4C6B7289A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80426-FB88-4E6F-A13B-9EF845842D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98485-2167-44DA-BAFB-C1682D1795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C42F6-61FA-4584-A2F6-43EBE819DB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F5058-37D1-4A72-9347-D5CA27C815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9F583-3E5D-4684-A7D2-92E8ED7581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339CA-5F01-44CC-A010-2A5D45D903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96D9D-1A07-4117-85BE-84387B9339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DE979-4C32-4887-8406-50B0E96118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933BB-8004-4414-9015-C0AC468AD7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3B101-F51A-4D85-ACBE-1F5C423F87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DDAE1-631D-4651-960B-CC882ECB2F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E7F0B-F2DC-40F0-AD34-05C223F91C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9FCD5-647B-44AB-87E8-6672B71E79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D5B94-0D8A-4020-BAF9-FD89121E9E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3B9E0-3657-45DD-90CB-BEDCDFBC6D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44640" y="812880"/>
            <a:ext cx="5668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387-9F6A-45CF-8801-E97684D1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37400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E2D-021C-4B5D-A84A-A95DFE30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408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B1C-A1EF-4060-893D-6A2C407E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20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0160" y="176832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20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0160" y="4374000"/>
            <a:ext cx="309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E59-52EB-4DA0-936E-4B30D686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0FF-2512-4888-8EA3-68EA8E1A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839-EA09-4955-8694-1D4B7BDE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7C1-C5FC-4F45-AA02-7327E0BB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739-ABA3-4F70-89BC-BCC66A5F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0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7FE-CEE7-46A1-B448-2C161CA7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F67-E949-4C48-B42D-918F39A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4080" y="437400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2C0-3223-4CB6-A82F-AC83FE50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374000"/>
            <a:ext cx="96202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3D8-326A-4D9B-9A66-B3BF7C5B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02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600" y="6886440"/>
            <a:ext cx="2489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6160" y="6886440"/>
            <a:ext cx="338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6200" y="6886440"/>
            <a:ext cx="2489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6C4252-86D5-4C82-9242-1A50358597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720" y="1493640"/>
            <a:ext cx="962208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знь и творчество Федора Шаляп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4600" y="5780160"/>
            <a:ext cx="962172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 ученица 6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апова 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0728360" y="-13001760"/>
            <a:ext cx="36720" cy="243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36360" y="482400"/>
            <a:ext cx="96217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-за острова на стрежень».жанров камерно-вокальной музыки. В число шедевров вошли: «Пророк» Римского-Корсакова, «Два гренадера» Роберта  Шумана, «Блоха», «Забытый», «Трепак» Мусоргского, «Ночной смотр» Глинки, «Двойник» Ф. Шуберта. А также русские народные песни «Прощай, радость», «Не велят Маше за реченьку ходить», «Из-за острова на стреже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й путь Федора Шаляпина глубоко народен, так как 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его  – это сама русская пес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-10691640" y="-600120"/>
            <a:ext cx="57243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 Маше за реченьку ходить», «Из-за острова на стрежень».жанров камерно-вокальной музыки. В число шедевров вошли: «Пророк» Римского-Корсакова, «Два гренадера» Роберта  Шумана, «Блоха», «Забытый», «Трепак» Мусоргского, «Ночной смотр» Глинки, «Двойник» Ф. Шуберта. А также русские народные песни «Прощай, радость», «Не велят Маше за реченьку ходить», «Из-за острова на стреже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275520" y="4032360"/>
            <a:ext cx="4163760" cy="330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61560" y="712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30360" y="539640"/>
            <a:ext cx="92329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воей первой женой Фёдор Шаляпин познакомился в Нижнем Новгороде,  и они поженились в 1896 году. Это была итальянская актриса по имени Иола Торнаги, родившаяся в городе Монца (недалеко от Мила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987640" y="3208320"/>
            <a:ext cx="500220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8720" y="564840"/>
            <a:ext cx="9622080" cy="284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го у Шаляпина в этом браке родилось шестеро детей: Фёдор, Татьяна, Ирина, Лидия, Игорь (умер в возрасте 4 лет) и Борис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ола Торнаги долгое время жила в России и только в конце 1950-х годов, по приглашению сына Фёдора, переехала в Рим.</a:t>
            </a:r>
            <a:br>
              <a:rPr sz="2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630520" y="3780000"/>
            <a:ext cx="51055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280" y="215640"/>
            <a:ext cx="96217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же¸ Фёдор Иванович Шаляпин знакомится  с Марией Валентиновной Петцольд, у которой было двое своих детей от первого брака. У них рождаются три дочери: Марфа, Марина и Дасия. Дочь Шаляпина Марина  прожила больше всех его детей и скончалась на 98-ом году жизни.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376360" y="259236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4608360" y="7142040"/>
            <a:ext cx="302400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987560" y="2136600"/>
            <a:ext cx="7721640" cy="4989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44520" y="279360"/>
            <a:ext cx="10347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ически у Шаляпина появилась вторая семья. Первый брак не был  расторгнут, а второй не зарегистрировали,  и он считался недейств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63440"/>
            <a:ext cx="9621720" cy="2500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ициально брак Марии Валентиновны с Шаляпиным был оформлен в 1927 году уже в Париж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846840" y="2922480"/>
            <a:ext cx="3525840" cy="440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дор Шаляпин умер 12 апреля 1938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438360" y="1922400"/>
            <a:ext cx="3814920" cy="49896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1280" y="1655640"/>
            <a:ext cx="59040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ёдор Шаляпин родился 13 февраля 1873 года в городе Казани на Рыбнорядской  улице, в семье вятского крестья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043680" y="1152360"/>
            <a:ext cx="425268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5920" y="1352160"/>
            <a:ext cx="9621720" cy="14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дора рано отдали учиться ремеслу у сапожника, а затем у токаря. Вскоре, семье Шаляпиных удалось устроить Федю в городское четырехклассное училище, которое он окончил с похвальной грамот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681280" y="3527280"/>
            <a:ext cx="5238720" cy="329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959280" y="-5629680"/>
            <a:ext cx="720720" cy="131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3680" y="598320"/>
            <a:ext cx="5684760" cy="691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сем юным он нанимается в увеселительный хор Серебрякова, где происходит его встреча с Максимом Горьким. Горького в хор на тот момент приняли, а Шаляпина нет. Не познакомившись друг с другом, они расстаются. Однако, позднее в Нижнем Новгороде в 1900 году они подружатс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01600" y="1422360"/>
            <a:ext cx="379080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7343640" y="2319120"/>
            <a:ext cx="475128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5800" y="493560"/>
            <a:ext cx="96220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83 году он в первый раз попал в театр. В тот знаменательный день давали «Русскую свадьбу» П. П. Сухонина. В последствие, посещение театра решило судьбу Федора Ивановича Шаляпина. Он стремился попасть едва ли не на каждый спектак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202360" y="4032360"/>
            <a:ext cx="4733640" cy="280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0691640" y="86364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203880" y="2851200"/>
            <a:ext cx="3368880" cy="4406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72880" y="279360"/>
            <a:ext cx="950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80-е годы XIX века на сцене казанского театра играли великолепные мастера. Газеты восхищались игрой Андреева-Бурлака, Писарева, Свободиной-Барышевой, Иванова-Казельского и других. И совсем не удивительно, что десятилетний мальчик всерьез увлекся теат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303640" y="569880"/>
            <a:ext cx="1295640" cy="74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71280"/>
            <a:ext cx="9621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ор Шаляпин сделал свой выбор - он предпочел быть артистом. Отец отправил сына в Арское училище, обучаться на столяра. Но вскоре заболела его мать, и для ухода за ней Федор вернулся в Казань. На казанской сцене состоялись дебюты Федора Ивановича Шаляпина как артиста и певца. Сначала он работал в театре статистом, а в 1889 году впервые спел сольную партию в любительской постановке «Пиковой дам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692680" y="3168720"/>
            <a:ext cx="330696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 rot="21103200">
            <a:off x="919080" y="1089000"/>
            <a:ext cx="3632400" cy="62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партий впервые он исполнил на сцене Московской частной русской оперы, пел в Большом и Мариинском теа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лучших партий Шаляпина — Мефистофель («Фауст» Шарля Гуно и «Мефистофель» Арриго Бойто). Также сюда можно отнести Бориса («Борис Годунов» композитора Модеста Петровича Мусоргского). Мельник («Русалка» Александра Сергеевича Даргомыжского), Иван Грозный («Псковитянка» Н. А. Римского-Корсакова), Сусанин («Иван Сусанин» Михаила Ивановича Глинки) тоже являются удачными партиями Шаляп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 rot="484800">
            <a:off x="6345360" y="1455480"/>
            <a:ext cx="280800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680"/>
            <a:ext cx="9621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28600" y="1768320"/>
            <a:ext cx="3048120" cy="498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543640" y="1800360"/>
            <a:ext cx="3286080" cy="47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1:55:25Z</dcterms:created>
  <dc:creator>Гоголева Марина Юрьевна</dc:creator>
  <dc:description/>
  <dc:language>en-US</dc:language>
  <cp:lastModifiedBy>gomaur</cp:lastModifiedBy>
  <dcterms:modified xsi:type="dcterms:W3CDTF">2019-11-26T21:28:23Z</dcterms:modified>
  <cp:revision>14</cp:revision>
  <dc:subject/>
  <dc:title>Жизнь и творчество Федора Шаляпина.</dc:title>
</cp:coreProperties>
</file>