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D76-2AE6-4CCF-BACB-F60B28DF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DED-ADBD-4B4E-84B3-D31DCDC3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A85-8A2F-4141-89C3-85105CBA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1D1-3187-4336-8DE7-5BF9B5A4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8A7D-02E9-4C6A-B708-6DFBF669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0228-2DFB-4283-B600-4917284E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DBE9-1ACB-486F-9C5E-15AC4DF4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5625-BDC3-4515-A4EC-A7DC2A2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77B-E239-45D7-A6F7-E92C043A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6069-4954-461B-A7CC-58CA78FD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9D6C-DD2F-4C47-988E-17DF7F1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150-C3F2-4BCD-928A-43295027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DFA2-D320-4DE1-9637-97E6A58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0E04-86A9-4B3F-9687-619FDB34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A899-79C2-46A9-89D9-2A992F9C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03F-F7AE-40B8-A479-EE5204EA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AA36-AF0C-4B9C-A6B6-DE55ACEE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95B-CAC9-4C3C-B441-4FCDB43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CBC-E034-40E7-8D51-92DDE5E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117-2F17-4232-9AF0-747B505D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95F-3A1F-4099-AA2F-056856B3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EF9-F82C-4C4B-B040-E75FB3D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B28-7D7A-4EB4-B3FE-F40D0760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52E-DEE1-4912-8A5D-A977E05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1B67-F3D5-45DD-AA72-021FD098CD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1D8-AD17-40C3-941E-D1C210321D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Слова с безударными гласными в корне слова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76720" y="4797360"/>
            <a:ext cx="5472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ОУ «Видновская гимнази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Зуева Ольга Викто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490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66"/>
                </a:solidFill>
                <a:uFillTx/>
                <a:latin typeface="Comic Sans MS"/>
              </a:rPr>
              <a:t>Дед Егор в густом л…су</a:t>
            </a:r>
            <a:br>
              <a:rPr sz="4400"/>
            </a:br>
            <a:r>
              <a:rPr b="1" lang="en-US" sz="4400" spc="-1" strike="noStrike" u="sng">
                <a:solidFill>
                  <a:srgbClr val="339966"/>
                </a:solidFill>
                <a:uFillTx/>
                <a:latin typeface="Comic Sans MS"/>
              </a:rPr>
              <a:t>Встретил рыжую л…су</a:t>
            </a:r>
            <a:r>
              <a:rPr b="1" i="1" lang="en-US" sz="4400" spc="-1" strike="noStrike" u="sng">
                <a:solidFill>
                  <a:srgbClr val="339966"/>
                </a:solidFill>
                <a:uFillTx/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В небе молния сверкает, </a:t>
            </a:r>
            <a:br>
              <a:rPr sz="4400"/>
            </a:b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Гром в </a:t>
            </a:r>
            <a:r>
              <a:rPr b="1" lang="en-US" sz="4400" spc="-1" strike="noStrike" u="sng">
                <a:solidFill>
                  <a:srgbClr val="00cc00"/>
                </a:solidFill>
                <a:uFillTx/>
                <a:latin typeface="Comic Sans MS"/>
              </a:rPr>
              <a:t>раскатах</a:t>
            </a: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 громыхает,</a:t>
            </a:r>
            <a:br>
              <a:rPr sz="4400"/>
            </a:b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Клонится к земле </a:t>
            </a:r>
            <a:r>
              <a:rPr b="1" lang="en-US" sz="4400" spc="-1" strike="noStrike" u="sng">
                <a:solidFill>
                  <a:srgbClr val="00cc00"/>
                </a:solidFill>
                <a:uFillTx/>
                <a:latin typeface="Comic Sans MS"/>
              </a:rPr>
              <a:t>лоза</a:t>
            </a: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.</a:t>
            </a:r>
            <a:br>
              <a:rPr sz="4400"/>
            </a:br>
            <a:r>
              <a:rPr b="1" lang="en-US" sz="4400" spc="-1" strike="noStrike" u="sng">
                <a:solidFill>
                  <a:srgbClr val="993300"/>
                </a:solidFill>
                <a:uFillTx/>
                <a:latin typeface="Comic Sans MS"/>
              </a:rPr>
              <a:t>Начинается 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45370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5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33"/>
                </a:solidFill>
                <a:uFillTx/>
                <a:latin typeface="Comic Sans MS"/>
              </a:rPr>
              <a:t>В солонке соль. Надо солить суп. На тарелке солёный огуре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904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9200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33"/>
                </a:solidFill>
                <a:uFillTx/>
                <a:latin typeface="Comic Sans MS"/>
              </a:rPr>
              <a:t>Безударный гласный в корне можно проверить, подобрав проверочное слово,где гласная будет под ударением .</a:t>
            </a:r>
            <a:r>
              <a:rPr b="0" lang="ru-RU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33"/>
                </a:solidFill>
                <a:uFillTx/>
                <a:latin typeface="Comic Sans MS"/>
              </a:rPr>
              <a:t>Безударные гласные в корне можно проверять изменением формы слова .</a:t>
            </a: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76975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Читаю сло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Определяю удар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Подбираю однокоренные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Выделяю кор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Подбираю проверочное сло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Пишу гласную.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469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 Sans MS"/>
              </a:rPr>
              <a:t>«У нас в соду растут диревья. Витя взял ножик и стал выризать своё имя на каре. Помогите! Варобей.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364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6600"/>
              </a:solidFill>
              <a:uFillTx/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137440" cy="38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55496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 Какие гласные в корне требуют провер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 Как вы подбирали проверочные слов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Все ли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Кого бы вы похвали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66"/>
                </a:solidFill>
                <a:uFillTx/>
                <a:latin typeface="Comic Sans MS"/>
              </a:rPr>
              <a:t>-Кому помог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18:04:03Z</dcterms:created>
  <dc:creator>Ольга Викторовна</dc:creator>
  <dc:description/>
  <dc:language>en-US</dc:language>
  <cp:lastModifiedBy>Ольга Викторовна</cp:lastModifiedBy>
  <dcterms:modified xsi:type="dcterms:W3CDTF">2016-11-22T15:41:11Z</dcterms:modified>
  <cp:revision>6</cp:revision>
  <dc:subject/>
  <dc:title>Слова с безударными гласными в корне слова </dc:title>
</cp:coreProperties>
</file>