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1EE-10FA-40B1-B79F-E3EBD675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798-C784-4749-86E5-9EB25925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2A3-2B18-4EAB-8DAC-6E2E983A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065-4EE1-4A29-81ED-042DB449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CB5A-1264-4382-B148-2C61FCC3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1928-B599-438B-95A9-525E4C3C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6302-1239-4B7F-8C1C-1E8CD77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78A8-BA75-481C-B06F-2A9D74BA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4FB7-AD93-4904-9885-18F10FA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D68C-DDD6-48A8-AC77-A581CD94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667A-628B-45F6-97D8-9A289B7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A53-6E44-46B9-A6CC-9B84055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393E-D145-41D7-8568-01F3B24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B3B-73B4-4C31-8853-FC98237E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B08-17C5-4BB4-9C2E-0DC1904E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4773-32D5-46DA-BE7B-7917CACE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53A2-DC56-4F39-B8EE-E5D3C452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7E7-5EDF-4C63-8022-7CD412F4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FA7-5D6A-4449-8C6B-1E4F2147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007-D1D2-431E-82DD-9F34A48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4C2-9CA0-4765-86CE-9C157ED2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134-720B-45D4-A0BE-3214BE7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67F-B903-4AE8-A040-C3288760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045-D752-4D74-AC60-44771D5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C40F-7A3A-4B2E-85CF-6E2E11C026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D1B7-62F6-4670-99FD-D1480BAE73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лова с безударными гласными в корне слова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76720" y="4797360"/>
            <a:ext cx="5472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ОУ «Видновская гимназ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Зуева Ольга Викто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490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66"/>
                </a:solidFill>
                <a:uFillTx/>
                <a:latin typeface="Comic Sans MS"/>
              </a:rPr>
              <a:t>Дед Егор в густом л…су</a:t>
            </a:r>
            <a:br>
              <a:rPr sz="4400"/>
            </a:br>
            <a:r>
              <a:rPr b="1" lang="en-US" sz="4400" spc="-1" strike="noStrike" u="sng">
                <a:solidFill>
                  <a:srgbClr val="339966"/>
                </a:solidFill>
                <a:uFillTx/>
                <a:latin typeface="Comic Sans MS"/>
              </a:rPr>
              <a:t>Встретил рыжую л…су</a:t>
            </a:r>
            <a:r>
              <a:rPr b="1" i="1" lang="en-US" sz="4400" spc="-1" strike="noStrike" u="sng">
                <a:solidFill>
                  <a:srgbClr val="339966"/>
                </a:solidFill>
                <a:uFillTx/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В небе молния сверкает, </a:t>
            </a:r>
            <a:br>
              <a:rPr sz="4400"/>
            </a:b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Гром в </a:t>
            </a:r>
            <a:r>
              <a:rPr b="1" lang="en-US" sz="4400" spc="-1" strike="noStrike" u="sng">
                <a:solidFill>
                  <a:srgbClr val="00cc00"/>
                </a:solidFill>
                <a:uFillTx/>
                <a:latin typeface="Comic Sans MS"/>
              </a:rPr>
              <a:t>раскатах</a:t>
            </a: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 громыхает,</a:t>
            </a:r>
            <a:br>
              <a:rPr sz="4400"/>
            </a:b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Клонится к земле </a:t>
            </a:r>
            <a:r>
              <a:rPr b="1" lang="en-US" sz="4400" spc="-1" strike="noStrike" u="sng">
                <a:solidFill>
                  <a:srgbClr val="00cc00"/>
                </a:solidFill>
                <a:uFillTx/>
                <a:latin typeface="Comic Sans MS"/>
              </a:rPr>
              <a:t>лоза</a:t>
            </a: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.</a:t>
            </a:r>
            <a:br>
              <a:rPr sz="4400"/>
            </a:b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Начинается 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45370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33"/>
                </a:solidFill>
                <a:uFillTx/>
                <a:latin typeface="Comic Sans MS"/>
              </a:rPr>
              <a:t>В солонке соль. Надо солить суп. На тарелке солёный огуре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9200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33"/>
                </a:solidFill>
                <a:uFillTx/>
                <a:latin typeface="Comic Sans MS"/>
              </a:rPr>
              <a:t>Безударный гласный в корне можно проверить, подобрав проверочное слово,где гласная будет под ударением .</a:t>
            </a:r>
            <a:r>
              <a:rPr b="0" lang="ru-RU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33"/>
                </a:solidFill>
                <a:uFillTx/>
                <a:latin typeface="Comic Sans MS"/>
              </a:rPr>
              <a:t>Безударные гласные в корне можно проверять изменением формы слова .</a:t>
            </a: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76975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Читаю сло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Определяю удар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Подбираю однокоренные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Выделяю кор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Подбираю проверочное сло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Пишу гласную.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 Sans MS"/>
              </a:rPr>
              <a:t>«У нас в соду растут диревья. Витя взял ножик и стал выризать своё имя на каре. Помогите! Варобей.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364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6600"/>
              </a:solidFill>
              <a:uFillTx/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137440" cy="38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5496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 Какие гласные в корне требуют провер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 Как вы подбирали проверочные слов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Все ли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Кого бы вы похвали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Кому помог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18:04:03Z</dcterms:created>
  <dc:creator>Ольга Викторовна</dc:creator>
  <dc:description/>
  <dc:language>en-US</dc:language>
  <cp:lastModifiedBy>Ольга Викторовна</cp:lastModifiedBy>
  <dcterms:modified xsi:type="dcterms:W3CDTF">2016-11-22T15:41:11Z</dcterms:modified>
  <cp:revision>6</cp:revision>
  <dc:subject/>
  <dc:title>Слова с безударными гласными в корне слова </dc:title>
</cp:coreProperties>
</file>